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422-FD92-4889-8FAD-B5BE12FF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C30-9236-4379-A1FB-3C3BDFCF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0D910-3B23-4628-B303-9DBB4AAD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48CF7-AC77-452B-94BE-93AEC6C6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2274D-0AA6-4446-A410-5F5C1B70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3A924-3B43-4821-BA2B-0621F0A2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77021-054A-4F84-838B-AC3C4167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3E93D-D842-431F-B620-BFB2F857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4ADCE-146B-46C5-A1EF-08B80407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74B55-6983-4A90-A0D7-A637C29E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CFBC9-E81A-425A-9F9D-D696E180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53D32-0071-4F28-821D-66248396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31D-1DB4-4DF5-A475-4B9F9319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F89CA-D890-45C3-A814-EA1390E3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D76F2-F61D-4052-B080-175F4599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ECBA3-6E17-4231-B893-3EB7D29E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3C276-24B3-4FF1-846D-03B2BDDB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3F41E-340F-42C1-97C1-7E468DA3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0A6F9-84E2-42D8-A865-283D35BD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AC508-1796-4605-8D78-06F481C0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E0B84-3C85-4C86-AE70-53D12C89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EB17F-0CDB-4B04-9B01-A7C22340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9915E-600B-4467-837D-B89CA896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D6C-6D64-48B5-9672-E609200C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B9BDB-8694-4AA6-9658-1E924CB5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D0C6E-A801-4602-B91A-6C2BEE23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36762-5C18-4EB2-8347-3C9DAF98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8A908-D445-4D70-9266-CE18B559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67710-651F-4DAC-893E-A178FEE0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3549B-D22A-4AE7-A8AA-7BCE4EB9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BF3FA-0641-4813-8BA3-AD4445FD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D2AB2-BBB6-41E2-BB1D-31CCB5C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72CB0-47DE-4A48-9A45-37FBCC8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5091D-988B-44D4-8FFB-A1CB0408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8861-4A13-4125-8F19-796D4091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FAC7E-2124-49D3-A124-B5317055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2E974-979A-4E9D-BEA8-CB776F83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79FB6-4135-49B7-AC23-815589A2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E552E-0F52-44C6-A8FC-2F8D1B51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44020-67F0-458F-BB38-5923A2EF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F6E3F-B3B7-43CD-AC36-606E30DD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901B5-19D4-4236-B730-DEF4B5CA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D0F70-AF81-4F65-83FF-F42435F0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51C49-E8AF-4DC4-B7CA-F54D1E39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1FF2D-AEA5-4434-AA88-9C957F66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A228-E64A-420B-84C6-2DF9BA0A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1FE8F-FFA7-441F-999F-650CDF5F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FACDB-40A5-4A49-A6C6-B47A789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DB8E6-4447-43AE-86FC-D9F3B402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98F36-B7CA-4621-A765-B2A864D8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E420F-0066-4692-B82E-F1B13992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709B2-6AC2-4CFF-8F7D-41AAA0D6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59776-DB11-4759-9E33-55585091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2D019-58E3-4142-8790-AED0AD0C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C8549-70C5-47FF-BBEA-CE651BFE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9C02B-80B9-4A0A-A648-A724E39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C271-1B52-4F0E-B2FC-7B021AB2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78AD3-4898-4F5F-B826-A8CB3AE7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97DC2-04A4-40C3-A19E-81EADF50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BD82B-784A-4685-82AC-0808B81F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C5DE4-D014-4CB3-B14A-A3C73E4C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190BC-8118-4F56-B43C-6D483639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CEDB8-42C6-49B4-BF11-4A64FEB0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1C973-B2A4-4312-9D1C-2AEA1DF7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D776-09DD-4017-96B2-18F81861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6EA9-FDE0-4415-8B4C-7E745831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947A-1AFB-44F4-A71A-BE074C24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E3DE-417E-439A-B25D-2FAD3DD6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3EF-5EB2-41C0-BD43-53060590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BFBB-C280-4A4E-B41F-0E6DE56D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A040-B163-4FF1-B2B9-D87EFA72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7FD2-D5A8-48B2-83A0-B0CB1634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49CD-D0A1-4B8E-9DD3-DBE8135A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4E18-2254-4562-ACB3-4C6D24B8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12A3-6E6B-466F-86B6-48445610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060B-C528-4EB4-946C-36534781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9B69-59F8-46BF-BE81-5DB61E28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2734-04CF-49C9-A6FC-769F39AE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E1785-E8E1-4FDA-9841-9AC21F58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976-C5E7-4CDB-B6C2-20C1E232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707A-49D4-466D-91A9-479431E3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7ED3-2DCE-4D52-9CE8-CB86CE0F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A44B-C90B-4BBF-94CB-FF8A7E69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795E8-527B-4F67-9CF8-BF208D53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E8C4-89E0-4AFF-BCE5-D3591CD1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2FF0-089F-4291-B0E9-7E82A3C0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9831-013E-4637-A449-4DA0056F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95B3A-871A-4122-A8D2-6230EFA2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1C9D0-DF2F-4636-9228-39E4BB93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1C8C-56F5-4E8C-A445-C9EFD170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48F-802B-476B-B509-D1BC9571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7828-AAB4-4DDC-8452-953521B5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0514-879A-476D-9DB4-B49E9613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B805E-4CE8-4E27-A745-5CE487C5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8BF01-94FD-403D-A551-ABEA364F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CD1E6-A9CD-4BE0-A0E3-9EAB39A8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DEA0B-2FEC-4E59-8186-0DE02754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AC042-40D1-4751-8AA8-9C7C9E89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80A90-B3AC-45B1-B649-BB96368D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A03C1-06B8-4844-8F73-CA66ACA5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C9AC9-0571-4486-8040-CCB6E12A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460-CE35-41C2-9231-E40A0FD7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9906D-514D-43EC-80CF-77264071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B119-4DF9-4BB1-A5C9-3A28EB8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26454-7370-4614-848D-040E74F7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A1F33-D3A7-4874-BB92-95E7F354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2D24-4110-46A1-B8F6-1DB91847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7D2C8-E1D2-40BE-8620-208FA00B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0719-6FB0-4769-A0D9-47C25787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DDEE5-6CB7-440D-97CC-1736C03E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14F30-7DB1-4589-983B-B9793203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C0962-31D6-4FD2-9DA5-B2D2D302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EAE-4905-4DB6-BA08-06537874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8371E-A38A-42B4-B6D6-A3E6E7D2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3BF4F-FE71-460B-A08D-46498CBB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9EC7A-4DFE-4C7B-AFB3-FE40D5F6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54739-9BCE-4AC1-9656-24A520AE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1F179-902F-4E86-875A-C2BD9A02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63FED-41DC-4601-A64B-F14A364C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23E97-9223-4B62-8FB7-1626437B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338B9-CBF0-47D7-B6A9-89BA29EA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B7277-B399-40E6-B9E9-2A147232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76CB5-1F93-4FC2-B99D-AA466BD2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259-1B38-4530-ABF5-54024A0D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DBCF0-14D4-477E-8AFE-ACE0A6CB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5753F-6690-44B5-B4B2-7ED885A9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F494D-E8C1-4E0E-BB14-644C4560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23DA7-C958-4459-A6C6-3136B611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51BF5-B5C9-464E-B239-BC589931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DDA18-068D-4526-8728-2C1ADDEB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23CA5-0DF2-4D92-AB38-47F0366C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39D08-D5E7-4234-811F-CD24AFBB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51864-9CDA-4531-93A2-CE00204C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2C92B-0A59-44EF-B0C4-882FF6D3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A5A-CFEF-4742-88AE-E289F670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557A2-EDE7-48FC-98C1-79FB6F9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DA437-3101-474D-9366-A8364092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2A16A-CD1B-464C-AF10-84530465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35AFD-5E56-4BAB-8A94-6D69C527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CCA7D-7D5B-4137-B09E-25AB875A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B1A25-D81D-4D10-985B-3D55E1F3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54EB8-0973-4B02-BF20-C96D1ED1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36C20-CD39-40E1-A7FA-B23154DE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F36BD-4713-4B61-B108-D98C3B68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87670-F0EB-4EB9-8568-115FFCBE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B4B-7979-4766-B885-AB7B4B7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A85ED-5266-4203-A912-46B9C025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B978E-97B6-4839-800A-17D07F0A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1B1C4-BE3C-4EDF-B1B3-1245200B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1145C-C66C-4D56-9E7C-378FA2F0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51207-01B8-4265-A4AD-BB7DB528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2EB65-0C2D-4B84-A2D6-48F5267B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0599B-F5E6-4E96-B60F-86159D17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BB519-3DCF-4658-827E-82473D35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AF9A5-2F17-4DA3-AEFE-02549664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0ADE7-034E-4367-8FFE-B7FAA522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36BC-E7D4-4ADE-81B3-2FB62DECD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2037-6AA0-4805-B404-6AB5CCF1FA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4976-4CD1-438D-B21A-7A9B3DAFCD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788E-0F62-4A92-8A85-DD7A5CCB9F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E0E4-CF13-4CE0-8820-D5FF1859F9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235B-9B7A-4307-BCF8-F553F3AD86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31B1-22B6-4775-8EB0-CF28BC87EB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CEDE-12CC-4B04-875A-3D7824E06C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50DD-D5DB-455F-980E-B71ABF9980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005E-ADF3-4663-8E8C-05330551D5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A996-C403-4A55-B50C-767750600B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18C0-A8FA-46C2-9AFF-A2DDC0B15A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B7C9-CBDE-45BF-8C78-EE36DE9DC4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A2B1-26CB-4D49-9FAE-09D42A38ED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D070-9A58-428E-B98D-8B74050FD9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0A86-B985-494E-B8C0-870529CE49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3E8E-37A1-47E3-B05F-31192FA397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9B44-E117-49DC-AF72-5777EB683F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D26F-C1E1-4AD4-A190-FC1477A9F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4949-FBFE-4863-9574-311474B44C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08E4-5376-40BD-8746-7974CE8EB3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05A5-70C2-4A85-BF36-2E0FEEB5D1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21D7-6DE0-47E5-A326-FAA898F03F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ABB0-4225-48B6-B806-80848FF845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BC9E-1C5E-4D81-BB50-36B7D3E2E5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pic_252907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WordArt 3"/>
          <p:cNvSpPr txBox="1"/>
          <p:nvPr/>
        </p:nvSpPr>
        <p:spPr>
          <a:xfrm>
            <a:off x="1673280" y="189000"/>
            <a:ext cx="45370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王二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pic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380880" y="304920"/>
            <a:ext cx="8763120" cy="77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巩固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长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常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二小（    ）帮助八路军放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军（    ）帮助王爷爷取牛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象有一个（    ）的鼻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排着（    ）的队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2895480" y="2209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常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2362320" y="34290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常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62520" y="46483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长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342900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长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9ecfe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2135160" y="304920"/>
            <a:ext cx="41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牛儿还在山坡吃草， 放牛的却不知道哪儿去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不是他贪玩耍丢了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那放牛的孩子王二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九月十六那天早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敌人向一条山沟扫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山沟里掩护着后方机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掩护着几千老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正在那十分危急的时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敌人快要走到山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昏头昏脑地迷失了方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抓住了二小要他带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二小他顺从地走在前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把敌人带进我们的埋伏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四下里乒乓乒乓响起了枪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敌人才知道受了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832360" y="1011240"/>
            <a:ext cx="23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敌人把二小挑在枪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摔死在大石头的上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我们那十三岁的二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可怜他死得这样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干部和老乡得到了安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却睡在冰冷的山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的脸上含着微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的血染红蓝的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秋风吹遍了每个村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它把这个动人的故事传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每一个村庄都含着眼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歌唱着二小放牛郎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115681_10795745513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pic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380880" y="2352600"/>
            <a:ext cx="908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儿童团员   常常   一边   样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八路军       前面   下来   杀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四面八方   帮助    英雄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王二小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0" y="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二小是儿童团员。他常常一边放牛，一边帮助八路军放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204840" y="1219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常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pic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865080" y="150804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用“一边</a:t>
            </a: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一边”把两个句子合并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一句话</a:t>
            </a: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.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例：他放牛。他唱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他一边放牛，一边唱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妈妈看电视。妈妈织毛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    </a:t>
            </a:r>
            <a:r>
              <a:rPr b="1" lang="zh-CN" sz="3600" spc="-1" strike="noStrike" u="sng">
                <a:solidFill>
                  <a:srgbClr val="ff66cc"/>
                </a:solidFill>
                <a:uFillTx/>
                <a:latin typeface="Arial"/>
              </a:rPr>
              <a:t>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同学们看挂图。同学们听老师讲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王二小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434340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一天，敌人来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扫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走到山口迷了路。敌人看见王二小在山坡上放牛，就叫他带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王二小t3"/>
          <p:cNvPicPr/>
          <p:nvPr/>
        </p:nvPicPr>
        <p:blipFill>
          <a:blip r:embed="rId1"/>
          <a:stretch/>
        </p:blipFill>
        <p:spPr>
          <a:xfrm>
            <a:off x="0" y="0"/>
            <a:ext cx="9109080" cy="47545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63360" y="4737240"/>
            <a:ext cx="88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二小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装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从的样子走在前面，把敌人带进了八路军的埋伏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"/>
          <p:cNvSpPr/>
          <p:nvPr/>
        </p:nvSpPr>
        <p:spPr>
          <a:xfrm>
            <a:off x="3924360" y="53006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5"/>
          <p:cNvSpPr/>
          <p:nvPr/>
        </p:nvSpPr>
        <p:spPr>
          <a:xfrm>
            <a:off x="4357800" y="53006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6"/>
          <p:cNvSpPr/>
          <p:nvPr/>
        </p:nvSpPr>
        <p:spPr>
          <a:xfrm>
            <a:off x="5437080" y="594828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5942160" y="5950080"/>
            <a:ext cx="1425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8"/>
          <p:cNvSpPr/>
          <p:nvPr/>
        </p:nvSpPr>
        <p:spPr>
          <a:xfrm>
            <a:off x="6445080" y="595008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pic0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3"/>
          <p:cNvSpPr/>
          <p:nvPr/>
        </p:nvSpPr>
        <p:spPr>
          <a:xfrm>
            <a:off x="3886920" y="1484280"/>
            <a:ext cx="23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王二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敌人带进了埋伏圈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4145760" y="2637000"/>
            <a:ext cx="194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敌人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王二小带进了埋伏圈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FR70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395280" y="181296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敌人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英雄王二小杀害了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79280" y="3828960"/>
            <a:ext cx="820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部敌人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路军消灭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WordArt 5"/>
          <p:cNvSpPr txBox="1"/>
          <p:nvPr/>
        </p:nvSpPr>
        <p:spPr>
          <a:xfrm>
            <a:off x="4140360" y="549360"/>
            <a:ext cx="3311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会改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468360" y="285264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小英雄王二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敌人杀害了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181080" y="469260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八路军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全部敌人消灭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2:02:58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7T06:21:09Z</dcterms:modified>
  <cp:revision>4</cp:revision>
  <dc:subject/>
  <dc:title>第一PPT模板网-WWW.1PPT.COM</dc:title>
</cp:coreProperties>
</file>