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D76-BE71-405F-A05B-3C284CC6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22E-B3ED-4FE3-906B-AB2CB1C2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72793-3A6E-4DD5-B3BF-4ECAE530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825F4-C06F-4B1D-8E50-79F425F7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BC604-2E43-44B0-AF57-CDB1E205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46147-8457-4718-A6AA-5FCAB0AA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DDE96-82EE-4D3C-B80F-FF8EFA1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FABB8-F8B1-43A6-8A6F-5907E9D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CAD68-6B3B-465C-9362-C6E4D91D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1FF90-090A-4061-95CE-87167E37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D7A47-0B77-4704-A843-A18963BA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A273A-FFA4-4134-AA94-5B1FF65A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89E-602B-4A5B-B153-7A7BA1DA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E1C86-AFA0-40DD-927F-6DCD83E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E4CFA-79A2-40C2-8FBB-47C8DFAC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83646-27A3-4035-B587-5E2BE283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0A341-EA14-480E-A80C-CCFC4952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59E30-FBD9-4E9B-B51B-D181E77A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0F9D2-29F7-44B0-9416-6765DAB7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B3C6E-9E92-44AB-8D21-4F1B7E9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E8910-DB28-4610-ABEA-C509EFB2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97A47-CD62-41C8-A619-E1ADE901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23DF3-BD92-4388-AE86-CACE4EDE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760-C9A0-4D6A-A8FC-BD5A3278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46A4B-007E-4543-AE5A-9DD80BA7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28B24-EB80-4136-9BE9-58D7ABD2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B437E-2C8A-4B4D-9849-1486A25D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9AE55-F52B-4C07-BDD5-6C33075D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EBDD6-84B3-4C06-BC5B-8CFFCE9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8AB1D-666C-4481-90FA-F90E33DE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2AE44-4286-41A9-9C1E-451C05D3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C22CB-B5D8-4292-98B3-ECD87677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F1936-EAD5-4728-803A-DAD87A0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1A920-FD5A-481C-8DF3-42FD61F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7736-5C77-4DC6-B564-85F67FC1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6028C-B74F-41E4-B506-016467DD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111ED-1862-4224-8FA2-13E2357E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840AB-CDCC-40AA-9806-678A2498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E0619-9868-4BA6-AC91-1E347F61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03842-CA23-48AD-96AE-01DA65A4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047E6-B27C-497D-ABCC-55B2BA1E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F744D-9DEB-4318-B4FF-33692BD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5A7FB-BCAC-441D-8A1D-D3EA02D8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77645-93D1-47EB-991A-328E18C3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660B7-82FC-417C-A501-21C0046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C608-768F-4326-A992-15288993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34040-289B-4639-BE74-BE73A84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51649-4745-423E-B197-29076A3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9945C-1C6E-4283-9F42-740B301B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CE47A-A07E-457E-98C7-503DE378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2BA11-2F7B-4AEB-BA8E-9EE28132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ABFBB-5420-4C14-BD9B-43146AD2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9270C-E3FA-4290-BDD6-AB093CD0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3804F-9E7A-4BD1-8EAD-C94B7871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A95D6-D10D-4544-921F-C34EC8CF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1ED52-5153-48E9-8161-C27F4F32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4B0A-AF00-43F2-8999-C6FB0F5A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37F93-0995-458F-A01C-31112E30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725DE-DF68-42DE-9F86-A3119F75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0D115-C022-4D33-9639-A97E62A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ADE3F-0F51-4177-81D1-81D7E5C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B9CA4-DBF5-4787-9F64-A313CC89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E9E4F-D0DD-4FF2-B854-7B5B9323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2647F-C8B0-48D4-AEA2-8C9C7EB2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D717-5105-4B93-A9F2-74DA1BE3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83D-C260-4632-B3F8-F23F5DE7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2415-595D-49A0-ABA3-7D5512C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9CB8-2894-4E1E-AEB5-B523FD8F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030-8349-4FAF-9274-6EADFED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3839-D21B-486D-9141-4B06FDF3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1B8D-D92E-4F06-8C25-25DAC1E1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2EF6-72AF-46B9-9E62-B4792ECD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0253-06B5-4FCF-8446-BAA0C37E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D1EA-9AD9-4735-AAE3-1E446632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A171-CC3E-4C1E-AAC3-0AAAAAA7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2F1A-4992-4830-B272-0A01D92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CAB6-157A-4842-8E2F-D86A2969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4AEB-7187-4341-8BE0-9ADFED31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F4EC-A536-4E70-AA50-B5828E96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DC5-D14E-4980-BC3E-CF5B8603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A800-B89F-43D4-AD82-2A805510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03D3-9A24-474D-9DAA-C34D40CE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8BA6E-88B0-413F-8818-BB9E75D1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D3931-CEA0-435A-BE85-49265328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96B1-A809-4F32-A405-5C543E40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82C1-A53A-4D31-B2C2-0FDD6348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51BC-6D5D-4A3A-BC3B-50353F8E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1DAA1-DDAF-480D-8FDB-5F93BE50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FE4F-7438-4B3A-BC48-858AA95D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A5379-8A9B-4673-9F65-46870250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974-17A7-4817-8744-F5F48BE8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339C-71E3-4507-BA26-D9DDE9AB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B857-814D-447D-B03D-4A6D20AC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03F5-8942-4C0B-9981-B1B99555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AE539-07B0-4DC2-B416-1255EE56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762DA-180F-4C03-9D14-E02BF32D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EFD1-4066-4F9A-9402-4C96E419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904E-3BD3-438C-88F3-11A4D5C8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D020-4DE9-4561-A42B-7D695B84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C3E0-91C2-4F86-99E2-40B1248B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D2B95-DFEF-4A11-A394-026E07EF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243-B0EC-4CB4-9C16-FEE69073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09F2B-394C-46D9-9D24-9E423AF7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FABA7-52F6-46EF-9A7D-9C5B6DB2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B9BF9-3A49-490B-A5B8-2FFB7CB0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97203-DAF3-4775-9A72-14E74966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78707-76F5-4EE3-AE73-429FA869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720A-288A-4927-9785-C2A2B66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B986-12BA-401E-8763-971FFEB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3476B-1D96-4FAA-AF83-7FAF3CC2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7388E-2280-43F8-8051-FEB60194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82CA8-BADB-4458-997B-F3D0E0A9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00A-7BE4-4C75-8555-36A1F89E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4764D-A9B8-44D6-B86D-3DA3697D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A9048-5FDC-4143-80D6-DCB00084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07B88-91BA-4505-B092-966BA30B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7A8A5-E3BF-43C8-A7A7-771111AE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3CAB4-96EB-4090-95E7-2F70043C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270A4-99E1-435D-BBAE-6E19F58E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D5920-581B-4730-B2CE-D192AF6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63502-FE30-465B-BFBC-7B177F2B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7E84E-99D9-487F-9A5F-261DFE27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3A36-5950-48A7-9E17-885324C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8EC-F171-4FBA-83AF-F9C3F68E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2485F-9657-4AC9-B85B-4DBE002F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7602E-708B-42DF-8E51-D30499F3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BDAB-DBF5-4CCB-A529-DA49A770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386F9-D458-40E8-815B-0991567B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70E0D-03B3-4EB5-BB9B-349A277A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7BF0-35E3-4538-BEB0-F8F9D567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268F-4B24-4C58-9151-907F7D39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22F9E-9449-4252-A564-2CC2AE56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7CEB0-66E4-46AA-B6A4-E7389BBA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F295A-4478-4971-ADF5-C39EDDD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645-CD4E-4A27-BACB-09DA332D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DBE12-01F9-4A78-A7FA-52D70E5A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AD5A-A8C3-4453-9CB5-F7879E9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511A7-4A3E-46A9-A620-E112F3C2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7FFF0-0875-430D-ADBE-43A5A206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5B08-69C7-46CC-B6E4-05183A60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C831-992F-47B1-A3AE-50530C30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7783D-55CD-422F-B514-4AF315F0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3315E-C984-4A23-82F5-82D213E5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68A24-A3E7-430F-B4F6-C611DEC4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429ED-C454-4437-A56F-6CBE2059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A9D-AFC1-42D6-852D-93EC4D5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CD571-376D-42CD-BF41-15E44488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BD3F4-2D3A-42C9-923B-0EEBDF75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A24B4-F586-4DD6-8170-A12CC806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AE43C-7BFB-4628-93AA-13DB803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96371-6F5F-4105-92F7-50D76DB9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F7E35-99F2-4E27-ADBC-E951A4EB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811C3-0B53-4C5B-9255-344A5E88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3A704-5485-44CD-8AE2-6FC11DA5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8AC10-C398-4743-9CC2-B8B99D1E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65F45-8AB2-4506-9FDB-BC92F5DB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715F-FD08-476D-8F3E-F194CE498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C505-7EBD-4C57-AC85-E6A443B4EF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CDD-C304-4195-8B61-55852E6A9C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775F-9AC4-4123-9CE7-CCAA5BCEB6A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6A46-2B0C-46D9-9962-8EF326049A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F7A-DCF5-4627-8361-91B0B27B1F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DA93-DD48-4126-B174-6EC7C48ACB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2F6B-A0E3-41CD-99B9-8F7FDC6A09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619B-F0FD-4F19-AECF-B2102AA79C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37A3-2665-419A-9944-BDC57EA31C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28AD-10E1-47FF-8974-DE86DB3AFF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3DFA-64F6-41E3-99E9-EC3266291C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7920-45E2-4049-85B8-461493FFE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0507-9154-4C8E-A7B0-635B663E74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9EAE-4EB3-4055-A1F6-7553861D02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EB36-DDBA-429D-B638-BAC340C219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ED71-0DC3-4E42-BF28-8F26CCE30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9DA7-51FA-445D-B263-6F3786CA31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AF50-B344-44B8-919F-162B85BDC5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1BE7-4788-4BC1-8540-D5884945D8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6481-3C75-4D1A-B269-A70C368F4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4240-A916-4778-AF95-905FE8A184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A030-94B4-4E3F-A88D-3D99F90DD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7942-E885-4686-A910-B84C065774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3627-D2A1-4329-82E8-5FAD39FE8E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200724151832816"/>
          <p:cNvPicPr/>
          <p:nvPr/>
        </p:nvPicPr>
        <p:blipFill>
          <a:blip r:embed="rId1"/>
          <a:stretch/>
        </p:blipFill>
        <p:spPr>
          <a:xfrm>
            <a:off x="0" y="1325520"/>
            <a:ext cx="9144000" cy="55324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玩具柜台前的孩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12"/>
          <p:cNvSpPr/>
          <p:nvPr/>
        </p:nvSpPr>
        <p:spPr>
          <a:xfrm>
            <a:off x="1503360" y="2521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20072415183281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79280" y="1325520"/>
            <a:ext cx="8964720" cy="55324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1871640" cy="1366920"/>
          </a:xfrm>
          <a:prstGeom prst="rect">
            <a:avLst/>
          </a:prstGeom>
          <a:solidFill>
            <a:srgbClr val="ffcc99">
              <a:alpha val="6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jù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玩 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2842920" y="475920"/>
            <a:ext cx="1439640" cy="112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g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柜 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5148360" y="620640"/>
            <a:ext cx="2879640" cy="1127160"/>
          </a:xfrm>
          <a:prstGeom prst="rect">
            <a:avLst/>
          </a:prstGeom>
          <a:solidFill>
            <a:srgbClr val="cc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hòu h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售   货   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539640" y="2421000"/>
            <a:ext cx="1871640" cy="1366920"/>
          </a:xfrm>
          <a:prstGeom prst="rect">
            <a:avLst/>
          </a:prstGeom>
          <a:solidFill>
            <a:srgbClr val="ffcc99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药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2843280" y="2637000"/>
            <a:ext cx="1439640" cy="1126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咱  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5148360" y="2492280"/>
            <a:ext cx="2087640" cy="112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抢    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1763640" y="4508640"/>
            <a:ext cx="1440000" cy="112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富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我只是看看，不要妈妈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小男孩抢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9"/>
          <p:cNvSpPr/>
          <p:nvPr/>
        </p:nvSpPr>
        <p:spPr>
          <a:xfrm>
            <a:off x="826920" y="328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男孩喜欢小汽车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柜台前有个小男孩，只要看到谁买小汽车，他就马上跟过去，目不转睛地盯着柜台上跑动的汽车，眼里闪着兴奋的光芒。他是多么喜欢小汽车啊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522936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552" name="Line 8"/>
          <p:cNvSpPr/>
          <p:nvPr/>
        </p:nvSpPr>
        <p:spPr>
          <a:xfrm>
            <a:off x="2556000" y="234936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5003640" y="2349360"/>
            <a:ext cx="1513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"/>
          <p:cNvSpPr/>
          <p:nvPr/>
        </p:nvSpPr>
        <p:spPr>
          <a:xfrm>
            <a:off x="5003640" y="3141720"/>
            <a:ext cx="64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"/>
          <p:cNvSpPr/>
          <p:nvPr/>
        </p:nvSpPr>
        <p:spPr>
          <a:xfrm>
            <a:off x="1763640" y="3789360"/>
            <a:ext cx="64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我只是看看，不要妈妈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小男孩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7"/>
          <p:cNvSpPr/>
          <p:nvPr/>
        </p:nvSpPr>
        <p:spPr>
          <a:xfrm>
            <a:off x="826920" y="981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孩子的妈妈叹了口气，说：“他爸爸长年病着，家里生活不富裕。孩子心疼我，什么也不让我给他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169236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读懂了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1692360" y="35002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兵心里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539640" y="3429000"/>
            <a:ext cx="77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爸爸常年病着，家里生活不富裕。我要体谅妈妈，不能让她给我买东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听了，连忙从玩具里找出一辆漂亮的小汽车，请妈妈带给那个男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3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539640" y="2781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售货员阿姨天天盼着再见到那个男孩，好把小汽车送给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把最想说的话写下来送给小兵，可以是祝福的，可以是鼓励的，也可以是称赞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0" descr="R0VXJJO5GP_105"/>
          <p:cNvPicPr/>
          <p:nvPr/>
        </p:nvPicPr>
        <p:blipFill>
          <a:blip r:embed="rId1"/>
          <a:stretch/>
        </p:blipFill>
        <p:spPr>
          <a:xfrm>
            <a:off x="3492360" y="3068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2007823858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写给玩具柜台前的孩子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5259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的目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像晶莹的露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的心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像芬芳的鲜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男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让我们一起开始梦的旅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不要拒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梦中那一辆辆飞跑的汽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那是我们爱的祝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5:05:1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03:12Z</dcterms:modified>
  <cp:revision>16</cp:revision>
  <dc:subject>第一PPT模板网-WWW.1PPT.COM</dc:subject>
  <dc:title>第一PPT模板网-WWW.1PPT.COM</dc:title>
</cp:coreProperties>
</file>