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383-75BB-4DBD-AEF9-DC780519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C05-4F0D-4B7C-BC0D-98EA0EC9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B3125-4863-4E6D-9FCA-9749E7C5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8BDCA-08F3-4E24-BCDA-74D985C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B674E-225C-4357-9ED5-79964DC3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A33A9-E6FD-4A38-9602-2D94E22A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29E42-3138-4693-918C-5EB91288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87ABF-E5DE-49D4-A354-7406706E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0E1A0-95A0-418B-9698-3FFEACB6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0B606-E564-4F92-BB69-22FB5040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C6501-3C2D-4B93-96BC-918F6780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6905D-48D8-4D53-9DB0-DC807C2B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C86-6E9E-4F73-8B5D-134D6B08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B51F1-4176-4EBE-8AB6-B6A29F26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4B8CC-D8DA-45AC-AFAC-EFE99F52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9C263-F7B2-43CA-AAA1-8A4E7B35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30322-7506-4156-982B-6C7BC25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581D6-9F9A-416F-8DC1-8978AE33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620D9-7415-4C31-A589-862DC682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4DBE0-38B9-4072-8FA7-AA242D16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EFB71-C681-4E68-96B6-EA7674DE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5A049-969B-4A63-B0C3-8B840A4F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26BA3-9DEB-4AC5-A18D-ECC97208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B66-4D11-4E1B-BF2C-58A0C4D5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B8438-B35D-44C0-989E-F14CD18C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AAC15-A887-4319-9CD1-E1512E07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74A9D-67D7-4A65-8BBA-5F12B16D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DEAEB-B17C-436F-8C1F-96F6159F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B6BE9-19A7-4BC9-884D-75C4D9D1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B9288-82FA-4231-BC0F-8D65E701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934ED-035A-40AD-AC8E-2F69FF4D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470FC-E8D9-4DBD-9B0A-73A86462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2E494-8EFF-4EEB-A91A-A7F5042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059A8-59DD-4444-92ED-EBC0DE3B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6C0D-21AB-4350-8421-D706F8B4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9F784-36DC-470A-828F-3153A152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39853-A652-48CC-B22C-2DFC1129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FA5DC-6B19-4781-87A3-BE13679A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EDF58-B444-4403-90C6-BD2C0AF1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03488-CD4C-4E6D-8116-C4B1E87C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A164E-0EE9-48AD-A575-EB74C2BE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6F130-A13B-4EB7-8FC7-89349A31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B4961-85B7-4E26-9FDE-61066253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8E1A5-B28D-4E0F-907D-BAAFD790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EA1CA-902F-40CF-A9B0-806AAE93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44DC-91A3-45DD-B5DE-1D714410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E04AB-5C9A-4641-A9F7-C9717D6D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6B58E-8982-4B30-A425-2D69289F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F50AE-9F2E-4530-84DC-C2FF6826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6D900-C931-46F6-8114-BA1403C1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A55C8-637F-468E-BE0C-BEFC5239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0AB13-C5F5-47EF-8F89-F6876105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C72CB-2AF9-4304-AE61-3879812B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0978C-F022-4E7E-A78B-F02809DD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1ADB9-7305-4219-8BBF-A5FC0A75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E9091-7731-47A0-BF03-E60859DF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27B8-BD9B-4475-91D1-B6B327FE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31D07-3FF5-4671-98FE-9208158E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397F8-65E7-4314-91BD-6CD7E1D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91143-EAD6-401C-8228-9F565062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D722E-F3DD-4469-B8C5-E0E90303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737A9-222E-44A3-AD1F-45F44B68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F7BE9-99E2-4B50-A24F-EB532D39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16F67-5F6E-4342-BBDC-E410C013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E035-DE82-4146-A62D-3C89395B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C6DE-FB3B-4A26-9B2E-346C35C1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7A73-A0C6-40A4-9DB1-8C708FB9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DA56-B1A9-4597-A966-BC638D07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37D-CCB1-4490-A1A9-FA141F81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5D66-2809-4208-8B03-044B8A7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9DA4-A8D3-40D9-85F6-EDE8C6CD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D973-652F-4A74-8015-BDBD29DA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37C2-6A8D-4A36-BA24-D924F7EF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E85E-403F-4545-B3DD-E2B4DE85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8B493-6792-4069-92CA-289BC0F2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87557-16BA-4C7A-9ED4-865922E6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77B95-C94A-4375-A52E-7D421AC9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FE23E-A9BE-4AFC-B25E-8BDD9ACF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1F1A-7185-4763-BEAC-0B682A6B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59D-25E0-4856-B315-9B176C3D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13110-2F1E-4D7F-9041-D837D027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7E6E-B919-4C1F-88D4-D18D7BC2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5795B-B648-479E-831E-1AB55D95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F7640-8578-46A6-94BB-159CB411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18480-CE50-488E-B1F0-D095DBC4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F425-0D02-40AC-8AA5-E139CB93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0412-3C08-476C-919E-3576712F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006AA-CDB2-4D14-9C21-2349F354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426A4-3BD2-4BFD-8571-A24B72CF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EA248-D88C-4380-BE39-52FE6D89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755-5520-423A-BF74-9AAF37FF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0A81B-2F36-4235-8C10-A5637763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30AC-9B3B-40AE-AEAA-2FC53EA2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31458-EA0B-4DD7-B2FD-212E3D04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E71E-FD81-4CC3-AA6D-878AFB3C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902F-98D0-49AA-8AB6-40C299B1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4993-97FB-4831-A333-55114C05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DFC1B-662C-438E-9A70-0D4C4754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9D52-0E5B-4291-91C0-10853F5A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F116-B54D-45F1-9285-F08CD403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9F1F-0F00-4664-8200-D8C7A19B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8ED-1027-4F70-AA12-0996E4CE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870E0-F286-4BB3-9BC9-BB235D63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396D3-A23C-4544-98CE-B9A08D61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9B174-B64A-437E-A0D2-FB63EE8B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0C4A-FC87-4167-BF4A-C57164E8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DC922-44A6-47CB-BB2B-603C33CD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5871A-8AA4-471A-B0FB-44EE7DAC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652E0-4F6F-4F24-8DCE-23A999E4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BA75-CAD9-4AD5-AF90-DBE3D4A1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0F6D2-D2C8-443B-B42D-9178F0E1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AFD5-0EB1-4941-8EA9-8E86FB9D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E40-ACB5-494B-B33D-508CDDE6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7E06-70E5-4981-9F33-5C4518E9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BF9D6-0839-432F-B241-35A6953A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6439F-C3F6-49C9-8C75-726C8388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2B9CD-1A30-4403-A70D-838B49F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03797-AEAC-4677-B541-C7208F15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E6D26-69C3-426C-B003-C95C7C3C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A93A4-E0D7-43C0-889C-ADE1BA1D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2B71A-5E98-4E2F-A514-5479689A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2710D-2863-4DCF-8325-71F08E44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702CB-2A13-4FBB-92B2-AC03B688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443-4CD5-4BB2-B446-2C5B992D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331A4-D99A-4973-8242-1F99CB0F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1702B-D24C-4196-8FAF-BBCA1836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16E56-ABD2-437E-9CB0-C4104B74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9D36F-0F45-403B-A9DF-CD465711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A5F61-1B79-4AD5-92A4-7E945F5C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219F2-4E53-4130-BD24-013568D9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C85D0-AD48-4167-9DC3-E3FBE739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8E7B5-9F6C-4039-8EDB-8FCB0A33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2D3F7-0E59-4CD4-A099-5DAC6F52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0FB04-E29B-4170-8603-75EAC9CA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C81-D2DA-4912-B7D1-92EC56F1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89B87-564C-414F-898E-01EB9C4F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42299-7446-452D-9FFF-EAB9BF9D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54B85-F840-4DB0-A194-EF641E5A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8797D-B664-4310-B558-3DC68918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C14BB-3AAD-489D-9F64-DE24314F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F32E9-D0D3-4C13-A73D-39353DF3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23FE0-9D1A-4ED6-83F8-8D1CBE59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11DD9-FB78-4884-94A3-04CDC2F9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5A097-0AB2-433A-B47B-387BB037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8BFC1-CE84-4C99-A0DE-01099FB7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DD6-6EC7-46E6-9EC5-AF56D166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DE766-05C9-498C-8362-79CF4507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2F0AB-0E60-4647-A049-AD4E2D6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E9041-A933-450E-9F64-F78029B7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42CBB-0E10-4E53-9773-ED2FF4A3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57F0E-1412-4CBA-B8E6-8068A754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151E1-93FE-42D2-ADB5-CC17B02D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CC99B-2781-4B24-AF52-B64AAEA7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10816-E279-4C1D-9252-386A7511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E0797-EA3D-4EFC-A109-338F91D2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DC3BA-9F5E-4BC2-A97B-865AD41B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1207-7CE0-46A0-9124-527C3BEC4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C546-B65C-4B6E-86F9-1289BFF9AB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ECC5-69B1-45F1-A151-7F961A0F78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BA28-04D6-42B1-B294-B87B5CDF82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FF5E-8F7F-435E-BDB3-E01ED6D4C9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3B11-FDD6-416C-A1AE-8C311622FB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8AFF-5288-47BD-8E31-0C44255B17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648D-872E-4D31-A051-18C3EDD4FF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1EE9-48BD-4A98-8B7F-B7E928F075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B739-0B03-48A9-A18D-C72DF82823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6F0C-7ECB-4388-8151-AD07D7B566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B3CB-6587-420E-BE35-B7DB3E89F1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36A3-2601-44B6-BA80-D1E3E856CE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20B0-A81D-4477-921A-B8E852318C7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03F8-407F-4612-98BA-2807136A2A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A46A-24B4-47C4-8E10-2950DF285B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EB49-85F5-4C20-9C6F-00B2B37A9F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77B3-810F-4882-AEE5-8FFA332F82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28E1-F374-4601-965B-6D81F58B6A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B8D9-183B-4050-A91A-933D6D18C0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41E7-F11F-4871-8CFD-194C621640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B2A4-EB1C-467A-846E-6075617456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D157-3EC8-448E-8905-45DD297252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A336-A48D-48D5-85C2-32243E3645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1968-BC51-4E36-9C85-B3D45ECB2C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2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fx13900_waterfl11.wav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tmp/home/.config/libreoffice/4/user/gallery/fx13900_waterfl11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fx13900_waterfl11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fx13900_waterfl11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x13900_waterfl11.wav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/tmp/home/.config/libreoffice/4/user/gallery/fx13900_waterfl11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fx13900_waterfl11.wav" TargetMode="External"/><Relationship Id="rId2" Type="http://schemas.openxmlformats.org/officeDocument/2006/relationships/image" Target="../media/image8.jpeg"/><Relationship Id="rId3" Type="http://schemas.openxmlformats.org/officeDocument/2006/relationships/hyperlink" Target="file:///tmp/home/.config/libreoffice/4/user/gallery/fx13900_waterfl11.wa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Arial"/>
                <a:ea typeface="楷体_GB2312"/>
              </a:rPr>
              <a:t>望庐山瀑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制作者：淮阴师范学院第一附属小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钱小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6">
            <a:hlinkClick r:id="rId1" action="ppaction://hlinksldjump"/>
          </p:cNvPr>
          <p:cNvSpPr/>
          <p:nvPr/>
        </p:nvSpPr>
        <p:spPr>
          <a:xfrm>
            <a:off x="3203640" y="630864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香炉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7">
            <a:hlinkClick r:id="rId2" action="ppaction://hlinksldjump"/>
          </p:cNvPr>
          <p:cNvSpPr/>
          <p:nvPr/>
        </p:nvSpPr>
        <p:spPr>
          <a:xfrm>
            <a:off x="3924360" y="63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夸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8">
            <a:hlinkClick r:id="rId3" action="ppaction://hlinksldjump"/>
          </p:cNvPr>
          <p:cNvSpPr/>
          <p:nvPr/>
        </p:nvSpPr>
        <p:spPr>
          <a:xfrm>
            <a:off x="4500720" y="6308640"/>
            <a:ext cx="358560" cy="28728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瀑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9">
            <a:hlinkClick r:id="rId4" action="ppaction://hlinksldjump"/>
          </p:cNvPr>
          <p:cNvSpPr/>
          <p:nvPr/>
        </p:nvSpPr>
        <p:spPr>
          <a:xfrm>
            <a:off x="5148360" y="630864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古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0">
            <a:hlinkClick r:id="rId5" action="ppaction://hlinksldjump"/>
          </p:cNvPr>
          <p:cNvSpPr/>
          <p:nvPr/>
        </p:nvSpPr>
        <p:spPr>
          <a:xfrm>
            <a:off x="6156360" y="6381720"/>
            <a:ext cx="431640" cy="142920"/>
          </a:xfrm>
          <a:custGeom>
            <a:avLst/>
            <a:gdLst>
              <a:gd name="textAreaLeft" fmla="*/ 9000 w 431640"/>
              <a:gd name="textAreaRight" fmla="*/ 422640 w 4316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65126" h="21600">
                <a:moveTo>
                  <a:pt x="0" y="0"/>
                </a:moveTo>
                <a:lnTo>
                  <a:pt x="65126" y="0"/>
                </a:lnTo>
                <a:lnTo>
                  <a:pt x="65126" y="21600"/>
                </a:lnTo>
                <a:lnTo>
                  <a:pt x="0" y="21600"/>
                </a:lnTo>
                <a:close/>
              </a:path>
              <a:path fill="lightenLess" w="65126" h="21600">
                <a:moveTo>
                  <a:pt x="0" y="0"/>
                </a:moveTo>
                <a:lnTo>
                  <a:pt x="65126" y="0"/>
                </a:lnTo>
                <a:lnTo>
                  <a:pt x="63726" y="1400"/>
                </a:lnTo>
                <a:lnTo>
                  <a:pt x="1400" y="1400"/>
                </a:lnTo>
                <a:close/>
              </a:path>
              <a:path fill="darken" w="65126" h="21600">
                <a:moveTo>
                  <a:pt x="65126" y="0"/>
                </a:moveTo>
                <a:lnTo>
                  <a:pt x="65126" y="21600"/>
                </a:lnTo>
                <a:lnTo>
                  <a:pt x="63726" y="20200"/>
                </a:lnTo>
                <a:lnTo>
                  <a:pt x="63726" y="1400"/>
                </a:lnTo>
                <a:close/>
              </a:path>
              <a:path fill="darkenLess" w="65126" h="21600">
                <a:moveTo>
                  <a:pt x="65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726" y="20200"/>
                </a:lnTo>
                <a:close/>
              </a:path>
              <a:path fill="lighten" w="65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瀑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落"/>
          <p:cNvPicPr/>
          <p:nvPr/>
        </p:nvPicPr>
        <p:blipFill>
          <a:blip r:embed="rId1"/>
          <a:stretch/>
        </p:blipFill>
        <p:spPr>
          <a:xfrm>
            <a:off x="-612720" y="-1487520"/>
            <a:ext cx="10009080" cy="834552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7">
            <a:hlinkClick r:id="rId2"/>
          </p:cNvPr>
          <p:cNvSpPr/>
          <p:nvPr/>
        </p:nvSpPr>
        <p:spPr>
          <a:xfrm>
            <a:off x="7308720" y="6093000"/>
            <a:ext cx="358920" cy="36036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87">
                <a:moveTo>
                  <a:pt x="0" y="0"/>
                </a:moveTo>
                <a:lnTo>
                  <a:pt x="21600" y="0"/>
                </a:lnTo>
                <a:lnTo>
                  <a:pt x="21600" y="21687"/>
                </a:lnTo>
                <a:lnTo>
                  <a:pt x="0" y="21687"/>
                </a:lnTo>
                <a:close/>
              </a:path>
              <a:path fill="lightenLess" w="21600" h="216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87">
                <a:moveTo>
                  <a:pt x="21600" y="0"/>
                </a:moveTo>
                <a:lnTo>
                  <a:pt x="21600" y="21687"/>
                </a:lnTo>
                <a:lnTo>
                  <a:pt x="20200" y="20287"/>
                </a:lnTo>
                <a:lnTo>
                  <a:pt x="20200" y="1400"/>
                </a:lnTo>
                <a:close/>
              </a:path>
              <a:path fill="darkenLess" w="21600" h="21687">
                <a:moveTo>
                  <a:pt x="21600" y="21687"/>
                </a:moveTo>
                <a:lnTo>
                  <a:pt x="0" y="21687"/>
                </a:lnTo>
                <a:lnTo>
                  <a:pt x="1400" y="20287"/>
                </a:lnTo>
                <a:lnTo>
                  <a:pt x="20200" y="20287"/>
                </a:lnTo>
                <a:close/>
              </a:path>
              <a:path fill="lighten" w="21600" h="21687">
                <a:moveTo>
                  <a:pt x="0" y="216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87"/>
                </a:lnTo>
                <a:close/>
              </a:path>
              <a:path fill="darken" w="21600" h="21687">
                <a:moveTo>
                  <a:pt x="3794" y="8450"/>
                </a:moveTo>
                <a:lnTo>
                  <a:pt x="8224" y="8450"/>
                </a:lnTo>
                <a:lnTo>
                  <a:pt x="12645" y="3837"/>
                </a:lnTo>
                <a:lnTo>
                  <a:pt x="12645" y="17850"/>
                </a:lnTo>
                <a:lnTo>
                  <a:pt x="8224" y="13237"/>
                </a:lnTo>
                <a:lnTo>
                  <a:pt x="3794" y="13237"/>
                </a:lnTo>
                <a:close/>
              </a:path>
              <a:path fill="darken" w="21600" h="21687">
                <a:moveTo>
                  <a:pt x="14299" y="10843"/>
                </a:moveTo>
                <a:lnTo>
                  <a:pt x="17806" y="10843"/>
                </a:lnTo>
              </a:path>
              <a:path fill="darken" w="21600" h="21687">
                <a:moveTo>
                  <a:pt x="14299" y="8450"/>
                </a:moveTo>
                <a:lnTo>
                  <a:pt x="17806" y="5682"/>
                </a:lnTo>
              </a:path>
              <a:path fill="darken" w="21600" h="21687">
                <a:moveTo>
                  <a:pt x="14299" y="13237"/>
                </a:moveTo>
                <a:lnTo>
                  <a:pt x="17806" y="16005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" descr="2"/>
          <p:cNvPicPr/>
          <p:nvPr/>
        </p:nvPicPr>
        <p:blipFill>
          <a:blip r:embed="rId1"/>
          <a:stretch/>
        </p:blipFill>
        <p:spPr>
          <a:xfrm>
            <a:off x="-900000" y="-1035000"/>
            <a:ext cx="10440720" cy="7893000"/>
          </a:xfrm>
          <a:prstGeom prst="rect">
            <a:avLst/>
          </a:prstGeom>
          <a:ln w="0">
            <a:noFill/>
          </a:ln>
        </p:spPr>
      </p:pic>
      <p:sp>
        <p:nvSpPr>
          <p:cNvPr id="566" name="AutoShape 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7">
            <a:hlinkClick r:id="rId2"/>
          </p:cNvPr>
          <p:cNvSpPr/>
          <p:nvPr/>
        </p:nvSpPr>
        <p:spPr>
          <a:xfrm>
            <a:off x="774072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8406"/>
                </a:moveTo>
                <a:lnTo>
                  <a:pt x="11782" y="8406"/>
                </a:lnTo>
                <a:lnTo>
                  <a:pt x="16203" y="3794"/>
                </a:lnTo>
                <a:lnTo>
                  <a:pt x="16203" y="17806"/>
                </a:lnTo>
                <a:lnTo>
                  <a:pt x="11782" y="13194"/>
                </a:lnTo>
                <a:lnTo>
                  <a:pt x="7352" y="13194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21365" y="10800"/>
                </a:lnTo>
              </a:path>
              <a:path fill="darken" w="28716" h="21600">
                <a:moveTo>
                  <a:pt x="17857" y="8406"/>
                </a:moveTo>
                <a:lnTo>
                  <a:pt x="21365" y="5639"/>
                </a:lnTo>
              </a:path>
              <a:path fill="darken" w="28716" h="21600">
                <a:moveTo>
                  <a:pt x="17857" y="13194"/>
                </a:moveTo>
                <a:lnTo>
                  <a:pt x="21365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2"/>
          <p:cNvPicPr/>
          <p:nvPr/>
        </p:nvPicPr>
        <p:blipFill>
          <a:blip r:embed="rId1"/>
          <a:stretch/>
        </p:blipFill>
        <p:spPr>
          <a:xfrm>
            <a:off x="-442800" y="-892080"/>
            <a:ext cx="4943520" cy="775008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5"/>
          <p:cNvSpPr/>
          <p:nvPr/>
        </p:nvSpPr>
        <p:spPr>
          <a:xfrm>
            <a:off x="4788000" y="907920"/>
            <a:ext cx="43560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望庐山瀑布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李  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日照香炉生紫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遥看瀑布挂前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飞流直下三千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疑是银河落九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阳关三叠.mp3" descr=""/>
          <p:cNvPicPr/>
          <p:nvPr/>
        </p:nvPicPr>
        <p:blipFill>
          <a:blip r:embed="rId2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9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053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755640" y="907920"/>
            <a:ext cx="7848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李白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字太白，唐代伟大的浪漫主义诗人。他写了大量歌颂祖国山河、揭露社会黑暗和蔑视权贵的诗歌。他的诗对后人有深远的影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4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684360" y="0"/>
            <a:ext cx="77752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危楼高百尺，手可摘星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夜宿山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朝辞白帝彩云间，千里江陵一日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早发白帝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发三千丈，缘愁似个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秋浦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香炉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AutoShape 5">
            <a:hlinkClick r:id="" action="ppaction://hlinkshowjump?jump=firstslide"/>
          </p:cNvPr>
          <p:cNvSpPr/>
          <p:nvPr/>
        </p:nvSpPr>
        <p:spPr>
          <a:xfrm>
            <a:off x="7956720" y="6093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香炉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>
            <a:hlinkClick r:id="rId2"/>
          </p:cNvPr>
          <p:cNvSpPr/>
          <p:nvPr/>
        </p:nvSpPr>
        <p:spPr>
          <a:xfrm>
            <a:off x="7667640" y="6237360"/>
            <a:ext cx="216000" cy="2872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7280"/>
              <a:gd name="textAreaBottom" fmla="*/ 273600 h 287280"/>
            </a:gdLst>
            <a:ahLst/>
            <a:rect l="textAreaLeft" t="textAreaTop" r="textAreaRight" b="textAreaBottom"/>
            <a:pathLst>
              <a:path w="21600" h="28716">
                <a:moveTo>
                  <a:pt x="0" y="0"/>
                </a:moveTo>
                <a:lnTo>
                  <a:pt x="21600" y="0"/>
                </a:lnTo>
                <a:lnTo>
                  <a:pt x="21600" y="28716"/>
                </a:lnTo>
                <a:lnTo>
                  <a:pt x="0" y="28716"/>
                </a:lnTo>
                <a:close/>
              </a:path>
              <a:path fill="lightenLess" w="21600" h="287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16">
                <a:moveTo>
                  <a:pt x="21600" y="0"/>
                </a:moveTo>
                <a:lnTo>
                  <a:pt x="21600" y="28716"/>
                </a:lnTo>
                <a:lnTo>
                  <a:pt x="20200" y="27316"/>
                </a:lnTo>
                <a:lnTo>
                  <a:pt x="20200" y="1400"/>
                </a:lnTo>
                <a:close/>
              </a:path>
              <a:path fill="darkenLess" w="21600" h="28716">
                <a:moveTo>
                  <a:pt x="21600" y="28716"/>
                </a:moveTo>
                <a:lnTo>
                  <a:pt x="0" y="28716"/>
                </a:lnTo>
                <a:lnTo>
                  <a:pt x="1400" y="27316"/>
                </a:lnTo>
                <a:lnTo>
                  <a:pt x="20200" y="27316"/>
                </a:lnTo>
                <a:close/>
              </a:path>
              <a:path fill="lighten" w="21600" h="28716">
                <a:moveTo>
                  <a:pt x="0" y="287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16"/>
                </a:lnTo>
                <a:close/>
              </a:path>
              <a:path fill="darken" w="21600" h="28716">
                <a:moveTo>
                  <a:pt x="3794" y="11965"/>
                </a:moveTo>
                <a:lnTo>
                  <a:pt x="8224" y="11965"/>
                </a:lnTo>
                <a:lnTo>
                  <a:pt x="12645" y="7352"/>
                </a:lnTo>
                <a:lnTo>
                  <a:pt x="12645" y="21365"/>
                </a:lnTo>
                <a:lnTo>
                  <a:pt x="8224" y="16752"/>
                </a:lnTo>
                <a:lnTo>
                  <a:pt x="3794" y="16752"/>
                </a:lnTo>
                <a:close/>
              </a:path>
              <a:path fill="darken" w="21600" h="28716">
                <a:moveTo>
                  <a:pt x="14299" y="14358"/>
                </a:moveTo>
                <a:lnTo>
                  <a:pt x="17806" y="14358"/>
                </a:lnTo>
              </a:path>
              <a:path fill="darken" w="21600" h="28716">
                <a:moveTo>
                  <a:pt x="14299" y="11965"/>
                </a:moveTo>
                <a:lnTo>
                  <a:pt x="17806" y="9197"/>
                </a:lnTo>
              </a:path>
              <a:path fill="darken" w="21600" h="28716">
                <a:moveTo>
                  <a:pt x="14299" y="16752"/>
                </a:moveTo>
                <a:lnTo>
                  <a:pt x="17806" y="19519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MEC0312000049"/>
          <p:cNvPicPr/>
          <p:nvPr/>
        </p:nvPicPr>
        <p:blipFill>
          <a:blip r:embed="rId1"/>
          <a:stretch/>
        </p:blipFill>
        <p:spPr>
          <a:xfrm>
            <a:off x="-396720" y="-1179360"/>
            <a:ext cx="9937440" cy="803736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7">
            <a:hlinkClick r:id="rId2"/>
          </p:cNvPr>
          <p:cNvSpPr/>
          <p:nvPr/>
        </p:nvSpPr>
        <p:spPr>
          <a:xfrm>
            <a:off x="7451640" y="6237360"/>
            <a:ext cx="433440" cy="287280"/>
          </a:xfrm>
          <a:custGeom>
            <a:avLst/>
            <a:gdLst>
              <a:gd name="textAreaLeft" fmla="*/ 18360 w 433440"/>
              <a:gd name="textAreaRight" fmla="*/ 415080 w 433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8406"/>
                </a:moveTo>
                <a:lnTo>
                  <a:pt x="13712" y="8406"/>
                </a:lnTo>
                <a:lnTo>
                  <a:pt x="18133" y="3794"/>
                </a:lnTo>
                <a:lnTo>
                  <a:pt x="18133" y="17806"/>
                </a:lnTo>
                <a:lnTo>
                  <a:pt x="13712" y="13194"/>
                </a:lnTo>
                <a:lnTo>
                  <a:pt x="9281" y="13194"/>
                </a:lnTo>
                <a:close/>
              </a:path>
              <a:path fill="darken" w="32576" h="21600">
                <a:moveTo>
                  <a:pt x="19787" y="10800"/>
                </a:moveTo>
                <a:lnTo>
                  <a:pt x="23294" y="10800"/>
                </a:lnTo>
              </a:path>
              <a:path fill="darken" w="32576" h="21600">
                <a:moveTo>
                  <a:pt x="19787" y="8406"/>
                </a:moveTo>
                <a:lnTo>
                  <a:pt x="23294" y="5639"/>
                </a:lnTo>
              </a:path>
              <a:path fill="darken" w="32576" h="21600">
                <a:moveTo>
                  <a:pt x="19787" y="13194"/>
                </a:moveTo>
                <a:lnTo>
                  <a:pt x="23294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庐山1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AutoShape 5">
            <a:hlinkClick r:id="rId3"/>
          </p:cNvPr>
          <p:cNvSpPr/>
          <p:nvPr/>
        </p:nvSpPr>
        <p:spPr>
          <a:xfrm>
            <a:off x="7524720" y="6524640"/>
            <a:ext cx="287280" cy="33336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33360"/>
              <a:gd name="textAreaBottom" fmla="*/ 315000 h 333360"/>
            </a:gdLst>
            <a:ahLst/>
            <a:rect l="textAreaLeft" t="textAreaTop" r="textAreaRight" b="textAreaBottom"/>
            <a:pathLst>
              <a:path w="21600" h="25060">
                <a:moveTo>
                  <a:pt x="0" y="0"/>
                </a:moveTo>
                <a:lnTo>
                  <a:pt x="21600" y="0"/>
                </a:lnTo>
                <a:lnTo>
                  <a:pt x="21600" y="25060"/>
                </a:lnTo>
                <a:lnTo>
                  <a:pt x="0" y="25060"/>
                </a:lnTo>
                <a:close/>
              </a:path>
              <a:path fill="lightenLess" w="21600" h="250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60">
                <a:moveTo>
                  <a:pt x="21600" y="0"/>
                </a:moveTo>
                <a:lnTo>
                  <a:pt x="21600" y="25060"/>
                </a:lnTo>
                <a:lnTo>
                  <a:pt x="20200" y="23660"/>
                </a:lnTo>
                <a:lnTo>
                  <a:pt x="20200" y="1400"/>
                </a:lnTo>
                <a:close/>
              </a:path>
              <a:path fill="darkenLess" w="21600" h="25060">
                <a:moveTo>
                  <a:pt x="21600" y="25060"/>
                </a:moveTo>
                <a:lnTo>
                  <a:pt x="0" y="25060"/>
                </a:lnTo>
                <a:lnTo>
                  <a:pt x="1400" y="23660"/>
                </a:lnTo>
                <a:lnTo>
                  <a:pt x="20200" y="23660"/>
                </a:lnTo>
                <a:close/>
              </a:path>
              <a:path fill="lighten" w="21600" h="25060">
                <a:moveTo>
                  <a:pt x="0" y="250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60"/>
                </a:lnTo>
                <a:close/>
              </a:path>
              <a:path fill="darken" w="21600" h="25060">
                <a:moveTo>
                  <a:pt x="3794" y="10137"/>
                </a:moveTo>
                <a:lnTo>
                  <a:pt x="8224" y="10137"/>
                </a:lnTo>
                <a:lnTo>
                  <a:pt x="12645" y="5524"/>
                </a:lnTo>
                <a:lnTo>
                  <a:pt x="12645" y="19537"/>
                </a:lnTo>
                <a:lnTo>
                  <a:pt x="8224" y="14924"/>
                </a:lnTo>
                <a:lnTo>
                  <a:pt x="3794" y="14924"/>
                </a:lnTo>
                <a:close/>
              </a:path>
              <a:path fill="darken" w="21600" h="25060">
                <a:moveTo>
                  <a:pt x="14299" y="12530"/>
                </a:moveTo>
                <a:lnTo>
                  <a:pt x="17806" y="12530"/>
                </a:lnTo>
              </a:path>
              <a:path fill="darken" w="21600" h="25060">
                <a:moveTo>
                  <a:pt x="14299" y="10137"/>
                </a:moveTo>
                <a:lnTo>
                  <a:pt x="17806" y="7369"/>
                </a:lnTo>
              </a:path>
              <a:path fill="darken" w="21600" h="25060">
                <a:moveTo>
                  <a:pt x="14299" y="14924"/>
                </a:moveTo>
                <a:lnTo>
                  <a:pt x="17806" y="1769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庐山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967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AutoShape 5">
            <a:hlinkClick r:id="rId3"/>
          </p:cNvPr>
          <p:cNvSpPr/>
          <p:nvPr/>
        </p:nvSpPr>
        <p:spPr>
          <a:xfrm>
            <a:off x="7596360" y="6165720"/>
            <a:ext cx="502920" cy="387360"/>
          </a:xfrm>
          <a:custGeom>
            <a:avLst/>
            <a:gdLst>
              <a:gd name="textAreaLeft" fmla="*/ 24840 w 502920"/>
              <a:gd name="textAreaRight" fmla="*/ 478080 w 50292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28038" h="21600">
                <a:moveTo>
                  <a:pt x="0" y="0"/>
                </a:moveTo>
                <a:lnTo>
                  <a:pt x="28038" y="0"/>
                </a:lnTo>
                <a:lnTo>
                  <a:pt x="28038" y="21600"/>
                </a:lnTo>
                <a:lnTo>
                  <a:pt x="0" y="21600"/>
                </a:lnTo>
                <a:close/>
              </a:path>
              <a:path fill="lightenLess" w="28038" h="21600">
                <a:moveTo>
                  <a:pt x="0" y="0"/>
                </a:moveTo>
                <a:lnTo>
                  <a:pt x="28038" y="0"/>
                </a:lnTo>
                <a:lnTo>
                  <a:pt x="26638" y="1400"/>
                </a:lnTo>
                <a:lnTo>
                  <a:pt x="1400" y="1400"/>
                </a:lnTo>
                <a:close/>
              </a:path>
              <a:path fill="darken" w="28038" h="21600">
                <a:moveTo>
                  <a:pt x="28038" y="0"/>
                </a:moveTo>
                <a:lnTo>
                  <a:pt x="28038" y="21600"/>
                </a:lnTo>
                <a:lnTo>
                  <a:pt x="26638" y="20200"/>
                </a:lnTo>
                <a:lnTo>
                  <a:pt x="26638" y="1400"/>
                </a:lnTo>
                <a:close/>
              </a:path>
              <a:path fill="darkenLess" w="28038" h="21600">
                <a:moveTo>
                  <a:pt x="28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38" y="20200"/>
                </a:lnTo>
                <a:close/>
              </a:path>
              <a:path fill="lighten" w="28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38" h="21600">
                <a:moveTo>
                  <a:pt x="7012" y="8406"/>
                </a:moveTo>
                <a:lnTo>
                  <a:pt x="11443" y="8406"/>
                </a:lnTo>
                <a:lnTo>
                  <a:pt x="15864" y="3794"/>
                </a:lnTo>
                <a:lnTo>
                  <a:pt x="15864" y="17806"/>
                </a:lnTo>
                <a:lnTo>
                  <a:pt x="11443" y="13194"/>
                </a:lnTo>
                <a:lnTo>
                  <a:pt x="7012" y="13194"/>
                </a:lnTo>
                <a:close/>
              </a:path>
              <a:path fill="darken" w="28038" h="21600">
                <a:moveTo>
                  <a:pt x="17518" y="10800"/>
                </a:moveTo>
                <a:lnTo>
                  <a:pt x="21025" y="10800"/>
                </a:lnTo>
              </a:path>
              <a:path fill="darken" w="28038" h="21600">
                <a:moveTo>
                  <a:pt x="17518" y="8406"/>
                </a:moveTo>
                <a:lnTo>
                  <a:pt x="21025" y="5639"/>
                </a:lnTo>
              </a:path>
              <a:path fill="darken" w="28038" h="21600">
                <a:moveTo>
                  <a:pt x="17518" y="13194"/>
                </a:moveTo>
                <a:lnTo>
                  <a:pt x="21025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1:59:09Z</dcterms:created>
  <dc:creator>微软用户</dc:creator>
  <dc:description/>
  <dc:language>en-US</dc:language>
  <cp:lastModifiedBy>a</cp:lastModifiedBy>
  <dcterms:modified xsi:type="dcterms:W3CDTF">2015-03-17T05:47:35Z</dcterms:modified>
  <cp:revision>24</cp:revision>
  <dc:subject/>
  <dc:title>幻灯片 1</dc:title>
</cp:coreProperties>
</file>