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674-40A5-4AD0-98F3-B8DEA03C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169-45E5-429F-B648-01D86938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6C519-4CC3-42A8-BFAA-0BC73144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FF9CF-F94B-4611-81F7-1631498B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67F27-21BD-46AD-991F-337B06B8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5B1DD-EA80-4695-A997-17BD60F1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65232-B359-42D3-B848-73A514AA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08C6A-9894-4B40-937D-C8EDCA1A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D866E-90A0-4FB5-B449-98860539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2AE12-B8BD-4543-8223-BE5C48B0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85F0A-5171-494B-A42D-E9EE6C5C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126893-2783-4B1D-AF83-10E64051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697-3F9E-4DD3-B573-913027DF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4F71C-77FD-4FE9-8019-D612C02F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B8CEB-4489-4CC3-B771-0BBDE9D5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B6690-E9F3-49CA-80FD-7CE79B84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BD7ED-CD0B-4A40-AA3C-C8C637AB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81A8A-01D7-4BB5-9AE3-288314D7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A9972-B32D-4E06-9A5A-0C154422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AB648-F38E-4866-9654-F7F4760B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469B1-3198-4DE9-975C-D623F7C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E540A8-7065-4AD6-B956-01466AA8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0D3C8-3D99-49DE-B0ED-3655144E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35C-BD0D-4305-A33C-6E532E39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60E16-B072-49A0-BBC2-F88ED8F0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CA3D36-D4C1-4261-AC73-B8EF7F4E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6F0B6-0DF8-49E3-A8D3-412D2357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052BD-266E-427D-B92B-78E79FB0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B83A2-23A8-43C1-A005-C0A89075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AC815-9F95-4C58-9843-1D207EEB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944AC-F2AF-41E4-9F1C-ACC8FF25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A75F5-EE04-4A10-9DF7-1F6C295B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29F11-BCBF-4A62-8BC6-7866A1E1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E908F-6E06-4613-96EC-CFB16372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206E-C813-4470-B12E-20EC5E9D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02BFF-7360-463C-B28C-F6A51FC1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2AB9E-A90C-4D14-B573-994AE6F2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AD5FB-D353-46B6-BAC3-521054E2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11469-9588-47C9-A4F9-09E76822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CF5EF-AE7F-44C9-98D4-FA087687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35EBE-4C8C-4D53-9EE1-6635AF45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588FE-46D3-472A-81AB-1C7878C9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F3A39-5E0E-4275-B9A1-990C92C7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3475C-E7D4-4DA4-8FD0-642BD1E4A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0E702-5AC2-42FD-9978-CE2F8B69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7F2C-E31D-4F46-89F6-74F0C692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93357-EFDA-4D61-B026-EFC20A2D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FEA38-78F6-40CE-9E2E-FF39C2BA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4B62C-69D4-48A8-B287-BB6A5989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A6132-69BB-4DD5-82C7-B969254E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F7C22-0927-4822-BE23-00FD35C1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CD684-B3F5-4387-96C2-5B5F73B0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F495A-FAC5-4C2B-BC4A-690C1F55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6E7D4-8F44-465A-8AA8-3556F152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E58BB-66F3-47B1-8077-8324FE1E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54F78-6268-40E5-B89E-30371FBB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E83B-F98E-4CEE-9F7E-176D05D5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E1E8A-A35A-4179-ACB8-7D694F43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33819-A222-45FE-9D4E-9500E973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21811-305E-4964-9583-24E19467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857110-840F-4025-9CAC-C2E4009C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1FCEF-6136-405C-B676-E1730989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BB772-5626-4091-8C02-63974D2C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2076E-A008-457B-BA99-C08A4515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1E02-6ADD-4023-9F6C-19454900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5E56D-39B2-44A2-9C08-6091FD87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29EF-39C3-450E-AA35-4B8AA6EA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22FC-6C10-403B-879B-97D988D2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91A-E4DA-4719-91D8-F7FB7040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58B9-E6B8-424A-9EA4-4483A75E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C175-69DB-403B-AD7D-FC325573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85251-D7DF-4F33-9F6A-3D52C605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9D31-8DDF-4E78-BF9C-A180A8C2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78AD-1D0E-4B3B-9BB6-6F8B23F9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84BC-3467-46E4-8BF4-A693E67C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EE3E0-EC76-444D-BE74-391882E6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CD63-DA5A-4B6B-807D-7EAC71A1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790AF-D7BF-48BE-A2B4-BD058917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47DA-8384-46B7-B8DD-0EE383AB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EBAB-A127-431A-B870-A70814E0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7665-9065-4C6C-BD45-72FC3C4E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9B23-19F3-48DC-A78F-34FC1ABF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886C-AE0C-4B39-B7D8-8B13DE2A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45B2-D1F9-439A-905F-E1CAD5E4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1C8D-9919-47AC-AFF6-B3A1A896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58DE-5075-421D-988E-E44637CF4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A4AE-1216-4DF6-B362-09FD2120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3BCC6-A621-4EB1-A351-3366A7C42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72435-35F1-4B8A-9FA3-A4218A0D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3A4C2-4196-48BC-84D0-334AEF92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304-218C-4FCD-9D71-26C02BD0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B35C7-9550-4ED8-8E81-DB706EC1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3D18-0B25-4F6D-B959-81056C50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C678-7974-4783-9F73-79863083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67F7-29BB-452B-8683-DEB77C54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ADC9A-024C-42EE-85A6-B200618F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EE3BC-E828-4537-956D-67E16E41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C7137-DEED-4FB2-86D0-6E99772D5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B14F4-2F87-4E15-A119-AED5A528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CF173-61BD-4FE7-96D8-A823C959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BCD89-C0DB-4B40-8610-09D6DF76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FF3-8B91-4D6D-A8C5-08CC52C0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4FFE5-6529-42F4-9B6B-46E87552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3A5B1-52F4-4857-8AF5-46230A73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40D8F-C336-4545-BF7A-C1D5CDB8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DC73B-EED3-48C5-BA9F-B4CEC90A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66E35-1CEC-4A88-A23E-8026166F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2E0FA-82F6-4B3C-A4C5-BE3DA09C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72AEE-B208-4FC4-BAB7-6407342B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E452C-3088-4D38-A9D2-AFDFD944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35568-D42F-4CA6-B8E0-D2021325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D979B-706C-4AB6-B1D4-61AB83F3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2858-2754-4F15-937C-648C6C5A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784D9-A64F-4D84-9AAE-2B80FA28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0ABC5-FCE7-465A-BC83-39087079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A3D40-7F79-4D15-ADF1-F7477316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2B8CB-E8C3-4414-B1D8-23B3C301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70E3-0393-4C71-BA9A-66684E8C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6BDDE-220B-42E0-917F-0234148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AFCA6-D87E-49D4-850A-ED9E4283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8E160-DFB6-49E9-BCED-0E8F1905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57632-8C95-444C-9612-1D23B263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27202-9D7B-47E9-8B11-BFF8C1EB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532-2112-46F3-BF63-2B72F016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35880-8CD8-4AC9-B80B-B5DFD1FD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08277-3A81-478D-9485-86BEB811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53643-0598-4E58-A408-328A84A7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AA14A-7860-4B3B-8238-49A1E5FC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3F8FD-714D-4AE2-824D-2BC22C91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4AC6F-F55B-4CFF-AB25-20E1C488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52272-2622-43C3-BE91-93749B0D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EEB53-E570-47AB-BD23-827C2A77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45309-E089-4A6F-9D86-9ABD27EE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6846A-F9BF-404C-9F39-3F9A15CC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B05-6ED0-41AF-A130-7A9C1F71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B6D58-972D-42D5-B707-199C7D3C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464F5-A4AC-4B9D-B013-1C959A43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68EF0-E896-43B0-8B05-750CD01E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B7780-177C-4277-A9F8-BA6A173C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C207B-3D64-4213-9D42-11E1EA92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DA95F-95A7-419F-B484-0514B3B6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CD3EC-AEA4-4E09-A090-80BC7D43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398F6-358F-4F77-8817-8563781D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CE60C-AB15-4FC3-9F3A-EA8AA62B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13D31-7DA9-44C8-A675-7E7678A2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8A6-5D75-4395-9641-7214CF07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39300-C5C5-431D-8633-FAD9A698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18C9F1-2878-4A65-B58B-B7CB057C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91AF1-0FF5-4E7F-B536-7382CB1A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BD37E-B90E-4FEA-AD83-5EB802C3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29D5A-BC7E-45EB-9C2E-6C9F6D9B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C2152-CC88-48F1-B510-12622376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4CAF50-23FA-4B31-B8CB-640FF5F0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FF7B9-2F95-49DB-84D6-6B47C474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7C91A-8BAF-43EB-830D-A7E044C7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32D66-F3BA-4853-888A-85756A8F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4F1A-D27B-42A1-8766-8993B6CF4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9451-5B04-48DB-9363-547F0202AF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5720-7FE6-4CA3-A9FC-A70A2BD34F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B624-4F43-4660-9A7F-3F8108E23BA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A77B-4DA1-4F04-AC2C-D182AE0A92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72BD-613B-4A68-9272-64FD28965F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EC55-ACD7-44F8-89B0-81A639A2C6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C9C49-3FEF-414F-B585-340D1462E35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6FFE-D8DD-401E-AF2B-CD17AD15AA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FE3D-5A4B-4393-8ADA-07ED0677CB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AC41-C3A9-40BE-A290-883C1E4F75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5066-0E58-40A4-873D-D049456F241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D016-687E-4456-80B3-329FEEE674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DC3A-87FA-44D1-BEAF-BD1D5380B2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1992-2B3E-40EF-B085-70289C94F1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4F16-3143-4C72-9754-E39397AACD4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7D65-BBD7-4469-B818-C60C27D6C4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B8DB-1ABC-4BF2-A732-EF97E33BAB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6F8D-039A-4ABC-9C79-761D38FD26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61C7-53CE-454C-BAEB-A843B6F03E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A07E-A94B-4940-B4A6-9987B7D794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3783-9013-4060-8177-F20F156B98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C3ED-4BA4-4DED-966E-BD12C8A9AB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ED23-9DD1-47CD-AFEC-E4E907740F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E610-83E6-4489-9626-8D1FD44CAF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8" descr="F:\ppt\701a\4be14504991f18d7d8920791956505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6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000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"/>
                <a:ea typeface="楷体"/>
              </a:rPr>
              <a:t>望 天 门 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611280" y="602136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8172360" y="595008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33cc"/>
                </a:solidFill>
                <a:latin typeface="Arial"/>
              </a:rPr>
              <a:t>朗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2556000" y="1484280"/>
            <a:ext cx="511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"/>
                <a:ea typeface="楷体"/>
              </a:rPr>
              <a:t>天门中断楚江开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"/>
                <a:ea typeface="楷体"/>
              </a:rPr>
              <a:t>碧水东流至此回。</a:t>
            </a:r>
            <a:br>
              <a:rPr sz="4400"/>
            </a:br>
            <a:r>
              <a:rPr b="1" lang="zh-CN" sz="4400" spc="-1" strike="noStrike">
                <a:solidFill>
                  <a:srgbClr val="3333ff"/>
                </a:solidFill>
                <a:latin typeface="楷体"/>
                <a:ea typeface="楷体"/>
              </a:rPr>
              <a:t>两岸青山相对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楷体"/>
                <a:ea typeface="楷体"/>
              </a:rPr>
              <a:t>孤帆一片日边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solidFill>
            <a:srgbClr val="000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ff"/>
                </a:solidFill>
                <a:latin typeface="楷体"/>
                <a:ea typeface="楷体"/>
              </a:rPr>
              <a:t>望 天 门 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900000" y="404640"/>
            <a:ext cx="39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学习要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971640" y="162864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自学感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默读古诗，借助书本注释和工具书理解诗意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也可以选择诗中的一句理解），用笔写下自己的收获和疑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971640" y="335772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合作交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组的同学一起交流交流 ，互相质疑，解疑。（提示：想想每句诗里的哪个字用的好，好在哪里？）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5" descr="5"/>
          <p:cNvPicPr/>
          <p:nvPr/>
        </p:nvPicPr>
        <p:blipFill>
          <a:blip r:embed="rId1"/>
          <a:stretch/>
        </p:blipFill>
        <p:spPr>
          <a:xfrm>
            <a:off x="0" y="0"/>
            <a:ext cx="4427640" cy="3625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6" descr="4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36846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8"/>
          <p:cNvSpPr/>
          <p:nvPr/>
        </p:nvSpPr>
        <p:spPr>
          <a:xfrm>
            <a:off x="8712360" y="638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77777"/>
                </a:solidFill>
                <a:latin typeface="Arial"/>
              </a:rPr>
              <a:t>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3" descr="7"/>
          <p:cNvPicPr/>
          <p:nvPr/>
        </p:nvPicPr>
        <p:blipFill>
          <a:blip r:embed="rId3"/>
          <a:stretch/>
        </p:blipFill>
        <p:spPr>
          <a:xfrm>
            <a:off x="0" y="3232080"/>
            <a:ext cx="4427640" cy="36259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4" descr="9"/>
          <p:cNvPicPr/>
          <p:nvPr/>
        </p:nvPicPr>
        <p:blipFill>
          <a:blip r:embed="rId4"/>
          <a:stretch/>
        </p:blipFill>
        <p:spPr>
          <a:xfrm>
            <a:off x="4643280" y="3173400"/>
            <a:ext cx="45007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4"/>
          <p:cNvSpPr/>
          <p:nvPr/>
        </p:nvSpPr>
        <p:spPr>
          <a:xfrm>
            <a:off x="1239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1232_18773692054"/>
          <p:cNvPicPr/>
          <p:nvPr/>
        </p:nvPicPr>
        <p:blipFill>
          <a:blip r:embed="rId1"/>
          <a:stretch/>
        </p:blipFill>
        <p:spPr>
          <a:xfrm>
            <a:off x="179280" y="189000"/>
            <a:ext cx="2513160" cy="357336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8"/>
          <p:cNvSpPr/>
          <p:nvPr/>
        </p:nvSpPr>
        <p:spPr>
          <a:xfrm>
            <a:off x="2843280" y="404640"/>
            <a:ext cx="6119640" cy="19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701--76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字太白，盛唐最杰出的诗人，也是我国最伟大的诗人之一，被人们称作“诗仙”。他经历坎坷，思想复杂，既是一个天才的诗人，又兼有游侠、刺客、隐士、道人、策士等人的气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白留给后世人九百多首诗篇。这些熠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ì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生辉的诗作，表现了他一生的心路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程，是盛唐社会现实和精神生活面貌的艺术写照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179280" y="386064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白大半生过着流浪生活，游历了全国许多名山大川，写下了大量赞美祖国大好河山的优美诗篇，借以表达出他那种酷爱自由、渴望解放的情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3635280" y="0"/>
            <a:ext cx="273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独坐敬亭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66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李白　　　　　　　　　　　　　　　          </a:t>
            </a:r>
            <a:br>
              <a:rPr sz="2800"/>
            </a:b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众鸟高飞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孤云独去闲。　　　　　　　　　　　　　        相看两不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只有敬亭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6804000" y="3284640"/>
            <a:ext cx="280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朗月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小时不识月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呼作白玉盘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又疑瑶台镜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在青云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0" y="0"/>
            <a:ext cx="3240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望庐山瀑布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李白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照香炉生紫烟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遥看瀑布挂前川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流直下三千尺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疑是银河落九天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6227640" y="0"/>
            <a:ext cx="331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赠汪伦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李白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白乘舟将欲行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忽闻岸上踏歌声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桃花潭水深千尺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及汪伦送我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2843280" y="3068640"/>
            <a:ext cx="38512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黄鹤楼送孟浩然之广陵</a:t>
            </a:r>
            <a:br>
              <a:rPr sz="2800"/>
            </a:b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           李白</a:t>
            </a:r>
            <a:br>
              <a:rPr sz="2800"/>
            </a:b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    故人西辞黄鹤楼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烟花三月下扬州。</a:t>
            </a:r>
            <a:br>
              <a:rPr sz="2800"/>
            </a:b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    孤帆远影碧空尽，</a:t>
            </a:r>
            <a:br>
              <a:rPr sz="2800"/>
            </a:br>
            <a:r>
              <a:rPr b="0" lang="zh-CN" sz="2800" spc="-1" strike="noStrike">
                <a:solidFill>
                  <a:srgbClr val="336600"/>
                </a:solidFill>
                <a:latin typeface="Arial"/>
              </a:rPr>
              <a:t>    唯见长江天际流</a:t>
            </a:r>
            <a:r>
              <a:rPr b="0" lang="zh-CN" sz="2400" spc="-1" strike="noStrike">
                <a:solidFill>
                  <a:srgbClr val="336600"/>
                </a:solidFill>
                <a:latin typeface="Arial"/>
              </a:rPr>
              <a:t>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0" y="3068640"/>
            <a:ext cx="352728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早发白帝城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李白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朝辞白帝彩云间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里江陵一日还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岸猿声啼不住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轻舟已过万重山</a:t>
            </a:r>
            <a:r>
              <a:rPr b="0" lang="zh-CN" sz="2400" spc="-1" strike="noStrike">
                <a:solidFill>
                  <a:srgbClr val="336600"/>
                </a:solidFill>
                <a:latin typeface="Arial"/>
              </a:rPr>
              <a:t>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WordArt 4"/>
          <p:cNvSpPr txBox="1"/>
          <p:nvPr/>
        </p:nvSpPr>
        <p:spPr>
          <a:xfrm>
            <a:off x="1547640" y="981000"/>
            <a:ext cx="36720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6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宋体"/>
              </a:rPr>
              <a:t>谢谢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宋体"/>
              <a:ea typeface="宋体"/>
            </a:endParaRPr>
          </a:p>
        </p:txBody>
      </p:sp>
      <p:sp>
        <p:nvSpPr>
          <p:cNvPr id="559" name="WordArt 5"/>
          <p:cNvSpPr txBox="1"/>
          <p:nvPr/>
        </p:nvSpPr>
        <p:spPr>
          <a:xfrm>
            <a:off x="3780000" y="3573360"/>
            <a:ext cx="3816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2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ccffff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再见</a:t>
            </a:r>
            <a:endParaRPr b="1" i="1" lang="en-US" sz="1800" spc="1" strike="noStrike">
              <a:ln w="9360">
                <a:solidFill>
                  <a:srgbClr val="ccffff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6:35:53Z</dcterms:created>
  <dc:creator>第一PPT模板网-WWW.1PPT.COM</dc:creator>
  <dc:description>第一PPT模板网-WWW.1PPT.COM
</dc:description>
  <dc:language>en-US</dc:language>
  <cp:lastModifiedBy>a</cp:lastModifiedBy>
  <dcterms:modified xsi:type="dcterms:W3CDTF">2015-03-16T08:58:39Z</dcterms:modified>
  <cp:revision>16</cp:revision>
  <dc:subject/>
  <dc:title>第一PPT模板网-WWW.1PPT.COM</dc:title>
</cp:coreProperties>
</file>