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cashreg.wav" ContentType="audio/x-wav"/>
  <Override PartName="/ppt/media/image8.gif" ContentType="image/gif"/>
  <Override PartName="/ppt/media/image6.gif" ContentType="image/gif"/>
  <Override PartName="/ppt/media/chimes.wav" ContentType="audio/x-wav"/>
  <Override PartName="/ppt/media/image11.jpeg" ContentType="image/jpeg"/>
  <Override PartName="/ppt/media/image7.png" ContentType="image/png"/>
  <Override PartName="/ppt/media/image10.gif" ContentType="image/gi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94F1E-FC2C-4D43-8BCC-3282B28BB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96F47-47AA-48E5-9838-FF7198F89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C63D75-C671-4903-8E78-F54578223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3B4219-F884-48E7-8B58-9CB72717F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BFDD63-0F2F-470C-A565-63260A6CD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A2A782-E641-4F87-8F20-FC9BA6AB2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41C594-AA41-4E11-83C6-AC0E6C71B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054AFD-BA14-4EE1-BFCC-453814663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E9D23C-566A-4DB1-9BB4-058B1ECD9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AB8CBC-8663-43C7-89A5-E87FB9A15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634099-D0D0-4F4D-9B73-ED4EB7D61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610961-1438-4DB7-839A-57DB9761A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E5F49-B58F-477F-BE6B-950282D74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0FB0EC-3F87-4A2B-8C70-ED7C463E9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724FF2-113D-47EC-AC9A-B7DCB9885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247C25-FBA1-4D8A-9186-54DFFFD59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E20C72-7A7B-4693-8933-1EF5DCB60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8DD122-09D3-493A-96EE-BD3ABA7E0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B9E227-5E1A-466E-9D5F-6D972E8B2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C32C9A-2B95-4A0B-BC3B-F1D992F6B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ABE5F6-974C-49FD-B2F9-92D73FAD5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95EC4E-CF3E-431F-AA4E-7E7124941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50576F-E378-43D0-AE17-78873D2B1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6FF66-C151-4C0F-BB99-E92477357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D2A11F-4771-48F9-A3CB-DAC30FCE2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9B7B63-8FC1-475D-8057-3567F88A6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EA0B4C-2EFA-4A09-908D-298FB67C5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10679D-CDA7-46A0-9BBD-6EA0C114B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8E8ECF-0CC3-466A-B14A-C32590506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AC751A-A779-407D-8266-D57C2BA22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B7E80E-62A8-4957-9C7B-06F56624D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5C76CD-A8E7-4FAC-A346-67789F895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E3B7E8-FAE8-4E31-9105-4B7D3B012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F906F1-359F-4230-9085-D62AB318C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543BF-6402-4D39-B44A-3F364D75E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FA44A8-75BA-43D1-8B6E-ED056C9AC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F90F51-2475-4CD4-8A3C-A314FABCC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8BF31F-3C6D-4B72-8B82-709BC12C2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206E26-F96A-40C7-816C-F0A371075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D37E1D-0A35-41DA-B06B-5B77EF021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F6D3B4-543A-48FB-97EE-7A1BDF273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4F7F68-CE86-4446-AFA7-EA244E8A6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9AC686-0111-4DCE-9B81-03A370B79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0EE76D-35C5-4324-8522-916948721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F49AF8-6DCE-4745-A5D7-53AFB8A97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41544-252B-45CD-80D4-2F824B925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3DDA01-AF20-4C4E-99A2-7B9E975F9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A42086-061B-4E6B-86CF-5B1643906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FCFFB8-6A7F-4604-9174-B257DD081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6BEDE3-7B07-4D9F-AD12-B349FF144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C7EF6B-4FBD-433A-9CA4-A3F2A862D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9ADE4BB-5A43-4576-85B6-56933CD12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1B1CC41-DECA-4AB9-865C-A9EF500EB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B3C854D-6397-472C-BFDE-E6D8A08DA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1A79A91-E1F0-464C-B7ED-E0EEA49A3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2621BD0-451A-4506-8613-F188001EE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5F99A-E856-42F7-95C8-D09539D0E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BE631E2-B167-49FD-8C20-5FCCAA37F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FDC0A88-E46A-4854-ACDF-2E70EEE72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4FED991-1F2B-4B65-9E2D-6571AB2F0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B1826C3-944B-4B44-8288-20EADFB8F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0740514-9B8A-4880-8287-604D1B2B6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6C98494-3D0C-49F1-BA90-48A34AD40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93AB16C-98A8-46D7-8894-189B5E2F9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69B5A-2913-4D29-8E3C-876BBB0EA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6126E-AEC9-4A68-A741-A497DEE88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59D90-3C24-486A-8D24-44DEC5307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EC49A-AD63-41A5-9D9C-34E931C25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45003-BD85-414B-A30A-894FFBFC2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567C0-F12E-4E7C-80D3-46EEBBAE3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37F39-F530-4912-91AB-8FB06F688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2E2A1-EA29-4E64-B584-8018CF8ED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56014-B6F9-4340-89EC-4BD44C381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EBFBB-BA94-4431-B899-55F0E8EDB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D47DF7-94DB-4756-9EE9-0B8B13419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91B662-3704-47BE-9B1E-B4760AA76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C52014-5A34-4267-86EA-BD67E6DCE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C0C2FB-1F17-4B11-9340-7989C1C5C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7158AB-BC37-4170-B2B8-DE96E9886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C8F27-625D-4220-9780-4D4AB1A16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67779F-45FC-4A9A-8DE6-AF88E1AA7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F18674-D074-4814-A3B6-2D7884F02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38465F-D4E4-4CE1-94E5-766D5253B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00463D-184F-437D-AEEC-7DB235340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853899-6D18-48D0-A677-4FD5C308B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01366B-F045-4D31-9E04-A243D0D09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8B2291-CCBD-4462-BD34-F6906CF13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D69C3E-EE7C-49BA-96E6-3773343D5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16B740-08B9-4F7C-9E36-08BCFF868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E1880A-EEDE-4A8D-BE3B-6C4E83971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A25BF-EB2C-4EA6-AE32-B10A7F7FD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5BDE77-BFCF-4900-81BD-9CB9AC271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10095F-365F-401D-B647-FF3A438FE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10A382-744D-4DF6-ADC0-6799DEEE3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447599-C987-452D-88F3-4705E3F3D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D1E6B1-45E5-4C9F-ADBD-F193593E6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8815D7-5604-47A3-BA63-D71BCE895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8C1A3F-F731-44EF-A318-02CAC4B2B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992E6D-0188-4A5E-B8E0-AD4DF64C3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7F764B-99E4-42AD-B666-77B08AD99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02EAA3-86F6-4EDE-9C9B-0F7586DF3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BFC74-9FA2-40E1-BCA1-5E6D75DC8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CB2BA1-5DE4-404C-9CC4-DE1B84ECF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F31704-70EA-4B2E-943B-966957BEE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BF4762-8334-4377-B748-700D9C90D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3023CD-D887-41EA-9643-E76F0CC5B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0328FE-F8FC-40FE-8E96-71B15FF4C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5194C5-D38A-4CBD-A31E-8E4C3369F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090175-B252-4036-B6A7-4EE6F97A3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91A2A8-1545-4EEA-8CCF-FC2BC4494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752A24-8F98-4174-B76C-BC27AAC00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A34E59-DBB5-4618-93A7-6E1B774A3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4A4CC-23FD-4E29-8DF4-304CF173B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5BA080-80BD-4287-9999-F7DE88255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B5D99E-42B1-467F-92F0-6F98FA0BB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7C4D2D-F3DB-4325-90D9-2D93C2441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905048-3359-4B5B-851C-F9648AED1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DA1456-3EC7-4D13-BE15-E64351189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48789F-5207-4165-9DC0-E973EC624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EEBB4B-A280-4F88-9004-5CD819970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ED13F3-6B46-4AEA-83AC-3CF4C88BA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ADDEDC-1E15-4281-A36E-5643CF1C4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7896D7-7309-4B27-9FCC-19EAB40E3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F9A64-9BC6-4CA8-BDE9-CF4A90240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D845AD-5398-4439-AE04-F41DC4EE6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5606CC-A9E2-4092-BFF4-B7843071E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CF78E1-DC56-4B48-BD8D-B07E79B9E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8E00B1-C76B-43BF-A420-6796ED780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503340-75E2-4D87-B721-807BA8F5D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C38224-7A62-4E8A-AC34-AC5AB6B15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89346A-5525-43EC-A66B-77BD71D78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13D066-8A2C-43F7-952A-647FA068D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E9A5C9-A5BC-4312-BD5A-57479C25F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F73493-FA45-4A55-B4CC-19F8FB90E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EA928-609D-497E-99DB-A2FFEBFAD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836FDF-230E-4DEC-896A-62517A320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9BE0F2-C718-4B8B-B227-8487FFDA3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3E8C43-3FB9-4EAD-BD68-E1E5065F2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921F61-2D47-4D14-A9B4-08D149B8D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C34EA9-CF0E-4A36-81F7-6C9886467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EB88AE-AFA6-41AD-92E6-8D8A48D37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14BF17-2EB1-4AF3-9504-7FD306760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4DC7D1-A691-4876-A404-555AD38BB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7BD6CD-E663-4616-97DD-BF92BB083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94C112-E152-49C4-B5C9-619D40E56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2B975-43BD-4DB4-8CE4-839F3F157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E0A98B-006E-4281-A342-47721117E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C74217-D606-447F-BEEA-7C945A658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D62CA3-DC68-4A0E-B589-0121D19C2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B9230F-A394-460E-BB19-3301A22E0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01E2DF-31EC-43A6-9D09-DEF469655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157955-F375-4111-93BB-53C372DDF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A543BF-835A-44DC-ABA9-EB4A03D42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B187F8-95B3-46EE-ADCB-B14A97F02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C02F07-8659-46F4-B38C-06F2A192C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96DA25-9921-4602-BF48-DA5256258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B6C5B-72CD-45B8-B5B0-2E87DC4302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04F27-35F5-4BDE-BCC2-47F91F0EFADA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57FB4-A1C9-48D7-AA12-D6DA5FF975F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B8FD5-5703-4CB4-93CF-7EBAB83976D1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D7EE3-379A-4D74-9F9C-9228569640D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4DA11-9FA2-4878-B0F0-939D50D59432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599B4-BB9B-4B17-B75F-8D45D5F1E5E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55993-863C-49A4-9058-58D397446A47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A0B42-B6B5-4B99-A0C8-234F8EACB3E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81D0F-7136-4480-8A31-3223ED2318BB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2095A-1AA6-4C9E-9ABF-EA757ABB1FE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B3422-D892-4452-ADA8-824A8F76AB59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9CD28-8BAE-49DA-A1B6-5AEA583CD0B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04959-62E8-4374-B55B-BB108D3F41F0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CD9C6-92D5-44CA-B787-4D835FE1A89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DAF81-94BB-46B9-85D8-91DD5B2BBD7E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D1515-2CA5-4383-8314-7FAC59F0999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E60AD-87C6-45F2-B350-82850988FBC3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EFCEA-6B08-4339-97DC-65E0D857CB5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B8CDB-7774-4209-BA11-8FED16762C37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58BE0-583A-4AFC-A574-E214A7A89B2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A35FE-BFA4-4E68-929D-BD0EDE3EE5D2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FC8EB-A7B4-4394-8FEE-D466F98FCE5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8933A-13F2-4AA2-9ED1-917C323C126F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A1AC8-4585-4523-BDE4-DA4D3AA8A65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gi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gif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11.jpeg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gi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audio" Target="../media/cashreg.wav"/><Relationship Id="rId3" Type="http://schemas.openxmlformats.org/officeDocument/2006/relationships/audio" Target="../media/cashreg.wav"/><Relationship Id="rId4" Type="http://schemas.openxmlformats.org/officeDocument/2006/relationships/audio" Target="../media/cashreg.wav"/><Relationship Id="rId5" Type="http://schemas.openxmlformats.org/officeDocument/2006/relationships/audio" Target="../media/cashreg.wav"/><Relationship Id="rId6" Type="http://schemas.openxmlformats.org/officeDocument/2006/relationships/audio" Target="../media/cashreg.wav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Picture 3" descr="E:\00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737400"/>
          </a:xfrm>
          <a:prstGeom prst="rect">
            <a:avLst/>
          </a:prstGeom>
          <a:ln w="0">
            <a:noFill/>
          </a:ln>
        </p:spPr>
      </p:pic>
      <p:pic>
        <p:nvPicPr>
          <p:cNvPr id="534" name="Picture 4" descr="E:\002.jpg"/>
          <p:cNvPicPr/>
          <p:nvPr/>
        </p:nvPicPr>
        <p:blipFill>
          <a:blip r:embed="rId2"/>
          <a:stretch/>
        </p:blipFill>
        <p:spPr>
          <a:xfrm>
            <a:off x="0" y="120600"/>
            <a:ext cx="9144000" cy="6737400"/>
          </a:xfrm>
          <a:prstGeom prst="rect">
            <a:avLst/>
          </a:prstGeom>
          <a:ln w="0">
            <a:noFill/>
          </a:ln>
        </p:spPr>
      </p:pic>
      <p:pic>
        <p:nvPicPr>
          <p:cNvPr id="535" name="Rectangle 5" descr=""/>
          <p:cNvPicPr/>
          <p:nvPr/>
        </p:nvPicPr>
        <p:blipFill>
          <a:blip r:embed="rId3"/>
          <a:stretch/>
        </p:blipFill>
        <p:spPr>
          <a:xfrm>
            <a:off x="901800" y="1700280"/>
            <a:ext cx="719928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0" name="Picture 2" descr="C:\WINDOWS\Desktop\未标题-2 副本.jpg"/>
          <p:cNvPicPr/>
          <p:nvPr/>
        </p:nvPicPr>
        <p:blipFill>
          <a:blip r:embed="rId1"/>
          <a:stretch/>
        </p:blipFill>
        <p:spPr>
          <a:xfrm>
            <a:off x="457200" y="0"/>
            <a:ext cx="8686800" cy="608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1" name="Picture 5" descr="E:\素材\课件图片素材\自然素材\风景\FJ_006.gif"/>
          <p:cNvPicPr/>
          <p:nvPr/>
        </p:nvPicPr>
        <p:blipFill>
          <a:blip r:embed="rId1"/>
          <a:stretch/>
        </p:blipFill>
        <p:spPr>
          <a:xfrm>
            <a:off x="0" y="0"/>
            <a:ext cx="9144000" cy="7162920"/>
          </a:xfrm>
          <a:prstGeom prst="rect">
            <a:avLst/>
          </a:prstGeom>
          <a:ln w="0">
            <a:noFill/>
          </a:ln>
        </p:spPr>
      </p:pic>
      <p:sp>
        <p:nvSpPr>
          <p:cNvPr id="562" name="Text Box 2"/>
          <p:cNvSpPr/>
          <p:nvPr/>
        </p:nvSpPr>
        <p:spPr>
          <a:xfrm>
            <a:off x="2243160" y="2438280"/>
            <a:ext cx="4752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cc"/>
                </a:solidFill>
                <a:latin typeface="Times New Roman"/>
              </a:rPr>
              <a:t>假设种葫芦的人第二年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cc"/>
                </a:solidFill>
                <a:latin typeface="Times New Roman"/>
              </a:rPr>
              <a:t>又种了一棵葫芦，他会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cc"/>
                </a:solidFill>
                <a:latin typeface="Times New Roman"/>
              </a:rPr>
              <a:t>怎么做呢？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3"/>
          <p:cNvSpPr/>
          <p:nvPr/>
        </p:nvSpPr>
        <p:spPr>
          <a:xfrm>
            <a:off x="1697760" y="533520"/>
            <a:ext cx="292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3300"/>
                </a:solidFill>
                <a:latin typeface="Times New Roman"/>
              </a:rPr>
              <a:t>思维拓展：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4" name="Picture 4" descr="E:\素材\课件动画素材\人文\小孩\RX_004.gif"/>
          <p:cNvPicPr/>
          <p:nvPr/>
        </p:nvPicPr>
        <p:blipFill>
          <a:blip r:embed="rId2"/>
          <a:stretch/>
        </p:blipFill>
        <p:spPr>
          <a:xfrm>
            <a:off x="6705720" y="0"/>
            <a:ext cx="14364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5" name="Picture 3" descr="C:\My Documents\图片集\34.BM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6" name="Text Box 2"/>
          <p:cNvSpPr/>
          <p:nvPr/>
        </p:nvSpPr>
        <p:spPr>
          <a:xfrm>
            <a:off x="2151000" y="2666880"/>
            <a:ext cx="4752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66"/>
                </a:solidFill>
                <a:latin typeface="Times New Roman"/>
              </a:rPr>
              <a:t>学了这课之后，你从中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66"/>
                </a:solidFill>
                <a:latin typeface="Times New Roman"/>
              </a:rPr>
              <a:t>明白了什么？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Text Box 4"/>
          <p:cNvSpPr/>
          <p:nvPr/>
        </p:nvSpPr>
        <p:spPr>
          <a:xfrm>
            <a:off x="609480" y="60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5"/>
          <p:cNvSpPr/>
          <p:nvPr/>
        </p:nvSpPr>
        <p:spPr>
          <a:xfrm>
            <a:off x="1113480" y="682560"/>
            <a:ext cx="127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ff"/>
                </a:solidFill>
                <a:latin typeface="Times New Roman"/>
                <a:ea typeface="华文行楷"/>
              </a:rPr>
              <a:t>启迪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9" name="Picture 6" descr="D:\素材大全\课件动画素材\人文\天使\RT_002.gif"/>
          <p:cNvPicPr/>
          <p:nvPr/>
        </p:nvPicPr>
        <p:blipFill>
          <a:blip r:embed="rId2"/>
          <a:stretch/>
        </p:blipFill>
        <p:spPr>
          <a:xfrm>
            <a:off x="6858000" y="609480"/>
            <a:ext cx="201132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9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0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571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72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3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Text Box 2"/>
          <p:cNvSpPr/>
          <p:nvPr/>
        </p:nvSpPr>
        <p:spPr>
          <a:xfrm>
            <a:off x="991800" y="45720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</a:rPr>
              <a:t>课件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Text Box 3"/>
          <p:cNvSpPr/>
          <p:nvPr/>
        </p:nvSpPr>
        <p:spPr>
          <a:xfrm>
            <a:off x="441360" y="1773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Text Box 4"/>
          <p:cNvSpPr/>
          <p:nvPr/>
        </p:nvSpPr>
        <p:spPr>
          <a:xfrm>
            <a:off x="1739160" y="1447920"/>
            <a:ext cx="5392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6600"/>
                </a:solidFill>
                <a:latin typeface="Times New Roman"/>
              </a:rPr>
              <a:t>先让同学们观察两幅图有什么不同，让学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6600"/>
                </a:solidFill>
                <a:latin typeface="Times New Roman"/>
              </a:rPr>
              <a:t>自由说，然后由此导入课题，解决生字后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6600"/>
                </a:solidFill>
                <a:latin typeface="Times New Roman"/>
              </a:rPr>
              <a:t>然后以小组为单位进行合作探究，在抓重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6600"/>
                </a:solidFill>
                <a:latin typeface="Times New Roman"/>
              </a:rPr>
              <a:t>句子进行朗读指导，处理完课文内容后，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6600"/>
                </a:solidFill>
                <a:latin typeface="Times New Roman"/>
              </a:rPr>
              <a:t>进行思维拓展，最后归纳，让学生体会文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6600"/>
                </a:solidFill>
                <a:latin typeface="Times New Roman"/>
              </a:rPr>
              <a:t>的含义，从中受到启发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矩形 7"/>
          <p:cNvSpPr/>
          <p:nvPr/>
        </p:nvSpPr>
        <p:spPr>
          <a:xfrm>
            <a:off x="1908000" y="52848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0" name="Picture 2" descr="C:\WINDOWS\Desktop\未标题-1 副本.jpg"/>
          <p:cNvPicPr/>
          <p:nvPr/>
        </p:nvPicPr>
        <p:blipFill>
          <a:blip r:embed="rId1"/>
          <a:stretch/>
        </p:blipFill>
        <p:spPr>
          <a:xfrm>
            <a:off x="0" y="304920"/>
            <a:ext cx="4800600" cy="4267080"/>
          </a:xfrm>
          <a:prstGeom prst="rect">
            <a:avLst/>
          </a:prstGeom>
          <a:ln w="0">
            <a:noFill/>
          </a:ln>
        </p:spPr>
      </p:pic>
      <p:pic>
        <p:nvPicPr>
          <p:cNvPr id="541" name="Picture 3" descr="C:\WINDOWS\Desktop\未标题-2 副本.jpg"/>
          <p:cNvPicPr/>
          <p:nvPr/>
        </p:nvPicPr>
        <p:blipFill>
          <a:blip r:embed="rId2"/>
          <a:stretch/>
        </p:blipFill>
        <p:spPr>
          <a:xfrm>
            <a:off x="4495680" y="304920"/>
            <a:ext cx="4648320" cy="4267080"/>
          </a:xfrm>
          <a:prstGeom prst="rect">
            <a:avLst/>
          </a:prstGeom>
          <a:ln w="0">
            <a:noFill/>
          </a:ln>
        </p:spPr>
      </p:pic>
      <p:sp>
        <p:nvSpPr>
          <p:cNvPr id="542" name="Text Box 4"/>
          <p:cNvSpPr/>
          <p:nvPr/>
        </p:nvSpPr>
        <p:spPr>
          <a:xfrm>
            <a:off x="4212360" y="5105520"/>
            <a:ext cx="86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0066"/>
                </a:solidFill>
                <a:latin typeface="Times New Roman"/>
              </a:rPr>
              <a:t>你发现两幅图有什么不一样？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3" name="Picture 2" descr="C:\My Documents\hdk\蒲春燕1 copy.jpg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164280"/>
          </a:xfrm>
          <a:prstGeom prst="rect">
            <a:avLst/>
          </a:prstGeom>
          <a:ln w="0">
            <a:noFill/>
          </a:ln>
        </p:spPr>
      </p:pic>
      <p:sp>
        <p:nvSpPr>
          <p:cNvPr id="544" name="Text Box 3"/>
          <p:cNvSpPr/>
          <p:nvPr/>
        </p:nvSpPr>
        <p:spPr>
          <a:xfrm>
            <a:off x="3948840" y="2514600"/>
            <a:ext cx="1474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Times New Roman"/>
              </a:rPr>
              <a:t>14</a:t>
            </a:r>
            <a:r>
              <a:rPr b="1" lang="zh-CN" sz="6000" spc="-1" strike="noStrike">
                <a:solidFill>
                  <a:srgbClr val="ff3300"/>
                </a:solidFill>
                <a:latin typeface="Times New Roman"/>
              </a:rPr>
              <a:t>、我要的是葫芦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5" name="Picture 4" descr="gif008"/>
          <p:cNvPicPr/>
          <p:nvPr/>
        </p:nvPicPr>
        <p:blipFill>
          <a:blip r:embed="rId2"/>
          <a:stretch/>
        </p:blipFill>
        <p:spPr>
          <a:xfrm>
            <a:off x="0" y="0"/>
            <a:ext cx="1679400" cy="149688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Text Box 1026"/>
          <p:cNvSpPr/>
          <p:nvPr/>
        </p:nvSpPr>
        <p:spPr>
          <a:xfrm>
            <a:off x="3216960" y="838080"/>
            <a:ext cx="246672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0" spc="-1" strike="noStrike">
                <a:solidFill>
                  <a:srgbClr val="ff0066"/>
                </a:solidFill>
                <a:latin typeface="Times New Roman"/>
              </a:rPr>
              <a:t>葫</a:t>
            </a:r>
            <a:endParaRPr b="0" lang="en-US" sz="3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1027"/>
          <p:cNvSpPr/>
          <p:nvPr/>
        </p:nvSpPr>
        <p:spPr>
          <a:xfrm>
            <a:off x="2438280" y="782640"/>
            <a:ext cx="45720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0" spc="-1" strike="noStrike">
                <a:solidFill>
                  <a:srgbClr val="ff00ff"/>
                </a:solidFill>
                <a:latin typeface="Times New Roman"/>
              </a:rPr>
              <a:t>芦</a:t>
            </a:r>
            <a:endParaRPr b="0" lang="en-US" sz="3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1028"/>
          <p:cNvSpPr/>
          <p:nvPr/>
        </p:nvSpPr>
        <p:spPr>
          <a:xfrm>
            <a:off x="3216960" y="533520"/>
            <a:ext cx="246672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0" spc="-1" strike="noStrike">
                <a:solidFill>
                  <a:srgbClr val="336600"/>
                </a:solidFill>
                <a:latin typeface="Times New Roman"/>
              </a:rPr>
              <a:t>藤</a:t>
            </a:r>
            <a:endParaRPr b="0" lang="en-US" sz="3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1029"/>
          <p:cNvSpPr/>
          <p:nvPr/>
        </p:nvSpPr>
        <p:spPr>
          <a:xfrm>
            <a:off x="3141000" y="685800"/>
            <a:ext cx="246672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0" spc="-1" strike="noStrike">
                <a:solidFill>
                  <a:srgbClr val="0000cc"/>
                </a:solidFill>
                <a:latin typeface="Times New Roman"/>
              </a:rPr>
              <a:t>哇</a:t>
            </a:r>
            <a:endParaRPr b="0" lang="en-US" sz="3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Text Box 1030"/>
          <p:cNvSpPr/>
          <p:nvPr/>
        </p:nvSpPr>
        <p:spPr>
          <a:xfrm>
            <a:off x="3293280" y="1295280"/>
            <a:ext cx="246672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0" spc="-1" strike="noStrike">
                <a:solidFill>
                  <a:srgbClr val="ff3399"/>
                </a:solidFill>
                <a:latin typeface="Times New Roman"/>
              </a:rPr>
              <a:t>盯</a:t>
            </a:r>
            <a:endParaRPr b="0" lang="en-US" sz="3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Text Box 1031"/>
          <p:cNvSpPr/>
          <p:nvPr/>
        </p:nvSpPr>
        <p:spPr>
          <a:xfrm>
            <a:off x="3141000" y="1371600"/>
            <a:ext cx="246672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0" spc="-1" strike="noStrike">
                <a:solidFill>
                  <a:srgbClr val="cc0000"/>
                </a:solidFill>
                <a:latin typeface="Times New Roman"/>
              </a:rPr>
              <a:t>邻</a:t>
            </a:r>
            <a:endParaRPr b="0" lang="en-US" sz="3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Text Box 2"/>
          <p:cNvSpPr/>
          <p:nvPr/>
        </p:nvSpPr>
        <p:spPr>
          <a:xfrm>
            <a:off x="838080" y="3657600"/>
            <a:ext cx="6585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6600"/>
                </a:solidFill>
                <a:latin typeface="Times New Roman"/>
              </a:rPr>
              <a:t>3</a:t>
            </a:r>
            <a:r>
              <a:rPr b="0" lang="zh-CN" sz="4800" spc="-1" strike="noStrike">
                <a:solidFill>
                  <a:srgbClr val="336600"/>
                </a:solidFill>
                <a:latin typeface="Times New Roman"/>
              </a:rPr>
              <a:t>、</a:t>
            </a:r>
            <a:r>
              <a:rPr b="1" lang="zh-CN" sz="4800" spc="-1" strike="noStrike">
                <a:solidFill>
                  <a:srgbClr val="336600"/>
                </a:solidFill>
                <a:latin typeface="Times New Roman"/>
              </a:rPr>
              <a:t>种葫芦的人看到小葫芦都落了，会想些什么呢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Text Box 3"/>
          <p:cNvSpPr/>
          <p:nvPr/>
        </p:nvSpPr>
        <p:spPr>
          <a:xfrm>
            <a:off x="2719440" y="1305000"/>
            <a:ext cx="31068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Times New Roman"/>
              </a:rPr>
              <a:t>1</a:t>
            </a:r>
            <a:r>
              <a:rPr b="1" lang="zh-CN" sz="4800" spc="-1" strike="noStrike">
                <a:solidFill>
                  <a:srgbClr val="0000cc"/>
                </a:solidFill>
                <a:latin typeface="Times New Roman"/>
              </a:rPr>
              <a:t>、葫芦开始长得怎么样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cc"/>
                </a:solidFill>
                <a:latin typeface="Times New Roman"/>
              </a:rPr>
              <a:t>后来有什么变化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99"/>
                </a:solidFill>
                <a:latin typeface="Times New Roman"/>
              </a:rPr>
              <a:t>2</a:t>
            </a:r>
            <a:r>
              <a:rPr b="1" lang="zh-CN" sz="4800" spc="-1" strike="noStrike">
                <a:solidFill>
                  <a:srgbClr val="ff3399"/>
                </a:solidFill>
                <a:latin typeface="Times New Roman"/>
              </a:rPr>
              <a:t>、小葫芦为什么会落呢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4"/>
          <p:cNvSpPr/>
          <p:nvPr/>
        </p:nvSpPr>
        <p:spPr>
          <a:xfrm>
            <a:off x="1334160" y="349200"/>
            <a:ext cx="1857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Times New Roman"/>
              </a:rPr>
              <a:t>讨论交流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Text Box 2"/>
          <p:cNvSpPr/>
          <p:nvPr/>
        </p:nvSpPr>
        <p:spPr>
          <a:xfrm>
            <a:off x="1688760" y="990720"/>
            <a:ext cx="54234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6600ff"/>
                </a:solidFill>
                <a:latin typeface="Times New Roman"/>
              </a:rPr>
              <a:t>邻居</a:t>
            </a:r>
            <a:r>
              <a:rPr b="1" lang="zh-CN" sz="5400" spc="-1" strike="noStrike">
                <a:solidFill>
                  <a:srgbClr val="3333cc"/>
                </a:solidFill>
                <a:latin typeface="Times New Roman"/>
              </a:rPr>
              <a:t>：</a:t>
            </a:r>
            <a:r>
              <a:rPr b="1" lang="zh-CN" sz="5400" spc="-1" strike="noStrike">
                <a:solidFill>
                  <a:srgbClr val="ff3399"/>
                </a:solidFill>
                <a:latin typeface="Times New Roman"/>
              </a:rPr>
              <a:t>“你别光盯着葫芦了，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99"/>
                </a:solidFill>
                <a:latin typeface="Times New Roman"/>
              </a:rPr>
              <a:t>叶子上生了蚜虫，快治一治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99"/>
                </a:solidFill>
                <a:latin typeface="Times New Roman"/>
              </a:rPr>
              <a:t>吧！”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Text Box 3"/>
          <p:cNvSpPr/>
          <p:nvPr/>
        </p:nvSpPr>
        <p:spPr>
          <a:xfrm>
            <a:off x="1688760" y="3505320"/>
            <a:ext cx="5423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6600ff"/>
                </a:solidFill>
                <a:latin typeface="Times New Roman"/>
              </a:rPr>
              <a:t>种葫芦人：</a:t>
            </a:r>
            <a:r>
              <a:rPr b="1" lang="zh-CN" sz="5400" spc="-1" strike="noStrike">
                <a:solidFill>
                  <a:srgbClr val="ff3399"/>
                </a:solidFill>
                <a:latin typeface="Times New Roman"/>
              </a:rPr>
              <a:t>“什么？叶子上的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99"/>
                </a:solidFill>
                <a:latin typeface="Times New Roman"/>
              </a:rPr>
              <a:t>虫还用治？我要的是葫芦。”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Text Box 1026"/>
          <p:cNvSpPr/>
          <p:nvPr/>
        </p:nvSpPr>
        <p:spPr>
          <a:xfrm>
            <a:off x="762120" y="1447920"/>
            <a:ext cx="73152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6600"/>
                </a:solidFill>
                <a:latin typeface="Times New Roman"/>
              </a:rPr>
              <a:t>种葫芦的人看到小葫芦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6600"/>
                </a:solidFill>
                <a:latin typeface="Times New Roman"/>
              </a:rPr>
              <a:t>一个一个都落了，他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6600"/>
                </a:solidFill>
                <a:latin typeface="Times New Roman"/>
              </a:rPr>
              <a:t>可能会</a:t>
            </a:r>
            <a:r>
              <a:rPr b="1" lang="en-US" sz="5400" spc="-1" strike="noStrike">
                <a:solidFill>
                  <a:srgbClr val="336600"/>
                </a:solidFill>
                <a:latin typeface="Times New Roman"/>
              </a:rPr>
              <a:t>———</a:t>
            </a:r>
            <a:r>
              <a:rPr b="1" lang="zh-CN" sz="5400" spc="-1" strike="noStrike">
                <a:solidFill>
                  <a:srgbClr val="336600"/>
                </a:solidFill>
                <a:latin typeface="Times New Roman"/>
              </a:rPr>
              <a:t>地说</a:t>
            </a:r>
            <a:r>
              <a:rPr b="1" lang="en-US" sz="5400" spc="-1" strike="noStrike">
                <a:solidFill>
                  <a:srgbClr val="336600"/>
                </a:solidFill>
                <a:latin typeface="Times New Roman"/>
              </a:rPr>
              <a:t>———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00"/>
                </a:solidFill>
                <a:latin typeface="Times New Roman"/>
              </a:rPr>
              <a:t>————</a:t>
            </a:r>
            <a:r>
              <a:rPr b="1" lang="zh-CN" sz="5400" spc="-1" strike="noStrike">
                <a:solidFill>
                  <a:srgbClr val="336600"/>
                </a:solidFill>
                <a:latin typeface="Times New Roman"/>
              </a:rPr>
              <a:t>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1027"/>
          <p:cNvSpPr/>
          <p:nvPr/>
        </p:nvSpPr>
        <p:spPr>
          <a:xfrm>
            <a:off x="1830240" y="82440"/>
            <a:ext cx="246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Times New Roman"/>
              </a:rPr>
              <a:t>发挥想象：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9" name="Picture 2" descr="C:\WINDOWS\Desktop\未标题-1 副本.jpg"/>
          <p:cNvPicPr/>
          <p:nvPr/>
        </p:nvPicPr>
        <p:blipFill>
          <a:blip r:embed="rId1"/>
          <a:stretch/>
        </p:blipFill>
        <p:spPr>
          <a:xfrm>
            <a:off x="0" y="28440"/>
            <a:ext cx="9144000" cy="682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7T06:11:42Z</dcterms:created>
  <dc:creator>第一PPT模板网-WWW.1PPT.COM</dc:creator>
  <dc:description>第一PPT模板网-WWW.1PPT.COM
</dc:description>
  <cp:keywords>第一PPT模板网-WWW.1PPT.COM</cp:keywords>
  <dc:language>en-US</dc:language>
  <cp:lastModifiedBy>a</cp:lastModifiedBy>
  <dcterms:modified xsi:type="dcterms:W3CDTF">2015-03-16T09:55:02Z</dcterms:modified>
  <cp:revision>49</cp:revision>
  <dc:subject>第一PPT模板网-WWW.1PPT.COM</dc:subject>
  <dc:title>第一PPT模板网-WWW.1PPT.COM</dc:title>
</cp:coreProperties>
</file>