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jpeg" ContentType="image/jpeg"/>
  <Override PartName="/ppt/media/chimes.wav" ContentType="audio/x-wav"/>
  <Override PartName="/ppt/media/image16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.gif" ContentType="image/gif"/>
  <Override PartName="/ppt/media/image5.jpeg" ContentType="image/jpeg"/>
  <Override PartName="/ppt/media/image26.jpeg" ContentType="image/jpeg"/>
  <Override PartName="/ppt/media/image23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18.png" ContentType="image/png"/>
  <Override PartName="/ppt/media/image7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A6CA-E19A-48D1-8FDF-3A8BF97B5FED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28CD-0B60-4C6B-8B91-316558650A07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山羊在地里收白菜，小白兔和小灰兔来帮忙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954B7-A025-41EC-BF68-AFB046A739F2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收完白菜，老山羊把一车白菜送给小灰兔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灰兔收下了，说：“谢谢您！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山羊又把一车白菜送给小白兔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白兔说：“我不要白菜，请您给我一些菜子吧。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山羊送给小白兔一包菜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FB4F-9BC5-4059-A914-50D02EFB3F44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小白兔回到家里，把地翻松了，种上菜子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过了几天，白菜长出来了。小白兔常常给白菜浇水，施肥，拔草，捉虫。白菜很快就长大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3A0F2-E908-40C0-84E7-6592417443B1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认一认，读一读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5FB30-E55F-4E6E-B211-977FA689A937}" type="slidenum">
              <a:rPr b="0" lang="en-US" sz="12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连连看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FF8A-47A5-4A1F-AB07-06EE78A4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B034-0551-4C31-B282-69EE1E9B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A7C46-973A-4B32-BEDC-78BA4B3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3418F6-DB9B-4328-9E10-850520F6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34CC3-9D7F-4DCF-BD29-A27DA64A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4F304-7885-4DF7-BC1D-FEFD3E35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FEF07-E208-409C-ACAB-55D97D7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20CD6D-A2FD-481D-B9D3-7F4A7390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9E5A9-2DA4-4776-B079-AC2623E0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8865F-28BF-4565-B3D2-1CFA7325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A78BB-65DF-43C0-BAB6-3A04807D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BFA597-9D8F-48DC-A724-20C0815BA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4CF3-49C1-455C-BD6B-49058680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756D2-5695-4DFA-BF97-F15FECDBB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03ABB-BD7B-45AB-AFA8-7DDD647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930C3-17BB-43B5-8961-DC67C389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EA2ED-C5E2-4DB2-80A2-BB890B1C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D159B-4D8A-4186-BD8A-D16C0BF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562A3-67E5-448B-BE3C-5C3B4A6A7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5E7BAD-D92B-4FC7-AE56-00D02D52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D04B0-2EFC-4651-A760-997ACE3D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B6C1A-97E0-4A93-A095-F20B5878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5DDB8-CACA-46F1-B711-CC315B35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4829-082E-4E53-87DB-4998DD5C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6BC3E-FA58-4150-874A-9A093312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2D2CB-C593-4EEB-AF94-97CB59415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E3FFF-8658-4A6E-BFED-8B7F8CD6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6A78C-BAD5-4843-994B-0CDF7D6F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409FE-73A4-4952-9304-A65DB3F9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5EF43-48F2-4BCE-9476-408B82E4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0C05-75DB-4B6F-A793-D6C36D4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BE7C0-46DE-4307-A26E-1F31F310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54CB8-81C8-4CB1-AE50-E6EEBE67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78DD9-D33F-4BFA-9338-70352FFC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60FB-5881-4189-94CF-026556C8F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C56D2-21FE-4353-B523-4DFE8DF1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86CB5E-DCE1-4C58-A2DE-71BA66DF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10A442-6C06-44E5-81F1-4DE6EC0E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394715-33AA-414A-869B-4772CA29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3D6F4C-F537-4F9E-87CA-9BF454FB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B4EC4-9832-4E5E-9C5A-911A2A262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C1AAE-0A57-49F2-A7CE-A98828B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21324-223E-4604-B12C-1589FE3C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56BA5-4DCE-413F-BEE8-4FDBBE67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0AC4C-4B39-46A7-A400-76E763A5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7EE9-9AC5-492C-A2C3-7EEBA5EF3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3332B-B337-4506-9F62-1787AE5C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467D16-FA80-41EE-8977-3B07C56F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BF502-C43D-4681-BA86-B1530D19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D41CA3-780B-4D58-9F3A-538CB60B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3ACDF1-20E5-44E3-BB17-50F2C3EC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88960-D311-4026-8CE5-4D07EBD0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C5297-74EE-4BA2-B58B-30899EFC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7FBC21-1EE4-43E7-B7B0-9352AD5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FFCE12-A5FC-4980-BB4B-D8046D4BF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EE83F9-A955-4698-8C43-D7001F94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1E3B-C713-4356-8892-65F172A5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11FA38-010F-4455-BCA7-998C936F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F35496-76B0-466B-8E7B-1D4F7D19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287EE1-57BB-47A3-93F9-0B0B21B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D7903-DCEB-4F08-B2ED-E5135429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66E24-1172-448A-92B8-24EA622D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BB7DE-B45F-4DB5-A01F-1657B0548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980F7A-5F52-420F-AC65-C0D02CA0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BBB2-6901-4ADD-B870-C6FD7E6BB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5412-FB30-47CE-8681-038A0AD12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090FF-3F58-4732-BB6B-137C41BB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256B-5D5A-4EDC-92BF-3D561A4D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1B27-A168-46E1-9A38-FDB749C5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02E3-6037-4CD0-B367-F846679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BE77-CC99-4D5F-9452-FD314F82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ED08-B0D4-47CD-9FDA-08C857B2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391F-06A2-479A-8617-ABD4815A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8CF01-1451-4FA1-816E-58A4734EB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BB29-9F30-4E22-9C1B-62EA356E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089DD-60B4-4BBA-87CC-54D7B951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F2B80-5418-4290-B604-12428119E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BD94B-8346-4B66-8261-92CDDDDA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1AC58-14D7-4BD1-9C6D-F1C3D11F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50A2-6590-4834-A055-0E842F47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E8116-991B-49E5-B249-A3A227CD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85A5A-D33F-44C3-AB89-938EB53A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2A122-1FAE-4126-A97B-7F10ADAA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61AE2-13BC-406C-A4B8-A64242AF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95672-2579-465E-87C2-F5A39671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971F1-C1D1-413E-A473-88CA83DE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5DF8F-2D10-4B2A-B719-4E61E026C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2E24A-372C-4B5B-ACAA-6160A98D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B24C2-C59A-48C2-A181-65EE29C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51BD5-4C9E-4B08-91D1-8CF402D1E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3DBC-3492-4D05-AA79-1DC68DC3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F71AA-A05B-4075-AB2E-DB572FC8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1066E-38F0-40A2-8494-EC1AB7D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08631-B73B-49DC-9E4C-4A65F7C64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139C-5026-49AF-A895-0E056C36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ADBB-931E-42D6-9D1F-628E4BD7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CF3F-AB2A-490E-B2A8-03F574F5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27F33-F9C5-4CAF-9773-14F335CD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66ED0-8B39-43AD-A9B9-258798C5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1D9C8-34DD-43A7-B863-2E19A01D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5392C-F9E5-4FFE-B045-D9B0AB108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BFBD-DE93-4882-AE55-BD60446B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5AB0E-36AF-4012-BD00-BC4C52D5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3ABCF-9219-4BC9-A3D2-363B76E3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5EBD1-8A47-453C-9CAC-EC9C5369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04C0-3C91-4925-A888-345F3B36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837EC-7157-4B1A-8689-4891B612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4A2BB-B481-414F-BDBD-FB59CEC1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C595C-5236-4EF9-8205-EA1AECFF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D0179-E8B3-40F3-BC5C-3DEB3A88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42137-3A82-4F7A-AA7F-87E41089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6012F-37B1-41FA-9C10-D8577B93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92F6-A511-4326-8775-8999D1D1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E8FD-A31C-4911-8AA3-E3B90C93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79D80-5585-4D5C-B05A-D74BD98A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EC631-720D-472D-A50A-41FF14BC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BDA45-4069-4D56-850E-83331B3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64BF5-1FCF-4F32-9895-05348696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18DC9-31BF-46D2-95DB-8E9D50CA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76493-43FC-4503-9846-0BA1FC9F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5ED96-20A6-43A7-AD8D-04DABA2F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DE10-DAFA-4C41-99D9-92B223F6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6BEC-E886-4040-A9D6-DCCB0F6F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3BF-5855-4696-8C13-84C26D03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E770F2-E36F-4547-BF78-492E668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AA4A2-7D14-44B7-BD2C-22D9C59B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C52C-9D07-41D4-A453-820F07A7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8D75-8665-4B91-AA01-7A0A2D00B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1A5EC-51EB-4458-83C3-CDD499B4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C9E3A7-B53C-4FAA-8D18-14D373C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3ECC1-3E5D-4978-8A2F-2D179F9F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8C97B-3E7C-4B39-88AD-7F9652B1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8FA91-C234-42A4-A8C0-B84CEC2B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ACDC7-2CA0-458B-90FE-3380CC32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3D5B-076F-4A30-AE8B-C78A378C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E1429-E907-4A19-B6CD-8324C5B1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CDE27-0C93-4481-8A0D-687A195B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7584C-4979-4599-BF31-7F525532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42009-65CF-43F2-A9B1-94DD3B7A5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0D04E-2DE4-499E-BC20-06B2A6B2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AE576-1F15-4830-ABFF-7C05CC2B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ECB9E-2F6E-4EA5-9238-0D9AA233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80F09-98E3-49D5-9F95-F0C6E074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347AC-EFB8-4B7B-9989-1A8A848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7BCF0-4201-41D6-AA68-4EC73F9C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C07C-AE06-467A-BBF8-DC0C2ED5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C20C8-5AAF-4AAF-9A55-C3958C7A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7561-41AF-4AC9-A957-AE03BAB3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C8F6C-A483-465E-839D-A0CE2FBB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B9680-EEA9-44D5-8B79-51DB4D8D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1B504-8144-4453-81E6-D1CB9B1D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EA12-DBC7-4E66-89F7-02082B7D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082F8-493E-44CF-98A7-7018827D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3E23C-0DB3-4439-ACF5-E709C94A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EC152B-7CEC-443D-B836-0C6082B6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D018F9-133E-4071-9A2F-C57675CF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06ED-C8EB-4346-8173-79C0A4B7B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C7D-9E99-4973-9D45-9F96D88628FC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1262-878D-4D1D-A730-4E9557DD798A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D4DC-3A00-4B09-B7D1-555652607EBD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5079-9A29-4A57-BC15-B0E142245B5E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E5B8-7F77-4AD4-8A02-FBFF14C50578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DE40-8B16-4AC4-B93C-AC5535C2D84F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5CE-ECBE-4CAD-ADBC-51DF8F55E1C8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54B5-5B1A-4271-956E-6D184F78E88E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385-6AB2-455D-978E-70A30BD229E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41AF-09DC-46AF-99D4-76C506F2BBD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F202-3192-4313-A74B-B6A5F0EBC96D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515D6-DAF1-4B2C-BFD7-2898EE88DD41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DF74C-F465-4962-8F0E-B0C95AF34302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4886-AFFE-470E-A527-C9FE03357AC6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DF7D-4726-4B18-98CE-B76CD5F19815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4B1D-68B4-4715-A2D4-1076D829E555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5ED0-8356-4341-8F0B-363E21B69B3F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70FE-5E04-4A8F-9497-8E54075A1121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2E57-65D7-4757-BC10-6EFB3718EB7F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7A97-3A1F-48B1-B153-00308FB848DE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ABF3-0B4C-4569-B280-F43321C1CDD0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8771-F6B7-4E44-9C29-2A641B5E7CE5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EEC3-AFE7-4FC2-95F9-F6F070ADB615}" type="datetime">
              <a:rPr b="0" lang="zh-CN" sz="1400" spc="-1" strike="noStrike">
                <a:solidFill>
                  <a:srgbClr val="000000"/>
                </a:solidFill>
                <a:latin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6D7-446F-4F65-9381-779C81A428AC}" type="slidenum">
              <a:rPr b="0" lang="zh-CN" sz="1400" spc="-1" strike="noStrike">
                <a:solidFill>
                  <a:srgbClr val="000000"/>
                </a:solidFill>
                <a:latin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wmf"/><Relationship Id="rId10" Type="http://schemas.openxmlformats.org/officeDocument/2006/relationships/image" Target="../media/image9.png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Line 2"/>
          <p:cNvSpPr/>
          <p:nvPr/>
        </p:nvSpPr>
        <p:spPr>
          <a:xfrm>
            <a:off x="228600" y="1143000"/>
            <a:ext cx="6400800" cy="0"/>
          </a:xfrm>
          <a:prstGeom prst="line">
            <a:avLst/>
          </a:prstGeom>
          <a:ln w="5724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762120" y="609480"/>
            <a:ext cx="4419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九年义务教育小学语文第二册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2362320" y="5867280"/>
            <a:ext cx="5867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温州市广场路小学  “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课时锦囊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华文行楷"/>
              </a:rPr>
              <a:t>”开发小组</a:t>
            </a:r>
            <a:endParaRPr b="0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2743200" y="5410080"/>
            <a:ext cx="5181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教学设计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卓小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细黑"/>
              </a:rPr>
              <a:t>课件制作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卓小平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44" name="WordArt 6" descr=""/>
          <p:cNvPicPr/>
          <p:nvPr/>
        </p:nvPicPr>
        <p:blipFill>
          <a:blip r:embed="rId1"/>
          <a:stretch/>
        </p:blipFill>
        <p:spPr>
          <a:xfrm>
            <a:off x="981000" y="2200320"/>
            <a:ext cx="7132680" cy="1000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F:\资料\素材大全\图片\吴瑞施tupian\HOMEANIM\AG00370_.GIF"/>
          <p:cNvPicPr/>
          <p:nvPr/>
        </p:nvPicPr>
        <p:blipFill>
          <a:blip r:embed="rId2"/>
          <a:stretch/>
        </p:blipFill>
        <p:spPr>
          <a:xfrm>
            <a:off x="762120" y="5257800"/>
            <a:ext cx="148572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C:\Documents and Settings\diy\My Documents\My Pictures\边框\小山.BMP"/>
          <p:cNvPicPr/>
          <p:nvPr/>
        </p:nvPicPr>
        <p:blipFill>
          <a:blip r:embed="rId1"/>
          <a:stretch/>
        </p:blipFill>
        <p:spPr>
          <a:xfrm>
            <a:off x="144792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3" descr=""/>
          <p:cNvPicPr/>
          <p:nvPr/>
        </p:nvPicPr>
        <p:blipFill>
          <a:blip r:embed="rId2"/>
          <a:stretch/>
        </p:blipFill>
        <p:spPr>
          <a:xfrm>
            <a:off x="1143000" y="5943600"/>
            <a:ext cx="739800" cy="9144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4"/>
          <p:cNvSpPr/>
          <p:nvPr/>
        </p:nvSpPr>
        <p:spPr>
          <a:xfrm>
            <a:off x="1403640" y="49528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肥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687600" y="3886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饿了的时候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2546640" y="3048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松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101120" y="2666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着担子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48769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水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3" descr="{B61CBCEC-C34C-4F67-99C9-A6730EEA88A3}0"/>
          <p:cNvPicPr/>
          <p:nvPr/>
        </p:nvPicPr>
        <p:blipFill>
          <a:blip r:embed="rId1"/>
          <a:stretch/>
        </p:blipFill>
        <p:spPr>
          <a:xfrm>
            <a:off x="2133720" y="228600"/>
            <a:ext cx="4800600" cy="3522600"/>
          </a:xfrm>
          <a:prstGeom prst="rect">
            <a:avLst/>
          </a:prstGeom>
          <a:ln w="0">
            <a:noFill/>
          </a:ln>
        </p:spPr>
      </p:pic>
      <p:sp>
        <p:nvSpPr>
          <p:cNvPr id="653" name="Text Box 7"/>
          <p:cNvSpPr/>
          <p:nvPr/>
        </p:nvSpPr>
        <p:spPr>
          <a:xfrm>
            <a:off x="457200" y="4114800"/>
            <a:ext cx="8686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山羊在地里收白菜，小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兔和小灰兔来帮忙。</a:t>
            </a:r>
            <a:endParaRPr b="0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4" name="Oval 8"/>
          <p:cNvSpPr/>
          <p:nvPr/>
        </p:nvSpPr>
        <p:spPr>
          <a:xfrm>
            <a:off x="5715000" y="48769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4" descr="{60255E64-9AE7-45E9-97E3-8BA7DDDC0C20}0"/>
          <p:cNvPicPr/>
          <p:nvPr/>
        </p:nvPicPr>
        <p:blipFill>
          <a:blip r:embed="rId1"/>
          <a:stretch/>
        </p:blipFill>
        <p:spPr>
          <a:xfrm>
            <a:off x="2209680" y="0"/>
            <a:ext cx="4876920" cy="37195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0" descr="BD14581_"/>
          <p:cNvPicPr/>
          <p:nvPr/>
        </p:nvPicPr>
        <p:blipFill>
          <a:blip r:embed="rId2"/>
          <a:stretch/>
        </p:blipFill>
        <p:spPr>
          <a:xfrm>
            <a:off x="9144000" y="5959440"/>
            <a:ext cx="1066680" cy="898560"/>
          </a:xfrm>
          <a:prstGeom prst="rect">
            <a:avLst/>
          </a:prstGeom>
          <a:ln w="0">
            <a:noFill/>
          </a:ln>
        </p:spPr>
      </p:pic>
      <p:sp>
        <p:nvSpPr>
          <p:cNvPr id="657" name="Text Box 12"/>
          <p:cNvSpPr/>
          <p:nvPr/>
        </p:nvSpPr>
        <p:spPr>
          <a:xfrm>
            <a:off x="0" y="3657600"/>
            <a:ext cx="9144000" cy="12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完白菜，老山羊把一车白菜送给小灰兔。小灰兔收下了，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谢谢您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山羊又把一车白菜送给小白兔。小白兔说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不要白菜，请您给我一些菜子吧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老山羊送给小白兔一包菜子。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8" name="Oval 13"/>
          <p:cNvSpPr/>
          <p:nvPr/>
        </p:nvSpPr>
        <p:spPr>
          <a:xfrm>
            <a:off x="2819520" y="464832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9" name="Oval 14"/>
          <p:cNvSpPr/>
          <p:nvPr/>
        </p:nvSpPr>
        <p:spPr>
          <a:xfrm>
            <a:off x="1981080" y="5638680"/>
            <a:ext cx="15264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{5A224B1E-D030-4025-80C2-B3B052C832CD}0"/>
          <p:cNvPicPr/>
          <p:nvPr/>
        </p:nvPicPr>
        <p:blipFill>
          <a:blip r:embed="rId1"/>
          <a:stretch/>
        </p:blipFill>
        <p:spPr>
          <a:xfrm>
            <a:off x="1905120" y="0"/>
            <a:ext cx="5029200" cy="371016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2"/>
          <p:cNvSpPr/>
          <p:nvPr/>
        </p:nvSpPr>
        <p:spPr>
          <a:xfrm>
            <a:off x="304920" y="3733920"/>
            <a:ext cx="845820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白兔回到家里，把地翻松了，种上菜子。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了几天，白菜长出来了。小白兔常常给白菜浇水，施肥，拔草，捉虫。白菜很快就长大了。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2" name="Oval 13"/>
          <p:cNvSpPr/>
          <p:nvPr/>
        </p:nvSpPr>
        <p:spPr>
          <a:xfrm>
            <a:off x="5562720" y="43434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3" name="Oval 14"/>
          <p:cNvSpPr/>
          <p:nvPr/>
        </p:nvSpPr>
        <p:spPr>
          <a:xfrm>
            <a:off x="5943600" y="4343400"/>
            <a:ext cx="15228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4" name="Oval 15"/>
          <p:cNvSpPr/>
          <p:nvPr/>
        </p:nvSpPr>
        <p:spPr>
          <a:xfrm>
            <a:off x="13716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5" name="Oval 16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6" name="Oval 17"/>
          <p:cNvSpPr/>
          <p:nvPr/>
        </p:nvSpPr>
        <p:spPr>
          <a:xfrm>
            <a:off x="25146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7" name="Oval 18"/>
          <p:cNvSpPr/>
          <p:nvPr/>
        </p:nvSpPr>
        <p:spPr>
          <a:xfrm>
            <a:off x="2895480" y="5410080"/>
            <a:ext cx="15264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8" name="Oval 19"/>
          <p:cNvSpPr/>
          <p:nvPr/>
        </p:nvSpPr>
        <p:spPr>
          <a:xfrm>
            <a:off x="373392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9" name="Oval 20"/>
          <p:cNvSpPr/>
          <p:nvPr/>
        </p:nvSpPr>
        <p:spPr>
          <a:xfrm>
            <a:off x="41148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0" name="Oval 21"/>
          <p:cNvSpPr/>
          <p:nvPr/>
        </p:nvSpPr>
        <p:spPr>
          <a:xfrm>
            <a:off x="5029200" y="5410080"/>
            <a:ext cx="15228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1" name="Oval 22"/>
          <p:cNvSpPr/>
          <p:nvPr/>
        </p:nvSpPr>
        <p:spPr>
          <a:xfrm>
            <a:off x="5410080" y="5410080"/>
            <a:ext cx="152640" cy="15264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Picture 3" descr="边框-07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2"/>
          <p:cNvSpPr/>
          <p:nvPr/>
        </p:nvSpPr>
        <p:spPr>
          <a:xfrm>
            <a:off x="1143000" y="167652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有自己种，才有吃不完的菜。</a:t>
            </a:r>
            <a:endParaRPr b="0" lang="en-US" sz="6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99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2719440" y="2286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温州市广场路小学提供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30400" y="137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课时锦囊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3256560" y="3452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教学设计：卓小平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3256560" y="40528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课件制作：卓小平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177360" y="466236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总  审  核：吴孔裕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8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68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{C7CA0664-9956-4DA6-B70B-4BD0AECDFE51}0"/>
          <p:cNvPicPr/>
          <p:nvPr/>
        </p:nvPicPr>
        <p:blipFill>
          <a:blip r:embed="rId1"/>
          <a:stretch/>
        </p:blipFill>
        <p:spPr>
          <a:xfrm>
            <a:off x="685800" y="533520"/>
            <a:ext cx="3886200" cy="1066680"/>
          </a:xfrm>
          <a:prstGeom prst="rect">
            <a:avLst/>
          </a:prstGeom>
          <a:ln w="0">
            <a:noFill/>
          </a:ln>
        </p:spPr>
      </p:pic>
      <p:sp>
        <p:nvSpPr>
          <p:cNvPr id="547" name="Rectangle 11"/>
          <p:cNvSpPr/>
          <p:nvPr/>
        </p:nvSpPr>
        <p:spPr>
          <a:xfrm>
            <a:off x="685800" y="91440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Rectangle 12"/>
          <p:cNvSpPr/>
          <p:nvPr/>
        </p:nvSpPr>
        <p:spPr>
          <a:xfrm>
            <a:off x="1828800" y="380880"/>
            <a:ext cx="16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9" name="Rectangle 13"/>
          <p:cNvSpPr/>
          <p:nvPr/>
        </p:nvSpPr>
        <p:spPr>
          <a:xfrm>
            <a:off x="3048120" y="990720"/>
            <a:ext cx="19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0" name="Picture 14" descr="{C7CA0664-9956-4DA6-B70B-4BD0AECDFE51}0"/>
          <p:cNvPicPr/>
          <p:nvPr/>
        </p:nvPicPr>
        <p:blipFill>
          <a:blip r:embed="rId2"/>
          <a:stretch/>
        </p:blipFill>
        <p:spPr>
          <a:xfrm>
            <a:off x="4572000" y="533520"/>
            <a:ext cx="3657600" cy="106668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17"/>
          <p:cNvSpPr/>
          <p:nvPr/>
        </p:nvSpPr>
        <p:spPr>
          <a:xfrm>
            <a:off x="4572000" y="990720"/>
            <a:ext cx="93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2" name="Rectangle 18"/>
          <p:cNvSpPr/>
          <p:nvPr/>
        </p:nvSpPr>
        <p:spPr>
          <a:xfrm>
            <a:off x="5562720" y="380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3" name="Rectangle 19"/>
          <p:cNvSpPr/>
          <p:nvPr/>
        </p:nvSpPr>
        <p:spPr>
          <a:xfrm>
            <a:off x="6705720" y="914400"/>
            <a:ext cx="191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4" name="Picture 20" descr="{C7CA0664-9956-4DA6-B70B-4BD0AECDFE51}0"/>
          <p:cNvPicPr/>
          <p:nvPr/>
        </p:nvPicPr>
        <p:blipFill>
          <a:blip r:embed="rId3"/>
          <a:stretch/>
        </p:blipFill>
        <p:spPr>
          <a:xfrm>
            <a:off x="685800" y="1905120"/>
            <a:ext cx="3962520" cy="10382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21"/>
          <p:cNvSpPr/>
          <p:nvPr/>
        </p:nvSpPr>
        <p:spPr>
          <a:xfrm>
            <a:off x="762120" y="2362320"/>
            <a:ext cx="88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6" name="Rectangle 22"/>
          <p:cNvSpPr/>
          <p:nvPr/>
        </p:nvSpPr>
        <p:spPr>
          <a:xfrm>
            <a:off x="1752480" y="17524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Rectangle 23"/>
          <p:cNvSpPr/>
          <p:nvPr/>
        </p:nvSpPr>
        <p:spPr>
          <a:xfrm>
            <a:off x="3124080" y="2438280"/>
            <a:ext cx="17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58" name="Picture 24" descr="{C7CA0664-9956-4DA6-B70B-4BD0AECDFE51}0"/>
          <p:cNvPicPr/>
          <p:nvPr/>
        </p:nvPicPr>
        <p:blipFill>
          <a:blip r:embed="rId4"/>
          <a:stretch/>
        </p:blipFill>
        <p:spPr>
          <a:xfrm>
            <a:off x="4648320" y="1905120"/>
            <a:ext cx="3581280" cy="104112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25"/>
          <p:cNvSpPr/>
          <p:nvPr/>
        </p:nvSpPr>
        <p:spPr>
          <a:xfrm>
            <a:off x="4724280" y="2362320"/>
            <a:ext cx="10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肥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Rectangle 26"/>
          <p:cNvSpPr/>
          <p:nvPr/>
        </p:nvSpPr>
        <p:spPr>
          <a:xfrm>
            <a:off x="5562720" y="1752480"/>
            <a:ext cx="170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1" name="Rectangle 30"/>
          <p:cNvSpPr/>
          <p:nvPr/>
        </p:nvSpPr>
        <p:spPr>
          <a:xfrm>
            <a:off x="6705720" y="2362320"/>
            <a:ext cx="224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2" name="Picture 31" descr="{C7CA0664-9956-4DA6-B70B-4BD0AECDFE51}0"/>
          <p:cNvPicPr/>
          <p:nvPr/>
        </p:nvPicPr>
        <p:blipFill>
          <a:blip r:embed="rId5"/>
          <a:stretch/>
        </p:blipFill>
        <p:spPr>
          <a:xfrm>
            <a:off x="685800" y="3276720"/>
            <a:ext cx="3962520" cy="106668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33"/>
          <p:cNvSpPr/>
          <p:nvPr/>
        </p:nvSpPr>
        <p:spPr>
          <a:xfrm>
            <a:off x="762120" y="3733920"/>
            <a:ext cx="6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饿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4" name="Rectangle 34"/>
          <p:cNvSpPr/>
          <p:nvPr/>
        </p:nvSpPr>
        <p:spPr>
          <a:xfrm>
            <a:off x="1828800" y="312408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5" name="Rectangle 35"/>
          <p:cNvSpPr/>
          <p:nvPr/>
        </p:nvSpPr>
        <p:spPr>
          <a:xfrm>
            <a:off x="3124080" y="38862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（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66" name="Picture 36" descr="{C7CA0664-9956-4DA6-B70B-4BD0AECDFE51}0"/>
          <p:cNvPicPr/>
          <p:nvPr/>
        </p:nvPicPr>
        <p:blipFill>
          <a:blip r:embed="rId6"/>
          <a:stretch/>
        </p:blipFill>
        <p:spPr>
          <a:xfrm>
            <a:off x="4648320" y="3276720"/>
            <a:ext cx="3581280" cy="10666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7" descr="{C7CA0664-9956-4DA6-B70B-4BD0AECDFE51}0"/>
          <p:cNvPicPr/>
          <p:nvPr/>
        </p:nvPicPr>
        <p:blipFill>
          <a:blip r:embed="rId7"/>
          <a:stretch/>
        </p:blipFill>
        <p:spPr>
          <a:xfrm>
            <a:off x="685800" y="4800600"/>
            <a:ext cx="3962520" cy="10666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8" descr="{C7CA0664-9956-4DA6-B70B-4BD0AECDFE51}0"/>
          <p:cNvPicPr/>
          <p:nvPr/>
        </p:nvPicPr>
        <p:blipFill>
          <a:blip r:embed="rId8"/>
          <a:stretch/>
        </p:blipFill>
        <p:spPr>
          <a:xfrm>
            <a:off x="4648320" y="4800600"/>
            <a:ext cx="3581280" cy="10666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39"/>
          <p:cNvSpPr/>
          <p:nvPr/>
        </p:nvSpPr>
        <p:spPr>
          <a:xfrm>
            <a:off x="563868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0" name="Rectangle 40"/>
          <p:cNvSpPr/>
          <p:nvPr/>
        </p:nvSpPr>
        <p:spPr>
          <a:xfrm>
            <a:off x="6781680" y="3809880"/>
            <a:ext cx="160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Rectangle 42"/>
          <p:cNvSpPr/>
          <p:nvPr/>
        </p:nvSpPr>
        <p:spPr>
          <a:xfrm>
            <a:off x="31240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2" name="Rectangle 43"/>
          <p:cNvSpPr/>
          <p:nvPr/>
        </p:nvSpPr>
        <p:spPr>
          <a:xfrm>
            <a:off x="5715000" y="4648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3" name="Rectangle 44"/>
          <p:cNvSpPr/>
          <p:nvPr/>
        </p:nvSpPr>
        <p:spPr>
          <a:xfrm>
            <a:off x="6781680" y="53341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Rectangle 45"/>
          <p:cNvSpPr/>
          <p:nvPr/>
        </p:nvSpPr>
        <p:spPr>
          <a:xfrm>
            <a:off x="480744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侯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5" name="Rectangle 46"/>
          <p:cNvSpPr/>
          <p:nvPr/>
        </p:nvSpPr>
        <p:spPr>
          <a:xfrm>
            <a:off x="84492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6" name="Rectangle 47"/>
          <p:cNvSpPr/>
          <p:nvPr/>
        </p:nvSpPr>
        <p:spPr>
          <a:xfrm>
            <a:off x="4883400" y="5257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担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577" name="Picture 48" descr="BD00028_"/>
          <p:cNvPicPr/>
          <p:nvPr/>
        </p:nvPicPr>
        <p:blipFill>
          <a:blip r:embed="rId9"/>
          <a:stretch/>
        </p:blipFill>
        <p:spPr>
          <a:xfrm>
            <a:off x="0" y="0"/>
            <a:ext cx="861840" cy="8445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9" descr="BD14581_"/>
          <p:cNvPicPr/>
          <p:nvPr/>
        </p:nvPicPr>
        <p:blipFill>
          <a:blip r:embed="rId10"/>
          <a:stretch/>
        </p:blipFill>
        <p:spPr>
          <a:xfrm>
            <a:off x="7620120" y="5730840"/>
            <a:ext cx="1218960" cy="1127160"/>
          </a:xfrm>
          <a:prstGeom prst="rect">
            <a:avLst/>
          </a:prstGeom>
          <a:ln w="0">
            <a:noFill/>
          </a:ln>
        </p:spPr>
      </p:pic>
      <p:sp>
        <p:nvSpPr>
          <p:cNvPr id="579" name="AutoShape 50"/>
          <p:cNvSpPr/>
          <p:nvPr/>
        </p:nvSpPr>
        <p:spPr>
          <a:xfrm>
            <a:off x="6858000" y="0"/>
            <a:ext cx="2286000" cy="990720"/>
          </a:xfrm>
          <a:prstGeom prst="cloudCallout">
            <a:avLst>
              <a:gd name="adj1" fmla="val -70416"/>
              <a:gd name="adj2" fmla="val 12387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Rectangle 51"/>
          <p:cNvSpPr/>
          <p:nvPr/>
        </p:nvSpPr>
        <p:spPr>
          <a:xfrm>
            <a:off x="6934320" y="304920"/>
            <a:ext cx="191124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  <a:ea typeface="黑体"/>
              </a:rPr>
              <a:t>认一认，读一读！</a:t>
            </a:r>
            <a:endParaRPr b="0" lang="en-US" sz="1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1" name="Text Box 52"/>
          <p:cNvSpPr/>
          <p:nvPr/>
        </p:nvSpPr>
        <p:spPr>
          <a:xfrm>
            <a:off x="190512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C:\Documents and Settings\郑志胜\桌面\日月明\田字格.jpg"/>
          <p:cNvPicPr/>
          <p:nvPr/>
        </p:nvPicPr>
        <p:blipFill>
          <a:blip r:embed="rId2"/>
          <a:stretch/>
        </p:blipFill>
        <p:spPr>
          <a:xfrm>
            <a:off x="6094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C:\Documents and Settings\郑志胜\桌面\日月明\田字格.jpg"/>
          <p:cNvPicPr/>
          <p:nvPr/>
        </p:nvPicPr>
        <p:blipFill>
          <a:blip r:embed="rId3"/>
          <a:stretch/>
        </p:blipFill>
        <p:spPr>
          <a:xfrm>
            <a:off x="26668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C:\Documents and Settings\郑志胜\桌面\日月明\田字格.jpg"/>
          <p:cNvPicPr/>
          <p:nvPr/>
        </p:nvPicPr>
        <p:blipFill>
          <a:blip r:embed="rId4"/>
          <a:stretch/>
        </p:blipFill>
        <p:spPr>
          <a:xfrm>
            <a:off x="4699080" y="91440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C:\Documents and Settings\郑志胜\桌面\日月明\田字格.jpg"/>
          <p:cNvPicPr/>
          <p:nvPr/>
        </p:nvPicPr>
        <p:blipFill>
          <a:blip r:embed="rId5"/>
          <a:stretch/>
        </p:blipFill>
        <p:spPr>
          <a:xfrm>
            <a:off x="60948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6" descr="C:\Documents and Settings\郑志胜\桌面\日月明\田字格.jpg"/>
          <p:cNvPicPr/>
          <p:nvPr/>
        </p:nvPicPr>
        <p:blipFill>
          <a:blip r:embed="rId6"/>
          <a:stretch/>
        </p:blipFill>
        <p:spPr>
          <a:xfrm>
            <a:off x="271764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7" descr="C:\Documents and Settings\郑志胜\桌面\日月明\田字格.jpg"/>
          <p:cNvPicPr/>
          <p:nvPr/>
        </p:nvPicPr>
        <p:blipFill>
          <a:blip r:embed="rId7"/>
          <a:stretch/>
        </p:blipFill>
        <p:spPr>
          <a:xfrm>
            <a:off x="4724280" y="2895480"/>
            <a:ext cx="1930680" cy="195588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8"/>
          <p:cNvSpPr/>
          <p:nvPr/>
        </p:nvSpPr>
        <p:spPr>
          <a:xfrm>
            <a:off x="11271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Text Box 9"/>
          <p:cNvSpPr/>
          <p:nvPr/>
        </p:nvSpPr>
        <p:spPr>
          <a:xfrm>
            <a:off x="1119240" y="114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拉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0" name="Text Box 10"/>
          <p:cNvSpPr/>
          <p:nvPr/>
        </p:nvSpPr>
        <p:spPr>
          <a:xfrm>
            <a:off x="2971800" y="1143000"/>
            <a:ext cx="120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给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1" name="Text Box 11"/>
          <p:cNvSpPr/>
          <p:nvPr/>
        </p:nvSpPr>
        <p:spPr>
          <a:xfrm>
            <a:off x="5157720" y="114300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Text Box 12"/>
          <p:cNvSpPr/>
          <p:nvPr/>
        </p:nvSpPr>
        <p:spPr>
          <a:xfrm>
            <a:off x="1042920" y="3124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3176640" y="3124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活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5157720" y="3124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吃</a:t>
            </a:r>
            <a:endParaRPr b="0" lang="en-US" sz="8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C:\Documents and Settings\郑志胜\桌面\日月明\田字格.jpg"/>
          <p:cNvPicPr/>
          <p:nvPr/>
        </p:nvPicPr>
        <p:blipFill>
          <a:blip r:embed="rId2"/>
          <a:stretch/>
        </p:blipFill>
        <p:spPr>
          <a:xfrm>
            <a:off x="6094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" descr="C:\Documents and Settings\郑志胜\桌面\日月明\田字格.jpg"/>
          <p:cNvPicPr/>
          <p:nvPr/>
        </p:nvPicPr>
        <p:blipFill>
          <a:blip r:embed="rId3"/>
          <a:stretch/>
        </p:blipFill>
        <p:spPr>
          <a:xfrm>
            <a:off x="2666880" y="91440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4" descr="C:\Documents and Settings\郑志胜\桌面\日月明\田字格.jpg"/>
          <p:cNvPicPr/>
          <p:nvPr/>
        </p:nvPicPr>
        <p:blipFill>
          <a:blip r:embed="rId4"/>
          <a:stretch/>
        </p:blipFill>
        <p:spPr>
          <a:xfrm>
            <a:off x="4699080" y="914400"/>
            <a:ext cx="1930320" cy="195588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5" descr="C:\Documents and Settings\郑志胜\桌面\日月明\田字格.jpg"/>
          <p:cNvPicPr/>
          <p:nvPr/>
        </p:nvPicPr>
        <p:blipFill>
          <a:blip r:embed="rId5"/>
          <a:stretch/>
        </p:blipFill>
        <p:spPr>
          <a:xfrm>
            <a:off x="60948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6" descr="C:\Documents and Settings\郑志胜\桌面\日月明\田字格.jpg"/>
          <p:cNvPicPr/>
          <p:nvPr/>
        </p:nvPicPr>
        <p:blipFill>
          <a:blip r:embed="rId6"/>
          <a:stretch/>
        </p:blipFill>
        <p:spPr>
          <a:xfrm>
            <a:off x="2717640" y="2895480"/>
            <a:ext cx="1930680" cy="195588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7" descr="C:\Documents and Settings\郑志胜\桌面\日月明\田字格.jpg"/>
          <p:cNvPicPr/>
          <p:nvPr/>
        </p:nvPicPr>
        <p:blipFill>
          <a:blip r:embed="rId7"/>
          <a:stretch/>
        </p:blipFill>
        <p:spPr>
          <a:xfrm>
            <a:off x="4724280" y="2895480"/>
            <a:ext cx="1930680" cy="195588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8"/>
          <p:cNvSpPr/>
          <p:nvPr/>
        </p:nvSpPr>
        <p:spPr>
          <a:xfrm>
            <a:off x="11271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02" name="Picture 9" descr="C:\Documents and Settings\diy\My Documents\My Pictures\边框\拉.bmp"/>
          <p:cNvPicPr/>
          <p:nvPr/>
        </p:nvPicPr>
        <p:blipFill>
          <a:blip r:embed="rId8"/>
          <a:stretch/>
        </p:blipFill>
        <p:spPr>
          <a:xfrm>
            <a:off x="838080" y="1143000"/>
            <a:ext cx="1222560" cy="133668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0" descr="C:\Documents and Settings\diy\My Documents\My Pictures\边框\给.bmp"/>
          <p:cNvPicPr/>
          <p:nvPr/>
        </p:nvPicPr>
        <p:blipFill>
          <a:blip r:embed="rId9"/>
          <a:stretch/>
        </p:blipFill>
        <p:spPr>
          <a:xfrm>
            <a:off x="2895480" y="1143000"/>
            <a:ext cx="1222560" cy="1336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1" descr="C:\Documents and Settings\diy\My Documents\My Pictures\边框\种.bmp"/>
          <p:cNvPicPr/>
          <p:nvPr/>
        </p:nvPicPr>
        <p:blipFill>
          <a:blip r:embed="rId10"/>
          <a:stretch/>
        </p:blipFill>
        <p:spPr>
          <a:xfrm>
            <a:off x="4952880" y="1219320"/>
            <a:ext cx="1168560" cy="127764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2" descr="C:\Documents and Settings\diy\My Documents\My Pictures\边框\把.bmp"/>
          <p:cNvPicPr/>
          <p:nvPr/>
        </p:nvPicPr>
        <p:blipFill>
          <a:blip r:embed="rId11"/>
          <a:stretch/>
        </p:blipFill>
        <p:spPr>
          <a:xfrm>
            <a:off x="914400" y="3124080"/>
            <a:ext cx="1222200" cy="13366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3" descr="C:\Documents and Settings\diy\My Documents\My Pictures\边框\活.bmp"/>
          <p:cNvPicPr/>
          <p:nvPr/>
        </p:nvPicPr>
        <p:blipFill>
          <a:blip r:embed="rId12"/>
          <a:stretch/>
        </p:blipFill>
        <p:spPr>
          <a:xfrm>
            <a:off x="2971800" y="3200400"/>
            <a:ext cx="1168560" cy="127800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4" descr="C:\Documents and Settings\diy\My Documents\My Pictures\边框\吃.bmp"/>
          <p:cNvPicPr/>
          <p:nvPr/>
        </p:nvPicPr>
        <p:blipFill>
          <a:blip r:embed="rId13"/>
          <a:stretch/>
        </p:blipFill>
        <p:spPr>
          <a:xfrm>
            <a:off x="4952880" y="3124080"/>
            <a:ext cx="122256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{9BC5ED10-4E20-11D9-9B47-00E04CFF79F2}0"/>
          <p:cNvPicPr/>
          <p:nvPr/>
        </p:nvPicPr>
        <p:blipFill>
          <a:blip r:embed="rId1"/>
          <a:stretch/>
        </p:blipFill>
        <p:spPr>
          <a:xfrm>
            <a:off x="380880" y="22860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3"/>
          <p:cNvSpPr/>
          <p:nvPr/>
        </p:nvSpPr>
        <p:spPr>
          <a:xfrm>
            <a:off x="380880" y="4038480"/>
            <a:ext cx="125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候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9360" y="1676520"/>
            <a:ext cx="66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ei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11" name="Picture 5" descr="{9BC5ED10-4E20-11D9-9B47-00E04CFF79F2}0"/>
          <p:cNvPicPr/>
          <p:nvPr/>
        </p:nvPicPr>
        <p:blipFill>
          <a:blip r:embed="rId2"/>
          <a:stretch/>
        </p:blipFill>
        <p:spPr>
          <a:xfrm>
            <a:off x="1295280" y="2286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6"/>
          <p:cNvSpPr/>
          <p:nvPr/>
        </p:nvSpPr>
        <p:spPr>
          <a:xfrm>
            <a:off x="1295280" y="1676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iao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2438280" y="1676520"/>
            <a:ext cx="71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i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3505320" y="1676520"/>
            <a:ext cx="86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u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5638680" y="16765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ao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650120" y="16765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n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6781680" y="1676520"/>
            <a:ext cx="84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n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8002800" y="16765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2590920" y="4038480"/>
            <a:ext cx="69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担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1523880" y="4038480"/>
            <a:ext cx="77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挑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3760920" y="4038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肥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Rectangle 16"/>
          <p:cNvSpPr/>
          <p:nvPr/>
        </p:nvSpPr>
        <p:spPr>
          <a:xfrm>
            <a:off x="4903920" y="3962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浇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3" name="Rectangle 17"/>
          <p:cNvSpPr/>
          <p:nvPr/>
        </p:nvSpPr>
        <p:spPr>
          <a:xfrm>
            <a:off x="8028000" y="3962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饿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4" name="Rectangle 18"/>
          <p:cNvSpPr/>
          <p:nvPr/>
        </p:nvSpPr>
        <p:spPr>
          <a:xfrm>
            <a:off x="7086600" y="3962520"/>
            <a:ext cx="69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翻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5" name="Picture 19" descr="{9BC5ED10-4E20-11D9-9B47-00E04CFF79F2}0"/>
          <p:cNvPicPr/>
          <p:nvPr/>
        </p:nvPicPr>
        <p:blipFill>
          <a:blip r:embed="rId3"/>
          <a:stretch/>
        </p:blipFill>
        <p:spPr>
          <a:xfrm>
            <a:off x="2438280" y="22860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20" descr="{9BC5ED10-4E20-11D9-9B47-00E04CFF79F2}0"/>
          <p:cNvPicPr/>
          <p:nvPr/>
        </p:nvPicPr>
        <p:blipFill>
          <a:blip r:embed="rId4"/>
          <a:stretch/>
        </p:blipFill>
        <p:spPr>
          <a:xfrm>
            <a:off x="3505320" y="22860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21" descr="{9BC5ED10-4E20-11D9-9B47-00E04CFF79F2}0"/>
          <p:cNvPicPr/>
          <p:nvPr/>
        </p:nvPicPr>
        <p:blipFill>
          <a:blip r:embed="rId5"/>
          <a:stretch/>
        </p:blipFill>
        <p:spPr>
          <a:xfrm>
            <a:off x="4572000" y="2286000"/>
            <a:ext cx="1066680" cy="9144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22"/>
          <p:cNvSpPr/>
          <p:nvPr/>
        </p:nvSpPr>
        <p:spPr>
          <a:xfrm>
            <a:off x="6019920" y="3962520"/>
            <a:ext cx="99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施</a:t>
            </a:r>
            <a:endParaRPr b="0" lang="en-US" sz="4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29" name="Picture 23" descr="{9BC5ED10-4E20-11D9-9B47-00E04CFF79F2}0"/>
          <p:cNvPicPr/>
          <p:nvPr/>
        </p:nvPicPr>
        <p:blipFill>
          <a:blip r:embed="rId6"/>
          <a:stretch/>
        </p:blipFill>
        <p:spPr>
          <a:xfrm>
            <a:off x="5638680" y="22860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24" descr="{9BC5ED10-4E20-11D9-9B47-00E04CFF79F2}0"/>
          <p:cNvPicPr/>
          <p:nvPr/>
        </p:nvPicPr>
        <p:blipFill>
          <a:blip r:embed="rId7"/>
          <a:stretch/>
        </p:blipFill>
        <p:spPr>
          <a:xfrm>
            <a:off x="6705720" y="2286000"/>
            <a:ext cx="1066680" cy="9144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5" descr="{9BC5ED10-4E20-11D9-9B47-00E04CFF79F2}0"/>
          <p:cNvPicPr/>
          <p:nvPr/>
        </p:nvPicPr>
        <p:blipFill>
          <a:blip r:embed="rId8"/>
          <a:stretch/>
        </p:blipFill>
        <p:spPr>
          <a:xfrm>
            <a:off x="7772400" y="2286000"/>
            <a:ext cx="914400" cy="914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2" name=""/>
          <p:cNvGraphicFramePr/>
          <p:nvPr/>
        </p:nvGraphicFramePr>
        <p:xfrm>
          <a:off x="762120" y="2133720"/>
          <a:ext cx="3124080" cy="228600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3" name=""/>
          <p:cNvGraphicFramePr/>
          <p:nvPr/>
        </p:nvGraphicFramePr>
        <p:xfrm>
          <a:off x="2971800" y="2209320"/>
          <a:ext cx="4191120" cy="2210400"/>
        </p:xfrm>
        <a:graphic>
          <a:graphicData uri="http://schemas.openxmlformats.org/drawingml/2006/table">
            <a:tbl>
              <a:tblPr/>
              <a:tblGrid>
                <a:gridCol w="4191120"/>
              </a:tblGrid>
              <a:tr h="22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4" name=""/>
          <p:cNvGraphicFramePr/>
          <p:nvPr/>
        </p:nvGraphicFramePr>
        <p:xfrm>
          <a:off x="1905120" y="213372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5" name=""/>
          <p:cNvGraphicFramePr/>
          <p:nvPr/>
        </p:nvGraphicFramePr>
        <p:xfrm>
          <a:off x="8078760" y="2286000"/>
          <a:ext cx="415800" cy="198108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</a:tblGrid>
              <a:tr h="19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440">
                      <a:solidFill>
                        <a:srgbClr val="66ff99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 w="1440">
                      <a:solidFill>
                        <a:srgbClr val="66ff9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6" name=""/>
          <p:cNvGraphicFramePr/>
          <p:nvPr/>
        </p:nvGraphicFramePr>
        <p:xfrm>
          <a:off x="2971800" y="2133720"/>
          <a:ext cx="3352680" cy="2209680"/>
        </p:xfrm>
        <a:graphic>
          <a:graphicData uri="http://schemas.openxmlformats.org/drawingml/2006/table">
            <a:tbl>
              <a:tblPr/>
              <a:tblGrid>
                <a:gridCol w="335268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7" name=""/>
          <p:cNvGraphicFramePr/>
          <p:nvPr/>
        </p:nvGraphicFramePr>
        <p:xfrm>
          <a:off x="5181480" y="2209680"/>
          <a:ext cx="2210040" cy="2133720"/>
        </p:xfrm>
        <a:graphic>
          <a:graphicData uri="http://schemas.openxmlformats.org/drawingml/2006/table">
            <a:tbl>
              <a:tblPr/>
              <a:tblGrid>
                <a:gridCol w="221004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8" name="AutoShape 224"/>
          <p:cNvSpPr/>
          <p:nvPr/>
        </p:nvSpPr>
        <p:spPr>
          <a:xfrm>
            <a:off x="6172200" y="0"/>
            <a:ext cx="2971800" cy="990720"/>
          </a:xfrm>
          <a:prstGeom prst="cloudCallout">
            <a:avLst>
              <a:gd name="adj1" fmla="val -62981"/>
              <a:gd name="adj2" fmla="val 12531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9" name="Rectangle 225"/>
          <p:cNvSpPr/>
          <p:nvPr/>
        </p:nvSpPr>
        <p:spPr>
          <a:xfrm>
            <a:off x="7066800" y="22860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连连看！</a:t>
            </a:r>
            <a:r>
              <a:rPr b="1" i="1" lang="zh-CN" sz="2800" spc="-1" strike="noStrike">
                <a:solidFill>
                  <a:srgbClr val="ff9933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AutoShape 226"/>
          <p:cNvSpPr/>
          <p:nvPr/>
        </p:nvSpPr>
        <p:spPr>
          <a:xfrm>
            <a:off x="8229600" y="152280"/>
            <a:ext cx="609480" cy="533520"/>
          </a:xfrm>
          <a:prstGeom prst="smileyFace">
            <a:avLst>
              <a:gd name="adj" fmla="val 9282"/>
            </a:avLst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641" name="Picture 231" descr="BD14710_"/>
          <p:cNvPicPr/>
          <p:nvPr/>
        </p:nvPicPr>
        <p:blipFill>
          <a:blip r:embed="rId9"/>
          <a:stretch/>
        </p:blipFill>
        <p:spPr>
          <a:xfrm>
            <a:off x="685800" y="5246640"/>
            <a:ext cx="8229600" cy="136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2" name=""/>
          <p:cNvGraphicFramePr/>
          <p:nvPr/>
        </p:nvGraphicFramePr>
        <p:xfrm>
          <a:off x="685800" y="2133720"/>
          <a:ext cx="3276720" cy="220968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2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3" name=""/>
          <p:cNvGraphicFramePr/>
          <p:nvPr/>
        </p:nvGraphicFramePr>
        <p:xfrm>
          <a:off x="1828800" y="1981080"/>
          <a:ext cx="3276720" cy="228600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2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4" name="Picture 269" descr="{38D0F6AF-6296-41C0-B5C8-AD8F716E3C31}0"/>
          <p:cNvPicPr/>
          <p:nvPr/>
        </p:nvPicPr>
        <p:blipFill>
          <a:blip r:embed="rId10"/>
          <a:stretch/>
        </p:blipFill>
        <p:spPr>
          <a:xfrm>
            <a:off x="7221600" y="5257800"/>
            <a:ext cx="1617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15:29:59Z</dcterms:created>
  <dc:creator>陈泽滨</dc:creator>
  <dc:description/>
  <dc:language>en-US</dc:language>
  <cp:lastModifiedBy>a</cp:lastModifiedBy>
  <dcterms:modified xsi:type="dcterms:W3CDTF">2015-03-18T05:45:40Z</dcterms:modified>
  <cp:revision>19</cp:revision>
  <dc:subject/>
  <dc:title> </dc:title>
</cp:coreProperties>
</file>