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gif" ContentType="image/gif"/>
  <Override PartName="/ppt/media/image8.jpeg" ContentType="image/jpeg"/>
  <Override PartName="/ppt/media/image13.jpeg" ContentType="image/jpeg"/>
  <Override PartName="/ppt/media/image9.png" ContentType="image/pn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6786-AA29-407B-AC81-C736503E5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A505-C355-46DF-858C-BA942498A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78EE09-1362-4467-9279-E9E8D4149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DAFF67-CB27-48BB-90B8-D05AB37D4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8D0400-1004-4C59-8FE3-3EE0C06D2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5DCB4D-5E52-4FE6-8ACD-A482CF209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2EF2A9-1B4A-4862-9601-CCAF450D3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960CC9-394F-499F-BA8B-8E2A2110B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83C59A-76FC-47F8-81CC-7CA602758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E2FB63-2EA8-4E70-B678-8C01DC186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40E70C-DBAF-4A0B-984C-98BE6270A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3A90A5-452E-4FF7-B26E-DA0E14583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8CAF-5E92-4465-B774-769209B26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8D1F3C-3FD1-4F33-B168-76B3EEEEC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3C24B9-4D5E-4FD0-BADF-441E1288A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E7050D-52F5-4F9F-9B30-33B756CE5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9067D8-D534-450C-B7AD-FB1679D3E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9EAEDE-73EB-484E-AEDB-DA0C08A7B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335D97-46F3-492D-B7E7-4B3817CD7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B6178B-C117-4C5A-BFDA-9119A543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5844B9-AA56-45B5-9E15-3970DC78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53A669-518B-40A1-8FE5-6C406C52D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A19BC6-A1D0-41FA-A003-DEC1C026A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C26C-1914-453E-B8E1-CB1A41CF7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1A27E3-2935-44FD-BD4E-609961F3A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B55E0D-8CBB-4A39-8923-4A3155D74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32733B-98F0-42BB-8088-77EA9A2E5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121C5A-7593-4E3D-8BED-4BE48A994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3E080F-012E-46A8-9221-5E138F08F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7D20D6-D0F5-41D4-888F-2391EB820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CC564A-045A-4E75-A584-8E43F9A0B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9DEF49-5888-40AE-999E-7C8B76E5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529B60-04DE-4322-8C6A-1136F4A80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D158CC-6EB7-41AA-8E1E-3BF77796E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5218A-0C9E-48F4-B3F8-DA5C62DFF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A30E7D-9C53-429A-88E7-818C180DB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2BB386-2CFF-41D3-93F9-C156103A9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683CD7-5944-4791-9DFA-9D040A9D7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704941-09F4-44B4-B235-A1F1F6524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3934A3-F0CF-4A78-BACB-EA6748BD7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C03FF4-DAA2-4452-A49A-A33DFA047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032D29-20E0-48ED-9C7B-C466A1C05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D25634-6106-4B37-9B0B-EA4EB8DED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72E4FB-060C-409A-AD8D-CF43FFA7A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077848-B5FA-4C64-A900-7E93B55A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91C81-1058-4844-86AA-F2ED432EB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DDC02F-2555-4C49-B281-969ECE6F0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6B9768-3BFF-43CA-A61A-A16CA1B05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F1DA15-896D-41DF-9E42-35B855B9A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EEC36B-CC37-4BCE-BA36-68D1322EB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5A1B36-3B94-42CD-92A0-36A2360FC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D1B635-BAA0-48D6-B9BC-2A09C3CC9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A68956-2A77-4121-BD11-A4F8299AC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440E21-757D-468E-90EF-65889D621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2D92E7-8E1C-47BA-8A9F-B4F8450DB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C4A3D3-1E47-4DC8-8F11-950BA9838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AB0A4-DF65-42D4-A68B-2362381DF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295C75-D522-4A8C-95A9-D0C862790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4ADEAD-0659-4F3A-81D6-4E2BC898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D896B4-2FB2-49EB-AEA0-252FF8879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BF555B-7B09-4731-B409-87E6C513E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7AEF92-AF82-4245-8D4B-3B87AF384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AC58CC-9752-453B-8670-1081ABFC0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9FE000-4E4D-44A5-8ACB-59320E08B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15254-656A-413B-9E86-93B762401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3B144-2D2C-44E3-9EA5-D76837368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7C527-7B46-4EE8-AEFC-1CFA38416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95A39-3C47-4112-813C-74E82E4E7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7289-10C7-4C98-9269-B52365799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FE2F7-297F-43AB-846D-20A2551B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9868F-6C9F-4218-9DA7-D5232E0B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3A50C-F1C1-4762-8F8D-2A5E665D4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3202C-A13A-4E62-B2D2-BF9E36395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7CA3D-2E24-47CC-A8C5-BD7CFB261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C1054-73DC-4D7C-81A5-D903219A6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9DAF0-449F-4D64-A09C-6957F1037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9A81D-DEA0-4FC5-919E-59B11C61F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01A01-5CF2-4436-AF1D-39C384F10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8C627-A0CB-40E2-A2AB-B7061E780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6200-B406-4AB9-8A1D-0A46D8B5B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AC098-B655-4B2F-9A51-2162C9B0B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903EB-3912-460E-9B75-CC9EC230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22EA5-BD43-4385-9325-1664B40B6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56B4E-F053-498C-AC81-87C4AC264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1F599-F356-44D4-80B6-CAE7B0F02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89A2B1-0021-46B6-84AA-ACD9FD16F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A000A2-3787-4DAD-A02F-2EF82E729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F3573-08D1-4464-A3CF-018550863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343D5-B28F-44A5-B68E-6DE7171C1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2AA44-50EE-46EB-859B-66D117D8A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94CB-19D4-400E-907B-4CA58CD02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8CA55-BE82-4B73-B5FE-31D76587C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6A6DF-B536-4096-BFDE-0C8E79FBA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D9D5F-CBBA-4982-BEA7-CF84E6D9B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4BE86-EDAC-4BB9-8944-72D6BF30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61DCB-8224-4FF1-8BC3-CE953065F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E3B2B-376C-4575-95AF-8ACA88DB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14009-0E1D-49EB-849D-5E6424181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9FFB1-799E-4D24-B21A-FE33FF0AF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19E92-DE69-4C48-A1BF-D12CCACCA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1A613-7587-43EC-A11C-4D8182967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0975-44F5-47E3-9BE2-34281D206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840920-AC6D-4E57-843E-F11FC9EA6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8892C-69D2-4442-A06A-90643DEE6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F6582C-B723-4E58-8AB1-02DC77B1F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EA9E4-85AD-409C-855C-DC003AB48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FBC1ED-75E5-4DE2-BB89-BEE7E2E21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19C276-BCD5-48E5-BE5C-508A5A9E1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A2E9EC-E369-40F9-B5F0-4FD4D3A45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3E6A09-F530-43AC-B56D-7603C3093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B7B265-562A-45AA-92DC-46D096096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04BF9-81D9-4232-915D-5A960F648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FBFD-0B7F-42CB-9581-0492F31C4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C01AAE-2AA2-4F09-BE93-51D0E8A02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58EB9C-E6EE-455F-83BE-60B0CD180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F9363A-4CCC-4E52-BE2D-6C2C043E0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BD1378-DC69-4C76-849E-7350CC72D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AC4AB5-EB37-41D7-9D52-C721CC4BF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FD48AB-EFD0-4113-8A0D-96C025B01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AFB03A-0108-4BDE-95C9-AD9DDF52F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19B8FB-1338-472E-BDAB-E0E845B63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73783D-D4B8-430D-8E14-0668A969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507640-4B58-4E8C-A8AE-428219309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72E5-D651-4DC0-9328-EB44E4D4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9ED29-3660-48ED-BEB1-94D23AB8F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A70F72-4528-4E1D-A964-5D58EEBD7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0586C8-8150-4E59-8945-8515DAF0A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5800AD-F4AA-4E86-BC79-6F46E7CCE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0397A9-CA93-4C8F-A34C-49513C1AD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E56DEA-909A-4066-8EF7-43BF07995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FC7423-5436-4E04-8A44-FBF95B540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381862-5B47-4770-8A9E-99A55DDF9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4675AF-6EC1-40E7-9596-41697AA66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37A0D4-4D92-49C9-AFDA-C6A4CC83A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B1FD-B554-455A-B19E-DE75EC1AD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4E9052-1EF3-42F7-B048-8D8B435AD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3B24EE-56CC-4AA6-868D-F76D82D8A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FA9ADE-39F0-46D0-9714-25A393579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0853F5-9C85-4DAF-AF9D-DE5758392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C43EC6-CB37-44F6-9363-B7C3A08B7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883120-C996-439B-AEA2-A675E088C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91B653-10F4-4B5D-BD8D-0A20C137D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67C773-2BCC-4DE4-9864-C0BC0D695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25D42D-E581-49AC-8F58-A3BFE7C78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5048FA-4E14-407C-B5E4-BCD2DFBEE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C554-1009-45B1-99F8-A24CEF998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51FFCE-23E5-42F5-9C92-0D60FEECF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54E0FC-C304-46D0-9F97-17B27A13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6C87F9-18B6-4C1A-896D-B7FA82D22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AE5D00-23C1-4A50-9406-332FB1603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AE8962-0987-4F7A-AD36-DCF995D8B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5E6619-BB0F-44B0-A15E-63AEF4C93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B276C8-D761-4B60-B7FB-D697852B8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62FCA6-BD54-44C1-807A-A23001317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E2A8C3-1361-40A7-848E-1D5518C27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CF285B-9644-4C3C-9DE3-9F21DA96C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01B7A-56D4-4144-BC30-8D7979D591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251B0-D8AF-4152-A337-27B574F56A8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677CF-55D8-44FB-BC82-F1F1110F764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15D15-9B6D-4963-B069-8FE691D4F7A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65D5D-7916-43C4-AF67-9F781C7EF8C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CD724-1265-42FE-AB1A-FE5B24E3B62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7BB60-61FE-4F10-AFA6-401626197C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EB96A-D42E-4955-89D7-AA1CC33875F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61309-CF89-41CE-85DC-10D4ABEF0EF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A1076-812D-4110-8E8A-A8734818704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5EACC-3DA1-41B4-8400-8048C746436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E4601-D921-4FC6-B97A-2D42BD15F31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52725-B7E8-4E43-AAAB-4DD90E78A90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0CD67-D16F-4FB1-B965-33E945FED20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1DD03-9969-471C-AC41-680817375D0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A61FD-F492-46BA-A0E6-E14A4E43F60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8AD50-4E57-4CC9-B783-DC225882A0F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B1929-6514-4373-8B60-A1D08283BDD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1F9E5-EAE4-41CA-80F5-067DA8563F9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4FBFB-440F-49A6-ADDC-AFC4132BBE4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E1E56-83E3-4167-809C-40000F2C68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6DB7A-04EF-4981-B1B7-FD152648E11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71804-79C7-4508-B3E6-11BAB275F6B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EAFCF-DD96-4174-9524-0C5B3564E0F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FE308-1730-42DB-8854-83388658BE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3" descr="图片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5" name="Rectangle 4"/>
          <p:cNvSpPr/>
          <p:nvPr/>
        </p:nvSpPr>
        <p:spPr>
          <a:xfrm>
            <a:off x="395280" y="1255680"/>
            <a:ext cx="842472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  <a:ea typeface="汉鼎繁颜体"/>
              </a:rPr>
              <a:t>      </a:t>
            </a:r>
            <a:r>
              <a:rPr b="1" lang="zh-CN" sz="9600" spc="-1" strike="noStrike">
                <a:solidFill>
                  <a:srgbClr val="ff0000"/>
                </a:solidFill>
                <a:latin typeface="Arial"/>
                <a:ea typeface="汉鼎繁颜体"/>
              </a:rPr>
              <a:t>夏     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汉鼎繁颜体"/>
              </a:rPr>
              <a:t>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汉鼎繁颜体"/>
              </a:rPr>
              <a:t>作者：梁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844640"/>
          </a:xfrm>
          <a:prstGeom prst="rect">
            <a:avLst/>
          </a:prstGeom>
          <a:solidFill>
            <a:srgbClr val="ffff99">
              <a:alpha val="56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作者为我们展示的是北方的，具有男性风格的夏天，其实对于不同的地域和不同的观赏者来说，夏天的感觉是不尽相同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-360" y="1700280"/>
            <a:ext cx="8893080" cy="2549520"/>
          </a:xfrm>
          <a:prstGeom prst="rect">
            <a:avLst/>
          </a:prstGeom>
          <a:solidFill>
            <a:srgbClr val="ccffcc">
              <a:alpha val="59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荷才露尖尖角，早有蜻蜓立上头。 （舒缓，趣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接天莲叶无穷碧，映日荷花别样红。（美好，秀气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云收雨过波添，楼高水冷瓜甜，绿树阴垂画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夏日雨后的凉爽，惬意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4"/>
          <p:cNvSpPr/>
          <p:nvPr/>
        </p:nvSpPr>
        <p:spPr>
          <a:xfrm>
            <a:off x="0" y="4508640"/>
            <a:ext cx="9144000" cy="764280"/>
          </a:xfrm>
          <a:prstGeom prst="rect">
            <a:avLst/>
          </a:prstGeom>
          <a:solidFill>
            <a:srgbClr val="ffcc99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描绘南方的夏天，我也来试试看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5"/>
          <p:cNvSpPr/>
          <p:nvPr/>
        </p:nvSpPr>
        <p:spPr>
          <a:xfrm>
            <a:off x="250920" y="5516640"/>
            <a:ext cx="8675640" cy="520560"/>
          </a:xfrm>
          <a:prstGeom prst="rect">
            <a:avLst/>
          </a:prstGeom>
          <a:solidFill>
            <a:srgbClr val="ccffcc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看看图片，结合你脑子里呈现出来的夏天，仿写一篇“夏感”（写在日记本上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7" descr="__scale__1_713775535"/>
          <p:cNvPicPr/>
          <p:nvPr/>
        </p:nvPicPr>
        <p:blipFill>
          <a:blip r:embed="rId1"/>
          <a:stretch/>
        </p:blipFill>
        <p:spPr>
          <a:xfrm>
            <a:off x="7020000" y="5715000"/>
            <a:ext cx="15127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5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5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5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5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2" descr="图片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3" descr="713426577"/>
          <p:cNvPicPr/>
          <p:nvPr/>
        </p:nvPicPr>
        <p:blipFill>
          <a:blip r:embed="rId2"/>
          <a:stretch/>
        </p:blipFill>
        <p:spPr>
          <a:xfrm>
            <a:off x="7380360" y="155736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Picture 4" descr="fi043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4" descr="bd23ee848b334eeebbe76c7060c50f6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Picture 4" descr="图片25"/>
          <p:cNvPicPr/>
          <p:nvPr/>
        </p:nvPicPr>
        <p:blipFill>
          <a:blip r:embed="rId1"/>
          <a:stretch/>
        </p:blipFill>
        <p:spPr>
          <a:xfrm>
            <a:off x="216000" y="115920"/>
            <a:ext cx="8820000" cy="66135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8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矩形 7"/>
          <p:cNvSpPr/>
          <p:nvPr/>
        </p:nvSpPr>
        <p:spPr>
          <a:xfrm>
            <a:off x="268200" y="60213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2" descr="ppt1290"/>
          <p:cNvPicPr/>
          <p:nvPr/>
        </p:nvPicPr>
        <p:blipFill>
          <a:blip r:embed="rId1"/>
          <a:stretch/>
        </p:blipFill>
        <p:spPr>
          <a:xfrm>
            <a:off x="0" y="15840"/>
            <a:ext cx="9144000" cy="6826320"/>
          </a:xfrm>
          <a:prstGeom prst="rect">
            <a:avLst/>
          </a:prstGeom>
          <a:ln w="0">
            <a:noFill/>
          </a:ln>
        </p:spPr>
      </p:pic>
      <p:sp>
        <p:nvSpPr>
          <p:cNvPr id="538" name="Text Box 3"/>
          <p:cNvSpPr/>
          <p:nvPr/>
        </p:nvSpPr>
        <p:spPr>
          <a:xfrm>
            <a:off x="-1167480" y="0"/>
            <a:ext cx="211212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落实基础，整体感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4"/>
          <p:cNvSpPr/>
          <p:nvPr/>
        </p:nvSpPr>
        <p:spPr>
          <a:xfrm>
            <a:off x="971640" y="260280"/>
            <a:ext cx="81723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芊芊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细草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 qi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ā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 qi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ā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草木茂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黛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色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 dài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青黑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磅礴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 páng bó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气势盛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贮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满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 zhù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储存满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积蓄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匍匐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 pú fú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爬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秋波</a:t>
            </a:r>
            <a:r>
              <a:rPr b="1" lang="zh-CN" sz="4400" spc="-1" strike="noStrike">
                <a:solidFill>
                  <a:srgbClr val="3333ff"/>
                </a:solidFill>
                <a:latin typeface="Arial"/>
              </a:rPr>
              <a:t>澹澹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dàn dàn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水波荡漾的样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作者对</a:t>
            </a:r>
            <a:r>
              <a:rPr b="1" lang="zh-CN" sz="6600" spc="-1" strike="noStrike">
                <a:solidFill>
                  <a:srgbClr val="ff0000"/>
                </a:solidFill>
                <a:latin typeface="黑体"/>
                <a:ea typeface="黑体"/>
              </a:rPr>
              <a:t>夏</a:t>
            </a:r>
            <a:r>
              <a:rPr b="1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季的总体</a:t>
            </a:r>
            <a:r>
              <a:rPr b="1" lang="zh-CN" sz="6600" spc="-1" strike="noStrike">
                <a:solidFill>
                  <a:srgbClr val="ff0000"/>
                </a:solidFill>
                <a:latin typeface="黑体"/>
                <a:ea typeface="黑体"/>
              </a:rPr>
              <a:t>感</a:t>
            </a:r>
            <a:r>
              <a:rPr b="1" lang="zh-CN" sz="6600" spc="-1" strike="noStrike">
                <a:solidFill>
                  <a:srgbClr val="000000"/>
                </a:solidFill>
                <a:latin typeface="黑体"/>
                <a:ea typeface="黑体"/>
              </a:rPr>
              <a:t>受是什么</a:t>
            </a:r>
            <a:r>
              <a:rPr b="1" lang="en-US" sz="66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用文中的话回答</a:t>
            </a: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835200" y="3761640"/>
            <a:ext cx="7401240" cy="113472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紧张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热烈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急促的旋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/>
          </p:nvPr>
        </p:nvSpPr>
        <p:spPr>
          <a:xfrm>
            <a:off x="-181440" y="259920"/>
            <a:ext cx="932508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作者通过哪几方面具体可感的事物叙说他对夏天的感受</a:t>
            </a:r>
            <a:r>
              <a:rPr b="1" lang="en-US" sz="60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11"/>
          <p:cNvSpPr/>
          <p:nvPr/>
        </p:nvSpPr>
        <p:spPr>
          <a:xfrm flipV="1">
            <a:off x="826920" y="9954360"/>
            <a:ext cx="7993080" cy="459000"/>
          </a:xfrm>
          <a:prstGeom prst="foldedCorner">
            <a:avLst>
              <a:gd name="adj" fmla="val 12500"/>
            </a:avLst>
          </a:prstGeom>
          <a:solidFill>
            <a:srgbClr val="ffcc00">
              <a:alpha val="7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Picture 14" descr="705779209"/>
          <p:cNvPicPr/>
          <p:nvPr/>
        </p:nvPicPr>
        <p:blipFill>
          <a:blip r:embed="rId1"/>
          <a:stretch/>
        </p:blipFill>
        <p:spPr>
          <a:xfrm>
            <a:off x="250920" y="3645000"/>
            <a:ext cx="21463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734080"/>
          </a:xfrm>
          <a:prstGeom prst="rect">
            <a:avLst/>
          </a:prstGeom>
          <a:solidFill>
            <a:srgbClr val="ffcc00">
              <a:alpha val="73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夏之景：    </a:t>
            </a:r>
            <a:br>
              <a:rPr sz="4000"/>
            </a:b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说说作者具体描写了夏天的哪些景物？</a:t>
            </a:r>
            <a:br>
              <a:rPr sz="5400"/>
            </a:br>
            <a:br>
              <a:rPr sz="5400"/>
            </a:b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   这些景象如何体现夏天紧张、热烈、急促的特点？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4"/>
          <p:cNvSpPr/>
          <p:nvPr/>
        </p:nvSpPr>
        <p:spPr>
          <a:xfrm>
            <a:off x="971640" y="5734080"/>
            <a:ext cx="7200720" cy="1123920"/>
          </a:xfrm>
          <a:custGeom>
            <a:avLst/>
            <a:gdLst>
              <a:gd name="textAreaLeft" fmla="*/ 1643760 w 7200720"/>
              <a:gd name="textAreaRight" fmla="*/ 5556960 w 7200720"/>
              <a:gd name="textAreaTop" fmla="*/ 256320 h 1123920"/>
              <a:gd name="textAreaBottom" fmla="*/ 867600 h 1123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比喻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（形象生动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为什么作者说夏天是金黄色的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3" descr="图片4"/>
          <p:cNvPicPr/>
          <p:nvPr/>
        </p:nvPicPr>
        <p:blipFill>
          <a:blip r:embed="rId1"/>
          <a:stretch/>
        </p:blipFill>
        <p:spPr>
          <a:xfrm>
            <a:off x="324000" y="1341360"/>
            <a:ext cx="3313080" cy="217512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4" descr="图片13"/>
          <p:cNvPicPr/>
          <p:nvPr/>
        </p:nvPicPr>
        <p:blipFill>
          <a:blip r:embed="rId2"/>
          <a:stretch/>
        </p:blipFill>
        <p:spPr>
          <a:xfrm>
            <a:off x="5076720" y="1268280"/>
            <a:ext cx="3384720" cy="230364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5" descr="图片12"/>
          <p:cNvPicPr/>
          <p:nvPr/>
        </p:nvPicPr>
        <p:blipFill>
          <a:blip r:embed="rId3"/>
          <a:stretch/>
        </p:blipFill>
        <p:spPr>
          <a:xfrm>
            <a:off x="250920" y="4076640"/>
            <a:ext cx="3492360" cy="2619360"/>
          </a:xfrm>
          <a:prstGeom prst="rect">
            <a:avLst/>
          </a:prstGeom>
          <a:ln w="0">
            <a:noFill/>
          </a:ln>
        </p:spPr>
      </p:pic>
      <p:sp>
        <p:nvSpPr>
          <p:cNvPr id="551" name="Text Box 7"/>
          <p:cNvSpPr/>
          <p:nvPr/>
        </p:nvSpPr>
        <p:spPr>
          <a:xfrm>
            <a:off x="3995640" y="1484280"/>
            <a:ext cx="100800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收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希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8"/>
          <p:cNvSpPr/>
          <p:nvPr/>
        </p:nvSpPr>
        <p:spPr>
          <a:xfrm>
            <a:off x="8101080" y="6237360"/>
            <a:ext cx="86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12" descr="20070806_2401995967942d29f7934uKSH2GUTBZ2"/>
          <p:cNvPicPr/>
          <p:nvPr/>
        </p:nvPicPr>
        <p:blipFill>
          <a:blip r:embed="rId4"/>
          <a:stretch/>
        </p:blipFill>
        <p:spPr>
          <a:xfrm>
            <a:off x="5292720" y="4365720"/>
            <a:ext cx="3024360" cy="2303280"/>
          </a:xfrm>
          <a:prstGeom prst="rect">
            <a:avLst/>
          </a:prstGeom>
          <a:ln w="0">
            <a:noFill/>
          </a:ln>
        </p:spPr>
      </p:pic>
      <p:sp>
        <p:nvSpPr>
          <p:cNvPr id="554" name="Text Box 13"/>
          <p:cNvSpPr/>
          <p:nvPr/>
        </p:nvSpPr>
        <p:spPr>
          <a:xfrm>
            <a:off x="0" y="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夏之色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5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AutoShape 2"/>
          <p:cNvSpPr/>
          <p:nvPr/>
        </p:nvSpPr>
        <p:spPr>
          <a:xfrm>
            <a:off x="2843280" y="1773360"/>
            <a:ext cx="2449440" cy="1511280"/>
          </a:xfrm>
          <a:prstGeom prst="flowChartAlternateProcess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农人的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动有哪些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AutoShape 3"/>
          <p:cNvSpPr/>
          <p:nvPr/>
        </p:nvSpPr>
        <p:spPr>
          <a:xfrm>
            <a:off x="0" y="3068640"/>
            <a:ext cx="2879640" cy="1873080"/>
          </a:xfrm>
          <a:prstGeom prst="flowChartDecision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半夜听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观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AutoShape 4"/>
          <p:cNvSpPr/>
          <p:nvPr/>
        </p:nvSpPr>
        <p:spPr>
          <a:xfrm>
            <a:off x="5904000" y="2924280"/>
            <a:ext cx="3240000" cy="1728720"/>
          </a:xfrm>
          <a:prstGeom prst="flowChartDecision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给秋苗追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浇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AutoShape 5"/>
          <p:cNvSpPr/>
          <p:nvPr/>
        </p:nvSpPr>
        <p:spPr>
          <a:xfrm>
            <a:off x="0" y="692280"/>
            <a:ext cx="2305080" cy="1584360"/>
          </a:xfrm>
          <a:prstGeom prst="flowChartDecision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割麦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AutoShape 6"/>
          <p:cNvSpPr/>
          <p:nvPr/>
        </p:nvSpPr>
        <p:spPr>
          <a:xfrm>
            <a:off x="6156360" y="404640"/>
            <a:ext cx="2016000" cy="1656000"/>
          </a:xfrm>
          <a:prstGeom prst="flowChartDecision">
            <a:avLst/>
          </a:prstGeom>
          <a:solidFill>
            <a:srgbClr val="ffcc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打麦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0" name="AutoShape 7"/>
          <p:cNvCxnSpPr>
            <a:stCxn id="555" idx="1"/>
            <a:endCxn id="558" idx="2"/>
          </p:cNvCxnSpPr>
          <p:nvPr/>
        </p:nvCxnSpPr>
        <p:spPr>
          <a:xfrm flipH="1" flipV="1">
            <a:off x="1151640" y="2290320"/>
            <a:ext cx="1691640" cy="239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1" name="AutoShape 8"/>
          <p:cNvCxnSpPr>
            <a:stCxn id="555" idx="2"/>
            <a:endCxn id="556" idx="3"/>
          </p:cNvCxnSpPr>
          <p:nvPr/>
        </p:nvCxnSpPr>
        <p:spPr>
          <a:xfrm flipH="1">
            <a:off x="2893320" y="3284640"/>
            <a:ext cx="1175400" cy="721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2" name="AutoShape 9"/>
          <p:cNvCxnSpPr>
            <a:stCxn id="555" idx="3"/>
            <a:endCxn id="557" idx="1"/>
          </p:cNvCxnSpPr>
          <p:nvPr/>
        </p:nvCxnSpPr>
        <p:spPr>
          <a:xfrm>
            <a:off x="5292720" y="2528640"/>
            <a:ext cx="597600" cy="126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3" name="AutoShape 10"/>
          <p:cNvCxnSpPr>
            <a:stCxn id="555" idx="0"/>
            <a:endCxn id="559" idx="1"/>
          </p:cNvCxnSpPr>
          <p:nvPr/>
        </p:nvCxnSpPr>
        <p:spPr>
          <a:xfrm flipV="1">
            <a:off x="4068360" y="1233000"/>
            <a:ext cx="2073960" cy="540720"/>
          </a:xfrm>
          <a:prstGeom prst="straightConnector1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4" name="AutoShape 11"/>
          <p:cNvSpPr/>
          <p:nvPr/>
        </p:nvSpPr>
        <p:spPr>
          <a:xfrm>
            <a:off x="0" y="5084640"/>
            <a:ext cx="9144000" cy="1368720"/>
          </a:xfrm>
          <a:prstGeom prst="horizontalScroll">
            <a:avLst>
              <a:gd name="adj" fmla="val 125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文中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快割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快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赶快去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等字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表现了农人劳动的什么特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14"/>
          <p:cNvSpPr/>
          <p:nvPr/>
        </p:nvSpPr>
        <p:spPr>
          <a:xfrm>
            <a:off x="3276720" y="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夏之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896472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宋体"/>
              </a:rPr>
              <a:t>    </a:t>
            </a:r>
            <a:r>
              <a:rPr b="1" lang="zh-CN" sz="4800" spc="-1" strike="noStrike">
                <a:solidFill>
                  <a:srgbClr val="000066"/>
                </a:solidFill>
                <a:latin typeface="宋体"/>
              </a:rPr>
              <a:t>在作者笔下，夏天是如此的热烈、紧张、急促，那么作者对夏天是什么样的感情呢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79280" y="2637000"/>
            <a:ext cx="8569440" cy="217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热爱，赞美夏天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赞美夏天里辛苦劳作的人们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0" dur="5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" dur="500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课堂小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-181080" y="112536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本文抓住夏天热烈、紧张、急促，收获已有而希望未尽的特点，描绘夏天金黄色的大地上暑气蒸腾、麦浪翻滚、万物蓬勃生长的景象，表达了对夏天的喜爱之情，深情赞美了辛勤劳作的农民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6T10:54:22Z</dcterms:created>
  <dc:creator>第一PPT模板网-WWW.1PPT.COM</dc:creator>
  <dc:description>第一PPT模板网-WWW.1PPT.COM
</dc:description>
  <cp:keywords>第一PPT模板网-WWW.1PPT.COM</cp:keywords>
  <dc:language>en-US</dc:language>
  <cp:lastModifiedBy>a</cp:lastModifiedBy>
  <dcterms:modified xsi:type="dcterms:W3CDTF">2015-03-17T06:21:39Z</dcterms:modified>
  <cp:revision>6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e0a000000000001024120</vt:lpwstr>
  </property>
</Properties>
</file>