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AD7-91BA-4796-8E3D-2C519109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65B-65DE-474E-B6C6-AAF93290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88B18-9827-4DE7-A17A-9B6F5BE7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7ECE2-5D7F-474F-97C2-BDB26806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AC9F0-9DD9-4294-BB55-54F93442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40AD3-1DB7-441A-9D39-B2C05B83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B2C34-364B-43B8-910D-27AC3A4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873EF-2705-41D6-9443-8682257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BF348-07AA-47BE-B727-B5C804DA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D9E05-EC8E-47DE-85CA-DC5CA037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33EA6-3ABA-400A-8625-08BA162D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CC576-B603-408C-89B0-BE08D1A3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1E7-E66F-4CAC-8782-C2B545CC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92322-A855-435B-B163-7A6CF50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52908-3DBA-47BF-90C4-D488E039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7CC51-C478-43D0-842A-0192B379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FABC6-C499-416E-A6A1-AA27976D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8FBF8-947E-4650-9986-72F80720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4F3D8-4D9F-4ECF-B7E3-4652D5D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6F09A-D606-411B-B7FF-D91CC4C5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00B36-2D2A-4373-9228-9181C7B2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9CBCB-02C7-47D4-8922-C3B77915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ADF19-B338-410C-BA2B-9BDC38DD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227-E70A-43F7-AACF-D9E7CAC9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6A84A-331D-4559-A57F-BDE784C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C8D86-019A-4C3D-AABD-0FD7C4B0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572E3-4BEA-4167-8B96-97D063E9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76E0B-1200-4D88-961F-DB8C0B0E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0CDD5-DE5B-4417-A146-17C644D4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4B4A8-A7CF-4156-AAEF-5A2088F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F225C-4DEF-4721-B2B6-1FF25A71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3FBAD-A833-4318-A8C7-E5FB9B6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A1F0F-5E87-42F4-A024-832455E8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C5451-2E43-4C2B-A993-53BFEFF1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A867-01B8-40BE-AB73-E71B2A0B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081B7-E130-473E-B29F-78582E55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88E82-10C5-4147-BAA4-0FA05D87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B1526-2B18-44B5-B667-38A5FD3B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9B3F7-2CA4-4192-B7BB-9CCF0ED4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6E791-3C99-463B-A0C5-909E9122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9B0BB-3345-4255-BDAB-7C3F569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56864-E810-48E3-9380-D9ED71E6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1979F-4176-44C3-ADDD-7B7EAA05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FB725-A39B-4CAB-8A04-BF63BD30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A479C-4BFC-43BE-93FE-25939F03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21DA-632B-4F30-9C73-F4301E1A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72960-20C9-4E06-BA2E-0F92F56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0B813-D84A-4D22-97D7-AE629D7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E9245-0226-45A1-9872-75F90F4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5FF0F-A112-4106-A91C-24A93AAE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8562A-6445-4651-95A4-8D446BC0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7A5CD-73F4-463D-9B3D-0CF02AC2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65350-4DAC-45C1-ACB0-C107DB4F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BD058-758A-4A23-B38B-61E06061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1D2E8-FA5D-4F70-AFF2-78C6DAA6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E2C64-6898-4E06-BFF7-F07A4A5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B1F7-8829-417F-9393-14A2A8F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7FA24-CA52-4318-AFBF-23F34EF0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B866B-F47F-46AC-9B7D-176A2241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D1F84-2230-46C3-A2C9-DF7770F9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DB3A8-2EDD-4696-86EF-F739E37B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C7E76-2E0A-4F44-89DE-CC8FB1FF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49EA5-8AF5-4B20-A083-88596FDD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75AE2-B1F0-411B-BE58-4C947E9A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25CF8-CED9-481E-BB4C-A40E02B1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46C88-856E-4179-BE14-498B34B7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09A8A-BE22-44BB-ADB9-F4CACBBB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FAB7-81FB-4989-B411-2D685B4F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83816-1145-4D70-83DF-C8C788A6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B630B-DB95-4265-8F60-EECA4D3F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48CA7-1409-4266-8EF5-BAF48DE3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9C6ED-1703-4C80-B2C5-D6C9C75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98B37-2F41-43A4-A47F-F4013BF8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FF717-4061-4BF5-AED2-52E9D499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1D10F-FF55-44AB-BF78-A05EB797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501F1-4903-4B1E-A865-A9235464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E8554-CA0A-45F4-B095-997AF712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95E8-F9FE-420B-B6F6-4727539F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DC83-F1E9-44FD-80A1-4C659329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66BF-3802-40DE-89EF-4693963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02B-7B96-436E-84B0-5EF1C70B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22D-2554-41B6-930F-C1ACA68A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64A4-C201-4448-8E72-5CE2678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E5FD-92A0-4123-9902-C8D820F6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D49E-6266-48EA-8509-43EA1B4E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10C6-0D8C-4579-A4B2-C25F074C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C4E8-6F6F-44C7-B8B0-8F2E7282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450B-D0E5-4E43-887C-6FB734C3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3FC91-04B2-4FD7-AC64-FF19C879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3FB7-8226-488C-9CA6-705B0B00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B083-616F-40DF-ADA4-36EAE7F7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A0D-2C77-4F18-8BFF-571D208B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7346-CB9B-47B8-9DF2-C014A2A6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09DF-90DA-410C-ADD2-74C01A9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10D4-4500-4F9E-B205-FB2AB28E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FEB7-D421-488D-A1F6-239C5125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57C3-040D-4B47-B3E8-7B9C11A4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CAD3-3435-40A6-9CE2-D91F9DC2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0CF4-0838-47C1-B07E-F0E0E7AD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FC84-2299-4D80-B61D-75E72A29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154D-80FA-4AE9-AD32-36E32DE1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5A1F-9EFC-481B-8DBD-D1F1BEE2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4EE-6FB4-4047-A66E-2A42129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E3F5-2503-4D0B-AE4C-D4ED1971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6E8A3-DA81-4820-8EB6-66B1928D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AB775-9C7B-4D3C-AD4D-5ABF2A3D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B3FF-C7E9-4E63-9EA5-5FA3E92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C257-E458-49AB-B981-26AC2461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26584-C9F9-44BF-A419-383F9476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84AE-5E26-4137-A069-7CA5C3E8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491C-4B29-4F85-8C0C-B0B420F1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23864-35F0-43F3-92FE-BF331E7A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1C5D4-8444-4F9D-91CC-ABD98018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8D3-B1B9-43C7-8522-4FB84BEF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B2A27-34F1-4237-9509-EC7CEB8B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F0210-02FE-4B50-8FA5-6D1C24CD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3AC9-595A-430D-8D6C-A4506E36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7161F-F52C-4E42-992A-F9013C18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73EF9-6714-4065-ADF6-C4261089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6BF8E-40D5-4E66-8B14-068A4C3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5907-7A09-47F4-9703-E5C6B6A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0DEBC-1CA4-4856-ACAF-D1466E9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3422-4430-49FE-B13B-A926AEC7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F8A9-9E20-4D79-A7AC-2B876C34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486-DDC0-4124-9B69-7CBB710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6866A-BAEC-4647-82AB-1D6B079B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54A74-7290-4905-AEC9-E2C2D272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0DFD-70C0-415C-8D43-B2988D5C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F7C52-AA78-48A5-9505-6AA23122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97432-47CF-4B08-8901-7E927B4C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04CA-97D0-48F8-804E-978287DA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97135-5949-405A-A0EE-4B387C44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B5FB0-5823-40F6-9A9A-C551922A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D6774-14C3-4DEC-ABC0-30C7B932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31889-261C-4ED9-880F-E628EE2D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B50-4E12-429E-8F85-D6169AD2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FA78A-D793-4386-85C6-7EDA271E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1B8B-3A08-4803-9A6E-A4F2161B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5C888-A07C-4F6C-B47B-0AD05024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549D-CBD4-4A09-8961-3E410DCB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DBD73-2988-4E35-A368-B33BD198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0BC9F-8869-49A3-8EC4-BA7DAACE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6D1F-B0B4-430B-9537-656F8957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74E7B-70F5-4BDF-8901-66958F31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747B-A614-4B3B-9E27-19612138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2C9B-94F5-4F39-9410-4FE9A87D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1E3-5057-4978-9CA4-1E0E7B01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9B6FC-40A8-46C5-AA16-FAF48B0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E1229-37A3-486D-9D99-7E02C57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DC5A-2645-4326-B8FC-12CBD09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7797-E942-43D4-9AF4-8BE471AA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DCA68-D252-4387-AF69-FE00A3D2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6DAE2-8A27-4663-8E44-92BEB332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F018C-1BD5-4AEE-9B59-AAA26AA4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03844-2274-4DB4-B1FB-88146F83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0875-741A-4239-9F10-A964F7A7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2892F-9D05-4600-BF7C-8A190581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E18-7252-4F4F-B4B0-45B9C65B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4AC06-2132-4D1D-A6DC-6999C16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7742B-581E-4514-9E02-64F6448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EABC8-E403-44D9-874C-4A7FF6DB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9F84C-9252-4B96-B38F-7B94CAD6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9B761-BB8C-402F-9A3A-0006CA35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6075C-C0B7-4E60-89E1-5747A12B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43449-1A21-4A03-A8F5-A5416E5C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2BDF3-6F3C-43FD-A15D-209DB7CF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CF6D4-8EAC-4E14-ADF4-C382B0EB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B7762-A513-4501-9544-B8B50320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A071-75B2-4380-8B17-F40473C96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3543-3858-4C33-84B5-916A58B672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1A7E-081E-4855-858B-77FB01D04E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6E7E-D09C-4FF4-9EA0-54CF1F96D5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B6F3-B9AA-478D-9AF9-166E731CB8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0E50-4397-4998-80A8-1BCE4EE7E7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631-09E7-46E8-A539-D7FEB2BD86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9F1E-BA04-4FF5-8E3F-9AB8D78114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11A4-2DC8-4EC9-87C2-E3C51DEB8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7FDE-257D-4A61-B7AE-204F7C944A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72F4-6169-440D-9674-2E93DB102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9FC6-302A-4C2D-8567-3B90EDE70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F499-E636-494D-97D1-EB0D78C1F0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96B6-16AC-4498-88C7-1CEA372E6B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E88A-1E06-48DA-B15E-35865151E7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9D2C-A016-4613-A9C2-9EEA32410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0665-8984-4320-9265-AAE3A9A38A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0D3A-DFDF-462D-8AFD-28472BD62E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FA4-4775-498C-ADAD-0CEE16BEF3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50FC-F784-47F8-A4B9-D8360FBEA1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E9AA-15CE-4C83-A897-556941D8D5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2D0C-296B-4D79-96B6-E5530D3422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90C3-80B5-482E-B31D-DB55132D76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A842-830B-4DB4-851F-841C5AD6BB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AB13-B0F3-4A7D-A932-034A249AD0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A48A-A521-4E6E-8EC3-5A49E272E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pic_253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77" name="WordArt 3"/>
          <p:cNvSpPr txBox="1"/>
          <p:nvPr/>
        </p:nvSpPr>
        <p:spPr>
          <a:xfrm>
            <a:off x="26668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伙伴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20051126224752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qiu"/>
          <p:cNvPicPr/>
          <p:nvPr/>
        </p:nvPicPr>
        <p:blipFill>
          <a:blip r:embed="rId2"/>
          <a:stretch/>
        </p:blipFill>
        <p:spPr>
          <a:xfrm>
            <a:off x="939960" y="2108160"/>
            <a:ext cx="1358640" cy="13334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maozi"/>
          <p:cNvPicPr/>
          <p:nvPr/>
        </p:nvPicPr>
        <p:blipFill>
          <a:blip r:embed="rId3"/>
          <a:stretch/>
        </p:blipFill>
        <p:spPr>
          <a:xfrm>
            <a:off x="609480" y="168264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qiu"/>
          <p:cNvPicPr/>
          <p:nvPr/>
        </p:nvPicPr>
        <p:blipFill>
          <a:blip r:embed="rId4"/>
          <a:stretch/>
        </p:blipFill>
        <p:spPr>
          <a:xfrm>
            <a:off x="2679840" y="2101680"/>
            <a:ext cx="1358640" cy="1333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maozi"/>
          <p:cNvPicPr/>
          <p:nvPr/>
        </p:nvPicPr>
        <p:blipFill>
          <a:blip r:embed="rId5"/>
          <a:stretch/>
        </p:blipFill>
        <p:spPr>
          <a:xfrm>
            <a:off x="2298600" y="167652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qiu"/>
          <p:cNvPicPr/>
          <p:nvPr/>
        </p:nvPicPr>
        <p:blipFill>
          <a:blip r:embed="rId6"/>
          <a:stretch/>
        </p:blipFill>
        <p:spPr>
          <a:xfrm>
            <a:off x="4432320" y="2101680"/>
            <a:ext cx="1359000" cy="1333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maozi"/>
          <p:cNvPicPr/>
          <p:nvPr/>
        </p:nvPicPr>
        <p:blipFill>
          <a:blip r:embed="rId7"/>
          <a:stretch/>
        </p:blipFill>
        <p:spPr>
          <a:xfrm>
            <a:off x="4051440" y="1676520"/>
            <a:ext cx="1600200" cy="10350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9"/>
          <p:cNvSpPr/>
          <p:nvPr/>
        </p:nvSpPr>
        <p:spPr>
          <a:xfrm>
            <a:off x="1066680" y="22986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2895480" y="2298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4803840" y="2282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1060560" y="17334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2590920" y="1765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u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4650120" y="176544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838080" y="1905120"/>
            <a:ext cx="78487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cān    diū    k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g  zāo    gāo      c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餐 丢 矿 糟 糕 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i     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ò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g   q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j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bǎo    gu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概 共 汽 记 保 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ji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夹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3"/>
          <p:cNvSpPr/>
          <p:nvPr/>
        </p:nvSpPr>
        <p:spPr>
          <a:xfrm>
            <a:off x="2133720" y="685800"/>
            <a:ext cx="335268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514600" y="6094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谁最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hua"/>
          <p:cNvPicPr/>
          <p:nvPr/>
        </p:nvPicPr>
        <p:blipFill>
          <a:blip r:embed="rId2"/>
          <a:stretch/>
        </p:blipFill>
        <p:spPr>
          <a:xfrm>
            <a:off x="6172200" y="5049720"/>
            <a:ext cx="274320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 flipH="1" rot="10836600">
            <a:off x="2513520" y="2437920"/>
            <a:ext cx="6324480" cy="2971440"/>
          </a:xfrm>
          <a:prstGeom prst="wedgeEllipseCallout">
            <a:avLst>
              <a:gd name="adj1" fmla="val -51449"/>
              <a:gd name="adj2" fmla="val 56245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3955320" y="2666880"/>
            <a:ext cx="3801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把背包丢了</a:t>
            </a:r>
            <a:r>
              <a:rPr b="1" lang="en-US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里面装着面包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矿泉水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······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1218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281240" y="4149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维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3124080" y="2514600"/>
            <a:ext cx="57913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真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糕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！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回家还有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长时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呢！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/>
          <p:cNvSpPr/>
          <p:nvPr/>
        </p:nvSpPr>
        <p:spPr>
          <a:xfrm flipH="1" rot="10836600">
            <a:off x="2893320" y="2438280"/>
            <a:ext cx="6018120" cy="2895840"/>
          </a:xfrm>
          <a:prstGeom prst="wedgeEllipseCallout">
            <a:avLst>
              <a:gd name="adj1" fmla="val -52504"/>
              <a:gd name="adj2" fmla="val 64472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12225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 flipH="1">
            <a:off x="834480" y="184644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概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丢在公共汽车上，忘记拿了。以后可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保管好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己的东西。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7365600" y="4191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安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2"/>
          <a:stretch/>
        </p:blipFill>
        <p:spPr>
          <a:xfrm>
            <a:off x="7620120" y="457200"/>
            <a:ext cx="1209600" cy="25480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763400">
            <a:off x="380520" y="1218960"/>
            <a:ext cx="6705720" cy="4876560"/>
          </a:xfrm>
          <a:prstGeom prst="wedgeEllipseCallout">
            <a:avLst>
              <a:gd name="adj1" fmla="val -58824"/>
              <a:gd name="adj2" fmla="val 50523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做游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WordArt 3"/>
          <p:cNvSpPr txBox="1"/>
          <p:nvPr/>
        </p:nvSpPr>
        <p:spPr>
          <a:xfrm>
            <a:off x="1828800" y="838080"/>
            <a:ext cx="6019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大家！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0" name="WordArt 4"/>
          <p:cNvSpPr txBox="1"/>
          <p:nvPr/>
        </p:nvSpPr>
        <p:spPr>
          <a:xfrm>
            <a:off x="2819520" y="3581280"/>
            <a:ext cx="38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！</a:t>
            </a:r>
            <a:endParaRPr b="1" lang="en-US" sz="1800" spc="1" strike="noStrike">
              <a:ln w="19080">
                <a:solidFill>
                  <a:srgbClr val="cc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4:55:45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23:06Z</dcterms:modified>
  <cp:revision>4</cp:revision>
  <dc:subject/>
  <dc:title>第一PPT模板网-WWW.1PPT.COM</dc:title>
</cp:coreProperties>
</file>