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1B37-DC9F-4B9A-98B0-1F684A48CD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2DC7-93ED-4DE3-A883-D89024DA57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1E6-D914-45C1-8133-6E9B75BD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E0-D95B-42F8-940C-627922A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CDB7F-B5CF-49CE-A6E3-8E5D1F1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561B-A3AE-4781-94BD-83C4D041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480B8-3B0A-49AB-BDEE-99B9B0E9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F9B66-F076-4356-9982-F90A809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B943-1F72-4DE4-B79F-9BAD008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A4BB6-8A2C-404B-90BC-BE0D23B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9579-13A6-476A-83BF-D84C1C34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2E8B-2DDA-47F7-BCC8-03AFF7FB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D54B4-8617-43AF-AB22-4FE0AE7A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224D4-F290-4C7A-ACB8-6D495FBE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1ED-BE3A-4249-8D19-BBFC02FB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4829F-549F-463F-B8B8-6ABBFE75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CB39E-417A-46B6-AB89-F4A563B6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8EB61-01BD-481D-BF98-BD0074C6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1E77B-184C-4415-9334-FE439D6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D3900-E4B5-4584-8BCA-A395F7F4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8D35-F488-49AA-92F4-4B376F2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745F5-747B-43EE-8BAF-A22F73C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A9F76-3B26-4C3B-A179-595462E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9AEAE-735E-4A14-8996-415790E2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F2008-95CA-4233-A0DB-24C6E51A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6D0-F8AD-448F-9308-68C46AC9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B36B5-B6E1-4A3C-94DE-07A30F5B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934FF-769C-452C-8608-749B3CC1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CA6D8-F6D9-4B9D-958A-8B792D30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69AD0-CC24-4CBD-99CE-549BE58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BA5FC-AECF-474C-9D3B-EC787AD4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CCB87-D176-4B05-AE17-F6FE09BB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FBC7C-9A1A-4DE0-9D46-3770FC3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E7076-5D77-4B92-A47F-45E5C93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D23F5-1EE4-4EBC-AD9D-F303078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14E3E-30A0-4966-A02F-ED36CCBA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E694-3CEB-42FF-9538-A411B2E9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F20A8-FD98-4A4B-A4DA-7C9BF01C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F91A7-AE9D-41B6-BFF0-74CB16DA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DAA3E-3600-46DF-8C7A-EB0D504C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A6D21-CAE3-4E0C-9D61-1B0CD816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A5F47-B17C-467B-A80D-B394137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A77CD-0B61-4517-9A30-1B6B079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C0FE7-370B-456C-A9AD-48649BE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32C51-4AE2-4CEB-96F8-5050964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B9858-D684-4842-B886-62B6AB5E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4408C-8AA5-41A4-B001-75EE17E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335-2564-49C1-A9E3-B3BEE601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285B2-A73F-41C6-858E-36FBC10A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CAD1E-D1AD-4675-94F0-43C95081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AAFD9-633B-4F8C-B70A-7929946E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E268D-F528-4DA5-818D-926E7CBB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000A-FD06-4446-8F32-192E3CC1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8F01F-CE05-4926-83B7-DCCCE835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8F4AA-42B8-4956-80B6-4951E84F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7EE33-FF2C-4642-B147-357C840A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45007-535A-4CB4-ADA2-8837E887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FB861-2D89-4AB1-B4E4-D294C4FA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3A86-FBB1-4A02-9D1D-6F76517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02760-8438-4B1E-8A53-A4673098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E46AB-F7F9-462B-A277-5CC32D3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74D1C-6E60-41E4-AEBC-38C78938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9DF3D-6B58-44DB-A63F-E6C6CE2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E6CA9-0F38-4EEB-8B50-696A7873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039A9-5CCC-45A4-BA3B-9877CCA2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7DFB9-5EF2-4E3F-B4B4-EBFBEBA0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F4D0-BE33-4C0D-9A82-84DFAC36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E8A-7047-4FE3-B8CF-F4BF705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6060-5909-41E0-825D-77CBAE59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F9E-31DA-4A3A-9061-AC0102A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D84-8A04-4DD1-812C-6A151AF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D7A-968E-45DB-919C-09245F0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E2C-76D6-442E-93D4-60ECD26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3AC2-C607-4999-A751-7E52F55C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BE3-41FA-4569-B08A-FCD51475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15F5-AA0D-4A2F-82FB-DDA50A04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9C3D-0E6A-4B5A-B6AE-41100A56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18AD-50B1-4ABC-BA40-A07E6F47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C08B-C4FA-4CD7-BD0A-16FE642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0565-ABC3-4BB8-880A-BDBA710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9AF3-7120-4E94-B191-F430CC6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15F-529C-492C-8067-2BE5C33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F82E1-A904-46D0-B362-BBEB1CFF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6583-E4E5-4F88-A6F9-48541BA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3F48-E22F-4789-8A85-06E16898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EB98-404E-4B56-9505-833171E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ADA91-004B-43BD-A7F8-301A36E1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944F-9CE1-431C-9F53-C5E2C9C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23ED-DBBC-4934-AEA4-8014C821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46C7B-0CEC-415B-9604-3567BDC6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03867-7A8F-4522-B9CB-E297AAEF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E498-89AD-4CFC-8BB9-B7910E3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21F-61D6-487D-9112-70022296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4D32-DA8C-4C89-AB79-29D23A3A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7B06B-F935-42BA-8753-F423331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6F7D-BA3A-4600-B79B-1F9A0DC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075F-AA16-4F5B-A105-9687FD0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5368-840A-4E0E-A40A-054443E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4C0A-ACE7-4E37-A4BB-F9F0114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65E4-94FE-43C1-A6A4-5F3A200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0D71-0889-431E-8F59-9B6FCEA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443C-B346-4E0C-8F1D-78BA4CA3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1418-C368-4600-AD41-3A7C6E32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4CD-4B41-4A69-9801-6BDA3B1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C69A8-59AD-4713-872E-BFB248E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AF444-26D6-46EA-AEE0-8FABCBC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8E82-5A85-4D21-8E17-429DD28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BCBDA-3C5C-42C1-AFB8-D04543A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416C-FE18-4533-BCEF-27913B43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AA82-9CA8-4625-9BAF-ED03F65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164C9-65BB-482F-9634-D7FDD426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E892B-59C2-4F99-B35D-551D2673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60F2-8561-47EA-8A93-56601DD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91EB-AC44-4EB6-8D20-43E5D60A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395-4D07-42E0-AAE2-FBCF5E49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782E-CF44-45AB-B599-8D8FB712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240C-602A-4A9F-88DF-DAD61AE7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1DAA-472E-418E-A383-3EA1413E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B0730-2262-4CD0-A089-6232B7D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1DF9-E1E1-4AE5-BFE0-33BD675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93F0-E3A8-4048-946D-CE4F0CDE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F001E-3785-4608-9C21-E0E4D6C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EAAF1-F8AD-4E9F-926A-75BFAA4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19CC5-1521-4E9A-9571-51A02DA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87A1-E734-45C8-B323-0794485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0BD-C2BF-4024-9136-381CB6D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7B86-53FD-4632-8CA2-011A1BC5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7578-18BF-4BCD-896F-81BA3640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0D71-7B75-4BB2-AAF6-1BAFB328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94E7-3A81-4BA5-B089-95A62904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3551-EB22-4D32-93B2-5044D18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D58A-E1F7-43FD-BE6E-6A0D7101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F6BB-D75A-4065-99D1-F3D4D6D5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3AF52-4523-4569-B8BC-1537DDE6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58F4-F15B-48FE-B3FE-12E0B33C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6EDB2-F3D9-4918-BFAF-87C5CB1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EC3-9DE0-4747-9A5D-2089D6E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B3928-B048-4491-B372-6711A96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3B375-F4B5-48CC-A1F8-A7ED478F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749B1-1764-461A-B8A5-9E60E82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A6EAE-18C3-4252-9CBF-24C3EC6B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054A-39F8-4F0C-ADF7-D304DC0F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C674-6E20-4E98-AACF-12073E40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4C65-E0B1-4CB1-85B7-52C4ABB1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11F7-4796-4A6D-A9FB-1678DB1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93AD6-524B-41AC-B2C1-3B25C63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C020F-CEBC-429A-B9BE-146246EF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BEA-C81F-492C-AB2C-2F0A49F4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766F-F8E5-4789-9C4C-CF114C4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F7345-01D9-4FB5-87FA-9DE8DE4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FF8D-801A-4388-967B-0D316439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050C-5831-4537-BAF5-DB81270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A242-6D86-41E1-A8D1-C06709E7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9B86-07E8-4B4E-9814-731D9DC1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89E2D-D54E-46E2-9C71-E687B959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EF21A-CEB6-43D0-8CDA-91137F5B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33FAE-336B-48F0-871B-FAC0446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ED50B-507B-44FF-83C1-18C155F4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339-5E96-4269-9293-2C6DB5328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CFE6-613E-4579-9583-27A4908980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69DB-09EA-45B5-888A-51C95AF832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6A15-0EC6-431D-93DE-6000A38A46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21D-DA49-4B3C-B76E-BB041CD85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51E7-B6BE-4642-A37B-530A0A8BFA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8806-181A-47B3-ADF3-5AE1A12C3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E23-1C9C-48A7-BC5D-56006BA373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4BB-1A53-45A7-A45E-9CD7233E3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DB46-BB2B-480C-A14F-A11C550DC8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990-1117-4548-A5B6-E0C220D30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2D3B-AD63-4AF4-AFB1-DA6DBB6365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5256-8C83-4C06-82B8-8B73AA484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C47-B824-48DC-9799-ECE940DAC0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9CB-927F-4F58-A85F-882029E91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2B15-D156-4FF9-B37B-828B9B4322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852C-A25B-4538-9F69-817567C4E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7CF-58A9-4034-8AA5-92355AAD31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92C-D0A0-4FA1-9EFC-75B0C6FAB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F1B-9BE7-4465-A9B5-15A2AF955E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130-89B1-444D-B3F3-0F2CE38AC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E41-63A2-4CC8-91E6-888E5F1CEC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2B5-CED9-4EAC-9A83-A21C86355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2CCB-2FEC-4C6C-A1EF-F08A568AD3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1112-E6F8-4ADF-814A-30BCFBC14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4"/>
          <p:cNvSpPr txBox="1"/>
          <p:nvPr/>
        </p:nvSpPr>
        <p:spPr>
          <a:xfrm>
            <a:off x="755640" y="1628640"/>
            <a:ext cx="7777080" cy="18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小数除以整数</a:t>
            </a:r>
            <a:endParaRPr b="1" lang="en-US" sz="1800" spc="1" strike="noStrike">
              <a:ln w="0">
                <a:noFill/>
              </a:ln>
              <a:solidFill>
                <a:srgbClr val="ff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6"/>
          <p:cNvSpPr/>
          <p:nvPr/>
        </p:nvSpPr>
        <p:spPr>
          <a:xfrm>
            <a:off x="52196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611280" y="549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王坚持晨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计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跑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.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均每周应跑多少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763640" y="2205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2.4÷4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6"/>
          <p:cNvGrpSpPr/>
          <p:nvPr/>
        </p:nvGrpSpPr>
        <p:grpSpPr>
          <a:xfrm>
            <a:off x="738720" y="1341360"/>
            <a:ext cx="2247120" cy="714960"/>
            <a:chOff x="738720" y="1341360"/>
            <a:chExt cx="2247120" cy="714960"/>
          </a:xfrm>
        </p:grpSpPr>
        <p:sp>
          <p:nvSpPr>
            <p:cNvPr id="545" name="Line 4"/>
            <p:cNvSpPr/>
            <p:nvPr/>
          </p:nvSpPr>
          <p:spPr>
            <a:xfrm>
              <a:off x="1143720" y="1341360"/>
              <a:ext cx="184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rc 5"/>
            <p:cNvSpPr/>
            <p:nvPr/>
          </p:nvSpPr>
          <p:spPr>
            <a:xfrm flipH="1" rot="9276600">
              <a:off x="826200" y="1485000"/>
              <a:ext cx="42120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"/>
          <p:cNvSpPr/>
          <p:nvPr/>
        </p:nvSpPr>
        <p:spPr>
          <a:xfrm>
            <a:off x="1116000" y="1413000"/>
            <a:ext cx="18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395280" y="134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405080" y="65088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1116000" y="1989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1144440" y="2637000"/>
            <a:ext cx="1841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474920" y="2781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5"/>
          <p:cNvSpPr/>
          <p:nvPr/>
        </p:nvSpPr>
        <p:spPr>
          <a:xfrm>
            <a:off x="1835280" y="112536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6"/>
          <p:cNvSpPr/>
          <p:nvPr/>
        </p:nvSpPr>
        <p:spPr>
          <a:xfrm>
            <a:off x="1981080" y="62064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476360" y="33577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1476360" y="4076640"/>
            <a:ext cx="14810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1979640" y="422100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4"/>
          <p:cNvSpPr/>
          <p:nvPr/>
        </p:nvSpPr>
        <p:spPr>
          <a:xfrm>
            <a:off x="5513040" y="15048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按照整数除法的法则去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5"/>
          <p:cNvSpPr/>
          <p:nvPr/>
        </p:nvSpPr>
        <p:spPr>
          <a:xfrm>
            <a:off x="5328720" y="2565360"/>
            <a:ext cx="90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商的小数点要和被除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数点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3492360" y="37069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面不用写小数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11280" y="54936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王坚持晨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计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跑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.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均每周应跑多少千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1763640" y="220500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22.4÷4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4572000" y="220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5.6(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千米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1692360" y="39337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每周应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14"/>
          <p:cNvGrpSpPr/>
          <p:nvPr/>
        </p:nvGrpSpPr>
        <p:grpSpPr>
          <a:xfrm>
            <a:off x="381960" y="2379600"/>
            <a:ext cx="1886040" cy="659880"/>
            <a:chOff x="381960" y="2379600"/>
            <a:chExt cx="1886040" cy="659880"/>
          </a:xfrm>
        </p:grpSpPr>
        <p:sp>
          <p:nvSpPr>
            <p:cNvPr id="566" name="Line 15"/>
            <p:cNvSpPr/>
            <p:nvPr/>
          </p:nvSpPr>
          <p:spPr>
            <a:xfrm>
              <a:off x="730800" y="2379600"/>
              <a:ext cx="15372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rc 16"/>
            <p:cNvSpPr/>
            <p:nvPr/>
          </p:nvSpPr>
          <p:spPr>
            <a:xfrm flipH="1" rot="9276600">
              <a:off x="465840" y="2513880"/>
              <a:ext cx="351360" cy="473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Rectangle 17"/>
          <p:cNvSpPr/>
          <p:nvPr/>
        </p:nvSpPr>
        <p:spPr>
          <a:xfrm>
            <a:off x="755640" y="2409840"/>
            <a:ext cx="18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4920" y="17319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754200" y="16477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755640" y="29862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 flipV="1">
            <a:off x="784080" y="3603600"/>
            <a:ext cx="1484280" cy="3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1330200" y="353052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3"/>
          <p:cNvSpPr/>
          <p:nvPr/>
        </p:nvSpPr>
        <p:spPr>
          <a:xfrm>
            <a:off x="1185840" y="2122560"/>
            <a:ext cx="14436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1401840" y="16178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1330200" y="41068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6"/>
          <p:cNvSpPr/>
          <p:nvPr/>
        </p:nvSpPr>
        <p:spPr>
          <a:xfrm flipH="1">
            <a:off x="1044360" y="4869000"/>
            <a:ext cx="1223640" cy="237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7"/>
          <p:cNvSpPr/>
          <p:nvPr/>
        </p:nvSpPr>
        <p:spPr>
          <a:xfrm>
            <a:off x="1332000" y="47563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29"/>
          <p:cNvGrpSpPr/>
          <p:nvPr/>
        </p:nvGrpSpPr>
        <p:grpSpPr>
          <a:xfrm>
            <a:off x="3043800" y="2266920"/>
            <a:ext cx="2247120" cy="714960"/>
            <a:chOff x="3043800" y="2266920"/>
            <a:chExt cx="2247120" cy="714960"/>
          </a:xfrm>
        </p:grpSpPr>
        <p:sp>
          <p:nvSpPr>
            <p:cNvPr id="580" name="Line 30"/>
            <p:cNvSpPr/>
            <p:nvPr/>
          </p:nvSpPr>
          <p:spPr>
            <a:xfrm>
              <a:off x="3448800" y="2266920"/>
              <a:ext cx="184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rc 31"/>
            <p:cNvSpPr/>
            <p:nvPr/>
          </p:nvSpPr>
          <p:spPr>
            <a:xfrm flipH="1" rot="9276600">
              <a:off x="3131280" y="2410560"/>
              <a:ext cx="42120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32"/>
          <p:cNvSpPr/>
          <p:nvPr/>
        </p:nvSpPr>
        <p:spPr>
          <a:xfrm>
            <a:off x="3421080" y="23385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.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2556000" y="23097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3708360" y="161928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3421080" y="29145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6"/>
          <p:cNvSpPr/>
          <p:nvPr/>
        </p:nvSpPr>
        <p:spPr>
          <a:xfrm>
            <a:off x="3449520" y="3562200"/>
            <a:ext cx="1841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7"/>
          <p:cNvSpPr/>
          <p:nvPr/>
        </p:nvSpPr>
        <p:spPr>
          <a:xfrm>
            <a:off x="3851280" y="34592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40360" y="2050920"/>
            <a:ext cx="144360" cy="1447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9"/>
          <p:cNvSpPr/>
          <p:nvPr/>
        </p:nvSpPr>
        <p:spPr>
          <a:xfrm>
            <a:off x="4140360" y="4035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0"/>
          <p:cNvSpPr/>
          <p:nvPr/>
        </p:nvSpPr>
        <p:spPr>
          <a:xfrm flipV="1">
            <a:off x="3924360" y="4754160"/>
            <a:ext cx="133812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1"/>
          <p:cNvSpPr/>
          <p:nvPr/>
        </p:nvSpPr>
        <p:spPr>
          <a:xfrm>
            <a:off x="4429080" y="47545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3"/>
          <p:cNvSpPr/>
          <p:nvPr/>
        </p:nvSpPr>
        <p:spPr>
          <a:xfrm>
            <a:off x="4211640" y="16192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4"/>
          <p:cNvGrpSpPr/>
          <p:nvPr/>
        </p:nvGrpSpPr>
        <p:grpSpPr>
          <a:xfrm>
            <a:off x="5996520" y="2306520"/>
            <a:ext cx="2247120" cy="714960"/>
            <a:chOff x="5996520" y="2306520"/>
            <a:chExt cx="2247120" cy="714960"/>
          </a:xfrm>
        </p:grpSpPr>
        <p:sp>
          <p:nvSpPr>
            <p:cNvPr id="594" name="Line 45"/>
            <p:cNvSpPr/>
            <p:nvPr/>
          </p:nvSpPr>
          <p:spPr>
            <a:xfrm>
              <a:off x="6401520" y="2306520"/>
              <a:ext cx="1842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rc 46"/>
            <p:cNvSpPr/>
            <p:nvPr/>
          </p:nvSpPr>
          <p:spPr>
            <a:xfrm flipH="1" rot="9276600">
              <a:off x="6084000" y="2450160"/>
              <a:ext cx="42120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Text Box 47"/>
          <p:cNvSpPr/>
          <p:nvPr/>
        </p:nvSpPr>
        <p:spPr>
          <a:xfrm>
            <a:off x="6661080" y="165888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8"/>
          <p:cNvSpPr/>
          <p:nvPr/>
        </p:nvSpPr>
        <p:spPr>
          <a:xfrm>
            <a:off x="6373800" y="29541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9"/>
          <p:cNvSpPr/>
          <p:nvPr/>
        </p:nvSpPr>
        <p:spPr>
          <a:xfrm>
            <a:off x="6402240" y="3602160"/>
            <a:ext cx="18417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0"/>
          <p:cNvSpPr/>
          <p:nvPr/>
        </p:nvSpPr>
        <p:spPr>
          <a:xfrm>
            <a:off x="6516720" y="35305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1"/>
          <p:cNvSpPr/>
          <p:nvPr/>
        </p:nvSpPr>
        <p:spPr>
          <a:xfrm>
            <a:off x="7093080" y="2090880"/>
            <a:ext cx="14436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2"/>
          <p:cNvSpPr/>
          <p:nvPr/>
        </p:nvSpPr>
        <p:spPr>
          <a:xfrm>
            <a:off x="6877080" y="4035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3"/>
          <p:cNvSpPr/>
          <p:nvPr/>
        </p:nvSpPr>
        <p:spPr>
          <a:xfrm flipV="1">
            <a:off x="6877080" y="4756320"/>
            <a:ext cx="133812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4"/>
          <p:cNvSpPr/>
          <p:nvPr/>
        </p:nvSpPr>
        <p:spPr>
          <a:xfrm>
            <a:off x="7164360" y="16588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6445080" y="230652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9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7"/>
          <p:cNvSpPr/>
          <p:nvPr/>
        </p:nvSpPr>
        <p:spPr>
          <a:xfrm>
            <a:off x="5796000" y="23065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7381800" y="482760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0"/>
          <p:cNvSpPr/>
          <p:nvPr/>
        </p:nvSpPr>
        <p:spPr>
          <a:xfrm>
            <a:off x="140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竖式的商点上小数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1"/>
          <p:cNvSpPr/>
          <p:nvPr/>
        </p:nvSpPr>
        <p:spPr>
          <a:xfrm>
            <a:off x="1332000" y="620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商的小数点要和被除数的 小数点对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6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826920" y="9381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6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          18.2÷1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5"/>
          <p:cNvGrpSpPr/>
          <p:nvPr/>
        </p:nvGrpSpPr>
        <p:grpSpPr>
          <a:xfrm>
            <a:off x="805320" y="2286000"/>
            <a:ext cx="1895040" cy="721080"/>
            <a:chOff x="805320" y="2286000"/>
            <a:chExt cx="1895040" cy="721080"/>
          </a:xfrm>
        </p:grpSpPr>
        <p:sp>
          <p:nvSpPr>
            <p:cNvPr id="611" name="Line 6"/>
            <p:cNvSpPr/>
            <p:nvPr/>
          </p:nvSpPr>
          <p:spPr>
            <a:xfrm>
              <a:off x="1164240" y="2286000"/>
              <a:ext cx="1536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rc 7"/>
            <p:cNvSpPr/>
            <p:nvPr/>
          </p:nvSpPr>
          <p:spPr>
            <a:xfrm flipH="1" rot="9276600">
              <a:off x="899640" y="2434680"/>
              <a:ext cx="351360" cy="522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8"/>
          <p:cNvSpPr/>
          <p:nvPr/>
        </p:nvSpPr>
        <p:spPr>
          <a:xfrm>
            <a:off x="1189080" y="2379600"/>
            <a:ext cx="18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468360" y="23083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1187280" y="161784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1189080" y="28116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1217520" y="3459240"/>
            <a:ext cx="14828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258920" y="33148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1619280" y="2092320"/>
            <a:ext cx="14436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5"/>
          <p:cNvSpPr/>
          <p:nvPr/>
        </p:nvSpPr>
        <p:spPr>
          <a:xfrm>
            <a:off x="1692360" y="158760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6"/>
          <p:cNvSpPr/>
          <p:nvPr/>
        </p:nvSpPr>
        <p:spPr>
          <a:xfrm>
            <a:off x="1258920" y="389088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7"/>
          <p:cNvSpPr/>
          <p:nvPr/>
        </p:nvSpPr>
        <p:spPr>
          <a:xfrm>
            <a:off x="1258920" y="4610160"/>
            <a:ext cx="1368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1765440" y="453852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1"/>
          <p:cNvGrpSpPr/>
          <p:nvPr/>
        </p:nvGrpSpPr>
        <p:grpSpPr>
          <a:xfrm>
            <a:off x="4768560" y="2090880"/>
            <a:ext cx="1819440" cy="696600"/>
            <a:chOff x="4768560" y="2090880"/>
            <a:chExt cx="1819440" cy="696600"/>
          </a:xfrm>
        </p:grpSpPr>
        <p:sp>
          <p:nvSpPr>
            <p:cNvPr id="625" name="Line 22"/>
            <p:cNvSpPr/>
            <p:nvPr/>
          </p:nvSpPr>
          <p:spPr>
            <a:xfrm>
              <a:off x="5114520" y="2090880"/>
              <a:ext cx="14734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rc 23"/>
            <p:cNvSpPr/>
            <p:nvPr/>
          </p:nvSpPr>
          <p:spPr>
            <a:xfrm flipH="1" rot="9276600">
              <a:off x="4860000" y="2234520"/>
              <a:ext cx="336960" cy="505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Rectangle 24"/>
          <p:cNvSpPr/>
          <p:nvPr/>
        </p:nvSpPr>
        <p:spPr>
          <a:xfrm>
            <a:off x="5149800" y="2162160"/>
            <a:ext cx="129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5"/>
          <p:cNvSpPr/>
          <p:nvPr/>
        </p:nvSpPr>
        <p:spPr>
          <a:xfrm>
            <a:off x="4284720" y="2133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6"/>
          <p:cNvSpPr/>
          <p:nvPr/>
        </p:nvSpPr>
        <p:spPr>
          <a:xfrm>
            <a:off x="5437080" y="144288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7"/>
          <p:cNvSpPr/>
          <p:nvPr/>
        </p:nvSpPr>
        <p:spPr>
          <a:xfrm>
            <a:off x="5149800" y="25956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8"/>
          <p:cNvSpPr/>
          <p:nvPr/>
        </p:nvSpPr>
        <p:spPr>
          <a:xfrm>
            <a:off x="5178600" y="3243240"/>
            <a:ext cx="1409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9"/>
          <p:cNvSpPr/>
          <p:nvPr/>
        </p:nvSpPr>
        <p:spPr>
          <a:xfrm>
            <a:off x="5506920" y="31719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30"/>
          <p:cNvSpPr/>
          <p:nvPr/>
        </p:nvSpPr>
        <p:spPr>
          <a:xfrm>
            <a:off x="5867280" y="1874880"/>
            <a:ext cx="1447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1"/>
          <p:cNvSpPr/>
          <p:nvPr/>
        </p:nvSpPr>
        <p:spPr>
          <a:xfrm>
            <a:off x="5940360" y="141300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2"/>
          <p:cNvSpPr/>
          <p:nvPr/>
        </p:nvSpPr>
        <p:spPr>
          <a:xfrm>
            <a:off x="5508720" y="37479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3"/>
          <p:cNvSpPr/>
          <p:nvPr/>
        </p:nvSpPr>
        <p:spPr>
          <a:xfrm>
            <a:off x="5219640" y="4467240"/>
            <a:ext cx="1368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6013440" y="44672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3059280" y="9079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308720" y="98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WordArt 50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1403640" cy="6526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51"/>
          <p:cNvSpPr/>
          <p:nvPr/>
        </p:nvSpPr>
        <p:spPr>
          <a:xfrm>
            <a:off x="1763640" y="11592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整数部分除完后商应先点上小数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然后把十分位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4"/>
          <p:cNvSpPr/>
          <p:nvPr/>
        </p:nvSpPr>
        <p:spPr>
          <a:xfrm>
            <a:off x="826920" y="90792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8÷9=           42.84÷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755640" y="2781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7.5÷25=       642.84÷6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4" descr="xxsx4bp61"/>
          <p:cNvPicPr/>
          <p:nvPr/>
        </p:nvPicPr>
        <p:blipFill>
          <a:blip r:embed="rId1"/>
          <a:srcRect l="15755" t="18219" r="8651" b="61281"/>
          <a:stretch/>
        </p:blipFill>
        <p:spPr>
          <a:xfrm>
            <a:off x="0" y="-243000"/>
            <a:ext cx="6948360" cy="431964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1979640" y="1268280"/>
            <a:ext cx="115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435640" y="549360"/>
            <a:ext cx="115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" descr="CAR_012"/>
          <p:cNvPicPr/>
          <p:nvPr/>
        </p:nvPicPr>
        <p:blipFill>
          <a:blip r:embed="rId1"/>
          <a:stretch/>
        </p:blipFill>
        <p:spPr>
          <a:xfrm>
            <a:off x="7093080" y="404640"/>
            <a:ext cx="1904760" cy="104472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395280" y="404640"/>
            <a:ext cx="6408720" cy="119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叔叔的汽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时行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6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车的速度是多少千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WordArt 6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462320" cy="695160"/>
          </a:xfrm>
          <a:prstGeom prst="rect">
            <a:avLst/>
          </a:prstGeom>
          <a:ln w="0">
            <a:noFill/>
          </a:ln>
        </p:spPr>
      </p:pic>
      <p:pic>
        <p:nvPicPr>
          <p:cNvPr id="650" name="WordArt 7" descr=""/>
          <p:cNvPicPr/>
          <p:nvPr/>
        </p:nvPicPr>
        <p:blipFill>
          <a:blip r:embed="rId3"/>
          <a:stretch/>
        </p:blipFill>
        <p:spPr>
          <a:xfrm>
            <a:off x="2773440" y="2133720"/>
            <a:ext cx="26892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1:25:2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3:46Z</dcterms:modified>
  <cp:revision>14</cp:revision>
  <dc:subject>第一PPT模板网-WWW.1PPT.COM</dc:subject>
  <dc:title>第一PPT模板网-WWW.1PPT.COM</dc:title>
</cp:coreProperties>
</file>