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8FB-56F6-4743-B0E5-6AF4CE8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570-9453-4654-A36D-71379B64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A339A-060B-4080-9B30-BA6B36DC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420C7-AB30-4B71-AE72-4E84794D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51789-339E-40D4-899F-967C6745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40A16-5522-4F04-B2BE-26E5AF64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32911-B612-4372-9EB2-73CB0090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A38DB-9CF9-4987-ACE2-419CDF58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CCFAF-FC03-469E-B921-A2871D22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A0F3D-8B60-4C7F-98FA-82F03F13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E6D6E-7638-4B65-B3E1-C05CA91F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599D6-C100-4624-B033-BACB7565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698-5D12-4B9F-A015-997BDFA2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89014-050A-49C2-86B7-EE1ED3B8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C5B28-BB8B-4921-ACE0-AFA490CC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AA722-7AD8-4582-80FA-77048A9C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5932C-C5AF-4ECD-90E2-ABC1AF70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CE230-8121-4E8B-B8BE-C38B3BC2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18D9F-8CCD-45E6-BCB0-60F0D1DF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DC893-F559-4F81-B17D-88D527D7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ACD4B-7407-4228-BAA3-47D262E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2C67E-A2CF-484D-92FC-DDFDC7D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5B740-6A8E-4274-AF00-A1233AFB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B15-D6E3-48A7-B391-D6598FEF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07DA1-8322-496A-B0A0-5FFD89EF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D5E75-FCA8-4ABF-841A-C9FF73C6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0F55F-BDD0-483B-8D81-BDD5721F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AAC45-DF8C-494C-BD53-A14025D6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F98C1-6D35-40F4-A94A-28644AE9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1259B-7459-4B53-814B-6E7C8948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FAF2F-47DE-4C76-AB81-9DC76269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396FE-B06F-4727-A408-104A14B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5C98B-31CB-42BF-B232-DFDB0F33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8A760-8CC5-471A-87DF-A1622FFD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24DB-06DE-4BCB-974D-073EB774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833A5-A67F-436D-BEB6-9F537B8A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02D35-55FC-4D0D-9A8D-6AF4A370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16C65-F314-4F27-B003-6564D66E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E0149-7B0C-48B8-995D-9F3ACF6A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B83AA-4E71-483A-A131-C02CF4F9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B6937-7BA5-497B-967F-3C7E14A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C6140-A5BB-46E8-A809-F6F5384F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DA525-4418-431A-A0F9-289DFD2B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C05D5-E679-439C-8238-C9F2300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E6CC9-5763-443F-901B-5AF66EEE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344C-43D2-4970-A216-DA315C88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B7C6F-9720-4568-A782-45284EE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96E5F-6CC4-4B37-9932-69E1195F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1FA3B-7675-499C-AA6B-0B913953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F7A86-1291-45EB-AF3A-8A2CBA5F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EBB65-8BA3-4827-82E3-A2E86F97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C2940-7FA8-4290-A604-C5294651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6D774-9A32-4E5F-9F15-4D14157C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B2A3A-FB5F-4F14-94A0-A0E3B6E3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B87A2-5F9A-4EBD-9D85-2A78D291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5030C-51D3-4BDC-AFE3-8ECD2804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DF74-56E5-45C9-AFCB-AE8CC17E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9A4F2-790D-4680-9216-DE50C588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207F3-B39C-481B-B040-7CB732E1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92595-C51E-4364-9595-40AA15B8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6CB85-7539-4D45-A20F-AF458652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A3105-A6A6-4BB8-9045-1A6497B1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9F89C-5EFD-462D-B3F9-39B53A6C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E9AA0-DD91-4A2B-8939-237F6F41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F0BB-B3A0-47BC-AC1D-4DC67C60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7D14-31DA-4C29-9C74-A983689D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8DE2-66DC-40E5-B608-6B8FEEC5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BE5A-4D89-4916-8BF4-C2CDFCE9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8ADD-ADD2-419E-AE00-FB3566B1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7818-7E12-42A2-A2A4-AF5B9230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993B-912A-4C40-9EF5-511C914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C659-BA4C-4F26-8BED-9549FFE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EB4B-6448-49D1-9949-BB85329C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DD3-63EA-4948-9135-7FA48FDA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5527-C794-43A8-AF82-CB0EC41A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D835-29FD-4154-AB0C-3DB2C92A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5FA5-C4E9-419B-A4CD-C9E8AFB7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84D1-3443-4969-98B2-F601D486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4F66-5A86-45B3-9089-F87B129D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1AA-50F3-437C-A0B9-FC829092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0659-A085-47B5-81D8-3E934CAD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2110-6623-4D5C-B5F4-9DE2E2EA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A296-E2C7-4541-9D97-CA0FF3F4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AB1D8-BD86-4CDF-B5AA-DB5D06E3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75EC-B7EA-4152-BA66-DBAD7CF7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B4047-F787-4D10-8AEA-3E1EF1AD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DAFA-1E1E-489D-A8ED-49CE999E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4350-6603-4EA2-BEA6-14CE4F9B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F520-FB95-49CD-862B-4C81AF44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0FD1-1265-4ABA-9F93-C7EDD00B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DD5-77FF-4BF0-9601-0CD29ECB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A7713-27C3-4272-B9A9-0B04904A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0D86-E663-47D2-B42B-B81C5074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B419-87BC-419A-BA6A-758D2350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33E2-4BB1-48B0-808A-A6D44AE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8ECB8-9DEC-4E35-BB26-8079AE3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C833-ED43-4006-930D-D43CAB5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51F0-C88C-47B0-9377-7BF77A48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A146F-7529-41E9-BFAD-4EF5207A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0D3C-F8AA-43B2-9926-8A498EBC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D7F61-41CB-4D2D-BC77-E418FE13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BAA-6833-4F72-A041-29E0863A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0B0A5-424A-4FCD-ACB0-7E1FEFFF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60A8E-68D2-42E6-95C8-800238D4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F481A-3295-4268-8CD6-2D846DC6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9EE7-EA9B-418F-93EB-B65CA765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CF6A4-AA24-41E3-927E-DDC68595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1AA44-D3A7-4CE2-96D9-86FE22D4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E8313-EF38-47C0-A21E-3A7BDCA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75287-543E-470D-9800-075A001B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77242-3F65-48A7-8605-68F42D03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689F2-FB5A-4CB9-96D4-BA3F9112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7F4-BC76-4A1E-B25A-FAD847D5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93FF-56D9-4277-AB2E-D647A293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A5CD-E585-48B7-AF8A-7D3290F6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04DDC-F6CA-4A09-A9CE-F8773A1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C6FE6-5C64-4A91-8D06-F9C1199A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E7622-D86C-4CA0-BF60-F3716357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3E0FF-B1A9-4591-9A32-11AF34C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B98FC-18C1-49A1-A685-F3258B59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D742C-2A2F-4541-8955-5F43B616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5B20E-6795-4D2A-9082-1098D96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9F567-E4C7-490F-9912-77E84DA3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128-4EF2-4FD1-B273-032353D3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B0EE-6C60-4888-8537-0EA586DA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97FC-B67D-4EB9-975C-8649D354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EB936-2564-49D5-8298-681757F5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72296-84B5-4524-90C4-5F34C120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173D-1695-4F61-80D7-B9B49CB4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F3A2E-29FD-4AE1-920C-8206D5B1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A4C2F-5BA6-45FE-939F-F9FF84B1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D11E-DACC-409B-81F1-7F8AA073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85DE0-5E06-4B0A-B59A-AB2BCBFB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4F6E1-3DB4-4757-A578-6F8D4B21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F82-DD91-4AA7-A647-C4B7EC7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DAF79-0931-4FE1-92E9-6876851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955ED-63A4-4E39-B845-91B72EE6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1D41D-FFB0-49DD-AAD5-B4E98829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228E1-8FD6-4A9A-8DBA-F473A868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5FE16-81C4-4BD5-8F8F-FAF8302A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613BA-86E7-473D-A7A9-AB9A9EE1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6DDCF-EBBB-4B65-AB4B-C0D87A61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EB9D9-0CF8-4A0E-981C-271086DE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D695-4465-4922-9DCE-FD2BE173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DD75F-5102-44B6-A7F2-2508C333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091-01B1-4451-869F-2EDE055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1C21-05DD-49CC-BFE3-0B5FC624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F1D7C-D3D1-45D9-B1E8-40616CC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59092-F2C5-4D3E-8F1B-C4CE2AA3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FD114-F35C-46BB-BEFB-E7D21285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83F0D-4F4D-4F5D-992F-8B0DBD25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CD44-7542-4DC2-B24B-0E5E9AEB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4F746-8784-4A6A-9E0A-12CEBF9F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50107-E923-4502-8E31-F5941EA2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1B593-0D9A-4228-8943-AFE6C427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516FB-272A-4430-8FED-FE8B45F7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DA96-A59C-4747-9297-DCFAFD842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5033-ACE3-4AB9-859D-4AB4FD7766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6A6E-B202-4A30-ABC3-A2E8AE3D43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6D99-15BE-4E3A-98E6-1765BB89A7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CBA4-8233-4E21-87FE-4B408EC3E5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6111-2936-4DDE-94F0-6B186D58FF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DBC6-017A-4176-9AF0-978D455E6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8C7A-2DB9-4AFA-A4C7-4475C43AF4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2734-C724-442D-8806-22C56B72CF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644B-CF79-45A9-B7FD-F3EDB9095C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24C9-7640-4F16-84DD-CCFC872F79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93B9-171C-4D27-9BF3-1DAA8626AF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463-BDC5-40A3-867B-ABE195E6D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6CB6-241B-465E-91C0-4785769E6C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9420-7DD6-4A61-9B51-9B3B72A418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8E01-88EF-4E5F-BE03-4A14A2D7E6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8CB5-13DA-4B21-B9F2-EC8AA42748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2309-1A1E-471B-A637-50813A9DC7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9179-636F-4489-B58F-46BB3080D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36B0-CAB0-4927-99C6-7CABF16CD7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029-ED00-4538-8AB5-F2C1C571C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05A2-6D8A-440E-BF69-00D75BB517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4C2A-19BC-4128-B8C4-907839D96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E60B-EF9C-496D-86A8-6E34F129FB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F263-E162-428B-BD94-DB0011221A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hyperlink" Target="L:\&#23567;&#30707;&#28525;&#35760;\langdu.rm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L:\&#23567;&#30707;&#28525;&#35760;\peiyue.mp3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200533164923712"/>
          <p:cNvPicPr/>
          <p:nvPr/>
        </p:nvPicPr>
        <p:blipFill>
          <a:blip r:embed="rId1"/>
          <a:stretch/>
        </p:blipFill>
        <p:spPr>
          <a:xfrm>
            <a:off x="25092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6627960" y="496800"/>
            <a:ext cx="2009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江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千山鸟飞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万径人踪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孤舟蓑笠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钓寒江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9" descr="未命名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9" descr="6"/>
          <p:cNvPicPr/>
          <p:nvPr/>
        </p:nvPicPr>
        <p:blipFill>
          <a:blip r:embed="rId2"/>
          <a:stretch/>
        </p:blipFill>
        <p:spPr>
          <a:xfrm>
            <a:off x="5148360" y="4365720"/>
            <a:ext cx="1150920" cy="7254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10"/>
          <p:cNvSpPr/>
          <p:nvPr/>
        </p:nvSpPr>
        <p:spPr>
          <a:xfrm>
            <a:off x="0" y="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赛一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2" descr="5"/>
          <p:cNvPicPr/>
          <p:nvPr/>
        </p:nvPicPr>
        <p:blipFill>
          <a:blip r:embed="rId3"/>
          <a:stretch/>
        </p:blipFill>
        <p:spPr>
          <a:xfrm>
            <a:off x="7380360" y="4365720"/>
            <a:ext cx="1763640" cy="9111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25"/>
          <p:cNvSpPr/>
          <p:nvPr/>
        </p:nvSpPr>
        <p:spPr>
          <a:xfrm>
            <a:off x="2064240" y="155736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古诗词中写景的名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1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WordArt 5"/>
          <p:cNvSpPr txBox="1"/>
          <p:nvPr/>
        </p:nvSpPr>
        <p:spPr>
          <a:xfrm>
            <a:off x="1547640" y="907920"/>
            <a:ext cx="6193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小石潭记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564000" y="393372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柳宗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10" descr="5"/>
          <p:cNvPicPr/>
          <p:nvPr/>
        </p:nvPicPr>
        <p:blipFill>
          <a:blip r:embed="rId2"/>
          <a:stretch/>
        </p:blipFill>
        <p:spPr>
          <a:xfrm>
            <a:off x="3708360" y="4292640"/>
            <a:ext cx="1673280" cy="1008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8" descr="6"/>
          <p:cNvPicPr/>
          <p:nvPr/>
        </p:nvPicPr>
        <p:blipFill>
          <a:blip r:embed="rId3"/>
          <a:stretch/>
        </p:blipFill>
        <p:spPr>
          <a:xfrm>
            <a:off x="5580000" y="5084640"/>
            <a:ext cx="175896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3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柳宗元"/>
          <p:cNvPicPr/>
          <p:nvPr/>
        </p:nvPicPr>
        <p:blipFill>
          <a:blip r:embed="rId2"/>
          <a:stretch/>
        </p:blipFill>
        <p:spPr>
          <a:xfrm>
            <a:off x="250920" y="2276640"/>
            <a:ext cx="2620800" cy="34574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3276720" y="185760"/>
            <a:ext cx="58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　柳宗元（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7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819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）唐代著名文学家、哲学家。字子厚，唐代河东人，代宗大历八年（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7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年）出生于京城长安，贞元九年（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9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）中进士，宪宗元和十四年（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819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年）客死于柳州，享年不到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岁。因为他是河东人，世称柳河东。又因官终柳州刺史，又称柳柳州。唐宋八大家之一，与韩愈共同倡导唐代古文运动，并称韩柳。著有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柳河东集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395280" y="476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6" descr="5"/>
          <p:cNvPicPr/>
          <p:nvPr/>
        </p:nvPicPr>
        <p:blipFill>
          <a:blip r:embed="rId3"/>
          <a:stretch/>
        </p:blipFill>
        <p:spPr>
          <a:xfrm>
            <a:off x="4788000" y="4060800"/>
            <a:ext cx="2155680" cy="1114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、用普通话顺畅地朗读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、借助注释或工具书疏通文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、理清课文的思路，体会作者的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1547640" y="765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☆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黑体"/>
              </a:rPr>
              <a:t>我们的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5"/>
          <p:cNvPicPr/>
          <p:nvPr/>
        </p:nvPicPr>
        <p:blipFill>
          <a:blip r:embed="rId2"/>
          <a:stretch/>
        </p:blipFill>
        <p:spPr>
          <a:xfrm>
            <a:off x="4932360" y="4869000"/>
            <a:ext cx="1944720" cy="100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2"/>
          <p:cNvSpPr/>
          <p:nvPr/>
        </p:nvSpPr>
        <p:spPr>
          <a:xfrm>
            <a:off x="-396720" y="907920"/>
            <a:ext cx="979308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要      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自读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自己试读，读准字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听读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轻声跟读，画出疑难词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伴读：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伴乐默读，感受文中意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7" descr="5"/>
          <p:cNvPicPr/>
          <p:nvPr/>
        </p:nvPicPr>
        <p:blipFill>
          <a:blip r:embed="rId2"/>
          <a:stretch/>
        </p:blipFill>
        <p:spPr>
          <a:xfrm>
            <a:off x="7093080" y="5157720"/>
            <a:ext cx="1655640" cy="85716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35"/>
          <p:cNvSpPr/>
          <p:nvPr/>
        </p:nvSpPr>
        <p:spPr>
          <a:xfrm>
            <a:off x="0" y="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行楷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2"/>
          <p:cNvSpPr/>
          <p:nvPr/>
        </p:nvSpPr>
        <p:spPr>
          <a:xfrm>
            <a:off x="7970760" y="20876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8244000" y="765000"/>
            <a:ext cx="1079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78920" y="260280"/>
            <a:ext cx="7885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小石潭记   柳宗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从小丘西行百二十步，隔篁竹，闻水声，如鸣佩环，心乐之。伐竹取道，下见小潭，水尤清冽。全石以为底，近岸，卷石底以出，为坻，为屿，为嵁，为岩。青树翠蔓，蒙络摇缀，参差披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潭中鱼可百许头，皆若空游无所依。日光下澈，影布石上，佁然不动</a:t>
            </a:r>
            <a:r>
              <a:rPr b="1" lang="en-US" sz="2800" spc="-1" strike="noStrike">
                <a:solidFill>
                  <a:srgbClr val="00ff99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俶尔远逝，往来翕忽，似与游者相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潭西南而望，斗折蛇行，明灭可见。其岸势犬牙差互，不可知其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坐潭上，四面竹树环合，寂寥无人，凄神寒骨，悄怆幽邃。以其境过清， 不可久居，乃记之而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同游者：吴武陵，龚古，余弟宗玄。隶而从者，崔氏二小生：曰恕己， 曰奉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9" descr="BD21313_"/>
          <p:cNvPicPr/>
          <p:nvPr/>
        </p:nvPicPr>
        <p:blipFill>
          <a:blip r:embed="rId2"/>
          <a:stretch/>
        </p:blipFill>
        <p:spPr>
          <a:xfrm>
            <a:off x="8028000" y="0"/>
            <a:ext cx="26208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2" descr="BD21313_"/>
          <p:cNvPicPr/>
          <p:nvPr/>
        </p:nvPicPr>
        <p:blipFill>
          <a:blip r:embed="rId3"/>
          <a:stretch/>
        </p:blipFill>
        <p:spPr>
          <a:xfrm>
            <a:off x="8915400" y="0"/>
            <a:ext cx="263520" cy="6858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6" descr="BD21313_"/>
          <p:cNvPicPr/>
          <p:nvPr/>
        </p:nvPicPr>
        <p:blipFill>
          <a:blip r:embed="rId4"/>
          <a:stretch/>
        </p:blipFill>
        <p:spPr>
          <a:xfrm>
            <a:off x="0" y="0"/>
            <a:ext cx="26208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7" descr="BD21313_"/>
          <p:cNvPicPr/>
          <p:nvPr/>
        </p:nvPicPr>
        <p:blipFill>
          <a:blip r:embed="rId5"/>
          <a:stretch/>
        </p:blipFill>
        <p:spPr>
          <a:xfrm>
            <a:off x="0" y="0"/>
            <a:ext cx="8893080" cy="271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8" descr="BD21313_"/>
          <p:cNvPicPr/>
          <p:nvPr/>
        </p:nvPicPr>
        <p:blipFill>
          <a:blip r:embed="rId6"/>
          <a:stretch/>
        </p:blipFill>
        <p:spPr>
          <a:xfrm>
            <a:off x="250920" y="6586560"/>
            <a:ext cx="8893080" cy="2714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0">
            <a:hlinkClick r:id="rId7"/>
          </p:cNvPr>
          <p:cNvSpPr/>
          <p:nvPr/>
        </p:nvSpPr>
        <p:spPr>
          <a:xfrm>
            <a:off x="8317080" y="6093000"/>
            <a:ext cx="431640" cy="477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7720"/>
              <a:gd name="textAreaBottom" fmla="*/ 450000 h 477720"/>
            </a:gdLst>
            <a:ahLst/>
            <a:rect l="textAreaLeft" t="textAreaTop" r="textAreaRight" b="textAreaBottom"/>
            <a:pathLst>
              <a:path w="21600" h="23904">
                <a:moveTo>
                  <a:pt x="0" y="0"/>
                </a:moveTo>
                <a:lnTo>
                  <a:pt x="21600" y="0"/>
                </a:lnTo>
                <a:lnTo>
                  <a:pt x="21600" y="23904"/>
                </a:lnTo>
                <a:lnTo>
                  <a:pt x="0" y="23904"/>
                </a:lnTo>
                <a:close/>
              </a:path>
              <a:path fill="lightenLess" w="21600" h="23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04">
                <a:moveTo>
                  <a:pt x="21600" y="0"/>
                </a:moveTo>
                <a:lnTo>
                  <a:pt x="21600" y="23904"/>
                </a:lnTo>
                <a:lnTo>
                  <a:pt x="20200" y="22504"/>
                </a:lnTo>
                <a:lnTo>
                  <a:pt x="20200" y="1400"/>
                </a:lnTo>
                <a:close/>
              </a:path>
              <a:path fill="darkenLess" w="21600" h="23904">
                <a:moveTo>
                  <a:pt x="21600" y="23904"/>
                </a:moveTo>
                <a:lnTo>
                  <a:pt x="0" y="23904"/>
                </a:lnTo>
                <a:lnTo>
                  <a:pt x="1400" y="22504"/>
                </a:lnTo>
                <a:lnTo>
                  <a:pt x="20200" y="22504"/>
                </a:lnTo>
                <a:close/>
              </a:path>
              <a:path fill="lighten" w="21600" h="23904">
                <a:moveTo>
                  <a:pt x="0" y="23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04"/>
                </a:lnTo>
                <a:close/>
              </a:path>
              <a:path fill="darken" w="21600" h="23904">
                <a:moveTo>
                  <a:pt x="3794" y="9558"/>
                </a:moveTo>
                <a:lnTo>
                  <a:pt x="8224" y="9558"/>
                </a:lnTo>
                <a:lnTo>
                  <a:pt x="12645" y="4946"/>
                </a:lnTo>
                <a:lnTo>
                  <a:pt x="12645" y="18958"/>
                </a:lnTo>
                <a:lnTo>
                  <a:pt x="8224" y="14346"/>
                </a:lnTo>
                <a:lnTo>
                  <a:pt x="3794" y="14346"/>
                </a:lnTo>
                <a:close/>
              </a:path>
              <a:path fill="darken" w="21600" h="23904">
                <a:moveTo>
                  <a:pt x="14299" y="11952"/>
                </a:moveTo>
                <a:lnTo>
                  <a:pt x="17806" y="11952"/>
                </a:lnTo>
              </a:path>
              <a:path fill="darken" w="21600" h="23904">
                <a:moveTo>
                  <a:pt x="14299" y="9558"/>
                </a:moveTo>
                <a:lnTo>
                  <a:pt x="17806" y="6791"/>
                </a:lnTo>
              </a:path>
              <a:path fill="darken" w="21600" h="23904">
                <a:moveTo>
                  <a:pt x="14299" y="14346"/>
                </a:moveTo>
                <a:lnTo>
                  <a:pt x="17806" y="17113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7970760" y="20876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8317080" y="836640"/>
            <a:ext cx="1079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404280"/>
            <a:ext cx="8172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                     </a:t>
            </a:r>
            <a:r>
              <a:rPr b="1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小石潭记  </a:t>
            </a:r>
            <a:r>
              <a:rPr b="1" lang="zh-CN" sz="4000" spc="-1" strike="noStrike">
                <a:solidFill>
                  <a:srgbClr val="cccc00"/>
                </a:solidFill>
                <a:latin typeface="黑体"/>
                <a:ea typeface="黑体"/>
              </a:rPr>
              <a:t>柳宗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从小丘西行百二十步，隔篁竹，闻水声，如鸣佩环，心乐之。伐竹取道，下见小潭，水尤清冽。全石以为底，近岸，卷石底以出，为坻，为屿，为嵁，为岩。青树翠蔓，蒙络摇缀，参差披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潭中鱼可百许头，皆若空游无所依。日光下澈，影布石上，佁然不动；俶尔远逝，往来翕忽，似与游者相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潭西南而望，斗折蛇行，明灭可见。其岸势犬牙差互，不可知其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坐潭上，四面竹树环合，寂寥无人，凄神寒骨，悄怆幽邃。以其境过清，不可久居，乃记之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ff99"/>
                </a:solidFill>
                <a:latin typeface="黑体"/>
                <a:ea typeface="黑体"/>
              </a:rPr>
              <a:t>同游者：吴武陵，龚古，余弟宗玄。隶而从者，崔氏二小生：曰恕己， 曰奉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BD21313_"/>
          <p:cNvPicPr/>
          <p:nvPr/>
        </p:nvPicPr>
        <p:blipFill>
          <a:blip r:embed="rId2"/>
          <a:stretch/>
        </p:blipFill>
        <p:spPr>
          <a:xfrm>
            <a:off x="0" y="-54000"/>
            <a:ext cx="236520" cy="6912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5" descr="BD21313_"/>
          <p:cNvPicPr/>
          <p:nvPr/>
        </p:nvPicPr>
        <p:blipFill>
          <a:blip r:embed="rId3"/>
          <a:stretch/>
        </p:blipFill>
        <p:spPr>
          <a:xfrm>
            <a:off x="8091360" y="0"/>
            <a:ext cx="22572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8" descr="BD21313_"/>
          <p:cNvPicPr/>
          <p:nvPr/>
        </p:nvPicPr>
        <p:blipFill>
          <a:blip r:embed="rId4"/>
          <a:stretch/>
        </p:blipFill>
        <p:spPr>
          <a:xfrm>
            <a:off x="0" y="0"/>
            <a:ext cx="9144000" cy="1936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9" descr="BD21313_"/>
          <p:cNvPicPr/>
          <p:nvPr/>
        </p:nvPicPr>
        <p:blipFill>
          <a:blip r:embed="rId5"/>
          <a:stretch/>
        </p:blipFill>
        <p:spPr>
          <a:xfrm>
            <a:off x="0" y="6705720"/>
            <a:ext cx="9144000" cy="27936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22">
            <a:hlinkClick r:id="rId6"/>
          </p:cNvPr>
          <p:cNvSpPr/>
          <p:nvPr/>
        </p:nvSpPr>
        <p:spPr>
          <a:xfrm>
            <a:off x="8459640" y="6237360"/>
            <a:ext cx="433440" cy="46656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66560"/>
              <a:gd name="textAreaBottom" fmla="*/ 438480 h 466560"/>
            </a:gdLst>
            <a:ahLst/>
            <a:rect l="textAreaLeft" t="textAreaTop" r="textAreaRight" b="textAreaBottom"/>
            <a:pathLst>
              <a:path w="21600" h="23249">
                <a:moveTo>
                  <a:pt x="0" y="0"/>
                </a:moveTo>
                <a:lnTo>
                  <a:pt x="21600" y="0"/>
                </a:lnTo>
                <a:lnTo>
                  <a:pt x="21600" y="23249"/>
                </a:lnTo>
                <a:lnTo>
                  <a:pt x="0" y="23249"/>
                </a:lnTo>
                <a:close/>
              </a:path>
              <a:path fill="lightenLess" w="21600" h="232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49">
                <a:moveTo>
                  <a:pt x="21600" y="0"/>
                </a:moveTo>
                <a:lnTo>
                  <a:pt x="21600" y="23249"/>
                </a:lnTo>
                <a:lnTo>
                  <a:pt x="20200" y="21849"/>
                </a:lnTo>
                <a:lnTo>
                  <a:pt x="20200" y="1400"/>
                </a:lnTo>
                <a:close/>
              </a:path>
              <a:path fill="darkenLess" w="21600" h="23249">
                <a:moveTo>
                  <a:pt x="21600" y="23249"/>
                </a:moveTo>
                <a:lnTo>
                  <a:pt x="0" y="23249"/>
                </a:lnTo>
                <a:lnTo>
                  <a:pt x="1400" y="21849"/>
                </a:lnTo>
                <a:lnTo>
                  <a:pt x="20200" y="21849"/>
                </a:lnTo>
                <a:close/>
              </a:path>
              <a:path fill="lighten" w="21600" h="23249">
                <a:moveTo>
                  <a:pt x="0" y="232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49"/>
                </a:lnTo>
                <a:close/>
              </a:path>
              <a:path fill="darken" w="21600" h="23249">
                <a:moveTo>
                  <a:pt x="3794" y="9231"/>
                </a:moveTo>
                <a:lnTo>
                  <a:pt x="8224" y="9231"/>
                </a:lnTo>
                <a:lnTo>
                  <a:pt x="12645" y="4618"/>
                </a:lnTo>
                <a:lnTo>
                  <a:pt x="12645" y="18631"/>
                </a:lnTo>
                <a:lnTo>
                  <a:pt x="8224" y="14018"/>
                </a:lnTo>
                <a:lnTo>
                  <a:pt x="3794" y="14018"/>
                </a:lnTo>
                <a:close/>
              </a:path>
              <a:path fill="darken" w="21600" h="23249">
                <a:moveTo>
                  <a:pt x="14299" y="11625"/>
                </a:moveTo>
                <a:lnTo>
                  <a:pt x="17806" y="11625"/>
                </a:lnTo>
              </a:path>
              <a:path fill="darken" w="21600" h="23249">
                <a:moveTo>
                  <a:pt x="14299" y="9231"/>
                </a:moveTo>
                <a:lnTo>
                  <a:pt x="17806" y="6463"/>
                </a:lnTo>
              </a:path>
              <a:path fill="darken" w="21600" h="23249">
                <a:moveTo>
                  <a:pt x="14299" y="14018"/>
                </a:moveTo>
                <a:lnTo>
                  <a:pt x="17806" y="16786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71696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5"/>
          <p:cNvSpPr/>
          <p:nvPr/>
        </p:nvSpPr>
        <p:spPr>
          <a:xfrm>
            <a:off x="0" y="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品一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486000" y="1700280"/>
            <a:ext cx="815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这是一个</a:t>
            </a:r>
            <a:r>
              <a:rPr b="1" lang="zh-CN" sz="48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的小石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小石潭很</a:t>
            </a:r>
            <a:r>
              <a:rPr b="1" lang="zh-CN" sz="48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5"/>
          <p:cNvSpPr/>
          <p:nvPr/>
        </p:nvSpPr>
        <p:spPr>
          <a:xfrm>
            <a:off x="0" y="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悟一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563760" y="1484280"/>
            <a:ext cx="1027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作者看到小石潭，有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的感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句，抒发了作者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 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4:52:16Z</dcterms:created>
  <dc:creator>user</dc:creator>
  <dc:description/>
  <dc:language>en-US</dc:language>
  <cp:lastModifiedBy>a</cp:lastModifiedBy>
  <dcterms:modified xsi:type="dcterms:W3CDTF">2015-02-10T02:51:42Z</dcterms:modified>
  <cp:revision>95</cp:revision>
  <dc:subject/>
  <dc:title>幻灯片 1</dc:title>
</cp:coreProperties>
</file>