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2A4-B3B6-491E-84D6-C4F27E07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114-2BD3-4B53-801C-00E99DC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8274-9318-41E7-B3BD-D992269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7B86C-F280-4D4E-9F42-07C2804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A5C8B-F090-42B0-AEEB-442FBBD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EBDA3-B03D-41DD-B23F-DCE3548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85D3B-EF0E-4C16-9677-BCB1A73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7563-C87F-4755-ACB3-725E335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F3990-B590-4D64-98E8-1A7887A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71A98-8242-43AD-8254-82471D68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C2765-A27E-46C3-BB4C-30103C98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A71F3-1B38-470B-AD2D-93D2AFDB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EB4-7ABC-4C99-ADD5-92CBCFB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C53A0-808D-44FF-8C65-ACCE0096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77A5B-D120-4C49-A6C5-14B7C04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CD814-0D96-406F-9BD3-B75A756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CE428-5A87-4F97-87EE-609F795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29307-D9D8-4BE8-BAF4-DA1061F6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2E684-06EB-4271-A300-1AC5AE0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12BEA-1506-4F12-A046-DD5277E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9196A-CE96-4C4D-BBF1-B1BA960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22E1F-3B20-44F4-9C86-01E06D29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D8A65-6546-4BB5-BF14-9BA7FE2A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13B-8281-494C-93ED-5D73905A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BEF88-F3DB-4223-870C-CA011537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13C0F-02FA-4F38-B9D2-43A8D7DA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24D78-863E-4366-AA8C-CD99D5C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2875-3E55-417C-B286-2F85548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79AAA-A6C4-442E-ACBD-AD15098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337BD-E77B-4692-B837-3D87C42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83569-40F7-44D5-B995-0697429E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8F248-32ED-46E5-B496-C8888D8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80B3E-4EB3-4A37-961E-CF1338F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F571-E402-4DA9-9E08-56537E8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F123-8374-49BD-A9E6-C17C3656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F9F2B-74DE-4649-BF9E-57CC54B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6C7D-6EB8-4245-B2AF-9DC48B84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55F12-ACD6-4503-9B45-9A62CD76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596EC-42F1-44A5-8ADC-61628D30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A929D-960E-4A4C-B1FC-64681F4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C3A8-361F-4D55-A8A9-CE2825D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4339B-D5B2-42AC-AB46-CA5FCC61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90574-4EA9-4D46-8A21-46DF505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1662E-2884-4B61-B44C-BE5EEDB3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EA231-1B71-4F5F-A09C-0D85B93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5BE9-1B15-4469-BD4B-188892B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0576B-0009-4538-8CD3-B838CC6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FA5F1-286B-4B0A-956C-D8AD9EF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C0E6-CA17-46F4-9B79-1B3BCEF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7EA35-4242-4466-91C6-4E4D6EC9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B6E4F-B7C3-40D7-AC4E-F842F6C2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E5886-F438-4EBE-9F87-2B3B1DC2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287A5-0FF0-41EA-AE07-E985ECC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ABE5B-44B7-499F-B49D-4848222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C1F58-2791-4CB7-ACAF-EDA952FF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AF331-D8DF-41A1-878C-F6F8621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5C6-F643-4066-ABF6-E89B33A5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8BBF5-7220-4BF2-9D18-47FEB84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0131A-BC4B-424D-81EF-F1AAFEF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60684-A028-4AC4-83E2-EE534B6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EA987-EB51-4811-AC3A-C8B7CAC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8824D-6EF8-4AF2-B5BA-085BB80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DF4DB-AD34-4837-90E5-64D04CF2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A2706-BBE8-409E-9E20-FE189BC6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3F3A1-2C8F-4CC5-BB14-4EA482C1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222B2-0FBC-4E30-A38E-1F2C1A1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AFA96-D86D-4ED5-AE25-582939D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3943-C068-4C59-8023-4BB7C0D7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638C8-05B9-4D6D-80C1-CE325401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025C8-42B5-493E-BBDB-AABCBBCC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7CA78-A370-46BE-9C06-4D0ABF5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2B1AF-6D42-44A3-ABB4-501B5027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6F7C7-F9A3-45AC-826C-F118E34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65B20-3B04-41EF-B9AB-4E23777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93B49-37A8-4A2F-BA78-341E983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B16A0-4CEE-429C-B885-9DA40BFD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359CA-52A6-4CAB-A0B5-ADD289EF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93F4-1E51-42E8-9954-C66E88D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1CC-4E83-49E4-8184-BC12B27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28E-317F-48F1-A615-9F2ED6E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43F-6678-4448-AA79-9271E18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F68-CE67-467A-B987-36A19AC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D6D-6787-4786-B2C0-087E669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2C06-1B07-4161-B299-14065EC4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4F2-C747-439B-AA64-41C0437D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ACA-35A1-4149-BC13-2C2E814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A553-F8C3-4C94-BCEE-BB20C2EA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8358-0AA9-4D99-B7CA-04E6CDD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A9BF-24AB-4919-993F-F84CA54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5779-8124-4930-A5AA-ADB49A1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ED7A-7929-4D90-916A-88E11A0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9D6-ED2F-494C-B923-D11B118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0B8F-F1B4-4B6A-A134-EAF7361C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0A25-EC05-4660-A3CE-2B71FE7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1727-C2C1-42EC-B992-B7EA4D8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F4FA-7C79-42E5-9745-9EEBB59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0A45-EC70-418C-B4D8-D32C6FB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CCE5-E9F1-4C30-A963-84F3CAD3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7FB8-58C8-4E73-8AA8-6D1B9309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E737-C7EF-4BD3-8706-0D44D109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A41E-CEB1-4038-AB23-258B2E7F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5CE2-C864-4B32-B590-0134FE34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F04-AC4A-4E9D-8ACC-16F081F4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767E-2E54-438A-BD54-D2A3DCE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8B9D-C533-43BE-B8FD-79D8DBB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B0A7-A570-4360-8F14-F6525689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4CA6-80CC-48A0-80D6-01E920A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EB6C-CCCD-4ADE-BE96-15B7BDF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AF39-BFD9-4439-88E5-ECE2CAD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114C-BE13-4D2F-86C5-EF7A947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6A79-E58E-47A1-921E-C8CD337B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BF67-4231-4BC4-ABF1-AB39A249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73D1-4235-4776-B743-87530E17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1F1-1452-418B-A9FB-5ED0395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53BC-641C-4FB3-96D2-D809754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105B0-FD4D-4892-8055-FE27FFBB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292E-11AC-469E-BD7C-31469EA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4B73-4C70-40BF-81D2-C8269C70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AE9F-7B4A-4F02-8555-C88D0A47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77E8-3B0D-47C5-8871-E0BA12D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6071-8BE9-473C-9F4A-BA3BA821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E040-AF3B-4B47-8BD5-636D140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EBBE-C85A-4058-96CF-643AB21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D8B2-C8FB-45C0-BF7D-260F72FE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C57-C1F4-4873-89B4-8807BE9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BE44-5E2D-4A4E-B2A9-D6E46AE8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17AA-2563-493E-B8CF-269595A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B521A-7841-4B12-82F9-296B4444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9F53-79E5-41B1-B0D3-ECA95D79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0803-8610-46FD-A772-34333E25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EC60-91F5-44E9-A122-198007A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E4CD-E383-4E5C-B92B-8D97493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F459-5B09-4303-8354-A01D689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1634-31AD-4BA6-BD8B-70EE6109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E21F8-10F2-44B9-AFE7-2001A6F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29F-2C06-4D52-9274-12691E8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7443-8B62-4F6C-8B15-DE12040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3641-79FE-4E74-A231-A575DE83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D7AB8-4499-427F-A16E-27F57090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9DDA-5D7A-4EC4-AFEC-08A83A3E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E21E-D31E-45E8-8942-0AA0F50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1479-A146-476A-95D2-8396E04B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04CD-240A-4286-AAD6-0D864932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DCEC-2C68-434B-B4CF-B4FAFE2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D69D2-2F61-4C25-AEF8-185B9CCE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60E1-978D-453A-A883-2ADA920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47B-A0E7-452F-8883-E15A74E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30293-76CF-460B-B1A2-4444E0E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82FA-35E8-4DC2-B524-5468FFA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1C7B-1938-4714-9C7A-893798BF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2FBB4-921C-421E-A38F-050480BA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0977E-2D49-4233-A9E1-F4B26872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49E8E-24BB-42F0-BBA8-808FCF76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B56A-9B97-4668-8AE8-21EA2A3C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0D72-E77A-48A6-98A7-B98993C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113CD-B307-4A0E-92DE-4BFB412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B5C14-479B-4F7C-AD58-24142113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C67-A55E-4F61-B738-6DD6D94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FBCAC-CBAB-42F0-8A09-0E655F9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3C4F-173E-4679-A8D9-F59ECD2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B07A4-7EA4-4953-99C6-E5DB1973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9140-9BEC-4A45-B135-85D3023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64296-515A-4138-A10E-85AF7A9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1532-A8DC-42AB-8000-72869A44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BDE4-461D-464B-B7ED-4C2E7EB8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B96B0-31CD-4019-B933-6571BF89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5C4E-DE4A-4FA5-BB30-9DC92790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9B6E7-94E3-412C-B828-4A19421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" name="Picture 1028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29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B7E-833D-4B84-B494-92B64A87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30C-3DAA-4830-9FC9-7FF2BF2F632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54E-2A53-459D-9B0D-37AA01EF084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F13-81C6-4B12-889B-7EBF52687BB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ACD8-B8A4-41D2-BAC8-2B2278F2D7D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980-7A69-4312-8A52-484B58ECAFB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2F9-521D-4181-B686-D8B13DF075E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2A8E-5CAF-486F-AC45-A0C5DAEA975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13C-3D45-4E95-95AF-D1854027A3E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76BF-8DDB-4D93-ACB0-A2405ED4A34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2F7-95F4-4665-B5C4-3D2F78C5EA2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D2D0-F8C0-46B5-8050-1C35704D26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4C1F-A758-474B-91AF-8BF161F57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5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7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765720" y="1709640"/>
            <a:ext cx="6678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通    用    技    术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959200" y="730080"/>
            <a:ext cx="30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§1.2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技术的性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066680" y="1447920"/>
            <a:ext cx="76708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451D-7492-4427-93C4-35089E8BE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7DD-DB71-4E52-A100-97F2F522DA1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FA0-7497-4A5E-A010-A83464DB57B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D24-9F82-4F04-970C-AE06170922D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498-8302-4348-9BCA-8BD94539ADF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60D-AF79-425A-BAD1-AB5B61FB443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F5A-E232-41C5-B423-7AFC36531FA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6FD-8C68-4B93-B160-D89A2DA7A2E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D53-824B-4E63-ABDA-4FD15C95B4D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240-EC18-41A7-9E4E-9A28F7BB2F5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069-F098-467F-989B-D2C5F48D8F5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23F6-8C9E-4B62-906A-168F68D6744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014-2C32-44AB-B79A-C45172C438F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714680" y="911160"/>
            <a:ext cx="2164680" cy="6426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高中物理必修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514600" y="23623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圆周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运动</a:t>
            </a:r>
            <a:endParaRPr b="1" lang="en-US" sz="8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809880" y="4952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</a:rPr>
              <a:t>第二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85" name="Picture 8" descr="http://kxj.7456.net/images/2004/02/05/31-1.jpg"/>
          <p:cNvPicPr/>
          <p:nvPr/>
        </p:nvPicPr>
        <p:blipFill>
          <a:blip r:embed="rId1"/>
          <a:stretch/>
        </p:blipFill>
        <p:spPr>
          <a:xfrm>
            <a:off x="1143000" y="3962520"/>
            <a:ext cx="194004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627480" y="2271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1523880" y="228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认识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9" name="Text Box 84"/>
          <p:cNvSpPr/>
          <p:nvPr/>
        </p:nvSpPr>
        <p:spPr>
          <a:xfrm>
            <a:off x="1371600" y="3124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方向：</a:t>
            </a:r>
            <a:r>
              <a:rPr b="1" lang="zh-CN" sz="3200" spc="-1" strike="noStrike">
                <a:solidFill>
                  <a:srgbClr val="e1520b"/>
                </a:solidFill>
                <a:latin typeface="Times New Roman"/>
                <a:ea typeface="楷体_GB2312"/>
              </a:rPr>
              <a:t>沿半径指向圆心，即垂直于质点的运动方向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0" name="Text Box 89"/>
          <p:cNvSpPr/>
          <p:nvPr/>
        </p:nvSpPr>
        <p:spPr>
          <a:xfrm>
            <a:off x="1371600" y="990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感受向心力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1" name="Text Box 116"/>
          <p:cNvSpPr/>
          <p:nvPr/>
        </p:nvSpPr>
        <p:spPr>
          <a:xfrm>
            <a:off x="3055680" y="41911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来源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2" name="Text Box 117"/>
          <p:cNvSpPr/>
          <p:nvPr/>
        </p:nvSpPr>
        <p:spPr>
          <a:xfrm>
            <a:off x="1600200" y="4648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心力不是一种特殊的力，它可能是弹力或重力或摩擦力，也可能是它们的合力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93" name="Object 121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276360" cy="1411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22"/>
          <p:cNvSpPr/>
          <p:nvPr/>
        </p:nvSpPr>
        <p:spPr>
          <a:xfrm>
            <a:off x="1447920" y="16462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组实验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小铁球在水平面做匀速圆周运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5" name="Text Box 123"/>
          <p:cNvSpPr/>
          <p:nvPr/>
        </p:nvSpPr>
        <p:spPr>
          <a:xfrm>
            <a:off x="502920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绳子对手有向外的力，即绳子对球有指向圆心的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627480" y="2271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Line 3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523880" y="228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认识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371600" y="160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方向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半径指向圆心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137160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感受向心力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371600" y="236232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一个力或几个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的合力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2" name="Object 9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276360" cy="141156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2"/>
          <p:cNvSpPr/>
          <p:nvPr/>
        </p:nvSpPr>
        <p:spPr>
          <a:xfrm>
            <a:off x="3055680" y="32767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大小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4" name="Object 15" descr=""/>
          <p:cNvPicPr/>
          <p:nvPr/>
        </p:nvPicPr>
        <p:blipFill>
          <a:blip r:embed="rId2"/>
          <a:stretch/>
        </p:blipFill>
        <p:spPr>
          <a:xfrm>
            <a:off x="1981080" y="4114800"/>
            <a:ext cx="2133720" cy="64440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17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981080" cy="13618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8"/>
          <p:cNvSpPr/>
          <p:nvPr/>
        </p:nvSpPr>
        <p:spPr>
          <a:xfrm>
            <a:off x="4419720" y="4191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7" name="Rectangle 19"/>
          <p:cNvSpPr/>
          <p:nvPr/>
        </p:nvSpPr>
        <p:spPr>
          <a:xfrm>
            <a:off x="1447920" y="50752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说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：质量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的质点，在半径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的圆周上做匀速圆周运动，线速度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，角速度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所需向心力的大小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3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371600" y="3492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向心加速度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向心力产生的 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速度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0" name="Text Box 58"/>
          <p:cNvSpPr/>
          <p:nvPr/>
        </p:nvSpPr>
        <p:spPr>
          <a:xfrm>
            <a:off x="689400" y="12816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1219320" y="43434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匀速圆周运动不仅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变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运动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同时也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变加速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运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2" name="Text Box 66"/>
          <p:cNvSpPr/>
          <p:nvPr/>
        </p:nvSpPr>
        <p:spPr>
          <a:xfrm>
            <a:off x="3285720" y="14158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加速度大小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13" name="Object 67" descr=""/>
          <p:cNvPicPr/>
          <p:nvPr/>
        </p:nvPicPr>
        <p:blipFill>
          <a:blip r:embed="rId1"/>
          <a:stretch/>
        </p:blipFill>
        <p:spPr>
          <a:xfrm>
            <a:off x="4826160" y="2403360"/>
            <a:ext cx="1650960" cy="644760"/>
          </a:xfrm>
          <a:prstGeom prst="rect">
            <a:avLst/>
          </a:prstGeom>
          <a:ln w="0">
            <a:noFill/>
          </a:ln>
        </p:spPr>
      </p:pic>
      <p:pic>
        <p:nvPicPr>
          <p:cNvPr id="614" name="Object 68" descr=""/>
          <p:cNvPicPr/>
          <p:nvPr/>
        </p:nvPicPr>
        <p:blipFill>
          <a:blip r:embed="rId2"/>
          <a:stretch/>
        </p:blipFill>
        <p:spPr>
          <a:xfrm>
            <a:off x="2057400" y="2066760"/>
            <a:ext cx="1444680" cy="13622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69"/>
          <p:cNvSpPr/>
          <p:nvPr/>
        </p:nvSpPr>
        <p:spPr>
          <a:xfrm>
            <a:off x="38098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6" name="Text Box 70"/>
          <p:cNvSpPr/>
          <p:nvPr/>
        </p:nvSpPr>
        <p:spPr>
          <a:xfrm>
            <a:off x="3936960" y="339732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加速度方向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半径指向圆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2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314160" y="349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生活中的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1295280" y="1371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汽车在水平路面上的转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火车的转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动员的弯道跑技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689400" y="12816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Line 2"/>
          <p:cNvSpPr/>
          <p:nvPr/>
        </p:nvSpPr>
        <p:spPr>
          <a:xfrm>
            <a:off x="1066680" y="1600200"/>
            <a:ext cx="7670880" cy="0"/>
          </a:xfrm>
          <a:prstGeom prst="line">
            <a:avLst/>
          </a:prstGeom>
          <a:ln cap="rnd" w="3816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1630440" y="627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课堂练习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3" name="AutoShape 5">
            <a:hlinkClick r:id="" action="ppaction://hlinkshowjump?jump=lastslide"/>
          </p:cNvPr>
          <p:cNvSpPr/>
          <p:nvPr/>
        </p:nvSpPr>
        <p:spPr>
          <a:xfrm>
            <a:off x="800100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12144" y="3837"/>
                </a:moveTo>
                <a:lnTo>
                  <a:pt x="14721" y="6448"/>
                </a:ln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lnTo>
                  <a:pt x="19107" y="10800"/>
                </a:lnTo>
                <a:lnTo>
                  <a:pt x="17454" y="10800"/>
                </a:lnTo>
                <a:lnTo>
                  <a:pt x="17454" y="17989"/>
                </a:lnTo>
                <a:lnTo>
                  <a:pt x="6835" y="17989"/>
                </a:lnTo>
                <a:lnTo>
                  <a:pt x="6835" y="10800"/>
                </a:lnTo>
                <a:lnTo>
                  <a:pt x="5181" y="10800"/>
                </a:lnTo>
                <a:close/>
              </a:path>
              <a:path fill="darkenLess" w="24289" h="21600">
                <a:moveTo>
                  <a:pt x="14721" y="6448"/>
                </a:move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close/>
              </a:path>
              <a:path fill="darkenLess" w="24289" h="21600">
                <a:moveTo>
                  <a:pt x="11222" y="14299"/>
                </a:moveTo>
                <a:lnTo>
                  <a:pt x="13067" y="14299"/>
                </a:lnTo>
                <a:lnTo>
                  <a:pt x="13067" y="17989"/>
                </a:lnTo>
                <a:lnTo>
                  <a:pt x="17454" y="17989"/>
                </a:lnTo>
                <a:lnTo>
                  <a:pt x="17454" y="10800"/>
                </a:lnTo>
                <a:lnTo>
                  <a:pt x="6835" y="10800"/>
                </a:lnTo>
                <a:lnTo>
                  <a:pt x="6835" y="17989"/>
                </a:lnTo>
                <a:lnTo>
                  <a:pt x="1122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371600" y="18464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课本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P37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第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1—5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题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WW_036"/>
          <p:cNvPicPr/>
          <p:nvPr/>
        </p:nvPicPr>
        <p:blipFill>
          <a:blip r:embed="rId1"/>
          <a:stretch/>
        </p:blipFill>
        <p:spPr>
          <a:xfrm>
            <a:off x="3429000" y="1063800"/>
            <a:ext cx="3505320" cy="15364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990720" y="798480"/>
            <a:ext cx="3809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21304"/>
                </a:solidFill>
                <a:latin typeface="Tahoma"/>
                <a:ea typeface="隶书"/>
              </a:rPr>
              <a:t>课外作业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1523880" y="3200400"/>
            <a:ext cx="6934320" cy="762120"/>
          </a:xfrm>
          <a:prstGeom prst="parallelogram">
            <a:avLst>
              <a:gd name="adj" fmla="val 33530"/>
            </a:avLst>
          </a:prstGeom>
          <a:gradFill rotWithShape="0">
            <a:gsLst>
              <a:gs pos="0">
                <a:srgbClr val="a4a38b"/>
              </a:gs>
              <a:gs pos="100000">
                <a:srgbClr val="cbbd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3964" dir="8936435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活页金四导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.13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-9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题　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3:15:36Z</dcterms:created>
  <dc:creator>张明余</dc:creator>
  <dc:description/>
  <dc:language>en-US</dc:language>
  <cp:lastModifiedBy>a</cp:lastModifiedBy>
  <dcterms:modified xsi:type="dcterms:W3CDTF">2015-03-16T09:55:23Z</dcterms:modified>
  <cp:revision>760</cp:revision>
  <dc:subject>高中物理新课标</dc:subject>
  <dc:title>PowerPoint 演示文稿</dc:title>
</cp:coreProperties>
</file>