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254-4DE6-4892-9E58-910F64C4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EA6-F1A2-4D78-A883-F5E872E8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C09A4-5697-429B-86BF-EE39E97A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AC041-01E9-473F-B115-19CA5D55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68177-BD8B-41B5-B05D-6DA495FB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79D95-D1BF-4FB8-A3F8-E83BCEE1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CC58F-B6A1-4F6E-BFE5-89500583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8AA10-88CB-4AED-BF8D-1C3565FC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19B78-5EF1-4445-BA0F-BF06B1CB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52D33-50E1-4807-976A-0B411E99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8196E-6478-4693-B441-A9E24DA4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5D3BA-1215-4517-B78E-0AA1D9FF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55C-80C4-4B38-9D18-928C82D3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68577-1E3A-4C48-BE01-7285829D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6E54A-31EA-40DF-B1F4-E0ED9D39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5F5E6-6056-4130-9967-B658A254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F5483-9BD2-43C0-AA12-72C80CAA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45741-53DA-4F57-BCDA-46B204D8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0519C-F460-47A9-9763-DF9CB3E8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848EF-4D9F-4AAB-B4BB-139CE42C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96A3B-EE38-49AA-A1F1-0C32C9A4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395B6-FF79-4211-8C89-98A2C7AE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02CB7-1316-42E7-AA11-D575E599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F92-82BC-4A80-B4A8-5698F387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E7CBF-AD18-4D11-AABB-76C5D70F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1381D-7361-4E7F-8F62-88E0DB26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6332F-C27C-40AF-80FC-B4B57714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35005-42FA-4011-8EB0-F429CF25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0C33E-0BE2-41A9-9E94-CE9244BD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2CE90-86F4-4475-B891-3B662CFC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94CBE-1773-4F8F-811B-2FE1603E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03625-3F24-496F-BA9E-883CA288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08E8C-A0DF-4D11-BD0A-65F25AAB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54D2A-5BC3-4CAF-BBAD-87F686FA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BB12-7220-4CDF-9584-BBD68D74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B3412-D05C-4AD3-A695-DEE09579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0C64B-75DD-45B4-A7B5-65461CF9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0066F-31F3-44DA-B4D2-EBCCC667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A7E36-BE20-48D5-8313-693ADFB9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D176A-85ED-4B1E-9473-2893FEB2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3AA4B-FF41-432E-8945-0540B90D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E0BD8-0E5A-4DD8-BF72-FD17D80A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2EACB-E356-44E2-B319-1240AB8D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8F6F4-06D9-40AE-B5B4-2544F2CC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7A2D9-EDE5-49BF-BB9F-47BF35F3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0555-735A-40B1-8159-B69BB5EC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2A97D-B37B-46AD-8BCB-1EE499DE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71ABC-B799-4154-A29C-D048AFA1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26F1D-8051-440B-AF85-77F604DA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4F323-A0CF-455C-8329-8ACBD094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6F6ED-2934-4043-977F-42844222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90C19-41CF-43CC-AFDC-F80B0DDE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0DB6D-04E2-451A-9C5E-F854B073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D99A7-7509-4E87-8F0B-75E3E997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931F3-800E-4E95-B6B9-338D7A6C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538D1-E951-47F7-A4E3-31544FA5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779C-6D06-4994-9B41-3E0CC9AD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373FB-882E-40A9-9F9B-B42A58E7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7D666-E864-4B56-8D3E-DB11B76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8D3C2-0EF9-4479-AC24-661D8DCB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D582B-64C4-40A7-90CC-1A48A1C0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24BB2-0E3D-40A8-8287-9E7DE6E8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2C874-10E1-41D6-8B92-0C2F93F5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79F76-A47C-4ED8-8C03-E3BF6E55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68C3-30DF-4231-B056-F84A9DFF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63B8-37B1-46AE-B13F-BF420290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BFAF-10D2-4E7E-BFA5-39FA6348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9773-299E-47AB-A1C4-30FC743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723-FAEB-4A56-8BA2-4A7B6E8C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A408-7CA5-4573-A6A7-44E71B14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4FF5-0A40-42D8-B687-EA8146E4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DB10-A336-49DB-9D83-6142EE2D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58A9-3860-4359-B5D6-ABFAF21B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D0F7-6231-42A8-8722-591D0EB4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9C43C-9736-4B98-B4D5-3A42CEA1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EC68-AF92-4158-84F4-80174A0A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2D3E-603A-4B02-AE6A-25626530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9FDEF-6CE3-4112-9505-9C7C976A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1100-B725-47DD-BB70-5DEDD4F9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49F-F7BF-40EB-8E3B-DB3DACE0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4EE60-11C2-40E1-B61A-DCA29752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15F5-0116-4C19-8604-996835F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02FF-37E9-4515-8911-648E456C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EF515-DCEA-400E-9FD8-71A1111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5ABF-4175-44B2-BF8D-AC7A8D16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11203-01DC-4CA2-9130-E492C4BD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A4E4-31E7-4536-AFE2-51D738B9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B6268-1AA4-4D4B-BC64-2DD44D29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DCE36-CEC6-4A3C-AF55-8F789490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9E748-A774-4206-A5D9-196EB0BF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C360-BD80-4AA2-AE49-04BC126E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AC29-4DAB-4EE9-A6D6-A0291B80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78809-F726-4304-A820-9F6EA6A1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1C003-7AE1-4427-BC49-2D1E2938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EFCF7-EE4F-4E4B-93BE-DDB1D644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2B331-E890-4817-B08C-56D2F28E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C7B8-ABFC-4955-82A3-B1812619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EA2A8-4C08-4F9B-B44B-1A7C4407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AAB5B-B33E-4DE1-B981-1C9C02CB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217E1-D189-4416-A1D1-9BF17CF8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7147E-F304-433D-98F9-1B650C54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95E-5DC7-4CF9-A5DE-D751AC14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61672-282B-45B7-8717-DA47DFD8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A8F5E-AA02-4EF9-A975-5E81D43C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43F7C-45AC-41A3-826B-8B7070B1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37DD7-5E5F-403E-B1A7-C0C81943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89E72-FD51-40BA-A5EF-01555EA6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5EC42-8E8B-4301-A805-70899F71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8B13E-EFE0-4F87-97AB-2E72FF21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4F14-00A1-4C1E-A1C8-48196251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26D06-799A-487B-AB16-905FF380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D8371-4317-4D22-A6FB-64BB1323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CD4-C8CC-42D8-8F0D-FFE8B7FB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AADDF-DEA0-4AF1-8BC6-91C7CF11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0515A-4D8B-42AB-B663-4B6655C7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4C575-D84F-4724-9D58-3A735B77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86CE1-AB43-4A09-99A7-4807E9CA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2806F-AA6A-4B40-906F-CFD66DBD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89D15-20F9-4E38-B68F-260A18D3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E7F6C-24C5-4C81-8F55-B3ABD943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670D6-F757-4205-A304-A35677CA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FEEDC-0947-41D0-B9BB-4FE42852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3C758-193B-4FEE-BE3B-E13A97C3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7AA-DE7E-480C-AE61-18B73A7A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CE534-134B-4D93-B800-F3EF91D4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F3D81-7A3A-4619-AFF3-055E423B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C2E84-32D1-434F-B600-54AF6529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009A1-36F9-46CA-93DF-1E2DE5FD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0F051-7001-40DE-BBF3-B6D2856E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2A21C-E779-4104-B213-243613DA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4AA78-3F4E-4F56-B094-95A563EF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59138-214D-4A57-9B49-83019EA4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5997-2CD2-47B9-89AB-05F8912A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27685-B395-4EA8-ACBE-8C867C0F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FA3-B63D-4F98-BF57-84612CFA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42B54-08CD-4FF1-A9AE-A4EE2A59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CC2C8-8ECD-4F50-AA36-A3FD4380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33118-68D4-4CCA-BBFE-71169277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A3D7A-A2AA-4AC0-A075-1EED065E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B32ED-B697-4D6E-8638-F99B2C0C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305E5-DC87-4707-98E6-1876CD08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0D0E9-AB39-469D-829A-D09E0BCE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50140-2336-48E8-9471-EEC4D7A5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63227-43E2-42B8-8675-698CC0BB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294D2-5FAC-40A1-B0EA-1164FC22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001-4303-4480-9050-6A6ADCF3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D0B1F-1261-4EA6-B06F-B0CFC440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BDC8B-795A-40FE-A47A-DC41850B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65F0E-5D77-4B1F-9714-ED7EB325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74A30-CA97-490C-B907-1419DC56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BACD6-C3A6-4492-893C-7ABD30F5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B2135-5666-4FFE-B863-24378A88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99042-A0AA-4C2D-BDBC-7969E44B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30712-A475-4185-9DC3-EC0BC1F6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96BDB-97E9-49B5-9AE0-01E6874B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AC9B8-B01E-40B3-BCB9-D228F646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A3CB-AF3D-4C0F-B924-F5C3824A5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6024-610C-470C-B3E7-CA420F7A33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7D46-9461-4A23-956C-DF3FA54D79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C812-22C8-4FF1-8363-728226CF9D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1F41-A15C-4D8C-98E3-A3D17B0A04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2DA6-0210-4C3B-B2A7-5FAC81C05F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2EE5-6F11-467B-8597-4E562C57CF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2C1C-3171-4580-B08E-0153398B3E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4CF5-8F4F-4053-AE0C-1560BCD583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7853-D0CB-484E-96FA-55CEDB200E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46D2-D391-4F05-BF2D-96AAB195E4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817C-543E-482A-BA61-5EAA8856C1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8E3C-FB6B-464F-91A8-8C44BD9D6B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E87A-DC46-47BC-BF02-06851FE820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EE3D-EFCD-471B-B995-09896D4B47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D43D-6746-4AFB-AA62-B6A27F5D18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80FA-867A-4FCD-9204-BA7EB9F081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BC36-52B9-4038-A07C-5555EDF853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291D-158A-4493-B991-D8D648DB34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F22E-70D4-4D73-B19E-37C10B456F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CA6B-6C38-449A-9818-9402EA5FD0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F942-8505-4098-93F1-75B7EB46AF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A5B1-C379-416D-9579-A1B324871C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FFDC-9A40-4A39-B9C9-1358F46DFD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1D2F-D545-4640-B5AD-4D4949D178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-36360" y="0"/>
            <a:ext cx="918036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533520" y="380880"/>
            <a:ext cx="609480" cy="1295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7848720" y="304920"/>
            <a:ext cx="457200" cy="53316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4572000" y="1066680"/>
            <a:ext cx="609480" cy="1143000"/>
          </a:xfrm>
          <a:custGeom>
            <a:avLst/>
            <a:gdLst>
              <a:gd name="textAreaLeft" fmla="*/ 250920 w 609480"/>
              <a:gd name="textAreaRight" fmla="*/ 358560 w 6094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"/>
          <p:cNvSpPr/>
          <p:nvPr/>
        </p:nvSpPr>
        <p:spPr>
          <a:xfrm>
            <a:off x="5791320" y="0"/>
            <a:ext cx="533160" cy="1219320"/>
          </a:xfrm>
          <a:custGeom>
            <a:avLst/>
            <a:gdLst>
              <a:gd name="textAreaLeft" fmla="*/ 219600 w 533160"/>
              <a:gd name="textAreaRight" fmla="*/ 313560 w 53316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8"/>
          <p:cNvSpPr/>
          <p:nvPr/>
        </p:nvSpPr>
        <p:spPr>
          <a:xfrm>
            <a:off x="12952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9"/>
          <p:cNvSpPr/>
          <p:nvPr/>
        </p:nvSpPr>
        <p:spPr>
          <a:xfrm>
            <a:off x="1905120" y="1600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10"/>
          <p:cNvSpPr/>
          <p:nvPr/>
        </p:nvSpPr>
        <p:spPr>
          <a:xfrm>
            <a:off x="533520" y="1905120"/>
            <a:ext cx="914400" cy="838080"/>
          </a:xfrm>
          <a:custGeom>
            <a:avLst/>
            <a:gdLst>
              <a:gd name="textAreaLeft" fmla="*/ 376560 w 914400"/>
              <a:gd name="textAreaRight" fmla="*/ 537840 w 9144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1"/>
          <p:cNvSpPr/>
          <p:nvPr/>
        </p:nvSpPr>
        <p:spPr>
          <a:xfrm>
            <a:off x="2743200" y="30492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12"/>
          <p:cNvSpPr/>
          <p:nvPr/>
        </p:nvSpPr>
        <p:spPr>
          <a:xfrm>
            <a:off x="76960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13"/>
          <p:cNvSpPr/>
          <p:nvPr/>
        </p:nvSpPr>
        <p:spPr>
          <a:xfrm>
            <a:off x="6324480" y="457200"/>
            <a:ext cx="8384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1219320" y="2666880"/>
            <a:ext cx="746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9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夏夜多美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ART-05.MI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3"/>
          <p:cNvSpPr/>
          <p:nvPr/>
        </p:nvSpPr>
        <p:spPr>
          <a:xfrm>
            <a:off x="-1440" y="10666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非 感 激 谢 急 时 坛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莲 哭 睁  怕 根腰 爬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ART-05.MI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4"/>
          <p:cNvSpPr/>
          <p:nvPr/>
        </p:nvSpPr>
        <p:spPr>
          <a:xfrm>
            <a:off x="304920" y="380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读读说说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0" y="205740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青青的小山    青青的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绿绿的草坪    绿绿的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弯弯的小路    弯弯的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75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5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"/>
          <p:cNvSpPr/>
          <p:nvPr/>
        </p:nvSpPr>
        <p:spPr>
          <a:xfrm>
            <a:off x="-1440" y="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533520" y="380880"/>
            <a:ext cx="609480" cy="1295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7848720" y="304920"/>
            <a:ext cx="457200" cy="53316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4572000" y="1066680"/>
            <a:ext cx="609480" cy="1143000"/>
          </a:xfrm>
          <a:custGeom>
            <a:avLst/>
            <a:gdLst>
              <a:gd name="textAreaLeft" fmla="*/ 250920 w 609480"/>
              <a:gd name="textAreaRight" fmla="*/ 358560 w 6094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5791320" y="0"/>
            <a:ext cx="533160" cy="1219320"/>
          </a:xfrm>
          <a:custGeom>
            <a:avLst/>
            <a:gdLst>
              <a:gd name="textAreaLeft" fmla="*/ 219600 w 533160"/>
              <a:gd name="textAreaRight" fmla="*/ 313560 w 53316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7"/>
          <p:cNvSpPr/>
          <p:nvPr/>
        </p:nvSpPr>
        <p:spPr>
          <a:xfrm>
            <a:off x="12952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1905120" y="1600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9"/>
          <p:cNvSpPr/>
          <p:nvPr/>
        </p:nvSpPr>
        <p:spPr>
          <a:xfrm>
            <a:off x="533520" y="1905120"/>
            <a:ext cx="914400" cy="838080"/>
          </a:xfrm>
          <a:custGeom>
            <a:avLst/>
            <a:gdLst>
              <a:gd name="textAreaLeft" fmla="*/ 376560 w 914400"/>
              <a:gd name="textAreaRight" fmla="*/ 537840 w 9144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0"/>
          <p:cNvSpPr/>
          <p:nvPr/>
        </p:nvSpPr>
        <p:spPr>
          <a:xfrm>
            <a:off x="2743200" y="30492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11"/>
          <p:cNvSpPr/>
          <p:nvPr/>
        </p:nvSpPr>
        <p:spPr>
          <a:xfrm>
            <a:off x="76960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12"/>
          <p:cNvSpPr/>
          <p:nvPr/>
        </p:nvSpPr>
        <p:spPr>
          <a:xfrm>
            <a:off x="6324480" y="457200"/>
            <a:ext cx="8384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3"/>
          <p:cNvSpPr/>
          <p:nvPr/>
        </p:nvSpPr>
        <p:spPr>
          <a:xfrm>
            <a:off x="0" y="1752480"/>
            <a:ext cx="91425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睡莲问：“小蚂蚁，你怎么啦？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蚂蚁说：“我不小心掉进了池塘，上不了岸啦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-1440" y="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3"/>
          <p:cNvSpPr/>
          <p:nvPr/>
        </p:nvSpPr>
        <p:spPr>
          <a:xfrm>
            <a:off x="533520" y="380880"/>
            <a:ext cx="609480" cy="1295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4"/>
          <p:cNvSpPr/>
          <p:nvPr/>
        </p:nvSpPr>
        <p:spPr>
          <a:xfrm>
            <a:off x="7848720" y="304920"/>
            <a:ext cx="457200" cy="53316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4572000" y="1066680"/>
            <a:ext cx="609480" cy="1143000"/>
          </a:xfrm>
          <a:custGeom>
            <a:avLst/>
            <a:gdLst>
              <a:gd name="textAreaLeft" fmla="*/ 250920 w 609480"/>
              <a:gd name="textAreaRight" fmla="*/ 358560 w 6094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6"/>
          <p:cNvSpPr/>
          <p:nvPr/>
        </p:nvSpPr>
        <p:spPr>
          <a:xfrm>
            <a:off x="5791320" y="0"/>
            <a:ext cx="533160" cy="1219320"/>
          </a:xfrm>
          <a:custGeom>
            <a:avLst/>
            <a:gdLst>
              <a:gd name="textAreaLeft" fmla="*/ 219600 w 533160"/>
              <a:gd name="textAreaRight" fmla="*/ 313560 w 53316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7"/>
          <p:cNvSpPr/>
          <p:nvPr/>
        </p:nvSpPr>
        <p:spPr>
          <a:xfrm>
            <a:off x="12952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8"/>
          <p:cNvSpPr/>
          <p:nvPr/>
        </p:nvSpPr>
        <p:spPr>
          <a:xfrm>
            <a:off x="1905120" y="1600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9"/>
          <p:cNvSpPr/>
          <p:nvPr/>
        </p:nvSpPr>
        <p:spPr>
          <a:xfrm>
            <a:off x="533520" y="1905120"/>
            <a:ext cx="914400" cy="838080"/>
          </a:xfrm>
          <a:custGeom>
            <a:avLst/>
            <a:gdLst>
              <a:gd name="textAreaLeft" fmla="*/ 376560 w 914400"/>
              <a:gd name="textAreaRight" fmla="*/ 537840 w 9144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0"/>
          <p:cNvSpPr/>
          <p:nvPr/>
        </p:nvSpPr>
        <p:spPr>
          <a:xfrm>
            <a:off x="2743200" y="30492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11"/>
          <p:cNvSpPr/>
          <p:nvPr/>
        </p:nvSpPr>
        <p:spPr>
          <a:xfrm>
            <a:off x="76960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12"/>
          <p:cNvSpPr/>
          <p:nvPr/>
        </p:nvSpPr>
        <p:spPr>
          <a:xfrm>
            <a:off x="6324480" y="457200"/>
            <a:ext cx="8384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0" y="1981080"/>
            <a:ext cx="91425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睡莲说：“今晚就在这儿住下吧！你瞧夏夜多美啊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蚂蚁摇摇头说：“我得回家。要不，爸爸妈妈会着急的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-1440" y="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3"/>
          <p:cNvSpPr/>
          <p:nvPr/>
        </p:nvSpPr>
        <p:spPr>
          <a:xfrm>
            <a:off x="533520" y="380880"/>
            <a:ext cx="609480" cy="1295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7848720" y="304920"/>
            <a:ext cx="457200" cy="53316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4572000" y="1066680"/>
            <a:ext cx="609480" cy="1143000"/>
          </a:xfrm>
          <a:custGeom>
            <a:avLst/>
            <a:gdLst>
              <a:gd name="textAreaLeft" fmla="*/ 250920 w 609480"/>
              <a:gd name="textAreaRight" fmla="*/ 358560 w 6094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6"/>
          <p:cNvSpPr/>
          <p:nvPr/>
        </p:nvSpPr>
        <p:spPr>
          <a:xfrm>
            <a:off x="5791320" y="0"/>
            <a:ext cx="533160" cy="1219320"/>
          </a:xfrm>
          <a:custGeom>
            <a:avLst/>
            <a:gdLst>
              <a:gd name="textAreaLeft" fmla="*/ 219600 w 533160"/>
              <a:gd name="textAreaRight" fmla="*/ 313560 w 53316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7"/>
          <p:cNvSpPr/>
          <p:nvPr/>
        </p:nvSpPr>
        <p:spPr>
          <a:xfrm>
            <a:off x="12952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1905120" y="1600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9"/>
          <p:cNvSpPr/>
          <p:nvPr/>
        </p:nvSpPr>
        <p:spPr>
          <a:xfrm>
            <a:off x="533520" y="1905120"/>
            <a:ext cx="914400" cy="838080"/>
          </a:xfrm>
          <a:custGeom>
            <a:avLst/>
            <a:gdLst>
              <a:gd name="textAreaLeft" fmla="*/ 376560 w 914400"/>
              <a:gd name="textAreaRight" fmla="*/ 537840 w 9144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0"/>
          <p:cNvSpPr/>
          <p:nvPr/>
        </p:nvSpPr>
        <p:spPr>
          <a:xfrm>
            <a:off x="2743200" y="30492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1"/>
          <p:cNvSpPr/>
          <p:nvPr/>
        </p:nvSpPr>
        <p:spPr>
          <a:xfrm>
            <a:off x="76960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2"/>
          <p:cNvSpPr/>
          <p:nvPr/>
        </p:nvSpPr>
        <p:spPr>
          <a:xfrm>
            <a:off x="6324480" y="457200"/>
            <a:ext cx="8384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3"/>
          <p:cNvSpPr/>
          <p:nvPr/>
        </p:nvSpPr>
        <p:spPr>
          <a:xfrm>
            <a:off x="1219320" y="2666880"/>
            <a:ext cx="74660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75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5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5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ART-05.MI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4"/>
          <p:cNvSpPr/>
          <p:nvPr/>
        </p:nvSpPr>
        <p:spPr>
          <a:xfrm>
            <a:off x="0" y="380880"/>
            <a:ext cx="914400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i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á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n   k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ū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  zh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ē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ng    p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à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   g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ē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n   y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ā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    p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莲 哭 睁  怕 根腰 爬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ē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i   g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ă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n    j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ī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    xi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è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    j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í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     sh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í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    t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á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非 感 激 谢 急 时 坛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之家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ART-05.MI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-1440" y="10666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非 感 激 谢 急 时 坛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莲 哭 睁  怕 根腰 爬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ART-05.MI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0" y="614520"/>
            <a:ext cx="914400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睡莲  哭声  睁眼  树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山腰  非常  感激  感谢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急忙  时间  花坛  爬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激动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2" descr="pic_6620"/>
          <p:cNvPicPr/>
          <p:nvPr/>
        </p:nvPicPr>
        <p:blipFill>
          <a:blip r:embed="rId1"/>
          <a:srcRect l="0" t="55103" r="0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-1440" y="-17316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3"/>
          <p:cNvSpPr/>
          <p:nvPr/>
        </p:nvSpPr>
        <p:spPr>
          <a:xfrm>
            <a:off x="533520" y="380880"/>
            <a:ext cx="609480" cy="1295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4"/>
          <p:cNvSpPr/>
          <p:nvPr/>
        </p:nvSpPr>
        <p:spPr>
          <a:xfrm>
            <a:off x="7848720" y="304920"/>
            <a:ext cx="457200" cy="53316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4572000" y="1066680"/>
            <a:ext cx="609480" cy="1143000"/>
          </a:xfrm>
          <a:custGeom>
            <a:avLst/>
            <a:gdLst>
              <a:gd name="textAreaLeft" fmla="*/ 250920 w 609480"/>
              <a:gd name="textAreaRight" fmla="*/ 358560 w 6094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5791320" y="0"/>
            <a:ext cx="533160" cy="1219320"/>
          </a:xfrm>
          <a:custGeom>
            <a:avLst/>
            <a:gdLst>
              <a:gd name="textAreaLeft" fmla="*/ 219600 w 533160"/>
              <a:gd name="textAreaRight" fmla="*/ 313560 w 53316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12952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1905120" y="1600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9"/>
          <p:cNvSpPr/>
          <p:nvPr/>
        </p:nvSpPr>
        <p:spPr>
          <a:xfrm>
            <a:off x="533520" y="1905120"/>
            <a:ext cx="914400" cy="838080"/>
          </a:xfrm>
          <a:custGeom>
            <a:avLst/>
            <a:gdLst>
              <a:gd name="textAreaLeft" fmla="*/ 376560 w 914400"/>
              <a:gd name="textAreaRight" fmla="*/ 537840 w 9144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0"/>
          <p:cNvSpPr/>
          <p:nvPr/>
        </p:nvSpPr>
        <p:spPr>
          <a:xfrm>
            <a:off x="2743200" y="30492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1"/>
          <p:cNvSpPr/>
          <p:nvPr/>
        </p:nvSpPr>
        <p:spPr>
          <a:xfrm>
            <a:off x="76960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2"/>
          <p:cNvSpPr/>
          <p:nvPr/>
        </p:nvSpPr>
        <p:spPr>
          <a:xfrm>
            <a:off x="6324480" y="457200"/>
            <a:ext cx="8384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0" y="1752480"/>
            <a:ext cx="914256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蚂蚁掉进了池塘，谁帮他爬上岸了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蚂蚁要回家了，谁帮他了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2" descr="pic_6622"/>
          <p:cNvPicPr/>
          <p:nvPr/>
        </p:nvPicPr>
        <p:blipFill>
          <a:blip r:embed="rId1"/>
          <a:srcRect l="0" t="68370" r="0" b="0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3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0" y="5853240"/>
            <a:ext cx="9142560" cy="1015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"/>
          <p:cNvSpPr/>
          <p:nvPr/>
        </p:nvSpPr>
        <p:spPr>
          <a:xfrm>
            <a:off x="-1440" y="-17136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3"/>
          <p:cNvSpPr/>
          <p:nvPr/>
        </p:nvSpPr>
        <p:spPr>
          <a:xfrm>
            <a:off x="533520" y="380880"/>
            <a:ext cx="609480" cy="1295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4"/>
          <p:cNvSpPr/>
          <p:nvPr/>
        </p:nvSpPr>
        <p:spPr>
          <a:xfrm>
            <a:off x="7848720" y="304920"/>
            <a:ext cx="457200" cy="53316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5"/>
          <p:cNvSpPr/>
          <p:nvPr/>
        </p:nvSpPr>
        <p:spPr>
          <a:xfrm>
            <a:off x="4572000" y="1066680"/>
            <a:ext cx="609480" cy="1143000"/>
          </a:xfrm>
          <a:custGeom>
            <a:avLst/>
            <a:gdLst>
              <a:gd name="textAreaLeft" fmla="*/ 250920 w 609480"/>
              <a:gd name="textAreaRight" fmla="*/ 358560 w 6094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6"/>
          <p:cNvSpPr/>
          <p:nvPr/>
        </p:nvSpPr>
        <p:spPr>
          <a:xfrm>
            <a:off x="5791320" y="0"/>
            <a:ext cx="533160" cy="1219320"/>
          </a:xfrm>
          <a:custGeom>
            <a:avLst/>
            <a:gdLst>
              <a:gd name="textAreaLeft" fmla="*/ 219600 w 533160"/>
              <a:gd name="textAreaRight" fmla="*/ 313560 w 53316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7"/>
          <p:cNvSpPr/>
          <p:nvPr/>
        </p:nvSpPr>
        <p:spPr>
          <a:xfrm>
            <a:off x="12952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8"/>
          <p:cNvSpPr/>
          <p:nvPr/>
        </p:nvSpPr>
        <p:spPr>
          <a:xfrm>
            <a:off x="1905120" y="1600200"/>
            <a:ext cx="533160" cy="609480"/>
          </a:xfrm>
          <a:custGeom>
            <a:avLst/>
            <a:gdLst>
              <a:gd name="textAreaLeft" fmla="*/ 219600 w 533160"/>
              <a:gd name="textAreaRight" fmla="*/ 313560 w 53316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9"/>
          <p:cNvSpPr/>
          <p:nvPr/>
        </p:nvSpPr>
        <p:spPr>
          <a:xfrm>
            <a:off x="533520" y="1905120"/>
            <a:ext cx="914400" cy="838080"/>
          </a:xfrm>
          <a:custGeom>
            <a:avLst/>
            <a:gdLst>
              <a:gd name="textAreaLeft" fmla="*/ 376560 w 914400"/>
              <a:gd name="textAreaRight" fmla="*/ 537840 w 9144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10"/>
          <p:cNvSpPr/>
          <p:nvPr/>
        </p:nvSpPr>
        <p:spPr>
          <a:xfrm>
            <a:off x="2743200" y="30492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11"/>
          <p:cNvSpPr/>
          <p:nvPr/>
        </p:nvSpPr>
        <p:spPr>
          <a:xfrm>
            <a:off x="7696080" y="914400"/>
            <a:ext cx="533520" cy="838080"/>
          </a:xfrm>
          <a:custGeom>
            <a:avLst/>
            <a:gdLst>
              <a:gd name="textAreaLeft" fmla="*/ 219960 w 533520"/>
              <a:gd name="textAreaRight" fmla="*/ 313560 w 5335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12"/>
          <p:cNvSpPr/>
          <p:nvPr/>
        </p:nvSpPr>
        <p:spPr>
          <a:xfrm>
            <a:off x="6324480" y="457200"/>
            <a:ext cx="8384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1440" y="2590920"/>
            <a:ext cx="914256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   </a:t>
            </a:r>
            <a:r>
              <a:rPr b="0" lang="zh-CN" sz="66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你觉得夏夜美吗？美在什么地方？光是风景美吗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ART-05.MID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4"/>
          <p:cNvSpPr/>
          <p:nvPr/>
        </p:nvSpPr>
        <p:spPr>
          <a:xfrm>
            <a:off x="0" y="1368360"/>
            <a:ext cx="914400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睡莲                               救上岸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蜻蜓          小蚂蚁        飞机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萤火虫                           小灯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星星眨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2819520" y="0"/>
            <a:ext cx="419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夏夜多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2590920" y="563868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心灵更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7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7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7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8:57:36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7T06:22:25Z</dcterms:modified>
  <cp:revision>6</cp:revision>
  <dc:subject/>
  <dc:title>第一PPT模板网-WWW.1PPT.COM</dc:title>
</cp:coreProperties>
</file>