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chimes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F1A-4C7F-4D0E-93C4-0F477370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81C-AB5B-4BE3-B33A-F223AF1F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00F51-3534-4902-BC94-CD01ECC2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0298E-A7CD-4DA1-88CA-DDF986DF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90EF1-C65A-46E7-9AD8-8203F214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856A5-08AB-4158-B07D-5DE22D6B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54A7C-2C7B-448C-987D-70EEFB63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604DB-C080-4A69-83B1-91CA9147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F5B41-8DB2-4AD5-9EBB-9B7C5658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45405-95C6-4A02-8C03-BF7241B2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8ABE4-B89B-4FEC-88BD-BF473912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CE6E3-354F-4B5E-8086-F0C3F96B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F309-1FCF-4018-B916-25922E0F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A8997-DE02-4467-AE1C-E93E8200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0A2A1-F6FE-419B-840A-7BE1C2E2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1511C-3CC3-4E78-B1BB-88BAE67A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5F1EE-7B08-4A9F-9396-500F9DB8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03F9E-620D-4408-9473-244B0DE0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DB313-38CC-45B7-85A2-E677C0B7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CB04F-71F1-48C8-863A-7DE55B82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75983-94AC-4279-A2FD-86755FF6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13E33-5405-45EE-BB28-AC592F20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25633-AE53-4688-9871-80C8E290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00AE-891D-4BD6-B9AD-2A95723D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6A781-2BA2-4A44-BB7C-6822E538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03A9B-F94C-49A2-9C3A-BCBE8FD0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68BB1-1E7F-4B4B-A3AA-2BE9B291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0306A-C7DB-457E-B3A2-6830D34E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218FD-0837-4DF5-AB5F-B884EC58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98A29-30B9-4C5C-AD06-C62918B5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DA541-7B32-4ECE-B3D6-0DF32999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A3866-05FB-40DE-91DC-014F11F5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CC1D8-4BCA-41F8-AA7C-83351C4F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0E71D-5ABC-4423-BB71-D3FE9308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88A0-84C9-433B-8A25-21555FFB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4144E-C2EE-44EB-A85E-306FE479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BDADF-851D-46E0-8192-05F301FE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37F1F-2ACE-4330-AB16-E53F90D8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65165-2E60-4161-BAC4-C0E25216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2ECCF-B985-45BA-8C12-E31D2502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35C28-0AFD-4AE2-B875-563DA7FD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B24B2-BFFE-42C4-AB1E-DDCFC250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EB1A1-38F7-4DE4-B9CA-FF6755DD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49615-C90B-4824-8D69-433788CB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DCB2A-B554-4E45-9718-4AC68191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F8BF-489E-499A-8A23-A3417A87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AF830-28A4-49F6-897E-5315BBC7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8FA7C-9D52-4F07-8EA6-EB14DF51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4E108-D039-4568-B737-28F1EA6B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D3183-2D82-4130-90F3-017D7C4D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EE352-DF8E-479B-88D4-965CDC29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4826A9-3A6B-4B19-9336-512382F5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8D3910-3B64-4BE2-960B-200DD241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2D48C-C5F8-4A4D-A035-591E7676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F1C884-1614-4F65-A75B-CBBD01D5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16FE4-8A04-427D-9F80-D2CBE2E0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BEA1-11E8-4E63-AA01-D75BC6B6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0C8EF-27B8-4626-B272-BD631114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C96B8-58B5-45A5-A357-60F56F85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218433-0274-44BB-A7FF-41DEBF1D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C5DE84-0C1D-4B8F-8F75-BA798473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977A3-E243-4EDF-8C26-76080441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4A629-4561-4FED-91B7-4B089B83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0DC46-451F-4D90-9C63-1F4D05C9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86AF8F-4488-4AEE-87FA-FB4EE657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F0F428-5F19-47FA-B583-312BAF6F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05C3D-F90A-46F9-91B1-F9D3993F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9E9A-42A6-42E4-8EED-F7798F0D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72DA83-3B20-4989-AEEB-F80E20C0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9F4E42-A440-4CC6-9B28-AC1D9412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785E07-B08F-4CAA-9645-296CEF64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02C5AF-2984-40B8-8A56-1F9628A4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6E0CB4-6BA8-4231-8DAA-8E8A86D9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0F0CD1-7037-4C17-9956-D0569D06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462F0-B2EA-48F9-BB82-9DFD638D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97B42F-56E6-40A2-84C1-5EC82E3C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211B8A-CBBE-4FAB-A1FA-53DAB8A1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0711-1B67-4699-8EDB-68075DF9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2EFB-CC18-4D5C-AD18-A6A206BE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37FA-1E79-4F39-AB6F-D8160988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ED67-089D-49AB-B7C5-E83AD418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6D00-8534-431E-A53F-C75055F3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FEAF-13EE-4206-9FAD-B72C7ED3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4808-F62E-4196-88B5-F962CFD0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501B-E404-40C6-8D2F-2C621CF1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7CF0-4F7E-46B8-B32B-1A68E0B6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386AD-002E-425A-A8AE-B911B8A0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AC8F1-C516-40C6-A462-70FF27FB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443C5-5847-4A9B-BD34-CD55C72F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8D799-174B-494C-84A8-8681D696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1E11D-9E49-4520-839B-9793F4E9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FA8-B4B2-4CE8-91C5-BD829E82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394C3-93BC-409C-AE75-AA30A99F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12D22-1363-4ACC-87A6-1FD7A187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08BA9-956E-474B-9F46-D683D16E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C89AD-F3E1-48E3-8710-75416FDD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53242-0F52-45A1-B818-1862619D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2FE09-BCD9-4D73-AF53-ACFFD3B2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1C5CC-890C-4FDB-B97A-F690EA1D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204C4-8DD2-48A2-9847-D4689F39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39CFA-EB96-4BD9-A206-EE9D310B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DD740-D1F6-4C02-ADA3-B87B741C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2F7-AE07-4EE5-A5FD-0C34019C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6C4D3-A3CB-4C21-A1D2-9F1CCED5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B29AE-109B-41BB-89C6-1806480C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27E35-84C7-42A5-BE65-AEF4027B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D1CE4-5076-474E-BEC0-8EAE6FDE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509BB-42DC-4C17-99D1-C99EE183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05A25-FB90-456D-B534-A56895B9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0BE43-879A-44EC-92D6-BF83463D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B9B08-F91A-4EA4-A99B-71AB3361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D21EF-90AC-4ABB-9E78-9F221D72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294FD-DB7A-44BC-96FC-522CA7BF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863-665D-4C6A-B4E4-E8F32E3C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71090-FA17-4845-9CA1-5ED2CB87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192B5-2105-4801-8AC4-76CF2B89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78BB6-766B-4AF6-84EB-0970D554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938EC-2BC2-4DE4-AAF5-AEFAFEA4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1A88B-C723-421C-B744-EA8955A0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69005-698D-4BC1-A153-EF920F52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31C1E-61C3-4497-A570-97F37FC8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8796C-0EFA-4B70-8838-2FDDE8CE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15965-F19A-41CD-9637-2115B2D5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5C7B3-3B9C-4C0A-B23E-E9AE2233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799-7162-4352-AD45-951A0472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0FCFB-E5CD-4F1E-ADC9-3CCFD734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8B4E7-77CA-41B5-B833-3E3603E7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B8AEB-BFC6-444D-95A3-C2747D40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A7311-E282-4A33-B427-A89CE8FB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C9BD3-D538-4935-9367-14B3F480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D379B-4479-4207-BF2E-D6AC8E06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05C6A-4161-4864-B635-9829270D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17688-9BA9-49C3-8EC0-CC0D1F94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DE772-4CB6-4809-A8B4-6804294C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369C7-DC58-4C17-A96E-69C0297E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7BB-1A39-48E5-B72C-4E71251D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DC252-911C-44F3-B940-01686A65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7698D-B80D-475B-AB34-E07927C3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2FABC-DC1D-4A84-B811-2690B47B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D7D2F-1F05-4EB7-9CAD-73DAB549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DE8CA-449A-45A0-8E15-A58F8F2B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15D8D-1430-40DA-9838-90C00F13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4C01E-41A3-4E20-97BE-784476F8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CC6F3-2377-429E-B822-060CFDF2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7BA46-AE96-4B5C-B198-4EBD07F7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037C2-2CDC-4E57-BDFC-AA0C8B62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BC9-E5AF-4A41-8BA4-A4FCCB25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7F6F4-AE73-4097-8005-776B6190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8E7B7-3157-457D-A5EA-579C06E8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75236-4E46-45C9-8165-334912EB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E527E-03CD-46C9-BD6A-80F711B4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15DE7-016D-4D52-B833-94CF3580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A78EC-5A95-4B30-B3B0-40A79D8F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3AACA-649C-4E79-86FA-BDD1A9D7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D5DD4-8496-42FC-97A2-96B76DDE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5EA97-54F8-4904-ACEA-59F4A189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7BD7D-1AF7-4250-AC80-EEE6CE41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0EF-3725-4E0D-AE72-FE0E36BF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E93EA-84EE-4C28-9770-07E7D69B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AC707-23A7-4C32-B2A8-C1EA1EA3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D3712-0ADF-423C-9E74-E264BF3D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96A49-E7DD-4822-80D5-809A0E37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9E3A2-9C97-47D2-8A23-E7B34493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F0177-123A-4FA5-BBDD-78027224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09C8E-D912-4794-A2F0-3361D53F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8BB5C-AC64-4B1B-8EBE-CF1648A9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4ABCB-622E-4687-ABAF-3DA1E9B6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1D8D9-A71A-4602-84E7-B680D81C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0E03-5FBB-482D-86C7-C8A07BC183F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4F2A-F393-4550-819D-CEE3AEB4C61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4B0F-6F21-41FD-A401-75564FB2CC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AE8B-468D-4C7F-9598-9D3C0F0DEDE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EA5E-C1A2-43CA-9096-E1C2E38A66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B711-0614-4CF7-B6D6-6E05FE5D716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BB3F-1A96-4052-9CD3-7F21C32E94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D03C-33DE-4240-B255-C9BE29C5854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027E-5A43-4761-A3AC-429C86882D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C7A3-9CEE-4EBD-AAB9-A891DB0E865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0B7C-AFD8-4F98-8385-17637B10C3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3C34-7E44-4BCB-B2E9-9C4523F6CC0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9580-A775-451B-B4F4-C235532920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3435-8023-4888-AE73-3139D677961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CDCF-1104-41F3-B3A2-02106C3FC69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9873-3FC2-4517-B154-AB10C2D1D7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20FC-1B8D-4D6F-8662-5030AA06464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82F8-A84C-4EC6-8138-C58F8ADEF0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85FA-DE54-40AE-8B8A-15BB2E835DC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D8E5-51BC-4FB1-8B91-E53636614F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2E0C-07DC-4BF0-8AD6-48CB5B84B6C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7C50-F5E8-4875-BD11-BBF6C64331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C03B-6523-4EE7-80D6-772AC62A0C9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11A5-07E1-4795-BD78-56F65694C0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6BA7-ED01-43D7-9FC5-FB3F666B7A9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2745-ACC2-4F88-A079-10653F9A47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492360" y="1235520"/>
            <a:ext cx="5042160" cy="23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8800" spc="-1" strike="noStrike">
              <a:solidFill>
                <a:srgbClr val="ff0000"/>
              </a:solidFill>
              <a:latin typeface="Arial"/>
              <a:ea typeface="华文行楷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68000" y="4986000"/>
            <a:ext cx="70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制作者：康国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单  位：内蒙古扎兰屯林业学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1b60f"/>
                </a:solidFill>
                <a:latin typeface="楷体_GB2312"/>
                <a:ea typeface="楷体_GB2312"/>
              </a:rPr>
              <a:t>关于工作能力 </a:t>
            </a:r>
            <a:endParaRPr b="0" lang="en-US" sz="3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的适应能力如何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中专三年你做过最得意的事情是什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业余时间你都干些什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参加过什么样的课外活动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329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1b60f"/>
                </a:solidFill>
                <a:latin typeface="楷体_GB2312"/>
                <a:ea typeface="楷体_GB2312"/>
              </a:rPr>
              <a:t>关于人际关系 </a:t>
            </a:r>
            <a:endParaRPr b="0" lang="en-US" sz="3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喜欢与什么样的人交往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喜欢独立工作还是与别人合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喜欢什么样的领导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344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1b60f"/>
                </a:solidFill>
                <a:latin typeface="楷体_GB2312"/>
                <a:ea typeface="楷体_GB2312"/>
              </a:rPr>
              <a:t>关于工作态度 </a:t>
            </a:r>
            <a:endParaRPr b="0" lang="en-US" sz="3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遇到过的最大的困难是什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如果为了某事你受到批评怎么办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想怎样取得成功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1b60f"/>
                </a:solidFill>
                <a:latin typeface="楷体_GB2312"/>
                <a:ea typeface="楷体_GB2312"/>
              </a:rPr>
              <a:t>其他 </a:t>
            </a:r>
            <a:endParaRPr b="0" lang="en-US" sz="3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71280" y="1773360"/>
            <a:ext cx="7561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你喜欢你的学校吗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你是不是打算继续学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你爱读什么样的书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你身体状况如何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你觉得学历和工作经验哪个更重要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你还有什么疑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这暗示着面试将要结束。应把握住机会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通过提问或表态等方式强化主考官对你的印象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639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1b60f"/>
                </a:solidFill>
                <a:latin typeface="Arial"/>
                <a:ea typeface="华文行楷"/>
              </a:rPr>
              <a:t>应聘过程中的基本礼仪。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提前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-10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分钟到达面试地点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进入面试场合时不要紧张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对主考官的问题要逐一回答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在整个面试过程中，要保持举止文雅大方，谈吐谦虚谨慎，态度积极热情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646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1b60f"/>
                </a:solidFill>
                <a:latin typeface="Arial"/>
                <a:ea typeface="华文行楷"/>
              </a:rPr>
              <a:t>对应聘的九条求职建议。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258920" y="2133360"/>
            <a:ext cx="761832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告诉你遇到的第一个人关于你的目标和你想做的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不要害怕给考官打电话，最坏的可能就是他们说“不”，妙极了！永远要知道要联系的对方的名字，写给“主管者”的求职信永远是不管用的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没有完美的面试时问题的标准答案，考官仅仅想知道你能否进行理智的谈话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不要担心即使你的分数没有其他的求职者高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考官关心的不是你学习成绩是否优秀，他们想要的是，聪明的并有求知欲的人。 要有恒心，不要太容易的就把老板的一个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”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作为答复，老板们太忙，没有时间来答复你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必须有始有终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要尊敬秘书和助手，她们拥有真正的权力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振作起来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一下子发了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份履历然后在那儿等电话并不是好的求职方式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73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Arial"/>
                <a:ea typeface="华文行楷"/>
              </a:rPr>
              <a:t>模拟应聘活动方案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1187280" y="1628640"/>
            <a:ext cx="7417080" cy="45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活动目的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㈠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使学生懂得参加应聘活动的重要意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㈡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在活动中运用应聘的基本知识，应聘技巧，以达到熟练掌握应聘的方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㈢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培养学生的自信心，提高应聘成功率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总体要求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认真准备，积极参与，学中练、练中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活动程序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㈠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应聘会场布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㈡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工作人员职责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⑴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组织应聘活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⑵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介绍应聘者的姓名、性别、身高、体重等情况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5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4"/>
          <p:cNvSpPr/>
          <p:nvPr/>
        </p:nvSpPr>
        <p:spPr>
          <a:xfrm>
            <a:off x="539640" y="549360"/>
            <a:ext cx="835344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㈢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应聘内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自我介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要求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⑴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穿着得体，仪态端庄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⑵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使用普通话、声音宏亮、流利准确、语言简练、实事求是。（要涉及应聘岗位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⑶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头正身直，目视评委、面带微笑、落落大方。注意持麦克风的姿势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⑷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介绍 结束要说：“介绍完毕”或“谢谢大家”。时间不超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分钟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⒉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普通话朗读要求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⑴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注意方音辨正：声母方面：分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-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--f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h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 -z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等。韵母方面：分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—ei en—eng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--ing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⑵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变调和复读：注音分辨“一”，“不”，语气向“啊”以及“儿化”等的变调和复读等。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⑶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感情抒发，朗读别人的作品首先要认真领会作品中的思想，情感，以便采用恰当的语调、语气，把作品的思想、情感，生动形象地传过听众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611280" y="260280"/>
            <a:ext cx="8064360" cy="61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⒊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回答提问（不限此题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⑴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讲一件你最难忘的事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⑵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哪些名著对你影响最大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⑶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你将如何面对新的工作？（报定的态度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⑷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在工作中你遇到你的亲戚违规，你将如何办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⑸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安排的工作与你理想中的工作发生冲突时，你将如何办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⑹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在工作中遇到顾客故意刁难，你将怎么办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⑺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顾客要求你帮助解决不属于你管辖的工作，你将如何办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⑻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纪律有何重要意义？如何遵守单位的规章制度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⑼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在你工作时家中出现意外事情你将如何办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⑽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你有何特长、爱好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⑾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你谈一件工作中的失误及体会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⑿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你唱一首你喜欢的歌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⒀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用英语介绍你的姓名、性别及特长爱好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请你画一幅（简笔）画或用钢笔写一段文字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你的座右铭是什么，你的理想是什么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⒃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你在专业学习中，有哪些收获或你认为学生时代学到了什么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你怎样理解“没有不好的工作、只有做不好的人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⒅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你怎样理解“第一：顾客永远都是对的；第二：当顾客出现错误时请按第一条执行？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⒆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在继续专业技术方面，你有何打算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⒇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你知道的文明礼貌用语有哪些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(2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我们这里工作苦、管理严、你能承受吗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(22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你为什么到我们单位来应聘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286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教学内容</a:t>
            </a:r>
            <a:endParaRPr b="0" lang="en-US" sz="4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340000" y="2421000"/>
            <a:ext cx="459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企业青睐什么样的人才？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应聘应该注意哪些问题？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应聘的基本技巧有哪些？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面试中常见的基本问题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应聘过程中的基本礼仪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对应聘的九条求职建议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826920" y="907920"/>
            <a:ext cx="78487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主考官还可能提一些“偏题”“怪题”，要求你临时回答，测试你的机智敏锐，那么，如何对待：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⑴</a:t>
            </a: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要镇定自如，树立信心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⑵</a:t>
            </a: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巧取角度，出奇制胜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⑶</a:t>
            </a: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面对提出的问题，不能立即回答时，为了避免冷场，可以通过重复叙述问题“拖延”时间，与此同时，一边紧张思索答案。回答时不能废话“太多”，不可乱绕圈子，也不可离题万里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⑷</a:t>
            </a: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对有些问题，可能一片茫然，不知怎么回答时千万不要惊慌失措，能回答多少答多少，遇到无法明确表态的问题，就用模糊语言回答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要求：神情专注，听懂题意，切中要点，切忌答非所问（其它同自我介绍要求）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4"/>
          <p:cNvSpPr/>
          <p:nvPr/>
        </p:nvSpPr>
        <p:spPr>
          <a:xfrm>
            <a:off x="1187280" y="1268280"/>
            <a:ext cx="763272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走姿 、坐姿要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坐姿要求：入座要求轻而缓慢，上体正直，入席后双膝相碰，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两手自然放在双膝或者座椅的扶手上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对走姿的要求：上体正直，挺胸收腹，精神饱满，两眼平视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方，跨步均匀，步速适中，步幅为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—1.5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长，避免“内八字”或“外八字”，双臂自然摆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变考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⑴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应聘台脏乱，应聘者会打扫吗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⑵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应聘室水笼头无人关，应聘者主动关上吗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⑶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倒地的扫帚，应聘者会拾起来吗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⑷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地面有散落的糖果袋、纸屑、应聘者会主动捡起来放入垃圾桶吗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课后作业</a:t>
            </a:r>
            <a:endParaRPr b="0" lang="en-US" sz="4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针对应聘的有关问题，思考如何回答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分组开展应聘训练活动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教学周第五周第一节课举行模拟应聘活动，提前做好模拟应聘准备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下节课讲授内容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求职简历的写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2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639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1b60f"/>
                </a:solidFill>
                <a:latin typeface="Arial"/>
                <a:ea typeface="华文行楷"/>
              </a:rPr>
              <a:t>企业青睐什么样的人才？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700000" y="2492280"/>
            <a:ext cx="4233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认同企业文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突出的专业技能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良好的综合素质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语言表达能力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46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1b60f"/>
                </a:solidFill>
                <a:latin typeface="Arial"/>
                <a:ea typeface="华文行楷"/>
              </a:rPr>
              <a:t>应聘应该注意哪些问题？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195640" y="2276640"/>
            <a:ext cx="4162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全面了解企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精心准备简历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展现你的特长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得体的言谈举止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61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1b60f"/>
                </a:solidFill>
                <a:latin typeface="Arial"/>
                <a:ea typeface="华文行楷"/>
              </a:rPr>
              <a:t>应聘的基本技巧有哪些？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7488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精心准备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面带微笑，保持自信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核实对方需要什么，然后向他表明你将如何满足其需要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留心你的一举一动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以最佳方式、在最佳时间开始你的面试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对求职者来说，最重要的是面试开始时的头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秒和前五分钟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不要局限于用一两个字回答考官的问题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文凭不能解决所有的问题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随身携带一枝笔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注意聆听，仔细观察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掌握好结束面试环节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588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1b60f"/>
                </a:solidFill>
                <a:latin typeface="Arial"/>
                <a:ea typeface="华文行楷"/>
              </a:rPr>
              <a:t>面试中常见的基本问题。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4449600" cy="36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为什么选择我公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过去的工作经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对工作期望与目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喜欢这份工作的哪一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谈谈接受挫折的经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4788000" y="2997360"/>
            <a:ext cx="414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选择这份工作的动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你认为业界发展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你的优点是什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谈谈人际关系生活经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你希望的待遇为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329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1b60f"/>
                </a:solidFill>
                <a:latin typeface="楷体_GB2312"/>
                <a:ea typeface="楷体_GB2312"/>
              </a:rPr>
              <a:t>关于个人简况 </a:t>
            </a:r>
            <a:endParaRPr b="0" lang="en-US" sz="3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9214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谈谈你自己。这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个比较随便的设问，主考官为了使你消除紧张心理，通常把它作为第一个问题提出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你的家庭情况怎样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你谈恋爱了吗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你有什么特长，爱好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对这个问题要据实回答，不可无中生有，也不可过分谦虚，因为一个爱好广泛、多才多艺的毕业生将备受用人单位的青睐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你有什么优缺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这是一个常常被问及并且较难回答的问题，难就难在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般人难以对自己有一个客观的评价。如实讲述自己的优缺点，并不会减少录用的机会。回答问题时的态度，比回答的内容更重要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337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1b60f"/>
                </a:solidFill>
                <a:latin typeface="楷体_GB2312"/>
                <a:ea typeface="楷体_GB2312"/>
              </a:rPr>
              <a:t>关于应聘动机 </a:t>
            </a:r>
            <a:endParaRPr b="0" lang="en-US" sz="3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为什么你喜欢这种工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了解我们单位吗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找工作首先考虑的因素是什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的理想是什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到本单位上岗前，让你先到基层锻炼两年，你愿意吗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1b60f"/>
                </a:solidFill>
                <a:latin typeface="楷体_GB2312"/>
                <a:ea typeface="楷体_GB2312"/>
              </a:rPr>
              <a:t>关于专业情况 </a:t>
            </a:r>
            <a:endParaRPr b="0" lang="en-US" sz="3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为什么你选读此专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学过的科目与我们的工作有什么关系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最喜欢或最不喜欢什么课程，为什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你对自己的学习成绩是否满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如果让你考大学，你会报什么专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2-10T11:18:36Z</dcterms:modified>
  <cp:revision>7</cp:revision>
  <dc:subject/>
  <dc:title>PowerPoint Presentation</dc:title>
</cp:coreProperties>
</file>