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788E-C02F-4E76-874A-0351D201D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25FE-DEA9-41DB-8604-6FB70046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229FA-EDEE-4844-A861-9BAA53FB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EB03A-C8EA-4027-8E36-578EFDE2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6B8BC-0DF0-453A-A354-1649E7BF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E496E-6DD2-4DB1-8DA6-591F0DA0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6E59AD-B6A5-4BFA-ACFE-C3B544E3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874B96-5E0D-4A87-A7CD-237E0162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ACE99-6EDC-4B0B-82D1-6FF7F7F4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87896A-A03F-4847-8583-A1611132E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744A9-D3E0-41AC-89CB-6A587C68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AC0CA5-B7C6-4CD0-9174-B7305C65A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F33F-9191-4E27-AD15-405067137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19729-43E4-4DA5-9769-6919B64E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CA4B2B-16AD-4389-B5D5-004F8DF1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A3FB49-1123-43FB-91DE-368945C4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CA65F7-6D9D-45FF-886A-B3922FB6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52CFC-2823-4A49-9D90-C20599A3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E523D-7DD5-4C15-B6C6-7F382DF9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EBA8A-CEFA-447B-A66D-EA253BE0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2CBD23-6907-4C36-8E57-FFE7475C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4BFDA6-9F9F-43E1-9887-B7487110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FB5317-A641-4D80-A7D5-DDCAAF6C9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C63B-96A2-47D5-8013-C26EBA32B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6E1A65-37D9-4FD8-9125-9EEB3FA46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F6A989-5D71-49F6-9CCF-A9B0F3236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858E9-DD32-42BC-B56A-8EB0E7F2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9361C-F8E7-4352-8AFC-5B5E654B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2EF79-4A01-4CC9-B146-E0034DF2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B88EC-CD65-4B16-A821-73B50AA5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B3CC6-8969-42E9-BBF7-758E5959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411B2-B339-4BAF-888E-8B11F60F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995B4-3DDD-42AD-83B7-F39FC5FE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0FC31-B2B5-4AE6-89D9-DA5BC987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BCCB-ED8F-42EE-86CE-8B4682F3F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103F4-5970-4C85-9462-850B3A74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F4883-D974-421F-AAB3-8AD628B5B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6E09B-C5E4-4AC7-9857-15BC6FBDE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4FB497-B37F-46B4-981C-837B818C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B2999-2DCB-4611-8DAD-847AB149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6D5335-CEB8-42CB-ACA1-25A94A40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5849FB-77BA-4F86-BE88-1DB63191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622EF4-B5D1-428B-B1A2-B71BD20E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12830D-B957-4CEF-91F6-167196F4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7ECEE8-1BAF-42DD-8822-5E03475E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222D-2FD4-48B5-BDEB-94132854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CED8EF-045D-432B-9006-30495DAB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7D7719-9FCC-44F7-8165-E60DEB31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89050-4209-4A37-8201-50733E8F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7B3458-1B13-45B9-A34E-DF6A9BD98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294A36-7927-43B1-9CDA-9BBE16C1A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E1ECBA-2CFA-4CAB-8782-686334F8E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36327B-BD53-4034-B0CE-8F774764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B251AA-D4DE-4287-9EF7-E8D23FF5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4234E0-FA76-4D8C-A464-E343E456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847233-4B76-4811-95DA-33D9D4C7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B58A-0425-44F5-8FB8-82B44859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BEFFCD-4991-4E47-9293-DC0B0635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9B2C90-6F53-43C2-9CB7-E156EABE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713B0C-756C-4821-A311-309FCE2F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8AF34C-5981-4B46-B206-FE12C2BC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C7024F-F46D-414F-9859-78072757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0358FD-0109-49E5-9033-06F36437A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80C6A5-2266-4FF0-BB7B-D98BC8152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199F41-2290-46E1-89F0-71194E2BA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BEDB05-5B22-4189-B982-0000320A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FB251B-DE3C-434D-8E5E-BA11365F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607E-BC9B-4EC6-9153-B06470BC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6FAC22-DC81-4CE3-B009-8AB6F972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90DE2D-0EE0-4F65-9B4C-EAE08828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70D7CE-41E8-4D4C-BE08-3A934C18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22F2A7-3BB4-4376-9211-FFCD7A15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3FD2B2-E362-4573-A089-B4AB77D2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417A1D-E1FF-4E7F-946B-17A9ADBD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780315-704B-4481-8C80-8D925DC1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354370-0517-40C9-9409-078E60DE6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79D48D-B15E-4DE8-89B8-303EDBD4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8EEF-3C7A-44C7-B8D6-A1BA053A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9BFF-6134-4236-BB03-8F0455DF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BA7F-9AA2-493E-ADDA-B341E628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4F81-ED21-4B5B-8889-AC084A26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4242-9538-4A81-94B3-5C858477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C424-7EF4-42D5-BE52-92861582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3A93-4CB0-4FB4-B702-6EFFEA25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8B63-3457-4C32-A322-519A64107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5BF4-5186-4457-8D77-D8834CE0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0A46F-1876-4033-AE90-981442039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537D3-C615-4978-BD37-1C658DF5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07CBB-EDBD-42D9-97BF-DE2B5C21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FB78F-9F94-421C-ABA1-200EE0F4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7E685-3ACA-4710-8523-75ACA3BA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BEE4-AAE4-4742-91DD-20E324C0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BA112-BFC2-49AD-95C7-1030C18C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018DD-E424-41F9-82AD-6B49E06B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2D56B-F55F-4275-84C5-35666189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5A4FB-3D33-4D72-8642-F81CFC8F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78787-AFA1-4761-A7C8-C0AF8010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E1AD7-21A1-4DC4-9827-E355D61FB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40FBE-664E-4C8A-9824-A5D0A3D30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B3649-CD17-422F-A7CA-294E6C043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F633C-8FF2-4372-BB14-51FF969F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674C6-C96D-4BD7-BF72-662B7C57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48E1-C595-4437-BDA4-A08292B6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646EC-D649-45B2-83A6-EAA6D4B8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BC997-79FD-4E01-B3B4-BB156616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3864D-F609-4BC4-B3AD-158B5831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EFB6C-345C-4390-A641-21BA96F9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FC3EB-BB36-4E35-93DD-8CD393F0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04DD6-4879-4611-A247-50FEF59B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533FC-FDEB-4845-B6BD-5D7DF5F5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69E15-160A-4FC6-BA7C-A398B73F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B01A2-8D8A-4AFC-9054-B87979DBC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5FDAC-B427-4D5A-AADB-35F844CBB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523E-2A87-470A-A720-A84AD143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3CF7A-0A05-4EBE-81EF-B6CEB07E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044FE-2D5A-4205-B756-F5D464A1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0B1B7-A967-4ACA-B36A-30B64CD8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969B1-FD82-48DF-92BB-BFEAA0C8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1BB70-6091-466F-8CAD-E3C4DCD5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42084-9CA1-4658-838F-BD3E9061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D44F3-BAAF-41E2-955D-255174D7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868AE-AF88-4C57-8751-B25BE5B7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53A81-E590-4409-AD7F-45B30C7B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1EF94-B691-43BF-A2B4-5483FFD17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DBF4-9B9D-4F8D-8369-2CF46D87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0DD1A-BDDA-4CE3-BD7A-1402E79D6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A4604-36D8-4D9F-8FEC-4E83A9DD4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076F9-2DA8-4903-A4D3-BCA1A309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25890-449E-434B-BF0A-41F13075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22662-940F-476C-95CC-74B56655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002E7-909A-40FD-B17B-EFD921E0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AA4B7-A77A-4D44-AB5E-C21391AA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15241-A7CC-45E4-A37E-EB43B179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5EF25-16D1-4CE1-953C-08D8D8E9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A863F-6F5C-4FC6-8453-6495DA2D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C1DD-A6A0-43D1-B6EC-8F6444BC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DB4DE-E0E4-4AF2-8907-00A37A92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98425-D59B-48E9-9B06-FE834A82C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B1FC1-38BB-4A49-B223-126A2DA3D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54202-B533-4A8B-885F-61E864EB0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A9370-E331-4E57-AA8A-61E09410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FE762-72E5-432F-8E8F-661D5EC0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43DED-18B6-49F4-8F8B-DF6529D0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68277-246A-4B1D-A857-8C625F5D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E2486-11D9-4149-A728-D81E0DAA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131C4-74A8-498A-923B-B0CCB62A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6633-5986-4AFC-8BB1-7671FDB7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09113-45C5-4C8D-ADD3-4B0F9496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FE101-EDBE-495E-8201-A826AF14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7E544-001B-4D9B-A92A-DDA21509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CF641-0089-42A4-9D91-037358F11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8E608-5243-4A47-AC76-0E71105F0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4C8AA-B68A-4E7F-A7FF-C519A8044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63EAF-D9F2-40A1-AE2C-4B0C9F6C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A3F07-2C8C-45B5-8367-742360E5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288A3-4821-4DBA-892C-07DEDB39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BBE08-4733-4B46-89E1-EBB4B6B5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1779-BC60-4BDC-874D-D72CE4A7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F9A6B-FF56-47CA-9B3C-4B375A5F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45984-3AD9-4251-842E-B3918697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4F4C6-723E-4000-B8BE-09ECE8B3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38211-6D75-45CD-9AD7-40D6A35C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88897-65B3-48DE-8539-BC73C5EE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A0C7C-7C80-48FC-A261-A0D265A5F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AD15B-0751-48C3-A023-4DFBF5CC4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5F48A-1EC4-4871-8B58-20F959A4E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C4C82-1D3C-43B2-9846-C29928A8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6F0E7-EADB-40B7-BB2C-8EE5762E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FCBE-321B-4004-860B-1642E2A19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4252-0E4B-4F92-8983-E3363FE78F3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6780-6AE1-4684-9476-607ADB3C53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5E0F-C30D-4586-9DA0-CF5CAE192A8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C486-F978-4A52-93BF-3F612EB27A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D01F-91BD-4DCF-BCE7-3E74E2591FA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6F96-CC34-4BEF-8F5E-0467B97602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46BF-F6CA-4856-A5E6-B3C2B2488A8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8C74-D64A-4AAD-91EE-AB9FE30D05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F2D0-A049-4151-897F-64546AAC789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5D75-F3CC-4246-9B96-E9906EA96E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12DF-4EA2-4305-8244-BD3DC399446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A366-7115-427F-9195-6E70896A26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2E12-CF5C-4D61-8E42-9D2B262DA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88FA-7D62-4F7D-B4E0-E649451BD26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8D8C-7A41-4134-9A91-A84038051C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90AE-50FC-4B34-988A-C18B8E61AC3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DFC4-79E1-4DF4-9EA4-14FF291CFC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7E10-2E05-4C88-BD99-5DB48CA8761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123B-0EC0-4255-968A-C21F3A9285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8E65-4A42-4113-A28A-9C56DDD8FCA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C604-6082-45AD-9EAA-ADC6C1086C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7EBC-9BEC-4308-8DBA-8796ED47101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316A-C87D-450D-AC04-A52FE66A62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39F7-F224-49BA-9933-686A866D097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C0E7-D24A-4B25-A48F-C47F3939FB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aike.baidu.com/view/453592.ht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1828440" y="609480"/>
            <a:ext cx="53341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方正华隶简体"/>
                <a:ea typeface="方正华隶简体"/>
              </a:rPr>
              <a:t>                        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2060"/>
                </a:solidFill>
                <a:latin typeface="方正华隶简体"/>
                <a:ea typeface="方正华隶简体"/>
              </a:rPr>
              <a:t>芙蓉楼送辛渐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方正华隶简体"/>
                <a:ea typeface="方正华隶简体"/>
              </a:rPr>
              <a:t>                                         </a:t>
            </a:r>
            <a:r>
              <a:rPr b="0" lang="zh-CN" sz="2400" spc="-1" strike="noStrike">
                <a:solidFill>
                  <a:srgbClr val="002060"/>
                </a:solidFill>
                <a:latin typeface="方正华隶简体"/>
                <a:ea typeface="方正华隶简体"/>
              </a:rPr>
              <a:t>唐    王昌龄 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10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" dur="10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4"/>
          <p:cNvSpPr/>
          <p:nvPr/>
        </p:nvSpPr>
        <p:spPr>
          <a:xfrm>
            <a:off x="685800" y="60948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2160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2160ff"/>
                </a:solidFill>
                <a:latin typeface="Arial"/>
              </a:rPr>
              <a:t>寒雨连江夜入吴”，迷蒙的烟雨笼罩着吴地江天，织成了无边无际的愁网。夜雨增添了萧瑟的秋意，也渲染出离别的黯淡气氛。那寒意不仅弥漫在满江烟雨之中，更沁透在两个离人的心头。“连”字和“入”字写出雨势的平稳连绵，江雨悄然而来的动态能为人分明地感知，则诗人因离别之情而一夜未眠的情景也自可想见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160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2160ff"/>
                </a:solidFill>
                <a:latin typeface="Arial"/>
              </a:rPr>
              <a:t>诗人将听觉、视觉和想象概括成连江入吴的雨势，以大片淡墨染出满纸烟雨，用浩大的气魄烘托了“平明送客楚山孤”的开阔意境。</a:t>
            </a:r>
            <a:r>
              <a:rPr b="0" lang="zh-CN" sz="2400" spc="-1" strike="noStrike">
                <a:solidFill>
                  <a:srgbClr val="216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2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3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5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7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9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WordArt 4"/>
          <p:cNvSpPr txBox="1"/>
          <p:nvPr/>
        </p:nvSpPr>
        <p:spPr>
          <a:xfrm>
            <a:off x="609480" y="228600"/>
            <a:ext cx="20383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2">
                    <a:alphaModFix amt="57000"/>
                  </a:blip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点评</a:t>
            </a:r>
            <a:endParaRPr b="0" lang="en-US" sz="80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3">
                  <a:alphaModFix amt="57000"/>
                </a:blip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228600" y="13716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芙蓉楼送辛渐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是一首送别诗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本诗的构思新颖，淡写朋友的离情别绪，重写自己的高风亮节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首两句苍茫的江雨和孤峙的楚山，烘托送别时的孤寂之情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后两句自比冰壶，表达自己开朗胸怀和坚强性格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全诗即景生情，寓情于景，含蓄蕴藉，韵味无穷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0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1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3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5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7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WordArt 4"/>
          <p:cNvSpPr txBox="1"/>
          <p:nvPr/>
        </p:nvSpPr>
        <p:spPr>
          <a:xfrm>
            <a:off x="990720" y="990720"/>
            <a:ext cx="30477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后作业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9" name="Text Box 5"/>
          <p:cNvSpPr/>
          <p:nvPr/>
        </p:nvSpPr>
        <p:spPr>
          <a:xfrm>
            <a:off x="1066680" y="312408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背诵并默写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芙蓉楼送辛渐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理解诗句的意思及作者表达的思想感情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WordArt 5"/>
          <p:cNvSpPr txBox="1"/>
          <p:nvPr/>
        </p:nvSpPr>
        <p:spPr>
          <a:xfrm>
            <a:off x="457200" y="762120"/>
            <a:ext cx="38098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大家！</a:t>
            </a:r>
            <a:endParaRPr b="0" lang="en-US" sz="6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1" name="WordArt 6"/>
          <p:cNvSpPr txBox="1"/>
          <p:nvPr/>
        </p:nvSpPr>
        <p:spPr>
          <a:xfrm>
            <a:off x="6400800" y="5029200"/>
            <a:ext cx="19810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再见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1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614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7"/>
          <p:cNvSpPr/>
          <p:nvPr/>
        </p:nvSpPr>
        <p:spPr>
          <a:xfrm>
            <a:off x="1584360" y="784080"/>
            <a:ext cx="237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6" name="Text Box 8"/>
          <p:cNvSpPr/>
          <p:nvPr/>
        </p:nvSpPr>
        <p:spPr>
          <a:xfrm>
            <a:off x="304920" y="0"/>
            <a:ext cx="3504960" cy="88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江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苏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镇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江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芙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蓉 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楼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7" name="Text Box 9"/>
          <p:cNvSpPr/>
          <p:nvPr/>
        </p:nvSpPr>
        <p:spPr>
          <a:xfrm>
            <a:off x="3276720" y="42670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芙蓉楼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坐落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在金山天下第一泉的塔影湖滨，其原建于古镇江城内三山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日精山、月华山、寿丘山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中的月华山上。为东晋刺史王恭所建，唐代犹存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唐代大诗人王昌龄曾在古代“芙蓉楼”写下了著名的诗篇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芙蓉楼送辛渐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：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6"/>
          <p:cNvSpPr/>
          <p:nvPr/>
        </p:nvSpPr>
        <p:spPr>
          <a:xfrm>
            <a:off x="6390720" y="990720"/>
            <a:ext cx="2191320" cy="5181480"/>
          </a:xfrm>
          <a:prstGeom prst="rect">
            <a:avLst/>
          </a:prstGeom>
          <a:solidFill>
            <a:srgbClr val="87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楷体_GB2312"/>
              </a:rPr>
              <a:t>芙蓉楼送辛渐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9" name="Text Box 8"/>
          <p:cNvSpPr/>
          <p:nvPr/>
        </p:nvSpPr>
        <p:spPr>
          <a:xfrm flipH="1">
            <a:off x="4042080" y="304920"/>
            <a:ext cx="2009160" cy="6172200"/>
          </a:xfrm>
          <a:prstGeom prst="rect">
            <a:avLst/>
          </a:prstGeom>
          <a:solidFill>
            <a:srgbClr val="87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5d5d"/>
                </a:solidFill>
                <a:latin typeface="Arial"/>
                <a:ea typeface="楷体_GB2312"/>
              </a:rPr>
              <a:t>寒雨连江夜入吴，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0" name="Text Box 9"/>
          <p:cNvSpPr/>
          <p:nvPr/>
        </p:nvSpPr>
        <p:spPr>
          <a:xfrm>
            <a:off x="3585240" y="380880"/>
            <a:ext cx="1094760" cy="6019920"/>
          </a:xfrm>
          <a:prstGeom prst="rect">
            <a:avLst/>
          </a:prstGeom>
          <a:solidFill>
            <a:srgbClr val="87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5d5d"/>
                </a:solidFill>
                <a:latin typeface="Arial"/>
                <a:ea typeface="楷体_GB2312"/>
              </a:rPr>
              <a:t>平明送客楚山孤。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1" name="Text Box 10"/>
          <p:cNvSpPr/>
          <p:nvPr/>
        </p:nvSpPr>
        <p:spPr>
          <a:xfrm>
            <a:off x="1299240" y="304920"/>
            <a:ext cx="2009160" cy="6172200"/>
          </a:xfrm>
          <a:prstGeom prst="rect">
            <a:avLst/>
          </a:prstGeom>
          <a:solidFill>
            <a:srgbClr val="87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5d5d"/>
                </a:solidFill>
                <a:latin typeface="Arial"/>
                <a:ea typeface="楷体_GB2312"/>
              </a:rPr>
              <a:t>洛阳亲友如相问，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2" name="Text Box 11"/>
          <p:cNvSpPr/>
          <p:nvPr/>
        </p:nvSpPr>
        <p:spPr>
          <a:xfrm>
            <a:off x="689760" y="304920"/>
            <a:ext cx="1094760" cy="6172200"/>
          </a:xfrm>
          <a:prstGeom prst="rect">
            <a:avLst/>
          </a:prstGeom>
          <a:solidFill>
            <a:srgbClr val="87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5d5d"/>
                </a:solidFill>
                <a:latin typeface="Arial"/>
                <a:ea typeface="楷体_GB2312"/>
              </a:rPr>
              <a:t>一片冰心在玉壶。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3" name="Text Box 12"/>
          <p:cNvSpPr/>
          <p:nvPr/>
        </p:nvSpPr>
        <p:spPr>
          <a:xfrm>
            <a:off x="5828040" y="3763800"/>
            <a:ext cx="1155240" cy="2484720"/>
          </a:xfrm>
          <a:prstGeom prst="rect">
            <a:avLst/>
          </a:prstGeom>
          <a:solidFill>
            <a:srgbClr val="87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d5d"/>
                </a:solidFill>
                <a:latin typeface="楷体_GB2312"/>
                <a:ea typeface="楷体_GB2312"/>
              </a:rPr>
              <a:t>唐   王昌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WordArt 5"/>
          <p:cNvSpPr txBox="1"/>
          <p:nvPr/>
        </p:nvSpPr>
        <p:spPr>
          <a:xfrm>
            <a:off x="457200" y="838080"/>
            <a:ext cx="3809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作者简介：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85" name="Text Box 6"/>
          <p:cNvSpPr/>
          <p:nvPr/>
        </p:nvSpPr>
        <p:spPr>
          <a:xfrm>
            <a:off x="1219320" y="2057400"/>
            <a:ext cx="5333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王昌龄，字少伯，世称王龙标，擅长七言绝句，盛唐著名边塞诗人，后人誉为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七绝圣手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现存诗一百七十余首，作品有</a:t>
            </a:r>
            <a:r>
              <a:rPr b="0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《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王昌龄集</a:t>
            </a:r>
            <a:r>
              <a:rPr b="0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》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他的边塞诗气势雄浑，格调高昂，充满了积极向上的精神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5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5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5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50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50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50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6"/>
          <p:cNvSpPr/>
          <p:nvPr/>
        </p:nvSpPr>
        <p:spPr>
          <a:xfrm>
            <a:off x="762120" y="83808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7" name="Text Box 7"/>
          <p:cNvSpPr/>
          <p:nvPr/>
        </p:nvSpPr>
        <p:spPr>
          <a:xfrm>
            <a:off x="609480" y="457200"/>
            <a:ext cx="8001000" cy="52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【</a:t>
            </a: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注释</a:t>
            </a: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】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　　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. </a:t>
            </a:r>
            <a:r>
              <a:rPr b="0" lang="zh-CN" sz="2400" spc="-1" strike="noStrike" u="sng">
                <a:solidFill>
                  <a:srgbClr val="cc0066"/>
                </a:solidFill>
                <a:uFillTx/>
                <a:latin typeface="Arial"/>
                <a:hlinkClick r:id="rId1"/>
              </a:rPr>
              <a:t>芙蓉楼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：润州（今江苏镇江）的城楼。　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辛渐：诗人的一位朋友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寒雨：寒冷的雨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4.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连江：满江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5.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吴：三国时的吴国在长江下游一带，所以称这一带为吴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6.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平明：清晨天刚亮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7.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客：指辛渐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8.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楚山：春秋时的楚国在长江中下游一带，所以称这一带的山为楚山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9.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孤：独自，孤单一人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0.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一片冰心在玉壶：冰在玉壶之中，比喻人清廉正直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1.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冰心：比喻心的纯洁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2.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洛阳：位于河南省西部、黄河南岸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5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5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5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5"/>
          <p:cNvSpPr/>
          <p:nvPr/>
        </p:nvSpPr>
        <p:spPr>
          <a:xfrm>
            <a:off x="1752480" y="1523880"/>
            <a:ext cx="144792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Arial"/>
              </a:rPr>
              <a:t>芙</a:t>
            </a:r>
            <a:r>
              <a:rPr b="0" lang="zh-CN" sz="106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10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Arial"/>
              </a:rPr>
              <a:t>蓉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9" name="Text Box 11"/>
          <p:cNvSpPr/>
          <p:nvPr/>
        </p:nvSpPr>
        <p:spPr>
          <a:xfrm>
            <a:off x="3962520" y="4876920"/>
            <a:ext cx="2743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拼音：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ú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部首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士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部外笔画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7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总笔画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10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0" name="Text Box 13"/>
          <p:cNvSpPr/>
          <p:nvPr/>
        </p:nvSpPr>
        <p:spPr>
          <a:xfrm>
            <a:off x="1680480" y="4952880"/>
            <a:ext cx="139932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Arial"/>
              </a:rPr>
              <a:t>壶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1" name="Rectangle 15"/>
          <p:cNvSpPr/>
          <p:nvPr/>
        </p:nvSpPr>
        <p:spPr>
          <a:xfrm>
            <a:off x="3886200" y="175248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拼音：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ú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部首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艹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部外笔画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4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总笔画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7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2" name="Rectangle 16"/>
          <p:cNvSpPr/>
          <p:nvPr/>
        </p:nvSpPr>
        <p:spPr>
          <a:xfrm>
            <a:off x="3962520" y="3352680"/>
            <a:ext cx="213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拼音：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óng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部首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艹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部外笔画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10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总笔画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1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3" name="Text Box 17"/>
          <p:cNvSpPr/>
          <p:nvPr/>
        </p:nvSpPr>
        <p:spPr>
          <a:xfrm>
            <a:off x="1215000" y="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e86fe"/>
                </a:solidFill>
                <a:latin typeface="Arial"/>
              </a:rPr>
              <a:t>生字词：</a:t>
            </a: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9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9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9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WordArt 5"/>
          <p:cNvSpPr txBox="1"/>
          <p:nvPr/>
        </p:nvSpPr>
        <p:spPr>
          <a:xfrm>
            <a:off x="1066680" y="304920"/>
            <a:ext cx="25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译文：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5" name="Text Box 6"/>
          <p:cNvSpPr/>
          <p:nvPr/>
        </p:nvSpPr>
        <p:spPr>
          <a:xfrm>
            <a:off x="1143000" y="205740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66"/>
                </a:solidFill>
                <a:latin typeface="Arial"/>
              </a:rPr>
              <a:t>寒雨连江夜入吴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6" name="Text Box 7"/>
          <p:cNvSpPr/>
          <p:nvPr/>
        </p:nvSpPr>
        <p:spPr>
          <a:xfrm>
            <a:off x="457200" y="2819520"/>
            <a:ext cx="731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译文：迷蒙的烟雨在夜幕中笼罩着吴地，与浩渺的江水连成一片。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7" name="Text Box 8"/>
          <p:cNvSpPr/>
          <p:nvPr/>
        </p:nvSpPr>
        <p:spPr>
          <a:xfrm>
            <a:off x="1989360" y="3798720"/>
            <a:ext cx="258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66"/>
                </a:solidFill>
                <a:latin typeface="Arial"/>
              </a:rPr>
              <a:t>平明送客楚山孤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380880" y="4572000"/>
            <a:ext cx="840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译文：天亮时我将送你启程，而我却要独自留下，如同这形单影只的楚山。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0" dur="20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9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4"/>
          <p:cNvSpPr/>
          <p:nvPr/>
        </p:nvSpPr>
        <p:spPr>
          <a:xfrm>
            <a:off x="1752480" y="1676520"/>
            <a:ext cx="49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5d5d"/>
                </a:solidFill>
                <a:latin typeface="Arial"/>
              </a:rPr>
              <a:t>洛阳亲友如相问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1219320" y="259092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译文：如果洛阳的亲友询问我的情况，请你一定转告他们。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1" name="Text Box 6"/>
          <p:cNvSpPr/>
          <p:nvPr/>
        </p:nvSpPr>
        <p:spPr>
          <a:xfrm>
            <a:off x="3062160" y="4038480"/>
            <a:ext cx="119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5d5d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ff5d5d"/>
                </a:solidFill>
                <a:latin typeface="Arial"/>
              </a:rPr>
              <a:t>一片冰心在玉壶</a:t>
            </a:r>
            <a:r>
              <a:rPr b="0" lang="zh-CN" sz="3200" spc="-1" strike="noStrike">
                <a:solidFill>
                  <a:srgbClr val="ff5d5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2" name="Text Box 7"/>
          <p:cNvSpPr/>
          <p:nvPr/>
        </p:nvSpPr>
        <p:spPr>
          <a:xfrm>
            <a:off x="1066680" y="4800600"/>
            <a:ext cx="640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译文：我的一颗心如晶莹剔透的冰，清正廉明，贮藏在玉壶中一般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WordArt 4"/>
          <p:cNvSpPr txBox="1"/>
          <p:nvPr/>
        </p:nvSpPr>
        <p:spPr>
          <a:xfrm>
            <a:off x="1066680" y="0"/>
            <a:ext cx="1676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鉴赏：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685800" y="1447920"/>
            <a:ext cx="8001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首句从昨夜秋雨写起，为送别设置了凄清的气氛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二句中的“平明”点明送客的时间；“楚山孤”，既写出了友人的去向，又暗寓了自己送客时的心情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三、四句，写的是自己，仍与送别之意相吻合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因为辛渐是诗人的同乡，辛渐返乡，亲友一定要问到诗人的情况，所以诗人送别辛渐时特别嘱托他：“家乡的亲友如果问到我现在的情况，你就说，我的为人就像那晶莹剔透的一块冰，装在洁白的玉壶之中。”表明自己不为遭贬而改变玉洁冰清的节操。构思新颖，委屈、怨恨之情含而不露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1" dur="2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80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6T08:43:16Z</dcterms:modified>
  <cp:revision>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