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563-5E05-4B0D-BE85-974CC070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180-B5AF-4CBA-8196-03031279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6AF-2C93-4B70-AC97-BF472143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C4B-5C26-4396-B9BE-7F299E6D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6727-7387-44D2-8607-B4388A3C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D400-9AD1-44EE-9774-4F14AD97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3464-B3C1-4EE2-BF07-32AFF57B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227B-817F-4B74-96A6-3574CC92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5B8D-5D60-44E6-BC88-44D76594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4F5D-0766-4EBD-A567-7BDC187D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28C3-CC24-488C-99B8-43F3CBC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D26-1A42-4409-9A42-4D633299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0213-CA59-400B-84F1-899B7F7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0F76-32B5-4EB7-A160-149A50D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609E-07E0-441E-B3E0-CCF58337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AF79-BA1C-4A6D-8E7A-D49C44EB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87FA-F0BE-40F1-AA09-8845D864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590-BCAD-477E-A664-2E5C4481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1DF-4E1B-4A74-B3BC-672CD106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86F-09D3-437E-876A-EDDCBAC0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7BC-585C-4178-BE90-DFED9EE1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C67-0DA8-40C0-9702-C00631D5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8E1-1607-4EF1-94C6-4D105356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5A6-AF08-4672-B2C5-7B914A97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109-AC29-4806-9381-A195121AB5D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DD77-5C5E-481D-B459-0A76D864C5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6DF3-EEA7-456E-BE18-A1A414591E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DA61-D12F-46FA-B5CC-92623E6C3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6516720" y="3076560"/>
            <a:ext cx="2836800" cy="511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8"/>
          <p:cNvSpPr/>
          <p:nvPr/>
        </p:nvSpPr>
        <p:spPr>
          <a:xfrm>
            <a:off x="0" y="3639960"/>
            <a:ext cx="12187080" cy="321948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2"/>
          <p:cNvSpPr/>
          <p:nvPr/>
        </p:nvSpPr>
        <p:spPr>
          <a:xfrm>
            <a:off x="3859200" y="3684600"/>
            <a:ext cx="992160" cy="990720"/>
          </a:xfrm>
          <a:prstGeom prst="ellipse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空心弧 3"/>
          <p:cNvSpPr/>
          <p:nvPr/>
        </p:nvSpPr>
        <p:spPr>
          <a:xfrm>
            <a:off x="3216240" y="1363680"/>
            <a:ext cx="2276640" cy="2276280"/>
          </a:xfrm>
          <a:prstGeom prst="blockArc">
            <a:avLst>
              <a:gd name="adj1" fmla="val 21457793"/>
              <a:gd name="adj2" fmla="val 142207"/>
              <a:gd name="adj3" fmla="val 7403"/>
            </a:avLst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 rot="2375400">
            <a:off x="3727080" y="2125440"/>
            <a:ext cx="942840" cy="1746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 rot="5400000">
            <a:off x="3799440" y="2716920"/>
            <a:ext cx="1235160" cy="12528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4729320" y="1363680"/>
            <a:ext cx="4638600" cy="99216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6352200" y="23288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33c0b"/>
                </a:solidFill>
                <a:latin typeface="造字工房力黑（非商用）常规体"/>
                <a:ea typeface="造字工房力黑（非商用）常规体"/>
              </a:rPr>
              <a:t>小时</a:t>
            </a:r>
            <a:r>
              <a:rPr b="0" lang="zh-CN" sz="48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黄金</a:t>
            </a:r>
            <a:r>
              <a:rPr b="0" lang="zh-CN" sz="4800" spc="-1" strike="noStrike">
                <a:solidFill>
                  <a:srgbClr val="833c0b"/>
                </a:solidFill>
                <a:latin typeface="造字工房力黑（非商用）常规体"/>
                <a:ea typeface="造字工房力黑（非商用）常规体"/>
              </a:rPr>
              <a:t>定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7"/>
          <p:cNvSpPr/>
          <p:nvPr/>
        </p:nvSpPr>
        <p:spPr>
          <a:xfrm>
            <a:off x="6443640" y="3051000"/>
            <a:ext cx="31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亦称天才定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4472640" y="9079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"/>
          <p:cNvSpPr/>
          <p:nvPr/>
        </p:nvSpPr>
        <p:spPr>
          <a:xfrm>
            <a:off x="5048280" y="893880"/>
            <a:ext cx="4624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0000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7"/>
          <p:cNvSpPr/>
          <p:nvPr/>
        </p:nvSpPr>
        <p:spPr>
          <a:xfrm>
            <a:off x="4311720" y="4133880"/>
            <a:ext cx="3655800" cy="496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/>
          <p:cNvSpPr/>
          <p:nvPr/>
        </p:nvSpPr>
        <p:spPr>
          <a:xfrm>
            <a:off x="4344840" y="5181480"/>
            <a:ext cx="3621240" cy="479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0" y="0"/>
            <a:ext cx="12192120" cy="260208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" descr=""/>
          <p:cNvPicPr/>
          <p:nvPr/>
        </p:nvPicPr>
        <p:blipFill>
          <a:blip r:embed="rId1"/>
          <a:srcRect l="1462" t="8003" r="1462" b="19602"/>
          <a:stretch/>
        </p:blipFill>
        <p:spPr>
          <a:xfrm>
            <a:off x="4743360" y="0"/>
            <a:ext cx="2603520" cy="260208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2738520" y="3571920"/>
            <a:ext cx="6818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成为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世界级专家</a:t>
            </a: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的关键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就是大量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符合一万小时天才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就是刻意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把弱项转变成擅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把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学习区</a:t>
            </a:r>
            <a:r>
              <a:rPr b="0" lang="zh-CN" sz="3200" spc="-1" strike="noStrike">
                <a:solidFill>
                  <a:srgbClr val="833c0b"/>
                </a:solidFill>
                <a:latin typeface="楷体"/>
                <a:ea typeface="楷体"/>
              </a:rPr>
              <a:t>转化成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舒适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6"/>
          <p:cNvSpPr/>
          <p:nvPr/>
        </p:nvSpPr>
        <p:spPr>
          <a:xfrm>
            <a:off x="4344840" y="2552760"/>
            <a:ext cx="379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33c0b"/>
                </a:solidFill>
                <a:latin typeface="微软雅黑"/>
                <a:ea typeface="微软雅黑"/>
              </a:rPr>
              <a:t>德国心理学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3c0b"/>
                </a:solidFill>
                <a:latin typeface="微软雅黑"/>
                <a:ea typeface="微软雅黑"/>
              </a:rPr>
              <a:t>Anders Ericsson</a:t>
            </a:r>
            <a:r>
              <a:rPr b="0" lang="zh-CN" sz="2800" spc="-1" strike="noStrike">
                <a:solidFill>
                  <a:srgbClr val="833c0b"/>
                </a:solidFill>
                <a:latin typeface="微软雅黑"/>
                <a:ea typeface="微软雅黑"/>
              </a:rPr>
              <a:t>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2"/>
          <p:cNvSpPr/>
          <p:nvPr/>
        </p:nvSpPr>
        <p:spPr>
          <a:xfrm flipV="1">
            <a:off x="4357800" y="3442680"/>
            <a:ext cx="3620880" cy="166680"/>
          </a:xfrm>
          <a:prstGeom prst="triangle">
            <a:avLst>
              <a:gd name="adj" fmla="val 50000"/>
            </a:avLst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22"/>
          <p:cNvSpPr/>
          <p:nvPr/>
        </p:nvSpPr>
        <p:spPr>
          <a:xfrm flipV="1">
            <a:off x="0" y="4588560"/>
            <a:ext cx="12192120" cy="226836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3552840" y="34920"/>
            <a:ext cx="4486320" cy="4486320"/>
            <a:chOff x="3552840" y="34920"/>
            <a:chExt cx="4486320" cy="4486320"/>
          </a:xfrm>
        </p:grpSpPr>
        <p:grpSp>
          <p:nvGrpSpPr>
            <p:cNvPr id="166" name="组合 14"/>
            <p:cNvGrpSpPr/>
            <p:nvPr/>
          </p:nvGrpSpPr>
          <p:grpSpPr>
            <a:xfrm>
              <a:off x="3552840" y="34920"/>
              <a:ext cx="4486320" cy="4486320"/>
              <a:chOff x="3552840" y="34920"/>
              <a:chExt cx="4486320" cy="4486320"/>
            </a:xfrm>
          </p:grpSpPr>
          <p:sp>
            <p:nvSpPr>
              <p:cNvPr id="167" name="椭圆 3"/>
              <p:cNvSpPr/>
              <p:nvPr/>
            </p:nvSpPr>
            <p:spPr>
              <a:xfrm>
                <a:off x="3552840" y="34920"/>
                <a:ext cx="4486320" cy="4486320"/>
              </a:xfrm>
              <a:prstGeom prst="ellipse">
                <a:avLst/>
              </a:prstGeom>
              <a:solidFill>
                <a:srgbClr val="833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椭圆 4"/>
              <p:cNvSpPr/>
              <p:nvPr/>
            </p:nvSpPr>
            <p:spPr>
              <a:xfrm>
                <a:off x="4215240" y="1359720"/>
                <a:ext cx="3161520" cy="316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椭圆 5"/>
              <p:cNvSpPr/>
              <p:nvPr/>
            </p:nvSpPr>
            <p:spPr>
              <a:xfrm>
                <a:off x="4809960" y="2549160"/>
                <a:ext cx="1972080" cy="1972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文本框 6"/>
            <p:cNvSpPr/>
            <p:nvPr/>
          </p:nvSpPr>
          <p:spPr>
            <a:xfrm>
              <a:off x="5050800" y="3112920"/>
              <a:ext cx="184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833c0b"/>
                  </a:solidFill>
                  <a:latin typeface="造字工房力黑（非商用）常规体"/>
                  <a:ea typeface="造字工房力黑（非商用）常规体"/>
                </a:rPr>
                <a:t>舒适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7"/>
            <p:cNvSpPr/>
            <p:nvPr/>
          </p:nvSpPr>
          <p:spPr>
            <a:xfrm>
              <a:off x="4832280" y="359892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3c0b"/>
                  </a:solidFill>
                  <a:latin typeface="Georgia"/>
                  <a:ea typeface="微软雅黑"/>
                </a:rPr>
                <a:t>COMFORT  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8"/>
            <p:cNvSpPr/>
            <p:nvPr/>
          </p:nvSpPr>
          <p:spPr>
            <a:xfrm>
              <a:off x="5083560" y="1669680"/>
              <a:ext cx="184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造字工房力黑（非商用）常规体"/>
                  <a:ea typeface="造字工房力黑（非商用）常规体"/>
                </a:rPr>
                <a:t>学习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9"/>
            <p:cNvSpPr/>
            <p:nvPr/>
          </p:nvSpPr>
          <p:spPr>
            <a:xfrm>
              <a:off x="4888080" y="2190240"/>
              <a:ext cx="21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  <a:ea typeface="微软雅黑"/>
                </a:rPr>
                <a:t>LEARNING  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0"/>
            <p:cNvSpPr/>
            <p:nvPr/>
          </p:nvSpPr>
          <p:spPr>
            <a:xfrm>
              <a:off x="5069520" y="348840"/>
              <a:ext cx="184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造字工房力黑（非商用）常规体"/>
                  <a:ea typeface="造字工房力黑（非商用）常规体"/>
                </a:rPr>
                <a:t>恐慌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1"/>
            <p:cNvSpPr/>
            <p:nvPr/>
          </p:nvSpPr>
          <p:spPr>
            <a:xfrm>
              <a:off x="5033880" y="86904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  <a:ea typeface="微软雅黑"/>
                </a:rPr>
                <a:t>PANIC  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文本框 13"/>
          <p:cNvSpPr/>
          <p:nvPr/>
        </p:nvSpPr>
        <p:spPr>
          <a:xfrm>
            <a:off x="1560600" y="4640400"/>
            <a:ext cx="88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刻意练习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目的就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为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舒适区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恐慌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为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6"/>
          <p:cNvSpPr/>
          <p:nvPr/>
        </p:nvSpPr>
        <p:spPr>
          <a:xfrm>
            <a:off x="6762600" y="3478320"/>
            <a:ext cx="1800360" cy="1440"/>
          </a:xfrm>
          <a:prstGeom prst="line">
            <a:avLst/>
          </a:prstGeom>
          <a:ln w="6480">
            <a:solidFill>
              <a:srgbClr val="833c0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7"/>
          <p:cNvSpPr/>
          <p:nvPr/>
        </p:nvSpPr>
        <p:spPr>
          <a:xfrm>
            <a:off x="8578800" y="3216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擅长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8"/>
          <p:cNvSpPr/>
          <p:nvPr/>
        </p:nvSpPr>
        <p:spPr>
          <a:xfrm>
            <a:off x="6789600" y="2062080"/>
            <a:ext cx="1800360" cy="0"/>
          </a:xfrm>
          <a:prstGeom prst="line">
            <a:avLst/>
          </a:prstGeom>
          <a:ln w="6480">
            <a:solidFill>
              <a:srgbClr val="833c0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9"/>
          <p:cNvSpPr/>
          <p:nvPr/>
        </p:nvSpPr>
        <p:spPr>
          <a:xfrm>
            <a:off x="8578800" y="184464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不擅长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20"/>
          <p:cNvSpPr/>
          <p:nvPr/>
        </p:nvSpPr>
        <p:spPr>
          <a:xfrm>
            <a:off x="6762600" y="860400"/>
            <a:ext cx="1800360" cy="0"/>
          </a:xfrm>
          <a:prstGeom prst="line">
            <a:avLst/>
          </a:prstGeom>
          <a:ln w="6480">
            <a:solidFill>
              <a:srgbClr val="833c0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1"/>
          <p:cNvSpPr/>
          <p:nvPr/>
        </p:nvSpPr>
        <p:spPr>
          <a:xfrm>
            <a:off x="8578800" y="64296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极不擅长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2816280" y="1901880"/>
            <a:ext cx="310824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6"/>
          <p:cNvSpPr/>
          <p:nvPr/>
        </p:nvSpPr>
        <p:spPr>
          <a:xfrm>
            <a:off x="6923160" y="3083040"/>
            <a:ext cx="3368520" cy="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2913120" y="3083040"/>
            <a:ext cx="71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才能看起来</a:t>
            </a:r>
            <a:r>
              <a:rPr b="0" lang="zh-CN" sz="4800" spc="-1" strike="noStrike">
                <a:solidFill>
                  <a:srgbClr val="833c0b"/>
                </a:solidFill>
                <a:latin typeface="造字工房力黑（非商用）常规体"/>
                <a:ea typeface="造字工房力黑（非商用）常规体"/>
              </a:rPr>
              <a:t>毫不费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4330080" y="190188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33c0b"/>
                </a:solidFill>
                <a:latin typeface="造字工房力黑（非商用）常规体"/>
                <a:ea typeface="造字工房力黑（非商用）常规体"/>
              </a:rPr>
              <a:t>你必须</a:t>
            </a:r>
            <a:r>
              <a:rPr b="1" lang="zh-CN" sz="80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非常努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2816280" y="1901880"/>
            <a:ext cx="7475400" cy="1919160"/>
          </a:xfrm>
          <a:prstGeom prst="rect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2816280" y="1901880"/>
            <a:ext cx="7475400" cy="1181160"/>
          </a:xfrm>
          <a:prstGeom prst="rect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523880" y="0"/>
            <a:ext cx="8467920" cy="6858000"/>
            <a:chOff x="1523880" y="0"/>
            <a:chExt cx="8467920" cy="6858000"/>
          </a:xfrm>
        </p:grpSpPr>
        <p:sp>
          <p:nvSpPr>
            <p:cNvPr id="191" name="矩形 4"/>
            <p:cNvSpPr/>
            <p:nvPr/>
          </p:nvSpPr>
          <p:spPr>
            <a:xfrm>
              <a:off x="214164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523880" y="1714320"/>
              <a:ext cx="84679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7"/>
            <p:cNvSpPr/>
            <p:nvPr/>
          </p:nvSpPr>
          <p:spPr>
            <a:xfrm rot="20926800">
              <a:off x="3445200" y="3572280"/>
              <a:ext cx="46681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3" descr=""/>
          <p:cNvPicPr/>
          <p:nvPr/>
        </p:nvPicPr>
        <p:blipFill>
          <a:blip r:embed="rId1"/>
          <a:srcRect l="0" t="4268" r="0" b="10236"/>
          <a:stretch/>
        </p:blipFill>
        <p:spPr>
          <a:xfrm>
            <a:off x="-23760" y="-46080"/>
            <a:ext cx="12215880" cy="6962760"/>
          </a:xfrm>
          <a:prstGeom prst="rect">
            <a:avLst/>
          </a:prstGeom>
          <a:ln w="0">
            <a:noFill/>
          </a:ln>
        </p:spPr>
      </p:pic>
      <p:sp>
        <p:nvSpPr>
          <p:cNvPr id="94" name="矩形 35"/>
          <p:cNvSpPr/>
          <p:nvPr/>
        </p:nvSpPr>
        <p:spPr>
          <a:xfrm>
            <a:off x="8947080" y="1414440"/>
            <a:ext cx="11224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6"/>
          <p:cNvSpPr/>
          <p:nvPr/>
        </p:nvSpPr>
        <p:spPr>
          <a:xfrm>
            <a:off x="6954840" y="1857240"/>
            <a:ext cx="430380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7"/>
          <p:cNvSpPr/>
          <p:nvPr/>
        </p:nvSpPr>
        <p:spPr>
          <a:xfrm>
            <a:off x="6611760" y="3983040"/>
            <a:ext cx="50119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6179760" y="-545292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6083280" y="69840"/>
            <a:ext cx="6095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任何领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提琴、数学、国际象棋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想获得世界级的专业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概需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0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照每天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计，约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专心致志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个定律的关键在于没有例外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人仅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00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能达到世界级水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0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不行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定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你是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者来自哪个领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音乐家、足球运动员、小说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到外科医生，无不如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4164120" y="1666800"/>
            <a:ext cx="5708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他们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1</a:t>
            </a:r>
            <a:r>
              <a:rPr b="1" lang="en-US" sz="66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0000</a:t>
            </a:r>
            <a:r>
              <a:rPr b="1" lang="zh-CN" sz="6600" spc="-1" strike="noStrike">
                <a:solidFill>
                  <a:srgbClr val="ff0000"/>
                </a:solidFill>
                <a:latin typeface="造字工房力黑（非商用）常规体"/>
                <a:ea typeface="造字工房力黑（非商用）常规体"/>
              </a:rPr>
              <a:t>小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便是典型例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9"/>
          <p:cNvSpPr/>
          <p:nvPr/>
        </p:nvSpPr>
        <p:spPr>
          <a:xfrm>
            <a:off x="7410600" y="5213520"/>
            <a:ext cx="4213080" cy="38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0"/>
          <p:cNvSpPr/>
          <p:nvPr/>
        </p:nvSpPr>
        <p:spPr>
          <a:xfrm>
            <a:off x="7410600" y="4808520"/>
            <a:ext cx="33080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1"/>
          <p:cNvSpPr/>
          <p:nvPr/>
        </p:nvSpPr>
        <p:spPr>
          <a:xfrm>
            <a:off x="5289480" y="4791240"/>
            <a:ext cx="7588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2"/>
          <p:cNvSpPr/>
          <p:nvPr/>
        </p:nvSpPr>
        <p:spPr>
          <a:xfrm>
            <a:off x="7137360" y="4394160"/>
            <a:ext cx="209700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3"/>
          <p:cNvSpPr/>
          <p:nvPr/>
        </p:nvSpPr>
        <p:spPr>
          <a:xfrm>
            <a:off x="5311800" y="3573360"/>
            <a:ext cx="563400" cy="38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4"/>
          <p:cNvSpPr/>
          <p:nvPr/>
        </p:nvSpPr>
        <p:spPr>
          <a:xfrm>
            <a:off x="5592600" y="2054160"/>
            <a:ext cx="7718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4987800" y="1638360"/>
            <a:ext cx="534960" cy="38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6"/>
          <p:cNvSpPr/>
          <p:nvPr/>
        </p:nvSpPr>
        <p:spPr>
          <a:xfrm>
            <a:off x="5299200" y="1193760"/>
            <a:ext cx="53316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-4680" y="0"/>
            <a:ext cx="395136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" descr=""/>
          <p:cNvPicPr/>
          <p:nvPr/>
        </p:nvPicPr>
        <p:blipFill>
          <a:blip r:embed="rId1"/>
          <a:srcRect l="13882" t="4498" r="6967" b="4498"/>
          <a:stretch/>
        </p:blipFill>
        <p:spPr>
          <a:xfrm>
            <a:off x="-4680" y="326880"/>
            <a:ext cx="3951360" cy="4956480"/>
          </a:xfrm>
          <a:prstGeom prst="rect">
            <a:avLst/>
          </a:prstGeom>
          <a:ln w="0">
            <a:noFill/>
          </a:ln>
        </p:spPr>
      </p:pic>
      <p:sp>
        <p:nvSpPr>
          <p:cNvPr id="111" name="矩形 1"/>
          <p:cNvSpPr/>
          <p:nvPr/>
        </p:nvSpPr>
        <p:spPr>
          <a:xfrm>
            <a:off x="4892760" y="1136520"/>
            <a:ext cx="704988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创作乐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举办公开的小提琴和钢琴演奏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短短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的人生里创作了上百部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其中大部分得到高度赞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被认为是西方文化的瑰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但从另一角度来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就开始在父亲的指导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进行高强度的专业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被世人认可的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篇杰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时创作的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钢琴协奏曲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至此他已经接受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极端艰辛的专家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1178640" y="5486400"/>
            <a:ext cx="155232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莫扎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5"/>
          <p:cNvSpPr/>
          <p:nvPr/>
        </p:nvSpPr>
        <p:spPr>
          <a:xfrm>
            <a:off x="822240" y="1604880"/>
            <a:ext cx="33368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822240" y="3441600"/>
            <a:ext cx="27655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1138320" y="4162320"/>
            <a:ext cx="6760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3917880" y="4549680"/>
            <a:ext cx="172260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714240" y="1200240"/>
            <a:ext cx="609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1960 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年到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1964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年之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甲壳虫乐队几乎每天晚上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都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德国汉堡的酒吧和俱乐部演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同时他们在演唱和表演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又经常互换和演奏其他各种乐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而每个人几乎都是乐队的主场歌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时间超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作为乐队灵魂的列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时就已经开始写诗和绘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甲壳虫乐队的著名歌曲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海象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的灵感据说来源于英国诗人卡罗尔的一首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7059600" y="0"/>
            <a:ext cx="513252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7059600" y="719280"/>
            <a:ext cx="5132520" cy="3720960"/>
          </a:xfrm>
          <a:prstGeom prst="rect">
            <a:avLst/>
          </a:prstGeom>
          <a:ln w="0">
            <a:noFill/>
          </a:ln>
        </p:spPr>
      </p:pic>
      <p:sp>
        <p:nvSpPr>
          <p:cNvPr id="120" name="矩形 1"/>
          <p:cNvSpPr/>
          <p:nvPr/>
        </p:nvSpPr>
        <p:spPr>
          <a:xfrm>
            <a:off x="8578800" y="4821120"/>
            <a:ext cx="246672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甲壳虫乐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9"/>
          <p:cNvSpPr/>
          <p:nvPr/>
        </p:nvSpPr>
        <p:spPr>
          <a:xfrm>
            <a:off x="5143680" y="4562640"/>
            <a:ext cx="13381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5183280" y="1090440"/>
            <a:ext cx="4227480" cy="38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9031320" y="2244600"/>
            <a:ext cx="26179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/>
          <p:cNvSpPr/>
          <p:nvPr/>
        </p:nvSpPr>
        <p:spPr>
          <a:xfrm>
            <a:off x="5103720" y="3051000"/>
            <a:ext cx="62960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/>
          <p:cNvSpPr/>
          <p:nvPr/>
        </p:nvSpPr>
        <p:spPr>
          <a:xfrm>
            <a:off x="10506240" y="4991040"/>
            <a:ext cx="1585800" cy="38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-138240" y="0"/>
            <a:ext cx="507060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146960" y="5559480"/>
            <a:ext cx="26496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帕特</a:t>
            </a:r>
            <a:r>
              <a:rPr b="0" lang="en-US" sz="5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</a:t>
            </a:r>
            <a:r>
              <a:rPr b="0" lang="zh-CN" sz="5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马蒂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2" descr=""/>
          <p:cNvPicPr/>
          <p:nvPr/>
        </p:nvPicPr>
        <p:blipFill>
          <a:blip r:embed="rId1"/>
          <a:srcRect l="2092" t="1870" r="-2493" b="23321"/>
          <a:stretch/>
        </p:blipFill>
        <p:spPr>
          <a:xfrm flipH="1">
            <a:off x="-138600" y="442800"/>
            <a:ext cx="5070600" cy="4741920"/>
          </a:xfrm>
          <a:prstGeom prst="rect">
            <a:avLst/>
          </a:prstGeom>
          <a:ln w="0">
            <a:noFill/>
          </a:ln>
        </p:spPr>
      </p:pic>
      <p:sp>
        <p:nvSpPr>
          <p:cNvPr id="129" name="矩形 3"/>
          <p:cNvSpPr/>
          <p:nvPr/>
        </p:nvSpPr>
        <p:spPr>
          <a:xfrm>
            <a:off x="5079960" y="650880"/>
            <a:ext cx="7002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爵士乐传奇吉他大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时动了割脑瘤的手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手术百分之九十九成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但那百分之一的失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却导致了一个奇怪的后遗症</a:t>
            </a:r>
            <a:r>
              <a:rPr b="1" lang="en-US" sz="2800" spc="-1" strike="noStrike">
                <a:solidFill>
                  <a:srgbClr val="833c0b"/>
                </a:solidFill>
                <a:latin typeface="微软雅黑"/>
                <a:ea typeface="微软雅黑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吉他失忆症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发现自己不会弹吉他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十年的演奏经验与技巧突然变成空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之后，马蒂诺靠着不断聆听过去自己的录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花了好几年的时间一点一滴的累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终于把自己的吉他技巧努力再找回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七年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选择了新奥尔良的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Mardi Gras 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庆典时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出江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8"/>
          <p:cNvSpPr/>
          <p:nvPr/>
        </p:nvSpPr>
        <p:spPr>
          <a:xfrm>
            <a:off x="2371680" y="5487840"/>
            <a:ext cx="2119320" cy="38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2046240" y="4692600"/>
            <a:ext cx="26402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527040" y="3517920"/>
            <a:ext cx="80640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1219320" y="1635120"/>
            <a:ext cx="19396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442800" y="838080"/>
            <a:ext cx="60962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1940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年出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新奥尔良传奇键盘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素有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钢琴鬼才”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之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从小因为家庭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与许多爵士乐大家相熟并随之学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中学阶段就把全部精力花在嗑药和练习上。他先是一名吉他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那年在酒吧打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左手无名指被枪击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练了一段时间低音吉他后改练钢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两年后就以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钢琴家身份闻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49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岁那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赢得了自己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座格莱美奖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的第一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6539040" y="0"/>
            <a:ext cx="565308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2" descr=""/>
          <p:cNvPicPr/>
          <p:nvPr/>
        </p:nvPicPr>
        <p:blipFill>
          <a:blip r:embed="rId1"/>
          <a:srcRect l="0" t="0" r="14463" b="0"/>
          <a:stretch/>
        </p:blipFill>
        <p:spPr>
          <a:xfrm flipH="1">
            <a:off x="6538680" y="439560"/>
            <a:ext cx="5653080" cy="444024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8682840" y="5006880"/>
            <a:ext cx="200952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约翰博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7"/>
          <p:cNvSpPr/>
          <p:nvPr/>
        </p:nvSpPr>
        <p:spPr>
          <a:xfrm>
            <a:off x="7486560" y="2125800"/>
            <a:ext cx="2454480" cy="38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5354640" y="1674720"/>
            <a:ext cx="7570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5938920" y="1258920"/>
            <a:ext cx="615960" cy="38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7197840" y="838080"/>
            <a:ext cx="29606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5354640" y="2895480"/>
            <a:ext cx="52736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5354640" y="5527800"/>
            <a:ext cx="340056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5251320" y="398520"/>
            <a:ext cx="609624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美国历史上首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也是唯一一位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际象棋世界冠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从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开始学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赢得了全美少年象棋冠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第二年又赢得了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美象棋冠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成了当时国际象棋史上最年轻的特级大师。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费舍尔每天花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小时研究棋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公寓每个房间的床边都摆着一副象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的朋友曾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如果你和博比一起外出吃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根本跟不上你的谈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会从兜里掏出一副袖珍棋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自己玩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他的生活里只有象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0" y="0"/>
            <a:ext cx="475308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1"/>
          <a:stretch/>
        </p:blipFill>
        <p:spPr>
          <a:xfrm>
            <a:off x="9360" y="604800"/>
            <a:ext cx="4743720" cy="4743360"/>
          </a:xfrm>
          <a:prstGeom prst="rect">
            <a:avLst/>
          </a:prstGeom>
          <a:ln w="0">
            <a:noFill/>
          </a:ln>
        </p:spPr>
      </p:pic>
      <p:sp>
        <p:nvSpPr>
          <p:cNvPr id="147" name="矩形 1"/>
          <p:cNvSpPr/>
          <p:nvPr/>
        </p:nvSpPr>
        <p:spPr>
          <a:xfrm>
            <a:off x="918360" y="5594400"/>
            <a:ext cx="292392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鲍比</a:t>
            </a:r>
            <a:r>
              <a:rPr b="0" lang="en-US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</a:t>
            </a:r>
            <a:r>
              <a:rPr b="0" lang="zh-CN" sz="60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菲舍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5"/>
          <p:cNvSpPr/>
          <p:nvPr/>
        </p:nvSpPr>
        <p:spPr>
          <a:xfrm>
            <a:off x="920880" y="787320"/>
            <a:ext cx="11332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1681200" y="1584360"/>
            <a:ext cx="27097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484200" y="2746440"/>
            <a:ext cx="690084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484200" y="3168720"/>
            <a:ext cx="391968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9"/>
          <p:cNvSpPr/>
          <p:nvPr/>
        </p:nvSpPr>
        <p:spPr>
          <a:xfrm>
            <a:off x="2054160" y="3978360"/>
            <a:ext cx="2025720" cy="38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378000" y="351000"/>
            <a:ext cx="715932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美国商业摄影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受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异类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一书的启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决定辞去工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成为一名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高尔夫球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在此之前，他几乎没有打过高尔夫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的计划是辞职以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练习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小时，一周练习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，坚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计超过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然后成为职业选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把这称为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丹计划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还建了个人网站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theDanPlan.com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每日更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截止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2013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14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他已经练习了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4317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个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还剩下</a:t>
            </a:r>
            <a:r>
              <a:rPr b="0" lang="en-US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5683</a:t>
            </a:r>
            <a:r>
              <a:rPr b="0" lang="zh-CN" sz="2400" spc="-1" strike="noStrike">
                <a:solidFill>
                  <a:srgbClr val="833c0b"/>
                </a:solidFill>
                <a:latin typeface="微软雅黑"/>
                <a:ea typeface="微软雅黑"/>
              </a:rPr>
              <a:t>个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64320" y="0"/>
            <a:ext cx="4627800" cy="6858000"/>
          </a:xfrm>
          <a:prstGeom prst="rect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1" descr=""/>
          <p:cNvPicPr/>
          <p:nvPr/>
        </p:nvPicPr>
        <p:blipFill>
          <a:blip r:embed="rId1"/>
          <a:srcRect l="0" t="23692" r="0" b="18097"/>
          <a:stretch/>
        </p:blipFill>
        <p:spPr>
          <a:xfrm>
            <a:off x="7564320" y="662040"/>
            <a:ext cx="4627800" cy="4040280"/>
          </a:xfrm>
          <a:prstGeom prst="rect">
            <a:avLst/>
          </a:prstGeom>
          <a:ln w="0">
            <a:noFill/>
          </a:ln>
        </p:spPr>
      </p:pic>
      <p:sp>
        <p:nvSpPr>
          <p:cNvPr id="156" name="矩形 2"/>
          <p:cNvSpPr/>
          <p:nvPr/>
        </p:nvSpPr>
        <p:spPr>
          <a:xfrm>
            <a:off x="8748720" y="5010120"/>
            <a:ext cx="25275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丹</a:t>
            </a:r>
            <a:r>
              <a:rPr b="0" lang="en-US" sz="4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</a:t>
            </a:r>
            <a:r>
              <a:rPr b="0" lang="zh-CN" sz="4400" spc="-1" strike="noStrike">
                <a:solidFill>
                  <a:srgbClr val="ffffff"/>
                </a:solidFill>
                <a:latin typeface="造字工房力黑（非商用）常规体"/>
                <a:ea typeface="造字工房力黑（非商用）常规体"/>
              </a:rPr>
              <a:t>麦克劳夫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0:43:00Z</dcterms:created>
  <dc:creator>www.pptbz.com</dc:creator>
  <dc:description/>
  <dc:language>en-US</dc:language>
  <cp:lastModifiedBy>a</cp:lastModifiedBy>
  <dcterms:modified xsi:type="dcterms:W3CDTF">2015-05-20T05:31:25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