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725C-ACDB-49CB-BF6F-DD53F2B7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2472-973C-4540-89F5-EE2F1413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58ED-4323-4FB8-9523-8CFDA6F6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E319-0342-4633-83B9-65B8C3C1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1020-F6CE-4462-986F-7D8A99F3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5C0-13C1-4504-B153-C1468987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7C1C-5D61-456B-89DB-66CF9EEB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FFAE-9D44-4703-972A-5FD00F57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381E-0BEC-43F5-8A52-4B060B99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D2E6-DB9B-4F51-B507-ECBA90DA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B960-C89D-4BB4-B623-9C8D61F4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580-C1B0-4F28-922F-AE43828C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A749-A17C-4B70-A769-F0EF17000F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714840" y="507204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素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08788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500280" y="457200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62125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2426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1783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6569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1568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62838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44265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783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6640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426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426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3140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3140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5569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2838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0689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4265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4354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631044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/>
          <p:cNvSpPr/>
          <p:nvPr/>
        </p:nvSpPr>
        <p:spPr>
          <a:xfrm>
            <a:off x="306900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140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32119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635508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18547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521208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6712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6640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28548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24260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5212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43549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3283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5:25:40Z</dcterms:modified>
  <cp:revision>1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