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DF71-39A1-4027-ACEF-77FABA16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D2B6-4DA3-4440-A3A1-9C3A5857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1F64-DC4D-4B9A-BE25-1BE6F8EB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3551-6587-4928-B85F-1A6E3778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8E14-FEB4-4A89-880F-405860CF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2354-509D-4BDD-A954-BFFCDC67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B15C-BC15-43A4-A60B-00E65C80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9C02-EBBA-4C15-B20D-A7F55C78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4624-07E0-49A2-BE0E-7BA14FDA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5B85-B2CD-4910-ABEF-411B6BA5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2064-0FB6-4795-AEBD-86EFAE78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629B-9A5A-46B4-A61D-0D4393B0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5A29-2598-42A4-A8C2-8A0DEF9F9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hyperlink" Target="258,3,&#26893;&#26641;&#33410;&#30340;&#30001;&#26469;" TargetMode="External"/><Relationship Id="rId8" Type="http://schemas.openxmlformats.org/officeDocument/2006/relationships/hyperlink" Target="260,4,&#26893;&#26641;&#33410;&#30340;&#24847;&#20041;" TargetMode="External"/><Relationship Id="rId9" Type="http://schemas.openxmlformats.org/officeDocument/2006/relationships/hyperlink" Target="261,5,&#21508;&#22269;&#30340;&#26893;&#26641;&#33410;" TargetMode="External"/><Relationship Id="rId10" Type="http://schemas.openxmlformats.org/officeDocument/2006/relationships/hyperlink" Target="259,7,&#23385;&#20013;&#23665;&#20808;&#29983;&#19982;&#26893;&#26641;&#33410;" TargetMode="Externa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028-11030423144358"/>
          <p:cNvPicPr/>
          <p:nvPr/>
        </p:nvPicPr>
        <p:blipFill>
          <a:blip r:embed="rId1"/>
          <a:stretch/>
        </p:blipFill>
        <p:spPr>
          <a:xfrm>
            <a:off x="-757080" y="0"/>
            <a:ext cx="102819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8" descr="http_imgloadCA895AKT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716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7" descr="adCAH6KEIE_副本"/>
          <p:cNvPicPr/>
          <p:nvPr/>
        </p:nvPicPr>
        <p:blipFill>
          <a:blip r:embed="rId2"/>
          <a:stretch/>
        </p:blipFill>
        <p:spPr>
          <a:xfrm>
            <a:off x="7451640" y="907920"/>
            <a:ext cx="1306440" cy="134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8" descr="htIE_副本"/>
          <p:cNvPicPr/>
          <p:nvPr/>
        </p:nvPicPr>
        <p:blipFill>
          <a:blip r:embed="rId3"/>
          <a:stretch/>
        </p:blipFill>
        <p:spPr>
          <a:xfrm>
            <a:off x="5867280" y="1484280"/>
            <a:ext cx="1258920" cy="1573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9" descr="http_6KEIE_副本"/>
          <p:cNvPicPr/>
          <p:nvPr/>
        </p:nvPicPr>
        <p:blipFill>
          <a:blip r:embed="rId4"/>
          <a:stretch/>
        </p:blipFill>
        <p:spPr>
          <a:xfrm>
            <a:off x="7308720" y="263700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0" descr="http_imgloadCAH6KEIE_副本"/>
          <p:cNvPicPr/>
          <p:nvPr/>
        </p:nvPicPr>
        <p:blipFill>
          <a:blip r:embed="rId5"/>
          <a:stretch/>
        </p:blipFill>
        <p:spPr>
          <a:xfrm>
            <a:off x="4140360" y="2133720"/>
            <a:ext cx="1533240" cy="1763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1" descr="http_imgloaKEIE_副本"/>
          <p:cNvPicPr/>
          <p:nvPr/>
        </p:nvPicPr>
        <p:blipFill>
          <a:blip r:embed="rId6"/>
          <a:stretch/>
        </p:blipFill>
        <p:spPr>
          <a:xfrm>
            <a:off x="5867280" y="3357720"/>
            <a:ext cx="1297080" cy="1285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2276640"/>
            <a:ext cx="382752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植树节的由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植树节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各国的植树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纪念中山先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773721ac3078bcccfbed508c"/>
          <p:cNvPicPr/>
          <p:nvPr/>
        </p:nvPicPr>
        <p:blipFill>
          <a:blip r:embed="rId1"/>
          <a:stretch/>
        </p:blipFill>
        <p:spPr>
          <a:xfrm>
            <a:off x="0" y="0"/>
            <a:ext cx="9144000" cy="7439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46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 Black"/>
              </a:rPr>
              <a:t>植树节的由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历史发展到今天，“植树造林，绿化祖国”的热潮漫卷了中华大地。从沿海到内地，从城市到乡村，涌现了多少造林模范，留下了多少感人的故事。婴儿出世，父母栽一棵小白怕，盼望孩子和小树一样浴光吮露，茁壮成长；男女成婚，新人双双植一株嫩柳，象征家庭美满，幸福久长；长者故去，后辈种一棵青松，象征老一辈的美德犹在，风范永存。人们就是这样，把很多很多的情感与植树活动融在一起。于是，出现了一片片“少年林”、“青年林”、“党员林”、“拥军林”，有了一年一度的绿色节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植树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6670800"/>
            <a:ext cx="6499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_imgloadCA1554EW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植树节的意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城市防护林具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减缓风速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的作用，其有效范围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树高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倍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以内，其中在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20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倍范围内效果最好，可降低风速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50%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在农田林网内通常可减缓风速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30%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0%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，提高相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湿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5%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15%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，增加土壤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含水量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10%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20%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。据测定，林冠可截留降水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20%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左右，大大削弱了雨滴的冲击力；地表只要有</a:t>
            </a:r>
            <a:r>
              <a:rPr b="1" lang="en-US" sz="2400" spc="-1" strike="noStrike">
                <a:solidFill>
                  <a:srgbClr val="6699ff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厘米厚的枯枝落叶，就可以把地表径流量减少到裸地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1/4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以下，泥沙减少到裸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7%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以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84360" y="4653000"/>
            <a:ext cx="7993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一公顷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林地与裸地相比，至少可以多储水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300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立方米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。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万亩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森林的蓄水能力相当于蓄水量达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10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万立方米</a:t>
            </a: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黑体"/>
              </a:rPr>
              <a:t>的水库，而建造这样一个水库需要投资千余万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2476d648416a84c782025c8e"/>
          <p:cNvPicPr/>
          <p:nvPr/>
        </p:nvPicPr>
        <p:blipFill>
          <a:blip r:embed="rId1"/>
          <a:stretch/>
        </p:blipFill>
        <p:spPr>
          <a:xfrm>
            <a:off x="1547640" y="-316080"/>
            <a:ext cx="5840640" cy="74962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各国的植树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巴西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植树节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(9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21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日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以色列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树木的新年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萨尔瓦多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植树节和教师节在一起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(6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21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日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芬兰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植树节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(6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24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日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冰岛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学生植树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法国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绿化月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每年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), 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植树日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(3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31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日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中国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植树节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(3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日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朝鲜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植树节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(3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日</a:t>
            </a: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http_imgloadCAPPVDV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3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孙中山先生与植树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61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孙中山先生逝世纪念日。中山先生生前十分重视林业建设。他任临时大总统的中华民国南京政府成立不久，就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9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月设立了农林部，下设山林司，主管全国林业行政事务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91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月颁布了我国近代史上第一部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森林法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9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月，政府又规定将每年“清明”定为植树节。后因清明节对我国南方来说，植树季节太迟，同时也为了纪念孙中山先生，国民政府又决定将孙中山的逝世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-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日定为植树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01300000297717122710615940070"/>
          <p:cNvPicPr/>
          <p:nvPr/>
        </p:nvPicPr>
        <p:blipFill>
          <a:blip r:embed="rId2"/>
          <a:stretch/>
        </p:blipFill>
        <p:spPr>
          <a:xfrm>
            <a:off x="6588000" y="189000"/>
            <a:ext cx="2181240" cy="2867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http_imgloadCAEWWDJ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WordArt 8"/>
          <p:cNvSpPr txBox="1"/>
          <p:nvPr/>
        </p:nvSpPr>
        <p:spPr>
          <a:xfrm>
            <a:off x="826920" y="5157720"/>
            <a:ext cx="6985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Arial"/>
              </a:rPr>
              <a:t>ARE YOU READY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395280" y="33336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接下来先请欣赏一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http_imgloadCA1O2BZA"/>
          <p:cNvPicPr/>
          <p:nvPr/>
        </p:nvPicPr>
        <p:blipFill>
          <a:blip r:embed="rId1"/>
          <a:stretch/>
        </p:blipFill>
        <p:spPr>
          <a:xfrm>
            <a:off x="0" y="0"/>
            <a:ext cx="456876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http_imgloadCA2GL1V8"/>
          <p:cNvPicPr/>
          <p:nvPr/>
        </p:nvPicPr>
        <p:blipFill>
          <a:blip r:embed="rId2"/>
          <a:stretch/>
        </p:blipFill>
        <p:spPr>
          <a:xfrm>
            <a:off x="1908000" y="0"/>
            <a:ext cx="45612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ttp_imgloadCA5EPABW"/>
          <p:cNvPicPr/>
          <p:nvPr/>
        </p:nvPicPr>
        <p:blipFill>
          <a:blip r:embed="rId3"/>
          <a:stretch/>
        </p:blipFill>
        <p:spPr>
          <a:xfrm>
            <a:off x="4594320" y="0"/>
            <a:ext cx="4549680" cy="6827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p_large_ucgE_0f6200017d7e2d11"/>
          <p:cNvPicPr/>
          <p:nvPr/>
        </p:nvPicPr>
        <p:blipFill>
          <a:blip r:embed="rId1"/>
          <a:stretch/>
        </p:blipFill>
        <p:spPr>
          <a:xfrm>
            <a:off x="1403280" y="115920"/>
            <a:ext cx="677376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1837800" y="981000"/>
            <a:ext cx="559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WordArt 7" descr=""/>
          <p:cNvPicPr/>
          <p:nvPr/>
        </p:nvPicPr>
        <p:blipFill>
          <a:blip r:embed="rId2"/>
          <a:stretch/>
        </p:blipFill>
        <p:spPr>
          <a:xfrm>
            <a:off x="719280" y="536400"/>
            <a:ext cx="7407000" cy="414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8"/>
          <p:cNvSpPr/>
          <p:nvPr/>
        </p:nvSpPr>
        <p:spPr>
          <a:xfrm>
            <a:off x="2484360" y="2276640"/>
            <a:ext cx="432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班主任老师做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详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2:14:01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5:37:02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