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6.gif" ContentType="image/gif"/>
  <Override PartName="/ppt/media/image7.png" ContentType="image/png"/>
  <Override PartName="/ppt/media/image8.gif" ContentType="image/gif"/>
  <Override PartName="/ppt/media/image9.gif" ContentType="image/gi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CF4F-E882-4892-B8E8-F4CE62D2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2557-AF1A-48D6-9FA2-172BACA7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CA45-5867-406F-AD44-3187AD91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C4D2-EFAB-4384-9746-9B1657E8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0300-766E-4F4F-AB73-E4F7989D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BE7E-122C-4E0C-B3A9-C1BAB051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413-FB02-4A9E-A656-74AFE60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2B2-19AC-40CE-B4AE-1905A4E4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530-F296-4BBC-BD47-4AF63E3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A0D-6CC2-4E7D-A6C5-EBA277C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3DC1-C54D-4E4D-AB6A-518E622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53C1-39F7-4400-8C1E-703286A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28D-7D72-451A-B775-7B6D2D9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CB39-D3B1-44BD-B041-76F926F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DAEE-E7CD-4B03-8537-85A2CA9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C68-E226-4172-BD2E-06D5118E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1D16-5269-4EF3-BC62-D0CAB768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38AC-8432-484B-8DAF-1553FB19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5351-DD2F-463B-B3D6-D6459F6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38FE-A831-4553-B48E-C973D6E5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E0E7-0DE3-4103-8D25-1E801C2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211B-0609-4DFC-A5A2-71172E8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B61B-DAA4-4DEF-892E-0D7D47A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ECD3-895E-4B18-B1CC-9B6B2201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78E6-A714-4F2B-B668-4B3CC53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77A6-6A63-4FEB-B704-E22306B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5A8B-F8BD-428D-9945-0E28504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56AA-0E76-4578-A95C-CB115AF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AB40-5DFF-4377-B39D-EFB94F74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B3F9-C7FD-44B0-A3F5-46CDCA69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DE84-AAB1-4931-9A69-B9FC589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D4403-D574-42C9-9766-A5DBE54F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941B-130D-4E71-92D0-6CB66C53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1D6C-603D-4776-9553-FD6B3FC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BC85-A4C4-4536-9365-9226156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BB4B-FF49-4967-B312-C64264E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4BB0-AF9E-4398-8F60-09B97C40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A5F0-8C95-41D3-B82C-6150018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C026D-A9D5-4218-A99F-3E5FBF0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0CF4-8461-498D-98AC-6395B6C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29D9-B43A-4C7B-BC31-3EE40E53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3D01-6AAA-476F-99FB-00EC2D5D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8B49-275E-4F12-A956-22831E91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89AD-0B27-4890-9FDB-48FDB64C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9155-1D57-4143-BCCD-C836F48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2853-E299-476E-9B09-AE38D49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6EC1D-2ED7-4503-9A92-3EB4A004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06BB-4C92-4AD8-92BD-4094A5B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AF9E-7153-4B3A-BCA4-C72F8D45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AC1AE-E7A0-47B5-AD9F-2A9133E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A35B-3343-4B10-9A04-998102E3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CC93-EE88-4D53-9F48-C9432F9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826F-EF39-447D-A710-C40B313F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A64A-B362-4F2F-8979-639E7C3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57259-77D8-4413-9B5E-70F1A393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524D-E743-43EA-B3A2-80A84B0F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3C98-392A-4456-9A8E-6750E978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764A-33C9-4947-B375-4DA5F92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24BC-7C99-47AB-A4D6-CF40552B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E299-CDB2-4CAC-AF1E-99AF070F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8B74-0E1D-4041-8A5A-32E34DB7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4ACF-2121-4D74-B653-F5B4CC5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5F12-9CE4-4E19-9F16-8AD02170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9E428-4C6E-4016-AA54-B291105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A957-268B-4B8C-A36C-BD24C425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881C-5373-4310-AC04-80989AE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23F0-12F6-49E7-A2ED-710FE08B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2956-0CB2-42E2-9097-FC2B078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E35E1-FDDC-4765-92B8-E9E7B1C6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B183-FA11-454D-B92A-306FD641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A5A6-AA10-4C74-8F33-159ED8C5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3FC2A-B652-4DBD-9AF1-DEB16028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CCE90-0E93-405A-9B20-E9FB01CB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8F41-622B-4DA7-9619-CFA89260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487FE-0A8E-46CA-AE34-FEA9C8C5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F74D-E473-46A2-968C-D6C70FF2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5BFE5-2BD5-436D-B994-528B9A2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1A34-A640-4491-9B6C-91722118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E17B-0AA9-4415-BD4A-F7947C7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3E7F9-98F0-47AE-B77E-73BEF4F1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28282-8F4B-4329-B5A3-1E47E77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D7427-4FE1-4654-8BF9-50E74B26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695A-C04C-4D9E-B739-890417C2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3D32-CE90-4376-9349-A666684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FF89-B883-42BB-9BDF-F1CE037DCDB3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5" name="Freeform 4"/>
              <p:cNvSpPr/>
              <p:nvPr/>
            </p:nvSpPr>
            <p:spPr>
              <a:xfrm>
                <a:off x="2220840" y="1771560"/>
                <a:ext cx="446868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384120" y="1817640"/>
                <a:ext cx="875016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755880" y="1693800"/>
                <a:ext cx="222084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86360" y="3224160"/>
                <a:ext cx="199404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7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" name="Rectangle 18"/>
              <p:cNvSpPr/>
              <p:nvPr/>
            </p:nvSpPr>
            <p:spPr>
              <a:xfrm rot="6798600">
                <a:off x="95400" y="61603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0" name="Rectangle 19"/>
              <p:cNvSpPr/>
              <p:nvPr/>
            </p:nvSpPr>
            <p:spPr>
              <a:xfrm rot="6798600">
                <a:off x="49320" y="6155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1" name="Rectangle 20"/>
              <p:cNvSpPr/>
              <p:nvPr/>
            </p:nvSpPr>
            <p:spPr>
              <a:xfrm rot="6798600">
                <a:off x="6480" y="6147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2" name="Rectangle 21"/>
              <p:cNvSpPr/>
              <p:nvPr/>
            </p:nvSpPr>
            <p:spPr>
              <a:xfrm rot="5999400">
                <a:off x="32904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3" name="Rectangle 22"/>
              <p:cNvSpPr/>
              <p:nvPr/>
            </p:nvSpPr>
            <p:spPr>
              <a:xfrm rot="5999400">
                <a:off x="28620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4" name="Rectangle 23"/>
              <p:cNvSpPr/>
              <p:nvPr/>
            </p:nvSpPr>
            <p:spPr>
              <a:xfrm rot="6249600">
                <a:off x="238320" y="6168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5" name="Rectangle 24"/>
              <p:cNvSpPr/>
              <p:nvPr/>
            </p:nvSpPr>
            <p:spPr>
              <a:xfrm rot="6237600">
                <a:off x="192240" y="61650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6" name="Rectangle 25"/>
              <p:cNvSpPr/>
              <p:nvPr/>
            </p:nvSpPr>
            <p:spPr>
              <a:xfrm rot="5380200">
                <a:off x="573480" y="61380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7" name="Rectangle 26"/>
              <p:cNvSpPr/>
              <p:nvPr/>
            </p:nvSpPr>
            <p:spPr>
              <a:xfrm rot="5380200">
                <a:off x="524160" y="6142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8" name="Rectangle 27"/>
              <p:cNvSpPr/>
              <p:nvPr/>
            </p:nvSpPr>
            <p:spPr>
              <a:xfrm rot="5583000">
                <a:off x="476640" y="615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" name="Rectangle 28"/>
              <p:cNvSpPr/>
              <p:nvPr/>
            </p:nvSpPr>
            <p:spPr>
              <a:xfrm rot="5737200">
                <a:off x="425880" y="6158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" name="Rectangle 29"/>
              <p:cNvSpPr/>
              <p:nvPr/>
            </p:nvSpPr>
            <p:spPr>
              <a:xfrm rot="4715400">
                <a:off x="816120" y="607464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1" name="Rectangle 30"/>
              <p:cNvSpPr/>
              <p:nvPr/>
            </p:nvSpPr>
            <p:spPr>
              <a:xfrm rot="4924800">
                <a:off x="768600" y="6082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2" name="Rectangle 31"/>
              <p:cNvSpPr/>
              <p:nvPr/>
            </p:nvSpPr>
            <p:spPr>
              <a:xfrm rot="4924800">
                <a:off x="721080" y="6104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3" name="Rectangle 32"/>
              <p:cNvSpPr/>
              <p:nvPr/>
            </p:nvSpPr>
            <p:spPr>
              <a:xfrm rot="5041200">
                <a:off x="673200" y="6109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4" name="Rectangle 33"/>
              <p:cNvSpPr/>
              <p:nvPr/>
            </p:nvSpPr>
            <p:spPr>
              <a:xfrm rot="3816600">
                <a:off x="1051560" y="596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5" name="Rectangle 34"/>
              <p:cNvSpPr/>
              <p:nvPr/>
            </p:nvSpPr>
            <p:spPr>
              <a:xfrm rot="3816600">
                <a:off x="1004040" y="59968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6" name="Rectangle 35"/>
              <p:cNvSpPr/>
              <p:nvPr/>
            </p:nvSpPr>
            <p:spPr>
              <a:xfrm rot="4104000">
                <a:off x="957600" y="6014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7" name="Rectangle 36"/>
              <p:cNvSpPr/>
              <p:nvPr/>
            </p:nvSpPr>
            <p:spPr>
              <a:xfrm rot="4324800">
                <a:off x="909720" y="6034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8" name="Rectangle 37"/>
              <p:cNvSpPr/>
              <p:nvPr/>
            </p:nvSpPr>
            <p:spPr>
              <a:xfrm rot="3367800">
                <a:off x="1265400" y="5842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9" name="Rectangle 38"/>
              <p:cNvSpPr/>
              <p:nvPr/>
            </p:nvSpPr>
            <p:spPr>
              <a:xfrm rot="3367800">
                <a:off x="1222560" y="5868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0" name="Rectangle 39"/>
              <p:cNvSpPr/>
              <p:nvPr/>
            </p:nvSpPr>
            <p:spPr>
              <a:xfrm rot="3367800">
                <a:off x="1179720" y="5896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1" name="Rectangle 40"/>
              <p:cNvSpPr/>
              <p:nvPr/>
            </p:nvSpPr>
            <p:spPr>
              <a:xfrm rot="3816600">
                <a:off x="1135800" y="5923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3" name="Rectangle 42"/>
              <p:cNvSpPr/>
              <p:nvPr/>
            </p:nvSpPr>
            <p:spPr>
              <a:xfrm rot="2302200">
                <a:off x="1426680" y="5724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" name="Rectangle 43"/>
              <p:cNvSpPr/>
              <p:nvPr/>
            </p:nvSpPr>
            <p:spPr>
              <a:xfrm rot="2707200">
                <a:off x="1387800" y="57524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" name="Rectangle 44"/>
              <p:cNvSpPr/>
              <p:nvPr/>
            </p:nvSpPr>
            <p:spPr>
              <a:xfrm rot="2707200">
                <a:off x="1346400" y="5780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" name="Rectangle 52"/>
              <p:cNvSpPr/>
              <p:nvPr/>
            </p:nvSpPr>
            <p:spPr>
              <a:xfrm rot="1308600">
                <a:off x="1689120" y="543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" name="Rectangle 53"/>
              <p:cNvSpPr/>
              <p:nvPr/>
            </p:nvSpPr>
            <p:spPr>
              <a:xfrm rot="469800">
                <a:off x="1860120" y="5119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733800">
                <a:off x="1832040" y="52009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306000">
                <a:off x="1922040" y="491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599400"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119400">
                <a:off x="1936440" y="4748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119400">
                <a:off x="1936440" y="47865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0630400">
                <a:off x="1925280" y="4546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0630400">
                <a:off x="1929960" y="458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0793600">
                <a:off x="1934640" y="46278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0055600">
                <a:off x="1849320" y="43290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0257800">
                <a:off x="1866600" y="4368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0257800">
                <a:off x="1895040" y="44370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 rot="19257600">
                <a:off x="1695600" y="411156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 rot="6575400">
                <a:off x="-344520" y="498132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 rot="18642600">
                <a:off x="1437120" y="392220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 rot="18642600">
                <a:off x="1473840" y="3942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 rot="17961000">
                <a:off x="1248120" y="3846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 rot="17961000">
                <a:off x="1290960" y="38599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 rot="18085200">
                <a:off x="1326240" y="3870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 rot="18379200">
                <a:off x="1366200" y="3889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 rot="17261400">
                <a:off x="1027800" y="37990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 rot="17349600">
                <a:off x="1072440" y="38091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 rot="17349600">
                <a:off x="1119960" y="3817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 rot="17611200">
                <a:off x="1167120" y="3823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 rot="16737600">
                <a:off x="795960" y="37980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 rot="16926600">
                <a:off x="843840" y="3794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Rectangle 98"/>
              <p:cNvSpPr/>
              <p:nvPr/>
            </p:nvSpPr>
            <p:spPr>
              <a:xfrm rot="16953000">
                <a:off x="891360" y="3790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" name="Rectangle 99"/>
              <p:cNvSpPr/>
              <p:nvPr/>
            </p:nvSpPr>
            <p:spPr>
              <a:xfrm rot="17019600">
                <a:off x="940680" y="3791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1" name="Rectangle 100"/>
              <p:cNvSpPr/>
              <p:nvPr/>
            </p:nvSpPr>
            <p:spPr>
              <a:xfrm rot="16404600">
                <a:off x="560880" y="382824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2" name="Rectangle 101"/>
              <p:cNvSpPr/>
              <p:nvPr/>
            </p:nvSpPr>
            <p:spPr>
              <a:xfrm rot="16239000">
                <a:off x="608760" y="3820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3" name="Rectangle 102"/>
              <p:cNvSpPr/>
              <p:nvPr/>
            </p:nvSpPr>
            <p:spPr>
              <a:xfrm rot="16311000">
                <a:off x="660960" y="381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4" name="Rectangle 103"/>
              <p:cNvSpPr/>
              <p:nvPr/>
            </p:nvSpPr>
            <p:spPr>
              <a:xfrm rot="16434600">
                <a:off x="710280" y="380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104"/>
              <p:cNvSpPr/>
              <p:nvPr/>
            </p:nvSpPr>
            <p:spPr>
              <a:xfrm rot="15467400">
                <a:off x="324360" y="389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105"/>
              <p:cNvSpPr/>
              <p:nvPr/>
            </p:nvSpPr>
            <p:spPr>
              <a:xfrm rot="15379200">
                <a:off x="373680" y="38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106"/>
              <p:cNvSpPr/>
              <p:nvPr/>
            </p:nvSpPr>
            <p:spPr>
              <a:xfrm rot="15489000">
                <a:off x="419760" y="38664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7"/>
              <p:cNvSpPr/>
              <p:nvPr/>
            </p:nvSpPr>
            <p:spPr>
              <a:xfrm rot="15680400">
                <a:off x="461160" y="3848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08"/>
              <p:cNvSpPr/>
              <p:nvPr/>
            </p:nvSpPr>
            <p:spPr>
              <a:xfrm rot="14223600">
                <a:off x="5400" y="404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09"/>
              <p:cNvSpPr/>
              <p:nvPr/>
            </p:nvSpPr>
            <p:spPr>
              <a:xfrm rot="14431200">
                <a:off x="99000" y="399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10"/>
              <p:cNvSpPr/>
              <p:nvPr/>
            </p:nvSpPr>
            <p:spPr>
              <a:xfrm rot="14797200">
                <a:off x="143280" y="396828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11"/>
              <p:cNvSpPr/>
              <p:nvPr/>
            </p:nvSpPr>
            <p:spPr>
              <a:xfrm rot="14797200">
                <a:off x="186480" y="39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12"/>
              <p:cNvSpPr/>
              <p:nvPr/>
            </p:nvSpPr>
            <p:spPr>
              <a:xfrm rot="15142200">
                <a:off x="235440" y="39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6" name="Rectangle 115"/>
              <p:cNvSpPr/>
              <p:nvPr/>
            </p:nvSpPr>
            <p:spPr>
              <a:xfrm rot="3283800">
                <a:off x="54720" y="44420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8" name="Rectangle 117"/>
              <p:cNvSpPr/>
              <p:nvPr/>
            </p:nvSpPr>
            <p:spPr>
              <a:xfrm rot="5908800">
                <a:off x="317160" y="62150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Rectangle 119"/>
              <p:cNvSpPr/>
              <p:nvPr/>
            </p:nvSpPr>
            <p:spPr>
              <a:xfrm rot="5245200">
                <a:off x="572400" y="61801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2" name="Rectangle 121"/>
              <p:cNvSpPr/>
              <p:nvPr/>
            </p:nvSpPr>
            <p:spPr>
              <a:xfrm rot="3805200">
                <a:off x="1063080" y="59976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3" name="Rectangle 122"/>
              <p:cNvSpPr/>
              <p:nvPr/>
            </p:nvSpPr>
            <p:spPr>
              <a:xfrm rot="3060000">
                <a:off x="1290240" y="58546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5" name="Rectangle 124"/>
              <p:cNvSpPr/>
              <p:nvPr/>
            </p:nvSpPr>
            <p:spPr>
              <a:xfrm rot="14431200">
                <a:off x="-28440" y="3978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Rectangle 125"/>
              <p:cNvSpPr/>
              <p:nvPr/>
            </p:nvSpPr>
            <p:spPr>
              <a:xfrm rot="15193200">
                <a:off x="215640" y="38624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7" name="Rectangle 126"/>
              <p:cNvSpPr/>
              <p:nvPr/>
            </p:nvSpPr>
            <p:spPr>
              <a:xfrm rot="16629000">
                <a:off x="709200" y="37522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Rectangle 128"/>
              <p:cNvSpPr/>
              <p:nvPr/>
            </p:nvSpPr>
            <p:spPr>
              <a:xfrm rot="17923200">
                <a:off x="1170360" y="378360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0" name="Rectangle 129"/>
              <p:cNvSpPr/>
              <p:nvPr/>
            </p:nvSpPr>
            <p:spPr>
              <a:xfrm rot="18411000">
                <a:off x="1376640" y="38534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3" name="Rectangle 132"/>
              <p:cNvSpPr/>
              <p:nvPr/>
            </p:nvSpPr>
            <p:spPr>
              <a:xfrm rot="19871400">
                <a:off x="1820880" y="42674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4" name="Rectangle 133"/>
              <p:cNvSpPr/>
              <p:nvPr/>
            </p:nvSpPr>
            <p:spPr>
              <a:xfrm rot="20427600">
                <a:off x="1901520" y="4453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5" name="Rectangle 134"/>
              <p:cNvSpPr/>
              <p:nvPr/>
            </p:nvSpPr>
            <p:spPr>
              <a:xfrm rot="20845800">
                <a:off x="1933200" y="46515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6" name="Rectangle 135"/>
              <p:cNvSpPr/>
              <p:nvPr/>
            </p:nvSpPr>
            <p:spPr>
              <a:xfrm rot="21312000">
                <a:off x="1925280" y="4867560"/>
                <a:ext cx="2649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7" name="Rectangle 136"/>
              <p:cNvSpPr/>
              <p:nvPr/>
            </p:nvSpPr>
            <p:spPr>
              <a:xfrm rot="696600">
                <a:off x="1787040" y="5297760"/>
                <a:ext cx="238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0" name="Freeform 139"/>
              <p:cNvSpPr/>
              <p:nvPr/>
            </p:nvSpPr>
            <p:spPr>
              <a:xfrm>
                <a:off x="30240" y="43214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1" name="Freeform 140"/>
              <p:cNvSpPr/>
              <p:nvPr/>
            </p:nvSpPr>
            <p:spPr>
              <a:xfrm>
                <a:off x="154080" y="420876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3" name="Freeform 142"/>
              <p:cNvSpPr/>
              <p:nvPr/>
            </p:nvSpPr>
            <p:spPr>
              <a:xfrm>
                <a:off x="1492200" y="44164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4" name="Freeform 143"/>
              <p:cNvSpPr/>
              <p:nvPr/>
            </p:nvSpPr>
            <p:spPr>
              <a:xfrm>
                <a:off x="1425600" y="43117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8" name="Rectangle 147"/>
              <p:cNvSpPr/>
              <p:nvPr/>
            </p:nvSpPr>
            <p:spPr>
              <a:xfrm rot="244800">
                <a:off x="1868400" y="508176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9" name="Rectangle 148"/>
              <p:cNvSpPr/>
              <p:nvPr/>
            </p:nvSpPr>
            <p:spPr>
              <a:xfrm rot="16001400">
                <a:off x="460440" y="37872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1" name="Freeform 150"/>
              <p:cNvSpPr/>
              <p:nvPr/>
            </p:nvSpPr>
            <p:spPr>
              <a:xfrm rot="18742800">
                <a:off x="978480" y="563292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Oval 152"/>
              <p:cNvSpPr/>
              <p:nvPr/>
            </p:nvSpPr>
            <p:spPr>
              <a:xfrm rot="19915200">
                <a:off x="469800" y="483696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35561"/>
                  </a:gs>
                  <a:gs pos="100000">
                    <a:srgbClr val="5b5d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8758-3CB5-4789-BADE-582E108D895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60D-3C5A-4E23-991F-DEA9145704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818-99EA-4F64-A8C7-D2FD196DBC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38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339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0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4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345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7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348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349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1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352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53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55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35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7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58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359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0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36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3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4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365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6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7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68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9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0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7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2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3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74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5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7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2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383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7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398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3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404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5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6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07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8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9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10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12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13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4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415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grpSp>
              <p:nvGrpSpPr>
                <p:cNvPr id="417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418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9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0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421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2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3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24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5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6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427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8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3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2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433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4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5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436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7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8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439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0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41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442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3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4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47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448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9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45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1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6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7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5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6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707-41E4-40F6-BFFC-5E4C3B8A5190}" type="slidenum"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14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6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6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6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7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9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0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2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3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6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8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9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1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2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4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5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8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0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1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3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4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6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0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5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6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8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9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2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4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5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9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0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59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60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4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5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73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74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9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0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1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2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3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4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5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6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87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88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9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0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1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2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3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4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5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6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7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8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9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0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01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02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3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4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5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6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7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8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9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0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1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2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3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4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15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16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7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8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9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0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1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2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3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4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5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6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7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8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29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30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1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2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3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4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5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6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7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8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9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0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1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2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4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44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74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4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8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9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0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1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2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3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4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5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6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7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8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A008-BC3B-49C6-947F-C51BEA7D6C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BE48-AD66-4E02-9261-3ADC613AF887}" type="datetime">
              <a:rPr b="1" lang="zh-CN" sz="1400" spc="-1" strike="noStrike">
                <a:solidFill>
                  <a:srgbClr val="000000"/>
                </a:solidFill>
                <a:latin typeface="Arial Narrow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B3B8-3DD0-4660-A653-16863E357A20}" type="slidenum">
              <a:rPr b="1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WordArt 2"/>
          <p:cNvSpPr txBox="1"/>
          <p:nvPr/>
        </p:nvSpPr>
        <p:spPr>
          <a:xfrm>
            <a:off x="1763640" y="98100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Object Clause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2" name="WordArt 3"/>
          <p:cNvSpPr txBox="1"/>
          <p:nvPr/>
        </p:nvSpPr>
        <p:spPr>
          <a:xfrm>
            <a:off x="2843280" y="292428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宾语从句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3" name="WordArt 4"/>
          <p:cNvSpPr txBox="1"/>
          <p:nvPr/>
        </p:nvSpPr>
        <p:spPr>
          <a:xfrm>
            <a:off x="2124000" y="4149720"/>
            <a:ext cx="496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Bookman Old Style"/>
              </a:rPr>
              <a:t>General Review</a:t>
            </a:r>
            <a:endParaRPr b="1" i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44" name="AutoShape 5">
            <a:hlinkClick r:id="" action="ppaction://hlinkshowjump?jump=nextslide"/>
          </p:cNvPr>
          <p:cNvSpPr/>
          <p:nvPr/>
        </p:nvSpPr>
        <p:spPr>
          <a:xfrm>
            <a:off x="7596360" y="6093000"/>
            <a:ext cx="1079280" cy="765000"/>
          </a:xfrm>
          <a:custGeom>
            <a:avLst/>
            <a:gdLst>
              <a:gd name="textAreaLeft" fmla="*/ 47520 w 1079280"/>
              <a:gd name="textAreaRight" fmla="*/ 1031760 w 107928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0470" h="21600">
                <a:moveTo>
                  <a:pt x="0" y="0"/>
                </a:moveTo>
                <a:lnTo>
                  <a:pt x="30470" y="0"/>
                </a:lnTo>
                <a:lnTo>
                  <a:pt x="30470" y="21600"/>
                </a:lnTo>
                <a:lnTo>
                  <a:pt x="0" y="21600"/>
                </a:lnTo>
                <a:close/>
              </a:path>
              <a:path fill="lightenLess" w="30470" h="21600">
                <a:moveTo>
                  <a:pt x="0" y="0"/>
                </a:moveTo>
                <a:lnTo>
                  <a:pt x="30470" y="0"/>
                </a:lnTo>
                <a:lnTo>
                  <a:pt x="29120" y="1350"/>
                </a:lnTo>
                <a:lnTo>
                  <a:pt x="1350" y="1350"/>
                </a:lnTo>
                <a:close/>
              </a:path>
              <a:path fill="darken" w="30470" h="21600">
                <a:moveTo>
                  <a:pt x="30470" y="0"/>
                </a:moveTo>
                <a:lnTo>
                  <a:pt x="30470" y="21600"/>
                </a:lnTo>
                <a:lnTo>
                  <a:pt x="29120" y="20250"/>
                </a:lnTo>
                <a:lnTo>
                  <a:pt x="29120" y="1350"/>
                </a:lnTo>
                <a:close/>
              </a:path>
              <a:path fill="darkenLess" w="30470" h="21600">
                <a:moveTo>
                  <a:pt x="3047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120" y="20250"/>
                </a:lnTo>
                <a:close/>
              </a:path>
              <a:path fill="lighten" w="3047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470" h="21600">
                <a:moveTo>
                  <a:pt x="8191" y="3756"/>
                </a:moveTo>
                <a:lnTo>
                  <a:pt x="22279" y="10800"/>
                </a:lnTo>
                <a:lnTo>
                  <a:pt x="8191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0" y="-127080"/>
            <a:ext cx="10117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果宾语从句为一般疑问句，用连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if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Whether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)I wonder if (whether) he will help m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注意在下列情况下一般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而不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 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119160" y="1989000"/>
            <a:ext cx="92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 am interested in whether 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l go to have a picn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765360" y="1413000"/>
            <a:ext cx="54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作介词的宾语时，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而不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5" name="Rectangle 8"/>
          <p:cNvSpPr/>
          <p:nvPr/>
        </p:nvSpPr>
        <p:spPr>
          <a:xfrm>
            <a:off x="435240" y="3141720"/>
            <a:ext cx="77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 this is true or not , I am not sur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6" name="Rectangle 10"/>
          <p:cNvSpPr/>
          <p:nvPr/>
        </p:nvSpPr>
        <p:spPr>
          <a:xfrm>
            <a:off x="1027440" y="2565360"/>
            <a:ext cx="59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引导的从句可移到主句之前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不能。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7" name="Rectangle 12"/>
          <p:cNvSpPr/>
          <p:nvPr/>
        </p:nvSpPr>
        <p:spPr>
          <a:xfrm>
            <a:off x="31320" y="422100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e did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t know whether or not she had com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8" name="Rectangle 14"/>
          <p:cNvSpPr/>
          <p:nvPr/>
        </p:nvSpPr>
        <p:spPr>
          <a:xfrm>
            <a:off x="347040" y="3716280"/>
            <a:ext cx="52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面紧接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or no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，只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9" name="Rectangle 16"/>
          <p:cNvSpPr/>
          <p:nvPr/>
        </p:nvSpPr>
        <p:spPr>
          <a:xfrm>
            <a:off x="1338840" y="5373720"/>
            <a:ext cx="607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Please let me know if you like it 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请告诉我你是否喜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如果你喜欢，请告诉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0" name="Rectangle 18"/>
          <p:cNvSpPr/>
          <p:nvPr/>
        </p:nvSpPr>
        <p:spPr>
          <a:xfrm>
            <a:off x="592920" y="4869000"/>
            <a:ext cx="49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会引起歧义时，只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2" name="Picture 3" descr="边框56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Text Box 4"/>
            <p:cNvSpPr/>
            <p:nvPr/>
          </p:nvSpPr>
          <p:spPr>
            <a:xfrm>
              <a:off x="1219320" y="762120"/>
              <a:ext cx="7619760" cy="60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he radio says it _________ cloudy tomorrow. (be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he headmaster hopes everything ______ well. (go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om says that they ____________ (play) basketball at six o’clock yesterday evening. 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I hear they __________ (return) it already. 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He said that they _________ members of the Party since 1948. (be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He asked what they __________ at eight last night. (do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he teacher told his class that light _______ faster than sound. (travel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I think you __________ about the relay race now. (talk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I didn’t know whom the letters _________ from. (be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894" name="Text Box 5"/>
          <p:cNvSpPr/>
          <p:nvPr/>
        </p:nvSpPr>
        <p:spPr>
          <a:xfrm>
            <a:off x="3886200" y="762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ill b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5943600" y="1295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go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4114800" y="1905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ere play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2971800" y="2819520"/>
            <a:ext cx="26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ve returned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3809880" y="3352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d been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60958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ravel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0" name="Text Box 11"/>
          <p:cNvSpPr/>
          <p:nvPr/>
        </p:nvSpPr>
        <p:spPr>
          <a:xfrm>
            <a:off x="3200400" y="5715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are talk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715000" y="6248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er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4191120" y="4267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ere do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边框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3"/>
          <p:cNvSpPr/>
          <p:nvPr/>
        </p:nvSpPr>
        <p:spPr>
          <a:xfrm>
            <a:off x="1371600" y="923760"/>
            <a:ext cx="86011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0. I didn’t know what time he _______ the letter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(writ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1. Miss Wang told me that the earth ______(move)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round the earth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2. Could you tell me who _________ away the boo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already? (tak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3. Ling Feng told me he _________ to Beijing severa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times. (b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4. Our teacher told us in class the sun _______ in th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east.  (ris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5. Can you tell me what they ______ yesterday? (do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548640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ro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624852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mov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7" name="Text Box 6"/>
          <p:cNvSpPr/>
          <p:nvPr/>
        </p:nvSpPr>
        <p:spPr>
          <a:xfrm>
            <a:off x="48769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s taken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8" name="Text Box 7"/>
          <p:cNvSpPr/>
          <p:nvPr/>
        </p:nvSpPr>
        <p:spPr>
          <a:xfrm>
            <a:off x="4724280" y="4267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d been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9" name="Text Box 8"/>
          <p:cNvSpPr/>
          <p:nvPr/>
        </p:nvSpPr>
        <p:spPr>
          <a:xfrm>
            <a:off x="6659640" y="53006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ris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5580000" y="6461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did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2" name="Picture 3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4"/>
          <p:cNvSpPr/>
          <p:nvPr/>
        </p:nvSpPr>
        <p:spPr>
          <a:xfrm>
            <a:off x="228600" y="2286000"/>
            <a:ext cx="5486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Tahoma"/>
                <a:ea typeface="华文新魏"/>
              </a:rPr>
              <a:t>陈述句变为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395280" y="2924280"/>
            <a:ext cx="712944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.g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.     He said, “You are younger than I ”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     He says, “Tom is a good student ”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332000" y="414972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ahoma"/>
                <a:ea typeface="宋体"/>
              </a:rPr>
              <a:t>He said that I was younger than him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1403280" y="544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ahoma"/>
                <a:ea typeface="宋体"/>
              </a:rPr>
              <a:t>He says that Tom is a good student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468360" y="386064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8" name="AutoShape 9"/>
          <p:cNvSpPr/>
          <p:nvPr/>
        </p:nvSpPr>
        <p:spPr>
          <a:xfrm>
            <a:off x="395280" y="515772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20" name="Picture 3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4"/>
          <p:cNvSpPr/>
          <p:nvPr/>
        </p:nvSpPr>
        <p:spPr>
          <a:xfrm>
            <a:off x="0" y="2209680"/>
            <a:ext cx="70102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华文新魏"/>
                <a:ea typeface="华文新魏"/>
              </a:rPr>
              <a:t>一般疑问句变为</a:t>
            </a:r>
            <a:r>
              <a:rPr b="1" lang="en-US" sz="2800" spc="-1" strike="noStrike">
                <a:solidFill>
                  <a:srgbClr val="fe1f08"/>
                </a:solidFill>
                <a:latin typeface="华文新魏"/>
                <a:ea typeface="华文新魏"/>
              </a:rPr>
              <a:t>if (whether)</a:t>
            </a:r>
            <a:r>
              <a:rPr b="1" lang="zh-CN" sz="2800" spc="-1" strike="noStrike">
                <a:solidFill>
                  <a:srgbClr val="fe1f08"/>
                </a:solidFill>
                <a:latin typeface="华文新魏"/>
                <a:ea typeface="华文新魏"/>
              </a:rPr>
              <a:t>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0" y="30481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he said, “ Do you often come here to read newspaper? 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ill they go to visit the Great Wall?” he ask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3" name="Text Box 6"/>
          <p:cNvSpPr/>
          <p:nvPr/>
        </p:nvSpPr>
        <p:spPr>
          <a:xfrm>
            <a:off x="91440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She asked if (whether) I often came here to read newspaper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914400" y="525780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e asked if (whether) they would go to visit the Great Wall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5" name="AutoShape 8"/>
          <p:cNvSpPr/>
          <p:nvPr/>
        </p:nvSpPr>
        <p:spPr>
          <a:xfrm>
            <a:off x="304920" y="37339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6" name="AutoShape 9"/>
          <p:cNvSpPr/>
          <p:nvPr/>
        </p:nvSpPr>
        <p:spPr>
          <a:xfrm>
            <a:off x="380880" y="480060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28" name="Picture 3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grpSp>
        <p:nvGrpSpPr>
          <p:cNvPr id="929" name="Group 4"/>
          <p:cNvGrpSpPr/>
          <p:nvPr/>
        </p:nvGrpSpPr>
        <p:grpSpPr>
          <a:xfrm>
            <a:off x="304920" y="1905120"/>
            <a:ext cx="7772400" cy="761760"/>
            <a:chOff x="304920" y="1905120"/>
            <a:chExt cx="7772400" cy="761760"/>
          </a:xfrm>
        </p:grpSpPr>
        <p:sp>
          <p:nvSpPr>
            <p:cNvPr id="930" name="Rectangle 5"/>
            <p:cNvSpPr/>
            <p:nvPr/>
          </p:nvSpPr>
          <p:spPr>
            <a:xfrm>
              <a:off x="304920" y="1905120"/>
              <a:ext cx="7772400" cy="761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1" name="Rectangle 6"/>
            <p:cNvSpPr/>
            <p:nvPr/>
          </p:nvSpPr>
          <p:spPr>
            <a:xfrm>
              <a:off x="1346400" y="205704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e1f08"/>
                  </a:solidFill>
                  <a:latin typeface="Tahoma"/>
                  <a:ea typeface="宋体"/>
                </a:rPr>
                <a:t>特殊疑问句变为</a:t>
              </a:r>
              <a:r>
                <a:rPr b="1" lang="en-US" sz="2400" spc="-1" strike="noStrike">
                  <a:solidFill>
                    <a:srgbClr val="fe1f08"/>
                  </a:solidFill>
                  <a:latin typeface="Tahoma"/>
                  <a:ea typeface="宋体"/>
                </a:rPr>
                <a:t>who, what, when</a:t>
              </a:r>
              <a:r>
                <a:rPr b="1" lang="zh-CN" sz="2400" spc="-1" strike="noStrike">
                  <a:solidFill>
                    <a:srgbClr val="fe1f08"/>
                  </a:solidFill>
                  <a:latin typeface="Tahoma"/>
                  <a:ea typeface="宋体"/>
                </a:rPr>
                <a:t>等引导的宾语从句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32" name="Text Box 7"/>
          <p:cNvSpPr/>
          <p:nvPr/>
        </p:nvSpPr>
        <p:spPr>
          <a:xfrm>
            <a:off x="304920" y="2666880"/>
            <a:ext cx="80769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1.      He asked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Where do you live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2.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How can we get to the post-office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he asked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1295280" y="38862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He asked where I lived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14479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He asked how they could get to the post-office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5" name="AutoShape 10"/>
          <p:cNvSpPr/>
          <p:nvPr/>
        </p:nvSpPr>
        <p:spPr>
          <a:xfrm>
            <a:off x="914400" y="3352680"/>
            <a:ext cx="380880" cy="914400"/>
          </a:xfrm>
          <a:custGeom>
            <a:avLst/>
            <a:gdLst>
              <a:gd name="textAreaLeft" fmla="*/ 50760 w 380880"/>
              <a:gd name="textAreaRight" fmla="*/ 330120 w 380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6" name="AutoShape 11"/>
          <p:cNvSpPr/>
          <p:nvPr/>
        </p:nvSpPr>
        <p:spPr>
          <a:xfrm>
            <a:off x="914400" y="5029200"/>
            <a:ext cx="380880" cy="914400"/>
          </a:xfrm>
          <a:custGeom>
            <a:avLst/>
            <a:gdLst>
              <a:gd name="textAreaLeft" fmla="*/ 50760 w 380880"/>
              <a:gd name="textAreaRight" fmla="*/ 330120 w 380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2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3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762120" y="2743200"/>
            <a:ext cx="7696080" cy="35053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e1f08"/>
                </a:solidFill>
                <a:latin typeface="Tahoma"/>
                <a:ea typeface="宋体"/>
              </a:rPr>
              <a:t>1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当主句的谓语动词是一般现在时或一般将来时，宾语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从句的谓语动词可以用所需要的任何一种时态。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、当主句的谓语动词是一般过去时，宾语从句的谓语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动词要用相应的过去时态，但当宾语从句叙述的内容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为客观真理时，仍然用一般现在时。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华文新魏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华文新魏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华文新魏"/>
              </a:rPr>
              <a:t>The teacher said that the moon moves around the sun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5257800" y="1600200"/>
            <a:ext cx="2819520" cy="1066680"/>
          </a:xfrm>
          <a:prstGeom prst="cloudCallout">
            <a:avLst>
              <a:gd name="adj1" fmla="val -64694"/>
              <a:gd name="adj2" fmla="val 75296"/>
            </a:avLst>
          </a:prstGeom>
          <a:solidFill>
            <a:srgbClr val="ffffcc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注  意：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边框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3"/>
          <p:cNvSpPr/>
          <p:nvPr/>
        </p:nvSpPr>
        <p:spPr>
          <a:xfrm>
            <a:off x="1371600" y="685800"/>
            <a:ext cx="77724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将下列句子合并为一句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1. Where do they stop on the way?   I aske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2. What will you speak at the meeting? Could you tell me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3. Do they like to make friends with us?   He aske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4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I am doing my homework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He sai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5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I will come back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om sai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6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Is he doing his homework?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Jim aske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600200" y="16765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I asked where they stopped on the way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600200" y="2590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Could you tell me what you will speak at the meeting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1600200" y="3505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e asked if they liked to make friends with them.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6" name="Text Box 7"/>
          <p:cNvSpPr/>
          <p:nvPr/>
        </p:nvSpPr>
        <p:spPr>
          <a:xfrm>
            <a:off x="160020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e said that he was doing his homework.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7" name="Text Box 8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om said that he would come back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8" name="Text Box 9"/>
          <p:cNvSpPr/>
          <p:nvPr/>
        </p:nvSpPr>
        <p:spPr>
          <a:xfrm>
            <a:off x="1600200" y="6248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Jim asked if he was doing his homework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hecker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边框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3"/>
          <p:cNvSpPr/>
          <p:nvPr/>
        </p:nvSpPr>
        <p:spPr>
          <a:xfrm>
            <a:off x="1447920" y="68580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7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When will he come back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Tom asked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8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How can I get to the station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Could you tell me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9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Why is the train late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Would you tell me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10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Where is Tom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They asked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676520" y="12952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om asked when he would come back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2" name="Text Box 5"/>
          <p:cNvSpPr/>
          <p:nvPr/>
        </p:nvSpPr>
        <p:spPr>
          <a:xfrm>
            <a:off x="1676520" y="2819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Could you tell me how I can get to the station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1676520" y="3962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ould you tell me why the train is late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1828800" y="5181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hey asked where Tom was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2"/>
          <p:cNvSpPr/>
          <p:nvPr/>
        </p:nvSpPr>
        <p:spPr>
          <a:xfrm>
            <a:off x="0" y="836640"/>
            <a:ext cx="91440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否定转移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当主句的谓语是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think , believe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等动词时，某后作宾语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that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从句如果否定意义，通常将否定词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not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移至主句动词之前。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I don’t think he is having a meeting 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6" name=""/>
          <p:cNvSpPr/>
          <p:nvPr/>
        </p:nvSpPr>
        <p:spPr>
          <a:xfrm>
            <a:off x="539640" y="6165720"/>
            <a:ext cx="69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课件下载</a:t>
            </a:r>
            <a:r>
              <a:rPr b="1" lang="en-US" sz="1400" spc="-1" strike="noStrike" u="sng">
                <a:solidFill>
                  <a:srgbClr val="ff3399"/>
                </a:solidFill>
                <a:uFillTx/>
                <a:latin typeface="Arial Narrow"/>
                <a:hlinkClick r:id="rId1"/>
              </a:rPr>
              <a:t>http://www.eeppt.com/moban/kejian/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WordArt 2"/>
          <p:cNvSpPr txBox="1"/>
          <p:nvPr/>
        </p:nvSpPr>
        <p:spPr>
          <a:xfrm>
            <a:off x="1523880" y="7621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宋体"/>
              </a:rPr>
              <a:t>不同引导词引导的宾语从句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1547640" y="2276640"/>
            <a:ext cx="640080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华文新魏"/>
                <a:ea typeface="华文新魏"/>
              </a:rPr>
              <a:t>由从属连词</a:t>
            </a:r>
            <a:r>
              <a:rPr b="1" lang="en-US" sz="3200" spc="-1" strike="noStrike">
                <a:solidFill>
                  <a:srgbClr val="fe1f08"/>
                </a:solidFill>
                <a:latin typeface="华文新魏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e1f08"/>
                </a:solidFill>
                <a:latin typeface="华文新魏"/>
                <a:ea typeface="华文新魏"/>
              </a:rPr>
              <a:t>引导的宾语从句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1476360" y="3645000"/>
            <a:ext cx="6858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由连接代词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Who,whom,whose,which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，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what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和连接副词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where,how,why,whe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1619280" y="5516640"/>
            <a:ext cx="6705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ahoma"/>
                <a:ea typeface="宋体"/>
              </a:rPr>
              <a:t>由从属连词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  <a:ea typeface="宋体"/>
              </a:rPr>
              <a:t>whether, if 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  <a:ea typeface="宋体"/>
              </a:rPr>
              <a:t>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49" name="Picture 6" descr="open2"/>
          <p:cNvPicPr/>
          <p:nvPr/>
        </p:nvPicPr>
        <p:blipFill>
          <a:blip r:embed="rId3"/>
          <a:stretch/>
        </p:blipFill>
        <p:spPr>
          <a:xfrm>
            <a:off x="838080" y="2590920"/>
            <a:ext cx="838440" cy="5871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open2"/>
          <p:cNvPicPr/>
          <p:nvPr/>
        </p:nvPicPr>
        <p:blipFill>
          <a:blip r:embed="rId4"/>
          <a:stretch/>
        </p:blipFill>
        <p:spPr>
          <a:xfrm>
            <a:off x="838080" y="426708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open2"/>
          <p:cNvPicPr/>
          <p:nvPr/>
        </p:nvPicPr>
        <p:blipFill>
          <a:blip r:embed="rId5"/>
          <a:stretch/>
        </p:blipFill>
        <p:spPr>
          <a:xfrm>
            <a:off x="838080" y="5791320"/>
            <a:ext cx="838440" cy="587160"/>
          </a:xfrm>
          <a:prstGeom prst="rect">
            <a:avLst/>
          </a:prstGeom>
          <a:ln w="0">
            <a:noFill/>
          </a:ln>
        </p:spPr>
      </p:pic>
      <p:sp>
        <p:nvSpPr>
          <p:cNvPr id="852" name="AutoShape 9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200 w 539640"/>
              <a:gd name="textAreaRight" fmla="*/ 514440 w 53964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3756"/>
                </a:moveTo>
                <a:lnTo>
                  <a:pt x="21444" y="10800"/>
                </a:lnTo>
                <a:lnTo>
                  <a:pt x="7356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WordArt 2"/>
          <p:cNvSpPr txBox="1"/>
          <p:nvPr/>
        </p:nvSpPr>
        <p:spPr>
          <a:xfrm>
            <a:off x="3203640" y="2060640"/>
            <a:ext cx="31068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 Black"/>
              </a:rPr>
              <a:t>Practice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8" name="Picture 3" descr="23"/>
          <p:cNvPicPr/>
          <p:nvPr/>
        </p:nvPicPr>
        <p:blipFill>
          <a:blip r:embed="rId1"/>
          <a:stretch/>
        </p:blipFill>
        <p:spPr>
          <a:xfrm>
            <a:off x="755640" y="5373720"/>
            <a:ext cx="2362320" cy="7142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03"/>
          <p:cNvPicPr/>
          <p:nvPr/>
        </p:nvPicPr>
        <p:blipFill>
          <a:blip r:embed="rId2"/>
          <a:stretch/>
        </p:blipFill>
        <p:spPr>
          <a:xfrm>
            <a:off x="1908000" y="985680"/>
            <a:ext cx="5759640" cy="3883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2"/>
          <p:cNvSpPr/>
          <p:nvPr/>
        </p:nvSpPr>
        <p:spPr>
          <a:xfrm>
            <a:off x="-457200" y="457200"/>
            <a:ext cx="9982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用正确的连词填空。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The teacher asked Lucy _____ she was late for school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We d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 know ________ it will rain tomorrow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The man wants to know _____ she comes from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I d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 remember ____ the train arrive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Could you show us _____ we can turn on the computer 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She knew ____ she should work hard for the peopl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Could you tell me _____ is the way to the station 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Please tell me ________ pictures they have drawn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1" name="Text Box 3"/>
          <p:cNvSpPr/>
          <p:nvPr/>
        </p:nvSpPr>
        <p:spPr>
          <a:xfrm>
            <a:off x="4859280" y="836640"/>
            <a:ext cx="9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2" name="Text Box 4"/>
          <p:cNvSpPr/>
          <p:nvPr/>
        </p:nvSpPr>
        <p:spPr>
          <a:xfrm>
            <a:off x="3186720" y="167004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4698360" y="21016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4" name="Text Box 6"/>
          <p:cNvSpPr/>
          <p:nvPr/>
        </p:nvSpPr>
        <p:spPr>
          <a:xfrm>
            <a:off x="3708360" y="256536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5" name="Text Box 7"/>
          <p:cNvSpPr/>
          <p:nvPr/>
        </p:nvSpPr>
        <p:spPr>
          <a:xfrm>
            <a:off x="4142520" y="29973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o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486160" y="37893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7" name="Text Box 9"/>
          <p:cNvSpPr/>
          <p:nvPr/>
        </p:nvSpPr>
        <p:spPr>
          <a:xfrm>
            <a:off x="4069440" y="47242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ch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3492360" y="5589720"/>
            <a:ext cx="16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ow man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0" y="11160"/>
            <a:ext cx="91440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单项选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.Could you tell me _______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where he live            B.where he lives   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.where does he live       D.he lives whe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.He said that he ______ speak a little English when he  was five years old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might       B.would       C.could       D.ca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3.I don’t think that the book is very useful , ________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do I          B.is it            C.doesn’t it       D.isn’t i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4.Excuse me , can you tell me _______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when can I get to the station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B.I can get to which station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.which station can I get to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.how I can get to the s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5.My brother asked me ______ kite _______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who , this was               B.whose , this was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.whose , was this            D.who , was thi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2987640" y="692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3419640" y="2421000"/>
            <a:ext cx="5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1547640" y="32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0" y="50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3276720" y="580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.He asked me _____ I knew French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that      B.if        C.as       D.wh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.Do you know who _____ with at eight yesterday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he is talking     B.was he talking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he was talking    D.is he talk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.-----What did your mother say , Tom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---- She asked me ______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why my sister is crying     B.why my sister was cry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why is my sister crying      D.why was my sister cry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9.He told me that the sun ______ in the east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rises      B.raises       C.rose        D.raise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.Tom asked ______ to school late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who did often come          B.who often did co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who often come                D.who often ca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1476360" y="260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7" name="Rectangle 4"/>
          <p:cNvSpPr/>
          <p:nvPr/>
        </p:nvSpPr>
        <p:spPr>
          <a:xfrm>
            <a:off x="0" y="184464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3635280" y="314172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0" y="4724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3492360" y="62164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3"/>
          <p:cNvSpPr/>
          <p:nvPr/>
        </p:nvSpPr>
        <p:spPr>
          <a:xfrm>
            <a:off x="0" y="1125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n the bookshop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reader asked the shop-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keeper ____ 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Who Moved 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My Cheese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was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nteresting.    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f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ow      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at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539640" y="18900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 Narrow"/>
              </a:rPr>
              <a:t>单项选择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4859280" y="4797360"/>
            <a:ext cx="2089080" cy="1008000"/>
          </a:xfrm>
          <a:prstGeom prst="rect">
            <a:avLst/>
          </a:prstGeom>
          <a:noFill/>
          <a:ln w="3816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0" y="189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don't know ___  Mr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Green will come to se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u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will help us with our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English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y       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n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ow       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r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826920" y="4797360"/>
            <a:ext cx="2881440" cy="100800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"/>
          <p:cNvSpPr/>
          <p:nvPr/>
        </p:nvSpPr>
        <p:spPr>
          <a:xfrm>
            <a:off x="0" y="33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e never know _____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e old man  i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ey say he is a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eacher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at        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o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ich      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r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755640" y="4076640"/>
            <a:ext cx="3168720" cy="100800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2"/>
          <p:cNvSpPr/>
          <p:nvPr/>
        </p:nvSpPr>
        <p:spPr>
          <a:xfrm>
            <a:off x="0" y="260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was told __  Bill Gates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as thirteen he began to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play with computers.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at how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ow that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n that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at when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900000" y="5734080"/>
            <a:ext cx="4535640" cy="93492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5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ould you tell m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___ ?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'm going to see him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Sorry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don't know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 where does Mr Li live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 where did Mr Li liv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 Where  Mr Li lives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 where  MrLi   lived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55640" y="4581360"/>
            <a:ext cx="6696000" cy="100836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4"/>
          <p:cNvSpPr/>
          <p:nvPr/>
        </p:nvSpPr>
        <p:spPr>
          <a:xfrm>
            <a:off x="0" y="33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 here do you think ___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__  the computer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？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Sorry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have no ide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／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ought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a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ought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i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uy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oe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uy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826920" y="3141720"/>
            <a:ext cx="5257800" cy="93492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5"/>
          <p:cNvSpPr/>
          <p:nvPr/>
        </p:nvSpPr>
        <p:spPr>
          <a:xfrm>
            <a:off x="0" y="47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连词</a:t>
            </a:r>
            <a:r>
              <a:rPr b="1" lang="en-US" sz="6000" spc="-1" strike="noStrike">
                <a:solidFill>
                  <a:srgbClr val="6fa9b7"/>
                </a:solidFill>
                <a:latin typeface="Arial Narrow"/>
              </a:rPr>
              <a:t>that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：只起连接作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用，在从句中不作句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子成分，也无词汇意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义，在口语中或非正式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文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体中常被省略。例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如：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7956720" y="6165720"/>
            <a:ext cx="647640" cy="432000"/>
          </a:xfrm>
          <a:custGeom>
            <a:avLst/>
            <a:gdLst>
              <a:gd name="textAreaLeft" fmla="*/ 27000 w 647640"/>
              <a:gd name="textAreaRight" fmla="*/ 620640 w 6476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1023" y="1350"/>
                </a:lnTo>
                <a:lnTo>
                  <a:pt x="1350" y="135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1023" y="20250"/>
                </a:lnTo>
                <a:lnTo>
                  <a:pt x="31023" y="135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23" y="2025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73" h="21600">
                <a:moveTo>
                  <a:pt x="19704" y="10800"/>
                </a:moveTo>
                <a:lnTo>
                  <a:pt x="9143" y="17844"/>
                </a:lnTo>
                <a:lnTo>
                  <a:pt x="9143" y="3756"/>
                </a:lnTo>
                <a:close/>
              </a:path>
              <a:path fill="darken" w="32373" h="21600">
                <a:moveTo>
                  <a:pt x="21559" y="3756"/>
                </a:moveTo>
                <a:lnTo>
                  <a:pt x="21559" y="17844"/>
                </a:lnTo>
                <a:lnTo>
                  <a:pt x="23230" y="17844"/>
                </a:lnTo>
                <a:lnTo>
                  <a:pt x="23230" y="375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7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don't feel very well. Mum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sked me ___ this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morning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what the matter is      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what is wrong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what  was  the matter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what wrong was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755640" y="4724280"/>
            <a:ext cx="7416720" cy="86544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 Box 6"/>
          <p:cNvSpPr/>
          <p:nvPr/>
        </p:nvSpPr>
        <p:spPr>
          <a:xfrm>
            <a:off x="108000" y="83664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(    ) Could you tell me ___?          A.when will Tom come back         B.when does Tom come back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C. when Tom will come back         D.when Tom comes back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7" name="Text Box 12"/>
          <p:cNvSpPr/>
          <p:nvPr/>
        </p:nvSpPr>
        <p:spPr>
          <a:xfrm>
            <a:off x="324000" y="9079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4"/>
          <p:cNvSpPr/>
          <p:nvPr/>
        </p:nvSpPr>
        <p:spPr>
          <a:xfrm>
            <a:off x="0" y="260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) Do you know __ during the coming summer holiday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A. what will Tom do            B. what did Tom do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C. what Tom will do                D. what Tom did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324000" y="333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3"/>
          <p:cNvSpPr/>
          <p:nvPr/>
        </p:nvSpPr>
        <p:spPr>
          <a:xfrm>
            <a:off x="179280" y="189000"/>
            <a:ext cx="89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) —Do you know __ I could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pass the exam?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Sorry, I've no idea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A. that         B. whether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C. what       D. which 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395280" y="333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B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2"/>
          <p:cNvSpPr/>
          <p:nvPr/>
        </p:nvSpPr>
        <p:spPr>
          <a:xfrm>
            <a:off x="0" y="260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—Do you know ____?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   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Next year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when he come                     B. when did he come 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when he will come 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when will he com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324000" y="40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Could you tell us ___? 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hen you will send the  fridge to our hous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hen will you send the fridge to our hous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hen you would send the fridge to our hous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5" name="Text Box 3"/>
          <p:cNvSpPr/>
          <p:nvPr/>
        </p:nvSpPr>
        <p:spPr>
          <a:xfrm>
            <a:off x="539640" y="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A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2"/>
          <p:cNvSpPr/>
          <p:nvPr/>
        </p:nvSpPr>
        <p:spPr>
          <a:xfrm>
            <a:off x="0" y="6206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 Mr King didn‘t know __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  yesterday evening.     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hen does his son come hom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hen did his son come  hom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hen his son came home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468360" y="476280"/>
            <a:ext cx="43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250920" y="62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0" y="33336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 Excuse me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an you tell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me ___?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does the train leave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If the train had left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if the train leaves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D. did the train leav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324000" y="4665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2"/>
          <p:cNvSpPr/>
          <p:nvPr/>
        </p:nvSpPr>
        <p:spPr>
          <a:xfrm>
            <a:off x="0" y="549360"/>
            <a:ext cx="89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 I wonder _________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where have you gone    B. where you have gone    C. where have you been    D. where you have been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2" name="Text Box 3"/>
          <p:cNvSpPr/>
          <p:nvPr/>
        </p:nvSpPr>
        <p:spPr>
          <a:xfrm>
            <a:off x="324000" y="60948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2"/>
          <p:cNvSpPr/>
          <p:nvPr/>
        </p:nvSpPr>
        <p:spPr>
          <a:xfrm>
            <a:off x="0" y="2602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 He wants to know ___ America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hen will Mr Li leave for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hen will Mr Wang stay in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hy will Mr Wang stay in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D. when Mr Wang will leave for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4" name="Text Box 3"/>
          <p:cNvSpPr/>
          <p:nvPr/>
        </p:nvSpPr>
        <p:spPr>
          <a:xfrm>
            <a:off x="324000" y="33336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WordArt 2" descr=""/>
          <p:cNvPicPr/>
          <p:nvPr/>
        </p:nvPicPr>
        <p:blipFill>
          <a:blip r:embed="rId1"/>
          <a:stretch/>
        </p:blipFill>
        <p:spPr>
          <a:xfrm>
            <a:off x="1749600" y="987480"/>
            <a:ext cx="6662520" cy="59220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3"/>
          <p:cNvSpPr/>
          <p:nvPr/>
        </p:nvSpPr>
        <p:spPr>
          <a:xfrm>
            <a:off x="990720" y="1981080"/>
            <a:ext cx="739116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新魏"/>
              </a:rPr>
              <a:t>注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  <a:ea typeface="华文新魏"/>
              </a:rPr>
              <a:t>：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华文新魏"/>
              </a:rPr>
              <a:t>that </a:t>
            </a:r>
            <a:r>
              <a:rPr b="1" lang="zh-CN" sz="2400" spc="-1" strike="noStrike">
                <a:solidFill>
                  <a:srgbClr val="ff6600"/>
                </a:solidFill>
                <a:latin typeface="Tahoma"/>
                <a:ea typeface="华文新魏"/>
              </a:rPr>
              <a:t>在句中无词汇意义，在从句中不能充当成分，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ahoma"/>
                <a:ea typeface="华文新魏"/>
              </a:rPr>
              <a:t>在口语当中往往省略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228600" y="3200400"/>
            <a:ext cx="8610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 hear (that) _______________________.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（一小时后他会回来）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said (that) ______________________.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（他非常想念我们）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teacher told us (that) ___________________________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（地球围着太阳转）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22860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he will be back in an hou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2438280" y="4191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he missed us very much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886200" y="4800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the earth moves around the su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1" name="Picture 8" descr="return"/>
          <p:cNvPicPr/>
          <p:nvPr/>
        </p:nvPicPr>
        <p:blipFill>
          <a:blip r:embed="rId2"/>
          <a:stretch/>
        </p:blipFill>
        <p:spPr>
          <a:xfrm>
            <a:off x="0" y="5791320"/>
            <a:ext cx="685800" cy="33156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9"/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2320 w 647640"/>
              <a:gd name="textAreaRight" fmla="*/ 625320 w 647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52" y="1350"/>
                </a:lnTo>
                <a:lnTo>
                  <a:pt x="1350" y="135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52" y="20250"/>
                </a:lnTo>
                <a:lnTo>
                  <a:pt x="37452" y="135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52" y="2025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02" h="21600">
                <a:moveTo>
                  <a:pt x="12357" y="3756"/>
                </a:moveTo>
                <a:lnTo>
                  <a:pt x="26445" y="10800"/>
                </a:lnTo>
                <a:lnTo>
                  <a:pt x="12357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0" y="4762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    ) I want to know if __ a  meeting tomorrow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you have                    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you will hav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do you have                 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D. will you have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250920" y="62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B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2"/>
          <p:cNvSpPr/>
          <p:nvPr/>
        </p:nvSpPr>
        <p:spPr>
          <a:xfrm>
            <a:off x="0" y="18900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  He asked me whether I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___ to his birthday party if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I ___ time.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as going, had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ould go ,would hav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ill go, have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250920" y="2602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A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620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   ) He said he ____ to visit that famous museum the next week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ill go     B. should go    C. were going  D. would go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0" name="Text Box 4"/>
          <p:cNvSpPr/>
          <p:nvPr/>
        </p:nvSpPr>
        <p:spPr>
          <a:xfrm>
            <a:off x="324000" y="6922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 Box 2"/>
          <p:cNvSpPr/>
          <p:nvPr/>
        </p:nvSpPr>
        <p:spPr>
          <a:xfrm>
            <a:off x="0" y="333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 He asked __ they could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go to Beijing or Nanjing.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how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what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if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whether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2" name="Text Box 3"/>
          <p:cNvSpPr/>
          <p:nvPr/>
        </p:nvSpPr>
        <p:spPr>
          <a:xfrm>
            <a:off x="179280" y="47628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10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3"/>
          <p:cNvSpPr/>
          <p:nvPr/>
        </p:nvSpPr>
        <p:spPr>
          <a:xfrm>
            <a:off x="0" y="322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连接代词</a:t>
            </a: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who, whom,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whose,what, which: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它们起连接作用，作句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子成分，各有其自己的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意义。例如：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667640" y="6021360"/>
            <a:ext cx="720720" cy="503280"/>
          </a:xfrm>
          <a:custGeom>
            <a:avLst/>
            <a:gdLst>
              <a:gd name="textAreaLeft" fmla="*/ 31320 w 720720"/>
              <a:gd name="textAreaRight" fmla="*/ 689400 w 72072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76" y="1350"/>
                </a:lnTo>
                <a:lnTo>
                  <a:pt x="1350" y="135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76" y="20250"/>
                </a:lnTo>
                <a:lnTo>
                  <a:pt x="29576" y="135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576" y="2025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926" h="21600">
                <a:moveTo>
                  <a:pt x="8419" y="3756"/>
                </a:moveTo>
                <a:lnTo>
                  <a:pt x="22507" y="10800"/>
                </a:lnTo>
                <a:lnTo>
                  <a:pt x="8419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0" y="33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e teacher a</a:t>
            </a:r>
            <a:r>
              <a:rPr b="1" lang="en-US" sz="6000" spc="-1" strike="noStrike">
                <a:solidFill>
                  <a:srgbClr val="f2aa68"/>
                </a:solidFill>
                <a:latin typeface="Arial Narrow"/>
              </a:rPr>
              <a:t>sked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the new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student 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which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class h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as in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？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611280" y="3716280"/>
            <a:ext cx="784836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which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引导宾语从句，在从句中作定语，修饰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class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，意为“哪个”。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5364000" y="2205000"/>
            <a:ext cx="2448000" cy="0"/>
          </a:xfrm>
          <a:prstGeom prst="line">
            <a:avLst/>
          </a:prstGeom>
          <a:ln w="5724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8" name="Line 5"/>
          <p:cNvSpPr/>
          <p:nvPr/>
        </p:nvSpPr>
        <p:spPr>
          <a:xfrm>
            <a:off x="900000" y="3068640"/>
            <a:ext cx="2232000" cy="0"/>
          </a:xfrm>
          <a:prstGeom prst="line">
            <a:avLst/>
          </a:prstGeom>
          <a:ln w="5724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9" name="AutoShape 6"/>
          <p:cNvSpPr/>
          <p:nvPr/>
        </p:nvSpPr>
        <p:spPr>
          <a:xfrm>
            <a:off x="7956720" y="6381720"/>
            <a:ext cx="718920" cy="476280"/>
          </a:xfrm>
          <a:custGeom>
            <a:avLst/>
            <a:gdLst>
              <a:gd name="textAreaLeft" fmla="*/ 29520 w 718920"/>
              <a:gd name="textAreaRight" fmla="*/ 689400 w 718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2596" h="21600">
                <a:moveTo>
                  <a:pt x="0" y="0"/>
                </a:moveTo>
                <a:lnTo>
                  <a:pt x="32596" y="0"/>
                </a:lnTo>
                <a:lnTo>
                  <a:pt x="32596" y="21600"/>
                </a:lnTo>
                <a:lnTo>
                  <a:pt x="0" y="21600"/>
                </a:lnTo>
                <a:close/>
              </a:path>
              <a:path fill="lightenLess" w="32596" h="21600">
                <a:moveTo>
                  <a:pt x="0" y="0"/>
                </a:moveTo>
                <a:lnTo>
                  <a:pt x="32596" y="0"/>
                </a:lnTo>
                <a:lnTo>
                  <a:pt x="31246" y="1350"/>
                </a:lnTo>
                <a:lnTo>
                  <a:pt x="1350" y="1350"/>
                </a:lnTo>
                <a:close/>
              </a:path>
              <a:path fill="darken" w="32596" h="21600">
                <a:moveTo>
                  <a:pt x="32596" y="0"/>
                </a:moveTo>
                <a:lnTo>
                  <a:pt x="32596" y="21600"/>
                </a:lnTo>
                <a:lnTo>
                  <a:pt x="31246" y="20250"/>
                </a:lnTo>
                <a:lnTo>
                  <a:pt x="31246" y="1350"/>
                </a:lnTo>
                <a:close/>
              </a:path>
              <a:path fill="darkenLess" w="32596" h="21600">
                <a:moveTo>
                  <a:pt x="325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46" y="20250"/>
                </a:lnTo>
                <a:close/>
              </a:path>
              <a:path fill="lighten" w="325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596" h="21600">
                <a:moveTo>
                  <a:pt x="9254" y="3756"/>
                </a:moveTo>
                <a:lnTo>
                  <a:pt x="23342" y="10800"/>
                </a:lnTo>
                <a:lnTo>
                  <a:pt x="9254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0" y="404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an you tell me</a:t>
            </a:r>
            <a:r>
              <a:rPr b="1" lang="en-US" sz="60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whom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h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s </a:t>
            </a:r>
            <a:r>
              <a:rPr b="1" lang="en-US" sz="6000" spc="-1" strike="noStrike">
                <a:solidFill>
                  <a:srgbClr val="006666"/>
                </a:solidFill>
                <a:latin typeface="Arial Narrow"/>
              </a:rPr>
              <a:t>waiting for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？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900000" y="249228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ould you show me </a:t>
            </a: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which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room I should </a:t>
            </a:r>
            <a:r>
              <a:rPr b="1" lang="en-US" sz="6000" spc="-1" strike="noStrike">
                <a:solidFill>
                  <a:srgbClr val="006666"/>
                </a:solidFill>
                <a:latin typeface="Arial Narrow"/>
              </a:rPr>
              <a:t>live in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3" name="AutoShape 5"/>
          <p:cNvSpPr/>
          <p:nvPr/>
        </p:nvSpPr>
        <p:spPr>
          <a:xfrm>
            <a:off x="7451640" y="6165720"/>
            <a:ext cx="720720" cy="432000"/>
          </a:xfrm>
          <a:custGeom>
            <a:avLst/>
            <a:gdLst>
              <a:gd name="textAreaLeft" fmla="*/ 27000 w 720720"/>
              <a:gd name="textAreaRight" fmla="*/ 693720 w 72072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74" y="1350"/>
                </a:lnTo>
                <a:lnTo>
                  <a:pt x="1350" y="135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74" y="20250"/>
                </a:lnTo>
                <a:lnTo>
                  <a:pt x="34674" y="135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74" y="2025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24" h="21600">
                <a:moveTo>
                  <a:pt x="10968" y="3756"/>
                </a:moveTo>
                <a:lnTo>
                  <a:pt x="25056" y="10800"/>
                </a:lnTo>
                <a:lnTo>
                  <a:pt x="10968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4" name=""/>
          <p:cNvSpPr/>
          <p:nvPr/>
        </p:nvSpPr>
        <p:spPr>
          <a:xfrm>
            <a:off x="828720" y="4510080"/>
            <a:ext cx="733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ppt课件模板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ttp://www.eeppt.com/moban/kejian/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wonder </a:t>
            </a:r>
            <a:r>
              <a:rPr b="1" lang="en-US" sz="6000" spc="-1" strike="noStrike">
                <a:solidFill>
                  <a:srgbClr val="f2aa68"/>
                </a:solidFill>
                <a:latin typeface="Arial Narrow"/>
              </a:rPr>
              <a:t>wher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got so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much money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826920" y="191628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对他从哪里弄到那么多钱我感到疑惑。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179280" y="3933720"/>
            <a:ext cx="8713800" cy="183132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aa68"/>
                </a:solidFill>
                <a:latin typeface="Tahoma"/>
              </a:rPr>
              <a:t>where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</a:rPr>
              <a:t>在从句中作地点状语</a:t>
            </a:r>
            <a:r>
              <a:rPr b="1" lang="en-US" sz="5400" spc="-1" strike="noStrike">
                <a:solidFill>
                  <a:srgbClr val="ffffff"/>
                </a:solidFill>
                <a:latin typeface="华文中宋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</a:rPr>
              <a:t>修饰</a:t>
            </a:r>
            <a:r>
              <a:rPr b="1" lang="en-US" sz="5400" spc="-1" strike="noStrike">
                <a:solidFill>
                  <a:srgbClr val="f2aa68"/>
                </a:solidFill>
                <a:latin typeface="Tahoma"/>
              </a:rPr>
              <a:t>got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</a:rPr>
              <a:t>，意为“哪里”； “什么地方”。 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8" name="AutoShape 7"/>
          <p:cNvSpPr/>
          <p:nvPr/>
        </p:nvSpPr>
        <p:spPr>
          <a:xfrm>
            <a:off x="7740720" y="6308640"/>
            <a:ext cx="863640" cy="549360"/>
          </a:xfrm>
          <a:custGeom>
            <a:avLst/>
            <a:gdLst>
              <a:gd name="textAreaLeft" fmla="*/ 34200 w 863640"/>
              <a:gd name="textAreaRight" fmla="*/ 829440 w 86364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99" y="1350"/>
                </a:lnTo>
                <a:lnTo>
                  <a:pt x="1350" y="135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99" y="20250"/>
                </a:lnTo>
                <a:lnTo>
                  <a:pt x="32599" y="135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599" y="2025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949" h="21600">
                <a:moveTo>
                  <a:pt x="9931" y="3756"/>
                </a:moveTo>
                <a:lnTo>
                  <a:pt x="24018" y="10800"/>
                </a:lnTo>
                <a:lnTo>
                  <a:pt x="9931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2"/>
          <p:cNvSpPr/>
          <p:nvPr/>
        </p:nvSpPr>
        <p:spPr>
          <a:xfrm>
            <a:off x="0" y="404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didn't tell me </a:t>
            </a:r>
            <a:r>
              <a:rPr b="1" lang="en-US" sz="6000" spc="-1" strike="noStrike">
                <a:solidFill>
                  <a:srgbClr val="f2aa68"/>
                </a:solidFill>
                <a:latin typeface="Arial Narrow"/>
              </a:rPr>
              <a:t>how old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is friend wa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0" name="Text Box 4"/>
          <p:cNvSpPr/>
          <p:nvPr/>
        </p:nvSpPr>
        <p:spPr>
          <a:xfrm>
            <a:off x="395280" y="2924280"/>
            <a:ext cx="8353440" cy="173988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aa68"/>
                </a:solidFill>
                <a:latin typeface="Arial Narrow"/>
              </a:rPr>
              <a:t>how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引导宾语从句，作程度状语，修饰</a:t>
            </a:r>
            <a:r>
              <a:rPr b="1" lang="en-US" sz="5400" spc="-1" strike="noStrike">
                <a:solidFill>
                  <a:srgbClr val="f2aa68"/>
                </a:solidFill>
                <a:latin typeface="Arial Narrow"/>
              </a:rPr>
              <a:t>old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，意为“怎样”；“如何”等意。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1" name="AutoShape 5"/>
          <p:cNvSpPr/>
          <p:nvPr/>
        </p:nvSpPr>
        <p:spPr>
          <a:xfrm>
            <a:off x="7596360" y="5950080"/>
            <a:ext cx="863280" cy="503280"/>
          </a:xfrm>
          <a:custGeom>
            <a:avLst/>
            <a:gdLst>
              <a:gd name="textAreaLeft" fmla="*/ 31320 w 863280"/>
              <a:gd name="textAreaRight" fmla="*/ 831960 w 86328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37040" h="21600">
                <a:moveTo>
                  <a:pt x="0" y="0"/>
                </a:moveTo>
                <a:lnTo>
                  <a:pt x="37040" y="0"/>
                </a:lnTo>
                <a:lnTo>
                  <a:pt x="37040" y="21600"/>
                </a:lnTo>
                <a:lnTo>
                  <a:pt x="0" y="21600"/>
                </a:lnTo>
                <a:close/>
              </a:path>
              <a:path fill="lightenLess" w="37040" h="21600">
                <a:moveTo>
                  <a:pt x="0" y="0"/>
                </a:moveTo>
                <a:lnTo>
                  <a:pt x="37040" y="0"/>
                </a:lnTo>
                <a:lnTo>
                  <a:pt x="35690" y="1350"/>
                </a:lnTo>
                <a:lnTo>
                  <a:pt x="1350" y="1350"/>
                </a:lnTo>
                <a:close/>
              </a:path>
              <a:path fill="darken" w="37040" h="21600">
                <a:moveTo>
                  <a:pt x="37040" y="0"/>
                </a:moveTo>
                <a:lnTo>
                  <a:pt x="37040" y="21600"/>
                </a:lnTo>
                <a:lnTo>
                  <a:pt x="35690" y="20250"/>
                </a:lnTo>
                <a:lnTo>
                  <a:pt x="35690" y="1350"/>
                </a:lnTo>
                <a:close/>
              </a:path>
              <a:path fill="darkenLess" w="37040" h="21600">
                <a:moveTo>
                  <a:pt x="3704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690" y="20250"/>
                </a:lnTo>
                <a:close/>
              </a:path>
              <a:path fill="lighten" w="3704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040" h="21600">
                <a:moveTo>
                  <a:pt x="11476" y="3756"/>
                </a:moveTo>
                <a:lnTo>
                  <a:pt x="25564" y="10800"/>
                </a:lnTo>
                <a:lnTo>
                  <a:pt x="11476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02:59:3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46:3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