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EBF-369B-434E-B332-AE7B9130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704-F119-4991-81BB-B61CF19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C22-F7ED-49E0-B4D8-0A5E1DD9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59B-0F88-420F-A348-341C07C4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74B7-CDD0-4C1D-BA39-987D048A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8A4C-42BE-4957-89C9-F0186E88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55D-C86D-472B-AF25-A7FE565E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149F-CFFE-4C99-AFAF-7E6FA2A3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688-61DA-4316-8E67-CBC4B97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CF2-9E93-4EE4-B9AE-F27869BA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DB55-A1FD-4679-8A61-F13554B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981-0B30-491F-94F0-7465A1B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B7DF-4DAA-4684-A0EE-7AA0BDD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333D-8632-42FA-AF25-7CA48B5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D836-79F5-4CAB-BCB2-FC3657EE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1D1-823E-444D-BC3B-D4BBBA78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D23-625F-45C4-978C-DFF9C7B9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9A0-290E-458B-8FA4-6E1748B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C79-53BB-4C3C-82C5-9656CE4B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F07-0C9E-4906-9C6B-F1753D8F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A8A-ED94-4D6E-A0E5-0BD2208A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14F-7117-424A-9B77-DD3ED16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BC5-4544-4757-9B5A-959F609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F9B-1DB4-4394-950B-3ECE454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11D-016A-4FBB-9C82-279A03FAE4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FAEF-5350-4121-97FC-25663D95A7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491E-FEF0-43B6-A25A-894E022F6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9"/>
          <p:cNvSpPr/>
          <p:nvPr/>
        </p:nvSpPr>
        <p:spPr>
          <a:xfrm>
            <a:off x="0" y="4081320"/>
            <a:ext cx="9144000" cy="357480"/>
          </a:xfrm>
          <a:prstGeom prst="rect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1476360" y="330840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毕业论文答辩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3071880" y="458136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r>
              <a:rPr b="0" lang="en-US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导师：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540320" y="29876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3691800" y="410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禁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1"/>
          <p:cNvSpPr/>
          <p:nvPr/>
        </p:nvSpPr>
        <p:spPr>
          <a:xfrm>
            <a:off x="3929040" y="14158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4163040" y="1987560"/>
            <a:ext cx="101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3120" cy="6746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400" cy="674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2000160" cy="642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7"/>
          <p:cNvSpPr/>
          <p:nvPr/>
        </p:nvSpPr>
        <p:spPr>
          <a:xfrm>
            <a:off x="714240" y="731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8c5bc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95256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2258280" y="392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999240" y="342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5601600" y="2876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7"/>
          <p:cNvSpPr/>
          <p:nvPr/>
        </p:nvSpPr>
        <p:spPr>
          <a:xfrm>
            <a:off x="740448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600" cy="16254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600" cy="1625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840" cy="20779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1000080" cy="1163520"/>
          </a:xfrm>
          <a:prstGeom prst="rect">
            <a:avLst/>
          </a:prstGeom>
          <a:ln w="0">
            <a:noFill/>
          </a:ln>
        </p:spPr>
      </p:pic>
      <p:sp>
        <p:nvSpPr>
          <p:cNvPr id="122" name="矩形 29"/>
          <p:cNvSpPr/>
          <p:nvPr/>
        </p:nvSpPr>
        <p:spPr>
          <a:xfrm>
            <a:off x="2362680" y="3857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3"/>
          <p:cNvSpPr/>
          <p:nvPr/>
        </p:nvSpPr>
        <p:spPr>
          <a:xfrm>
            <a:off x="6190200" y="78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7"/>
          <p:cNvSpPr/>
          <p:nvPr/>
        </p:nvSpPr>
        <p:spPr>
          <a:xfrm>
            <a:off x="583308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8"/>
          <p:cNvSpPr/>
          <p:nvPr/>
        </p:nvSpPr>
        <p:spPr>
          <a:xfrm>
            <a:off x="6067080" y="385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9"/>
          <p:cNvSpPr/>
          <p:nvPr/>
        </p:nvSpPr>
        <p:spPr>
          <a:xfrm>
            <a:off x="6067080" y="54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37"/>
          <p:cNvSpPr/>
          <p:nvPr/>
        </p:nvSpPr>
        <p:spPr>
          <a:xfrm>
            <a:off x="2357280" y="1998720"/>
            <a:ext cx="4643640" cy="1440"/>
          </a:xfrm>
          <a:prstGeom prst="line">
            <a:avLst/>
          </a:prstGeom>
          <a:ln w="88920">
            <a:solidFill>
              <a:srgbClr val="c8c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35"/>
          <p:cNvSpPr/>
          <p:nvPr/>
        </p:nvSpPr>
        <p:spPr>
          <a:xfrm>
            <a:off x="1214280" y="1285920"/>
            <a:ext cx="1428840" cy="1428840"/>
          </a:xfrm>
          <a:prstGeom prst="ellipse">
            <a:avLst/>
          </a:prstGeom>
          <a:solidFill>
            <a:srgbClr val="c8c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8"/>
          <p:cNvSpPr/>
          <p:nvPr/>
        </p:nvSpPr>
        <p:spPr>
          <a:xfrm>
            <a:off x="3070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40"/>
          <p:cNvSpPr/>
          <p:nvPr/>
        </p:nvSpPr>
        <p:spPr>
          <a:xfrm>
            <a:off x="2357280" y="4213080"/>
            <a:ext cx="4643640" cy="1800"/>
          </a:xfrm>
          <a:prstGeom prst="line">
            <a:avLst/>
          </a:prstGeom>
          <a:ln w="88920">
            <a:solidFill>
              <a:srgbClr val="004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50"/>
          <p:cNvSpPr/>
          <p:nvPr/>
        </p:nvSpPr>
        <p:spPr>
          <a:xfrm>
            <a:off x="6715080" y="35002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1"/>
          <p:cNvSpPr/>
          <p:nvPr/>
        </p:nvSpPr>
        <p:spPr>
          <a:xfrm>
            <a:off x="1581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2"/>
          <p:cNvSpPr/>
          <p:nvPr/>
        </p:nvSpPr>
        <p:spPr>
          <a:xfrm>
            <a:off x="708228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3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4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5"/>
          <p:cNvSpPr/>
          <p:nvPr/>
        </p:nvSpPr>
        <p:spPr>
          <a:xfrm>
            <a:off x="306900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6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7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507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069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51422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1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2"/>
          <p:cNvSpPr/>
          <p:nvPr/>
        </p:nvSpPr>
        <p:spPr>
          <a:xfrm>
            <a:off x="4926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44280"/>
            <a:ext cx="6897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毕业答辩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8640" cy="2855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840" cy="26780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3080" cy="26398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960" cy="25002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360" cy="5321520"/>
          </a:xfrm>
          <a:prstGeom prst="rect">
            <a:avLst/>
          </a:prstGeom>
          <a:ln w="0">
            <a:noFill/>
          </a:ln>
        </p:spPr>
      </p:pic>
      <p:sp>
        <p:nvSpPr>
          <p:cNvPr id="158" name="矩形 48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6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8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7"/>
          <p:cNvSpPr/>
          <p:nvPr/>
        </p:nvSpPr>
        <p:spPr>
          <a:xfrm>
            <a:off x="7687800" y="2858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47:07Z</dcterms:modified>
  <cp:revision>2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