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  <p:custShowLst>
    <p:custShow name="自定义放映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C10D-F5CE-4C4F-8CC2-E7B117C2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2161-17CF-4207-90CF-C42014A67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0B1A-8CDA-4755-9963-0C7D7DC2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79D-6E77-4C5E-9DA7-058ED142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16E3-036D-49C4-9403-E19ADDA57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DF19-F823-4FC8-8F61-47723236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7CC2-2466-45B4-8879-99F09811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F73-9166-4309-BE36-F6C8F4FDC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CC6-5FC4-459B-A9F9-CCED534F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3F8-C834-4E13-BFAB-2A059A00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6DE5-3EE3-4CD6-90FB-25187B08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6F4-492D-4F7E-A777-28B63149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749C-63F3-44A3-92B5-13A6DBBC33D8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hyperlink" Target="267,5,&#21333;&#30005;&#21387;&#34920;&#27979;&#30005;&#38459;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267,5,&#21333;&#30005;&#21387;&#34920;&#27979;&#30005;&#38459;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hyperlink" Target="258,5,&#21333;&#30005;&#27969;&#34920;&#27979;&#30005;&#38459;1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hyperlink" Target="269,14,&#21333;&#30005;&#27969;&#34920;1&#35299;1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260,8,&#21333;&#30005;&#27969;&#34920;&#27979;&#30005;&#38459;3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hyperlink" Target="259,6,&#21333;&#30005;&#27969;&#34920;&#27979;&#30005;&#38459;2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259,6,&#21333;&#30005;&#27969;&#34920;&#27979;&#30005;&#38459;2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261,9,&#21333;&#30005;&#21387;&#34920;&#27979;&#30005;&#38459;1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261,9,&#21333;&#30005;&#21387;&#34920;&#27979;&#30005;&#38459;1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hyperlink" Target="262,10,&#21333;&#30005;&#21387;&#34920;&#27979;&#30005;&#38459;2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90,26,&#24187;&#28783;&#29255; 26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267,5,&#21333;&#30005;&#21387;&#34920;&#27979;&#30005;&#38459;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290,26,&#24187;&#28783;&#29255; 26" TargetMode="Externa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png"/><Relationship Id="rId5" Type="http://schemas.openxmlformats.org/officeDocument/2006/relationships/hyperlink" Target="290,26,&#24187;&#28783;&#29255; 26" TargetMode="External"/><Relationship Id="rId6" Type="http://schemas.openxmlformats.org/officeDocument/2006/relationships/hyperlink" Target="0,12,&#31561;&#25928;&#27861;&#27979;&#30005;&#38459;1" TargetMode="External"/><Relationship Id="rId7" Type="http://schemas.openxmlformats.org/officeDocument/2006/relationships/hyperlink" Target="0,13,&#31561;&#25928;&#27861;&#27979;&#30005;&#38459;2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hyperlink" Target="268,23,&#31561;&#25928;&#26367;&#20195;&#27861;&#27979;&#30005;&#38459;" TargetMode="Externa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hyperlink" Target="268,23,&#31561;&#25928;&#26367;&#20195;&#27861;&#27979;&#30005;&#38459;" TargetMode="External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257,2,&#20239;&#23433;&#27861;&#27979;&#30005;&#38459;" TargetMode="External"/><Relationship Id="rId2" Type="http://schemas.openxmlformats.org/officeDocument/2006/relationships/hyperlink" Target="258,3,&#21333;&#30005;&#27969;&#34920;&#27979;&#30005;&#38459;1" TargetMode="External"/><Relationship Id="rId3" Type="http://schemas.openxmlformats.org/officeDocument/2006/relationships/hyperlink" Target="267,5,&#21333;&#30005;&#21387;&#34920;&#27979;&#30005;&#38459;" TargetMode="External"/><Relationship Id="rId4" Type="http://schemas.openxmlformats.org/officeDocument/2006/relationships/hyperlink" Target="268,13,&#31561;&#25928;&#27861;&#27979;&#30005;&#38459;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290,26,&#24187;&#28783;&#29255; 26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0,1,&#24187;&#28783;&#29255; 1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hyperlink" Target="259,6,&#21333;&#30005;&#27969;&#34920;&#27979;&#30005;&#38459;2" TargetMode="External"/><Relationship Id="rId9" Type="http://schemas.openxmlformats.org/officeDocument/2006/relationships/hyperlink" Target="260,7,&#21333;&#30005;&#27969;&#34920;&#27979;&#30005;&#38459;3" TargetMode="External"/><Relationship Id="rId10" Type="http://schemas.openxmlformats.org/officeDocument/2006/relationships/hyperlink" Target="258,5,&#21333;&#30005;&#27969;&#34920;&#27979;&#30005;&#38459;1" TargetMode="Externa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hyperlink" Target="290,28,&#24187;&#28783;&#29255; 28" TargetMode="External"/><Relationship Id="rId5" Type="http://schemas.openxmlformats.org/officeDocument/2006/relationships/hyperlink" Target="261,8,&#21333;&#30005;&#21387;&#34920;&#27979;&#30005;&#38459;1" TargetMode="External"/><Relationship Id="rId6" Type="http://schemas.openxmlformats.org/officeDocument/2006/relationships/hyperlink" Target="262,9,&#21333;&#30005;&#21387;&#34920;&#27979;&#30005;&#38459;2" TargetMode="External"/><Relationship Id="rId7" Type="http://schemas.openxmlformats.org/officeDocument/2006/relationships/hyperlink" Target="263,10,&#21333;&#30005;&#21387;&#34920;&#27979;&#30005;&#38459;3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hyperlink" Target="269,14,&#21333;&#30005;&#27969;&#34920;1&#35299;1" TargetMode="External"/><Relationship Id="rId6" Type="http://schemas.openxmlformats.org/officeDocument/2006/relationships/hyperlink" Target="270,15,&#21333;&#30005;&#27969;&#34920;1&#35299;2" TargetMode="External"/><Relationship Id="rId7" Type="http://schemas.openxmlformats.org/officeDocument/2006/relationships/hyperlink" Target="266,3,&#21333;&#30005;&#27969;&#34920;&#27979;&#30005;&#38459;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hyperlink" Target="271,16,&#21333;&#30005;&#27969;&#34920;2&#35299;1" TargetMode="External"/><Relationship Id="rId5" Type="http://schemas.openxmlformats.org/officeDocument/2006/relationships/hyperlink" Target="272,17,&#21333;&#30005;&#27969;&#34920;2&#35299;2" TargetMode="External"/><Relationship Id="rId6" Type="http://schemas.openxmlformats.org/officeDocument/2006/relationships/hyperlink" Target="266,3,&#21333;&#30005;&#27969;&#34920;&#27979;&#30005;&#38459;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273,20,&#21333;&#30005;&#27969;&#34920;3&#35299;" TargetMode="External"/><Relationship Id="rId3" Type="http://schemas.openxmlformats.org/officeDocument/2006/relationships/hyperlink" Target="266,4,&#21333;&#30005;&#27969;&#34920;&#27979;&#30005;&#38459;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hyperlink" Target="275,23,&#21333;&#30005;&#21387;&#34920;1&#35299;1" TargetMode="External"/><Relationship Id="rId4" Type="http://schemas.openxmlformats.org/officeDocument/2006/relationships/hyperlink" Target="276,24,&#21333;&#30005;&#21387;&#34920;1&#35299;2" TargetMode="External"/><Relationship Id="rId5" Type="http://schemas.openxmlformats.org/officeDocument/2006/relationships/hyperlink" Target="267,7,&#21333;&#30005;&#21387;&#34920;&#27979;&#30005;&#38459;" TargetMode="External"/><Relationship Id="rId6" Type="http://schemas.openxmlformats.org/officeDocument/2006/relationships/hyperlink" Target="http://www.eeppt.com/moban/kejian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电阻的测量</a:t>
            </a:r>
            <a:endParaRPr b="0" lang="en-US" sz="9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371600" y="2362320"/>
            <a:ext cx="6705720" cy="42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麒麟中学  </a:t>
            </a:r>
            <a:br>
              <a:rPr sz="6600"/>
            </a:br>
            <a:endParaRPr b="0" lang="en-US" sz="66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苏守谦</a:t>
            </a:r>
            <a:br>
              <a:rPr sz="6000"/>
            </a:br>
            <a:br>
              <a:rPr sz="3600"/>
            </a:br>
            <a:r>
              <a:rPr b="0" lang="zh-CN" sz="48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二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0XX</a:t>
            </a:r>
            <a:r>
              <a:rPr b="0" lang="zh-CN" sz="4800" spc="-1" strike="noStrike">
                <a:solidFill>
                  <a:srgbClr val="2a3d7a"/>
                </a:solidFill>
                <a:latin typeface="Times New Roman"/>
                <a:ea typeface="华文行楷"/>
              </a:rPr>
              <a:t>年四月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电压表测电阻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Text Box 1028"/>
          <p:cNvSpPr/>
          <p:nvPr/>
        </p:nvSpPr>
        <p:spPr>
          <a:xfrm>
            <a:off x="152280" y="129528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串联电路电压、电流的关系及欧姆定律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14" name="Object 1029"/>
          <p:cNvGraphicFramePr/>
          <p:nvPr/>
        </p:nvGraphicFramePr>
        <p:xfrm>
          <a:off x="2438280" y="2514600"/>
          <a:ext cx="276696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514600"/>
                    <a:ext cx="27669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030"/>
          <p:cNvGraphicFramePr/>
          <p:nvPr/>
        </p:nvGraphicFramePr>
        <p:xfrm>
          <a:off x="5486400" y="2362320"/>
          <a:ext cx="280980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2362320"/>
                    <a:ext cx="280980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1031"/>
          <p:cNvSpPr/>
          <p:nvPr/>
        </p:nvSpPr>
        <p:spPr>
          <a:xfrm>
            <a:off x="152280" y="21337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Text Box 1032"/>
          <p:cNvSpPr/>
          <p:nvPr/>
        </p:nvSpPr>
        <p:spPr>
          <a:xfrm>
            <a:off x="228600" y="518148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用两个开关，连接一次电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Text Box 1033"/>
          <p:cNvSpPr/>
          <p:nvPr/>
        </p:nvSpPr>
        <p:spPr>
          <a:xfrm>
            <a:off x="7467480" y="617220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22" name="Object 5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971800" cy="2394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304920" y="1371600"/>
            <a:ext cx="883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串联电路电流、电压的关系及欧姆定律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481400" y="4800600"/>
            <a:ext cx="448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电路较简单，连接一次电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7086600" y="617220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562720" y="3429000"/>
            <a:ext cx="26668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5715000" y="2743200"/>
          <a:ext cx="251460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743200"/>
                    <a:ext cx="25146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"/>
          <p:cNvSpPr/>
          <p:nvPr/>
        </p:nvSpPr>
        <p:spPr>
          <a:xfrm>
            <a:off x="457200" y="1371600"/>
            <a:ext cx="80773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电流表测出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用电流表测出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因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联，所以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根据欧姆定律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/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32" name="Object 4"/>
          <p:cNvGraphicFramePr/>
          <p:nvPr/>
        </p:nvGraphicFramePr>
        <p:xfrm>
          <a:off x="5562720" y="3352680"/>
          <a:ext cx="251604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3352680"/>
                    <a:ext cx="25160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Text Box 5"/>
          <p:cNvSpPr/>
          <p:nvPr/>
        </p:nvSpPr>
        <p:spPr>
          <a:xfrm>
            <a:off x="457200" y="1523880"/>
            <a:ext cx="830592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电流表测出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用电流表测出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因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联，所以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根据欧姆定律得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/I</a:t>
            </a:r>
            <a:r>
              <a:rPr b="0" lang="en-US" sz="3200" spc="-1" strike="noStrike" baseline="-10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电流表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解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80880" y="1371600"/>
            <a:ext cx="8458200" cy="49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开关，滑片移至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未接入电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，电流表测出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电源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=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滑片移至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端，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串联，电流表测出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电源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=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源电压不变时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+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-I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7" name="Object 6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862000" cy="2394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7"/>
          <p:cNvSpPr/>
          <p:nvPr/>
        </p:nvSpPr>
        <p:spPr>
          <a:xfrm>
            <a:off x="7391520" y="6248520"/>
            <a:ext cx="121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3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电流表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80880" y="1828800"/>
            <a:ext cx="8610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41" name="Object 5"/>
          <p:cNvGraphicFramePr/>
          <p:nvPr/>
        </p:nvGraphicFramePr>
        <p:xfrm>
          <a:off x="5943600" y="3276720"/>
          <a:ext cx="2666880" cy="281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3276720"/>
                    <a:ext cx="2666880" cy="28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Text Box 6"/>
          <p:cNvSpPr/>
          <p:nvPr/>
        </p:nvSpPr>
        <p:spPr>
          <a:xfrm>
            <a:off x="304920" y="1676520"/>
            <a:ext cx="8610480" cy="49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流表测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中的电流记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闭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联，电流表测干路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：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中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；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 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 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/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）。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57200" y="1828800"/>
            <a:ext cx="8458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0" y="1143000"/>
            <a:ext cx="8839080" cy="59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流表测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中的电流记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闭合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与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联，电流表测干路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：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中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、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= 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=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-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/ I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7" name="Object 6" descr=""/>
          <p:cNvPicPr/>
          <p:nvPr/>
        </p:nvPicPr>
        <p:blipFill>
          <a:blip r:embed="rId2"/>
          <a:stretch/>
        </p:blipFill>
        <p:spPr>
          <a:xfrm>
            <a:off x="6172200" y="2895480"/>
            <a:ext cx="2622600" cy="3124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49" name="Object 4" descr=""/>
          <p:cNvPicPr/>
          <p:nvPr/>
        </p:nvPicPr>
        <p:blipFill>
          <a:blip r:embed="rId1"/>
          <a:stretch/>
        </p:blipFill>
        <p:spPr>
          <a:xfrm>
            <a:off x="5029200" y="2819520"/>
            <a:ext cx="3625920" cy="3004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304920" y="1371600"/>
            <a:ext cx="861048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电压表测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用电压表测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391520" y="6095880"/>
            <a:ext cx="12952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3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04920" y="1311120"/>
            <a:ext cx="853416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用电压表测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再用电压表测出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被测电阻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4" name="Object 6" descr=""/>
          <p:cNvPicPr/>
          <p:nvPr/>
        </p:nvPicPr>
        <p:blipFill>
          <a:blip r:embed="rId1"/>
          <a:stretch/>
        </p:blipFill>
        <p:spPr>
          <a:xfrm>
            <a:off x="4876920" y="3048120"/>
            <a:ext cx="3733560" cy="29480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7086600" y="6095880"/>
            <a:ext cx="1752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3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3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5715000" y="3505320"/>
          <a:ext cx="2766960" cy="23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05320"/>
                    <a:ext cx="2766960" cy="23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Text Box 5"/>
          <p:cNvSpPr/>
          <p:nvPr/>
        </p:nvSpPr>
        <p:spPr>
          <a:xfrm>
            <a:off x="228600" y="1523880"/>
            <a:ext cx="830592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同时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压表测电源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，电压表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阻值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 = 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/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7543800" y="6172200"/>
            <a:ext cx="1600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457200"/>
            <a:ext cx="8534160" cy="49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今有如下器材可供选用，你能用几种方法测出未知电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阻值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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源（电压不变）、</a:t>
            </a: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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滑动变阻器（最大阻值已知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、</a:t>
            </a:r>
            <a:r>
              <a:rPr b="0" lang="en-US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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定值电阻（阻值已知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、</a:t>
            </a:r>
            <a:r>
              <a:rPr b="0" lang="en-US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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流表、</a:t>
            </a: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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压表、</a:t>
            </a: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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开关、</a:t>
            </a:r>
            <a:r>
              <a:rPr b="0" lang="zh-CN" sz="3200" spc="-1" strike="noStrike">
                <a:solidFill>
                  <a:srgbClr val="5b5249"/>
                </a:solidFill>
                <a:latin typeface="Wingdings 2"/>
                <a:ea typeface="Wingdings 2"/>
              </a:rPr>
              <a:t>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导线若干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选出你所使用的器材及数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依据的原理是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画出实验电路图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简述实验过程（写出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696080" y="6278400"/>
            <a:ext cx="14479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5715000" y="3429000"/>
          <a:ext cx="280980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429000"/>
                    <a:ext cx="280980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6"/>
          <p:cNvSpPr/>
          <p:nvPr/>
        </p:nvSpPr>
        <p:spPr>
          <a:xfrm>
            <a:off x="304920" y="1523880"/>
            <a:ext cx="8458200" cy="44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同时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压表测电源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2. 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，电压表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通过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 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3. 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阻值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I = 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= 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/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-U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） 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解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66" name="Object 4" descr=""/>
          <p:cNvPicPr/>
          <p:nvPr/>
        </p:nvPicPr>
        <p:blipFill>
          <a:blip r:embed="rId1"/>
          <a:stretch/>
        </p:blipFill>
        <p:spPr>
          <a:xfrm>
            <a:off x="5715000" y="3809880"/>
            <a:ext cx="2971800" cy="239400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228600" y="1371600"/>
            <a:ext cx="845820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，滑片移至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端，电压表测电源电压记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滑片移至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端，电压表测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记为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则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两端电压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U-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；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通过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流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I=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 U-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/ 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阻值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=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I=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（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U-U</a:t>
            </a:r>
            <a:r>
              <a:rPr b="0" lang="en-GB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5b5249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7315200" y="632448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457200" y="457200"/>
            <a:ext cx="838188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下图是另一种测量未知电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电路图，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是满足要求的电阻箱。你能根据该图说出测量该电阻的过程吗？如果请你给这种方法取名，你给它取什么名？如果将电流表换成电压表来测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话，你觉得有可能吗？如有可能，这个电路该作怎样的改动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70" name="Object 3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3324240" cy="3213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4"/>
          <p:cNvSpPr/>
          <p:nvPr/>
        </p:nvSpPr>
        <p:spPr>
          <a:xfrm>
            <a:off x="7924680" y="60958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等效替代法测电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73" name="Object 4"/>
          <p:cNvGraphicFramePr/>
          <p:nvPr/>
        </p:nvGraphicFramePr>
        <p:xfrm>
          <a:off x="762120" y="3276720"/>
          <a:ext cx="327636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76720"/>
                    <a:ext cx="327636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5"/>
          <p:cNvGraphicFramePr/>
          <p:nvPr/>
        </p:nvGraphicFramePr>
        <p:xfrm>
          <a:off x="5029200" y="3048120"/>
          <a:ext cx="2895480" cy="34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048120"/>
                    <a:ext cx="28954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6"/>
          <p:cNvSpPr/>
          <p:nvPr/>
        </p:nvSpPr>
        <p:spPr>
          <a:xfrm>
            <a:off x="7848720" y="617220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04920" y="1676520"/>
            <a:ext cx="6858000" cy="13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等效法测电阻（电流表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等效法测电阻（电压表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等效法测电阻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04920" y="1523880"/>
            <a:ext cx="8001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81" name="Object 5"/>
          <p:cNvGraphicFramePr/>
          <p:nvPr/>
        </p:nvGraphicFramePr>
        <p:xfrm>
          <a:off x="5410080" y="3048120"/>
          <a:ext cx="3276720" cy="294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8120"/>
                    <a:ext cx="3276720" cy="29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6"/>
          <p:cNvSpPr/>
          <p:nvPr/>
        </p:nvSpPr>
        <p:spPr>
          <a:xfrm>
            <a:off x="457200" y="1219320"/>
            <a:ext cx="8305920" cy="35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调节滑片至适当位置，记下此时电流表示数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调节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观察电流表的示数直到电流示数再次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此时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值等于被测电阻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的值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7924680" y="6324480"/>
            <a:ext cx="1219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等效法测电阻解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5638680" y="3124080"/>
          <a:ext cx="2895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124080"/>
                    <a:ext cx="2895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5"/>
          <p:cNvSpPr/>
          <p:nvPr/>
        </p:nvSpPr>
        <p:spPr>
          <a:xfrm>
            <a:off x="228600" y="1523880"/>
            <a:ext cx="8305920" cy="27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，调节滑片至适当位置，记下电压表示数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断开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闭合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调节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并观察电压表示数，使电压表的示数再次为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此时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0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值等于被测电阻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</a:t>
            </a:r>
            <a:r>
              <a:rPr b="0" lang="en-US" sz="3200" spc="-1" strike="noStrike" baseline="-25000">
                <a:solidFill>
                  <a:srgbClr val="5b5249"/>
                </a:solidFill>
                <a:latin typeface="Times New Roman"/>
              </a:rPr>
              <a:t>X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值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7924680" y="6324480"/>
            <a:ext cx="10670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457200" y="533520"/>
            <a:ext cx="8305920" cy="56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电阻的测量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伏安法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单表法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单电流表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单电压表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40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等效电阻法：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伏安法测电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04920" y="17524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原理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3" name="Picture 6" descr="E:\苏守谦\电阻的测量\伏安法.bmp"/>
          <p:cNvPicPr/>
          <p:nvPr/>
        </p:nvPicPr>
        <p:blipFill>
          <a:blip r:embed="rId1"/>
          <a:stretch/>
        </p:blipFill>
        <p:spPr>
          <a:xfrm>
            <a:off x="4952880" y="2438280"/>
            <a:ext cx="3200400" cy="2590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"/>
          <p:cNvSpPr/>
          <p:nvPr/>
        </p:nvSpPr>
        <p:spPr>
          <a:xfrm>
            <a:off x="304920" y="25909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0492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表达式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057400" y="1752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欧姆定律（</a:t>
            </a:r>
            <a:r>
              <a:rPr b="0" lang="en-GB" sz="3600" spc="-1" strike="noStrike">
                <a:solidFill>
                  <a:srgbClr val="5b5249"/>
                </a:solidFill>
                <a:latin typeface="Times New Roman"/>
              </a:rPr>
              <a:t>I=U/R</a:t>
            </a:r>
            <a:r>
              <a:rPr b="0" lang="en-GB" sz="36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259092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R=U/I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6781680" y="586728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75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75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"/>
                            </p:stCondLst>
                            <p:childTnLst>
                              <p:par>
                                <p:cTn id="34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测电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7696080" y="609588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61" name="Object 5"/>
          <p:cNvGraphicFramePr/>
          <p:nvPr/>
        </p:nvGraphicFramePr>
        <p:xfrm>
          <a:off x="304920" y="3429000"/>
          <a:ext cx="2315880" cy="28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3429000"/>
                    <a:ext cx="23158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6"/>
          <p:cNvGraphicFramePr/>
          <p:nvPr/>
        </p:nvGraphicFramePr>
        <p:xfrm>
          <a:off x="2666880" y="3429000"/>
          <a:ext cx="2735280" cy="2971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3429000"/>
                    <a:ext cx="27352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7"/>
          <p:cNvGraphicFramePr/>
          <p:nvPr/>
        </p:nvGraphicFramePr>
        <p:xfrm>
          <a:off x="5486400" y="3429000"/>
          <a:ext cx="3276720" cy="2630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86400" y="3429000"/>
                    <a:ext cx="327672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8"/>
          <p:cNvSpPr/>
          <p:nvPr/>
        </p:nvSpPr>
        <p:spPr>
          <a:xfrm>
            <a:off x="533520" y="1752480"/>
            <a:ext cx="365760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单电流表测电阻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533520" y="2438280"/>
            <a:ext cx="335268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单电流表测电阻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533520" y="1219320"/>
            <a:ext cx="44193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单电流表测电阻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0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测电阻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71" name="Object 6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2819520" cy="2367000"/>
          </a:xfrm>
          <a:prstGeom prst="rect">
            <a:avLst/>
          </a:prstGeom>
          <a:ln w="0">
            <a:noFill/>
          </a:ln>
        </p:spPr>
      </p:pic>
      <p:pic>
        <p:nvPicPr>
          <p:cNvPr id="72" name="Object 7" descr=""/>
          <p:cNvPicPr/>
          <p:nvPr/>
        </p:nvPicPr>
        <p:blipFill>
          <a:blip r:embed="rId2"/>
          <a:stretch/>
        </p:blipFill>
        <p:spPr>
          <a:xfrm>
            <a:off x="3124080" y="3581280"/>
            <a:ext cx="2971800" cy="2498760"/>
          </a:xfrm>
          <a:prstGeom prst="rect">
            <a:avLst/>
          </a:prstGeom>
          <a:ln w="0">
            <a:noFill/>
          </a:ln>
        </p:spPr>
      </p:pic>
      <p:pic>
        <p:nvPicPr>
          <p:cNvPr id="73" name="Object 8" descr=""/>
          <p:cNvPicPr/>
          <p:nvPr/>
        </p:nvPicPr>
        <p:blipFill>
          <a:blip r:embed="rId3"/>
          <a:stretch/>
        </p:blipFill>
        <p:spPr>
          <a:xfrm>
            <a:off x="6095880" y="3505320"/>
            <a:ext cx="2895840" cy="245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7772400" y="6095880"/>
            <a:ext cx="11430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762120" y="1676520"/>
            <a:ext cx="350496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单电压表测电阻1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单电压表测电阻2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单电压表测电阻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8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3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8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3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2438280" y="1905120"/>
          <a:ext cx="251460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05120"/>
                    <a:ext cx="251460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6"/>
          <p:cNvGraphicFramePr/>
          <p:nvPr/>
        </p:nvGraphicFramePr>
        <p:xfrm>
          <a:off x="5486400" y="1828800"/>
          <a:ext cx="2516040" cy="296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1828800"/>
                    <a:ext cx="25160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7"/>
          <p:cNvSpPr/>
          <p:nvPr/>
        </p:nvSpPr>
        <p:spPr>
          <a:xfrm>
            <a:off x="3048120" y="4724280"/>
            <a:ext cx="12189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图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5880" y="4724280"/>
            <a:ext cx="997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图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380880" y="12193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并联电路各支路两端电压相等及欧姆定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80880" y="2133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4235760" y="5486400"/>
            <a:ext cx="1110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电流表使用两次，两次连接电路。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3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8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1828800" y="1752480"/>
          <a:ext cx="266688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52480"/>
                    <a:ext cx="266688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Object 5" descr=""/>
          <p:cNvPicPr/>
          <p:nvPr/>
        </p:nvPicPr>
        <p:blipFill>
          <a:blip r:embed="rId3"/>
          <a:stretch/>
        </p:blipFill>
        <p:spPr>
          <a:xfrm>
            <a:off x="4876920" y="1676520"/>
            <a:ext cx="2622600" cy="3124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8"/>
          <p:cNvSpPr/>
          <p:nvPr/>
        </p:nvSpPr>
        <p:spPr>
          <a:xfrm>
            <a:off x="2743200" y="45720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图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Text Box 9"/>
          <p:cNvSpPr/>
          <p:nvPr/>
        </p:nvSpPr>
        <p:spPr>
          <a:xfrm>
            <a:off x="5562720" y="449568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图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152280" y="114300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并联电路电流、电压的关系及欧姆定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52280" y="18288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304920" y="5410080"/>
            <a:ext cx="853416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电流表使用两次，连接一次电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  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返回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4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9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2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流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6" name="Object 6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3276720" cy="24512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380880" y="1447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串联电路电压、电流的关系及欧姆定律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304920" y="2743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04920" y="51055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连接一次电路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5791320" y="4495680"/>
            <a:ext cx="99036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解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13"/>
          <p:cNvSpPr/>
          <p:nvPr/>
        </p:nvSpPr>
        <p:spPr>
          <a:xfrm>
            <a:off x="7467480" y="6095880"/>
            <a:ext cx="1295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Times New Roman"/>
              </a:rPr>
              <a:t>单电压表测电阻</a:t>
            </a: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3" name="Object 3" descr=""/>
          <p:cNvPicPr/>
          <p:nvPr/>
        </p:nvPicPr>
        <p:blipFill>
          <a:blip r:embed="rId1"/>
          <a:stretch/>
        </p:blipFill>
        <p:spPr>
          <a:xfrm>
            <a:off x="1600200" y="2558880"/>
            <a:ext cx="3276720" cy="2716560"/>
          </a:xfrm>
          <a:prstGeom prst="rect">
            <a:avLst/>
          </a:prstGeom>
          <a:ln w="0">
            <a:noFill/>
          </a:ln>
        </p:spPr>
      </p:pic>
      <p:pic>
        <p:nvPicPr>
          <p:cNvPr id="104" name="Object 4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3505320" cy="2766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2133720" y="4648320"/>
            <a:ext cx="13716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图一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5638680" y="4724280"/>
            <a:ext cx="15242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图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077320" y="6278400"/>
            <a:ext cx="10666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返回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380880" y="1295280"/>
            <a:ext cx="861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原理：串联电路电流的关系及欧姆定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380880" y="198108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电路图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04920" y="56386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特点：电压表使用两次，连接两次电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6310440"/>
            <a:ext cx="694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课件下载</a:t>
            </a:r>
            <a:r>
              <a:rPr b="0" lang="en-US" sz="24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http://www.eeppt.com/moban/kejian/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04:16:24Z</dcterms:created>
  <dc:creator/>
  <dc:description>ppt模板下载网站 http://www.eeppt.com</dc:description>
  <cp:keywords>ppt模板下载网站 http:/www.eeppt.com</cp:keywords>
  <dc:language>en-US</dc:language>
  <cp:lastModifiedBy/>
  <dcterms:modified xsi:type="dcterms:W3CDTF">2015-05-20T05:41:34Z</dcterms:modified>
  <cp:revision>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