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65B-4628-414C-9A08-1F94B8C0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090-03AE-42A0-94D8-0ABC0FCA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7A1-E971-4350-ABE0-5B0AA1DE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402-F715-4861-AD47-81AFD2A9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F4C-6313-43D3-88A2-CE8C6C1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188-F6B7-4148-B744-ED7A066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1ED-D03B-436F-90AF-03806D53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112-8693-4D03-98F3-64CC8F5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AF5-2925-4C87-B234-1E43F520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0D8-9E40-4DD8-925E-9DC09E6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C0A-48E0-4D7C-A733-7031EA68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09C-D265-4630-868A-11D7465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E985-D5E2-4A6D-831E-E8A42C848C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647640" y="126828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磁波的海洋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:\李燃\教师教学用书\人民教育电子音像出版社 社标字.png"/>
          <p:cNvPicPr/>
          <p:nvPr/>
        </p:nvPicPr>
        <p:blipFill>
          <a:blip r:embed="rId2"/>
          <a:stretch/>
        </p:blipFill>
        <p:spPr>
          <a:xfrm>
            <a:off x="6750000" y="6253200"/>
            <a:ext cx="2173320" cy="477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31640" y="749160"/>
            <a:ext cx="35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二十一章 第２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431640" y="728640"/>
            <a:ext cx="6500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是一种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431640" y="3608280"/>
            <a:ext cx="65008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光速即为电磁波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431640" y="4365720"/>
            <a:ext cx="692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真空光速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/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图片1"/>
          <p:cNvPicPr/>
          <p:nvPr/>
        </p:nvPicPr>
        <p:blipFill>
          <a:blip r:embed="rId3"/>
          <a:stretch/>
        </p:blipFill>
        <p:spPr>
          <a:xfrm>
            <a:off x="503280" y="1808280"/>
            <a:ext cx="81756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431640" y="1267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雷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依靠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http://www.xjedu.gov.cn/webpub/articleimgs/2012_12/87451/20121227110414732.jpg"/>
          <p:cNvPicPr/>
          <p:nvPr/>
        </p:nvPicPr>
        <p:blipFill>
          <a:blip r:embed="rId3"/>
          <a:stretch/>
        </p:blipFill>
        <p:spPr>
          <a:xfrm>
            <a:off x="5381640" y="2573280"/>
            <a:ext cx="3024000" cy="2438280"/>
          </a:xfrm>
          <a:prstGeom prst="rect">
            <a:avLst/>
          </a:prstGeom>
          <a:ln w="0">
            <a:noFill/>
          </a:ln>
        </p:spPr>
      </p:pic>
      <p:sp>
        <p:nvSpPr>
          <p:cNvPr id="276" name="矩形 4"/>
          <p:cNvSpPr/>
          <p:nvPr/>
        </p:nvSpPr>
        <p:spPr>
          <a:xfrm>
            <a:off x="258912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电磁波与我们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DILC5)[WCFYN2BAI3@}G4SK"/>
          <p:cNvPicPr/>
          <p:nvPr/>
        </p:nvPicPr>
        <p:blipFill>
          <a:blip r:embed="rId4"/>
          <a:stretch/>
        </p:blipFill>
        <p:spPr>
          <a:xfrm>
            <a:off x="898560" y="1898640"/>
            <a:ext cx="3914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431640" y="126756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微波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31640" y="1773360"/>
            <a:ext cx="7499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表面和内部同时加热（水分子共振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将电磁波的能量转化为食物的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006"/>
          <p:cNvPicPr/>
          <p:nvPr/>
        </p:nvPicPr>
        <p:blipFill>
          <a:blip r:embed="rId3"/>
          <a:srcRect l="0" t="27364" r="0" b="15691"/>
          <a:stretch/>
        </p:blipFill>
        <p:spPr>
          <a:xfrm>
            <a:off x="236520" y="3608280"/>
            <a:ext cx="3875040" cy="22068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"/>
          <p:cNvSpPr/>
          <p:nvPr/>
        </p:nvSpPr>
        <p:spPr>
          <a:xfrm>
            <a:off x="258912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电磁波与我们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3029040" cy="2966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8"/>
          <p:cNvSpPr/>
          <p:nvPr/>
        </p:nvSpPr>
        <p:spPr>
          <a:xfrm>
            <a:off x="3672000" y="2997360"/>
            <a:ext cx="1044360" cy="431640"/>
          </a:xfrm>
          <a:prstGeom prst="wedgeRectCallout">
            <a:avLst>
              <a:gd name="adj1" fmla="val 138148"/>
              <a:gd name="adj2" fmla="val 143013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风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6048360" y="2852640"/>
            <a:ext cx="1044720" cy="432000"/>
          </a:xfrm>
          <a:prstGeom prst="wedgeRectCallout">
            <a:avLst>
              <a:gd name="adj1" fmla="val 7296"/>
              <a:gd name="adj2" fmla="val 225365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波导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43640" y="5842080"/>
            <a:ext cx="1260720" cy="431640"/>
          </a:xfrm>
          <a:prstGeom prst="wedgeRectCallout">
            <a:avLst>
              <a:gd name="adj1" fmla="val -93703"/>
              <a:gd name="adj2" fmla="val -19081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控制面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5435640" y="5950080"/>
            <a:ext cx="1260360" cy="431640"/>
          </a:xfrm>
          <a:prstGeom prst="wedgeRectCallout">
            <a:avLst>
              <a:gd name="adj1" fmla="val -83500"/>
              <a:gd name="adj2" fmla="val -16875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屏蔽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3311640" y="5950080"/>
            <a:ext cx="649080" cy="431640"/>
          </a:xfrm>
          <a:prstGeom prst="wedgeRectCallout">
            <a:avLst>
              <a:gd name="adj1" fmla="val 150490"/>
              <a:gd name="adj2" fmla="val -84189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7667640" y="3033720"/>
            <a:ext cx="1044720" cy="431640"/>
          </a:xfrm>
          <a:prstGeom prst="wedgeRectCallout">
            <a:avLst>
              <a:gd name="adj1" fmla="val -113069"/>
              <a:gd name="adj2" fmla="val 232722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磁控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5"/>
          <p:cNvSpPr/>
          <p:nvPr/>
        </p:nvSpPr>
        <p:spPr>
          <a:xfrm>
            <a:off x="431640" y="7491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广播和电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2987640" y="1268280"/>
            <a:ext cx="46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磁波能够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MCj03439610000[1]"/>
          <p:cNvPicPr/>
          <p:nvPr/>
        </p:nvPicPr>
        <p:blipFill>
          <a:blip r:embed="rId3"/>
          <a:stretch/>
        </p:blipFill>
        <p:spPr>
          <a:xfrm rot="20696400">
            <a:off x="1197000" y="3186000"/>
            <a:ext cx="3457440" cy="1386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MCj04169840000[1]"/>
          <p:cNvPicPr/>
          <p:nvPr/>
        </p:nvPicPr>
        <p:blipFill>
          <a:blip r:embed="rId4"/>
          <a:stretch/>
        </p:blipFill>
        <p:spPr>
          <a:xfrm>
            <a:off x="5067360" y="1898640"/>
            <a:ext cx="30639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7"/>
          <p:cNvSpPr/>
          <p:nvPr/>
        </p:nvSpPr>
        <p:spPr>
          <a:xfrm>
            <a:off x="431640" y="1700280"/>
            <a:ext cx="7956720" cy="115884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导线中电流的迅速变化会在空间激起电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7"/>
          <p:cNvSpPr/>
          <p:nvPr/>
        </p:nvSpPr>
        <p:spPr>
          <a:xfrm>
            <a:off x="431640" y="3321000"/>
            <a:ext cx="795672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磁波既可以在介质中传播也可以在真空中传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431640" y="4976640"/>
            <a:ext cx="795672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磁波在真空中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2.997 924 58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/s ≈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0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E:\教科研、论文资料\人教版教学参考编制\21图\21图\21-2-1.jpg"/>
          <p:cNvPicPr/>
          <p:nvPr/>
        </p:nvPicPr>
        <p:blipFill>
          <a:blip r:embed="rId3"/>
          <a:stretch/>
        </p:blipFill>
        <p:spPr>
          <a:xfrm>
            <a:off x="4427640" y="873000"/>
            <a:ext cx="3887640" cy="5273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58920" y="4574160"/>
            <a:ext cx="38876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电磁波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是怎样产生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电磁波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是怎样传播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波长、波速、频率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87280" y="1665360"/>
            <a:ext cx="6397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移动电话依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磁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50920" y="1015920"/>
            <a:ext cx="63975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视信号的传播依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008000" y="2205000"/>
            <a:ext cx="3071880" cy="271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934920" y="4976280"/>
            <a:ext cx="31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连续调节台灯亮度旋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003640" y="4764600"/>
            <a:ext cx="37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Times New Roman"/>
              </a:rPr>
              <a:t>导线时断时续接触电池的一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31640" y="5877000"/>
            <a:ext cx="615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收音机：发出“喀喀”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:\教科研、论文资料\人教版教学参考编制\21图\21图\21-2-2.jpg"/>
          <p:cNvPicPr/>
          <p:nvPr/>
        </p:nvPicPr>
        <p:blipFill>
          <a:blip r:embed="rId4"/>
          <a:stretch/>
        </p:blipFill>
        <p:spPr>
          <a:xfrm>
            <a:off x="5111640" y="1557360"/>
            <a:ext cx="3119400" cy="279720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431640" y="411120"/>
            <a:ext cx="5292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电磁波是怎样产生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听一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1978200" y="1519200"/>
            <a:ext cx="5976720" cy="3457440"/>
            <a:chOff x="1978200" y="1519200"/>
            <a:chExt cx="5976720" cy="3457440"/>
          </a:xfrm>
        </p:grpSpPr>
        <p:pic>
          <p:nvPicPr>
            <p:cNvPr id="59" name="Picture 4" descr="电磁波是怎样产生的"/>
            <p:cNvPicPr/>
            <p:nvPr/>
          </p:nvPicPr>
          <p:blipFill>
            <a:blip r:embed="rId3"/>
            <a:stretch/>
          </p:blipFill>
          <p:spPr>
            <a:xfrm>
              <a:off x="1978200" y="1519200"/>
              <a:ext cx="5976720" cy="3457440"/>
            </a:xfrm>
            <a:prstGeom prst="rect">
              <a:avLst/>
            </a:prstGeom>
            <a:ln w="19080">
              <a:solidFill>
                <a:srgbClr val="002ec2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0" name="Rectangle 5"/>
            <p:cNvSpPr/>
            <p:nvPr/>
          </p:nvSpPr>
          <p:spPr>
            <a:xfrm>
              <a:off x="4469400" y="19468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66cc"/>
                  </a:solidFill>
                  <a:latin typeface="Arial"/>
                </a:rPr>
                <a:t>电磁波是怎样产生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299"/>
          <p:cNvSpPr/>
          <p:nvPr/>
        </p:nvSpPr>
        <p:spPr>
          <a:xfrm>
            <a:off x="1511280" y="598500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实质：电磁场能量由近及远的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47640" y="8715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磁波产生演示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195640" y="5222880"/>
            <a:ext cx="656568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迅速变化的电流能在周围产生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3280" y="5230800"/>
            <a:ext cx="147636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66" name="矩形 299"/>
          <p:cNvSpPr/>
          <p:nvPr/>
        </p:nvSpPr>
        <p:spPr>
          <a:xfrm>
            <a:off x="431640" y="12682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声音的传播需要固体、液体、气体等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33440" y="1916280"/>
            <a:ext cx="71978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电磁波的传播需要介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99"/>
          <p:cNvSpPr/>
          <p:nvPr/>
        </p:nvSpPr>
        <p:spPr>
          <a:xfrm>
            <a:off x="431640" y="3465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把一个移动电话放入真空罩中，拨打这个手机的号码，手机有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31640" y="5624640"/>
            <a:ext cx="802800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磁波的传播不需要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431640" y="411120"/>
            <a:ext cx="5400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电磁波是怎样传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1640" y="2529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31640" y="468936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　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640" y="5229360"/>
            <a:ext cx="6596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31640" y="1881360"/>
            <a:ext cx="5400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磁波的几个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6000" y="5049720"/>
            <a:ext cx="871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波长：邻近的两个波峰（或波谷）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单位：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31640" y="1268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磁波可以在真空中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未知"/>
          <p:cNvSpPr/>
          <p:nvPr/>
        </p:nvSpPr>
        <p:spPr>
          <a:xfrm>
            <a:off x="2268360" y="3340080"/>
            <a:ext cx="5185080" cy="684360"/>
          </a:xfrm>
          <a:custGeom>
            <a:avLst/>
            <a:gdLst/>
            <a:ahLst/>
            <a:rect l="l" t="t" r="r" b="b"/>
            <a:pathLst>
              <a:path w="21633" h="4000">
                <a:moveTo>
                  <a:pt x="0" y="2000"/>
                </a:moveTo>
                <a:cubicBezTo>
                  <a:pt x="66" y="1883"/>
                  <a:pt x="133" y="1767"/>
                  <a:pt x="200" y="1653"/>
                </a:cubicBezTo>
                <a:cubicBezTo>
                  <a:pt x="267" y="1539"/>
                  <a:pt x="333" y="1425"/>
                  <a:pt x="400" y="1316"/>
                </a:cubicBezTo>
                <a:cubicBezTo>
                  <a:pt x="467" y="1207"/>
                  <a:pt x="533" y="1100"/>
                  <a:pt x="600" y="1000"/>
                </a:cubicBezTo>
                <a:cubicBezTo>
                  <a:pt x="667" y="900"/>
                  <a:pt x="733" y="803"/>
                  <a:pt x="800" y="714"/>
                </a:cubicBezTo>
                <a:cubicBezTo>
                  <a:pt x="867" y="625"/>
                  <a:pt x="933" y="542"/>
                  <a:pt x="1000" y="468"/>
                </a:cubicBezTo>
                <a:cubicBezTo>
                  <a:pt x="1067" y="394"/>
                  <a:pt x="1133" y="326"/>
                  <a:pt x="1200" y="268"/>
                </a:cubicBezTo>
                <a:cubicBezTo>
                  <a:pt x="1267" y="210"/>
                  <a:pt x="1333" y="161"/>
                  <a:pt x="1400" y="121"/>
                </a:cubicBezTo>
                <a:cubicBezTo>
                  <a:pt x="1467" y="81"/>
                  <a:pt x="1533" y="50"/>
                  <a:pt x="1600" y="30"/>
                </a:cubicBezTo>
                <a:cubicBezTo>
                  <a:pt x="1667" y="10"/>
                  <a:pt x="1733" y="0"/>
                  <a:pt x="1800" y="0"/>
                </a:cubicBezTo>
                <a:cubicBezTo>
                  <a:pt x="1867" y="0"/>
                  <a:pt x="1933" y="10"/>
                  <a:pt x="2000" y="30"/>
                </a:cubicBezTo>
                <a:cubicBezTo>
                  <a:pt x="2067" y="50"/>
                  <a:pt x="2133" y="81"/>
                  <a:pt x="2200" y="121"/>
                </a:cubicBezTo>
                <a:cubicBezTo>
                  <a:pt x="2267" y="161"/>
                  <a:pt x="2333" y="210"/>
                  <a:pt x="2400" y="268"/>
                </a:cubicBezTo>
                <a:cubicBezTo>
                  <a:pt x="2467" y="326"/>
                  <a:pt x="2533" y="394"/>
                  <a:pt x="2600" y="468"/>
                </a:cubicBezTo>
                <a:cubicBezTo>
                  <a:pt x="2667" y="542"/>
                  <a:pt x="2733" y="625"/>
                  <a:pt x="2800" y="714"/>
                </a:cubicBezTo>
                <a:cubicBezTo>
                  <a:pt x="2867" y="803"/>
                  <a:pt x="2933" y="900"/>
                  <a:pt x="3000" y="1000"/>
                </a:cubicBezTo>
                <a:cubicBezTo>
                  <a:pt x="3067" y="1100"/>
                  <a:pt x="3133" y="1207"/>
                  <a:pt x="3200" y="1316"/>
                </a:cubicBezTo>
                <a:cubicBezTo>
                  <a:pt x="3267" y="1425"/>
                  <a:pt x="3333" y="1539"/>
                  <a:pt x="3400" y="1653"/>
                </a:cubicBezTo>
                <a:cubicBezTo>
                  <a:pt x="3467" y="1767"/>
                  <a:pt x="3533" y="1884"/>
                  <a:pt x="3600" y="2000"/>
                </a:cubicBezTo>
                <a:cubicBezTo>
                  <a:pt x="3667" y="2116"/>
                  <a:pt x="3733" y="2233"/>
                  <a:pt x="3800" y="2347"/>
                </a:cubicBezTo>
                <a:cubicBezTo>
                  <a:pt x="3867" y="2461"/>
                  <a:pt x="3933" y="2575"/>
                  <a:pt x="4000" y="2684"/>
                </a:cubicBezTo>
                <a:cubicBezTo>
                  <a:pt x="4067" y="2793"/>
                  <a:pt x="4133" y="2900"/>
                  <a:pt x="4200" y="3000"/>
                </a:cubicBezTo>
                <a:cubicBezTo>
                  <a:pt x="4267" y="3100"/>
                  <a:pt x="4333" y="3196"/>
                  <a:pt x="4400" y="3285"/>
                </a:cubicBezTo>
                <a:cubicBezTo>
                  <a:pt x="4467" y="3374"/>
                  <a:pt x="4533" y="3458"/>
                  <a:pt x="4600" y="3532"/>
                </a:cubicBezTo>
                <a:cubicBezTo>
                  <a:pt x="4667" y="3606"/>
                  <a:pt x="4733" y="3674"/>
                  <a:pt x="4800" y="3732"/>
                </a:cubicBezTo>
                <a:cubicBezTo>
                  <a:pt x="4867" y="3790"/>
                  <a:pt x="4933" y="3839"/>
                  <a:pt x="5000" y="3879"/>
                </a:cubicBezTo>
                <a:cubicBezTo>
                  <a:pt x="5067" y="3919"/>
                  <a:pt x="5133" y="3950"/>
                  <a:pt x="5200" y="3970"/>
                </a:cubicBezTo>
                <a:cubicBezTo>
                  <a:pt x="5267" y="3990"/>
                  <a:pt x="5333" y="4000"/>
                  <a:pt x="5400" y="4000"/>
                </a:cubicBezTo>
                <a:cubicBezTo>
                  <a:pt x="5467" y="4000"/>
                  <a:pt x="5533" y="3990"/>
                  <a:pt x="5600" y="3970"/>
                </a:cubicBezTo>
                <a:cubicBezTo>
                  <a:pt x="5667" y="3950"/>
                  <a:pt x="5733" y="3919"/>
                  <a:pt x="5800" y="3879"/>
                </a:cubicBezTo>
                <a:cubicBezTo>
                  <a:pt x="5867" y="3839"/>
                  <a:pt x="5933" y="3790"/>
                  <a:pt x="6000" y="3732"/>
                </a:cubicBezTo>
                <a:cubicBezTo>
                  <a:pt x="6067" y="3674"/>
                  <a:pt x="6133" y="3606"/>
                  <a:pt x="6200" y="3532"/>
                </a:cubicBezTo>
                <a:cubicBezTo>
                  <a:pt x="6267" y="3458"/>
                  <a:pt x="6333" y="3375"/>
                  <a:pt x="6400" y="3286"/>
                </a:cubicBezTo>
                <a:cubicBezTo>
                  <a:pt x="6467" y="3197"/>
                  <a:pt x="6533" y="3100"/>
                  <a:pt x="6600" y="3000"/>
                </a:cubicBezTo>
                <a:cubicBezTo>
                  <a:pt x="6667" y="2900"/>
                  <a:pt x="6733" y="2793"/>
                  <a:pt x="6800" y="2684"/>
                </a:cubicBezTo>
                <a:cubicBezTo>
                  <a:pt x="6867" y="2575"/>
                  <a:pt x="6933" y="2462"/>
                  <a:pt x="7000" y="2348"/>
                </a:cubicBezTo>
                <a:cubicBezTo>
                  <a:pt x="7067" y="2234"/>
                  <a:pt x="7133" y="2116"/>
                  <a:pt x="7200" y="2000"/>
                </a:cubicBezTo>
                <a:cubicBezTo>
                  <a:pt x="7267" y="1884"/>
                  <a:pt x="7333" y="1767"/>
                  <a:pt x="7400" y="1653"/>
                </a:cubicBezTo>
                <a:cubicBezTo>
                  <a:pt x="7467" y="1539"/>
                  <a:pt x="7533" y="1425"/>
                  <a:pt x="7600" y="1316"/>
                </a:cubicBezTo>
                <a:cubicBezTo>
                  <a:pt x="7667" y="1207"/>
                  <a:pt x="7733" y="1100"/>
                  <a:pt x="7800" y="1000"/>
                </a:cubicBezTo>
                <a:cubicBezTo>
                  <a:pt x="7867" y="900"/>
                  <a:pt x="7933" y="804"/>
                  <a:pt x="8000" y="715"/>
                </a:cubicBezTo>
                <a:cubicBezTo>
                  <a:pt x="8067" y="626"/>
                  <a:pt x="8133" y="542"/>
                  <a:pt x="8200" y="468"/>
                </a:cubicBezTo>
                <a:cubicBezTo>
                  <a:pt x="8267" y="394"/>
                  <a:pt x="8333" y="326"/>
                  <a:pt x="8400" y="268"/>
                </a:cubicBezTo>
                <a:cubicBezTo>
                  <a:pt x="8467" y="210"/>
                  <a:pt x="8533" y="161"/>
                  <a:pt x="8600" y="121"/>
                </a:cubicBezTo>
                <a:cubicBezTo>
                  <a:pt x="8667" y="81"/>
                  <a:pt x="8733" y="50"/>
                  <a:pt x="8800" y="30"/>
                </a:cubicBezTo>
                <a:cubicBezTo>
                  <a:pt x="8867" y="10"/>
                  <a:pt x="8933" y="0"/>
                  <a:pt x="9000" y="0"/>
                </a:cubicBezTo>
                <a:cubicBezTo>
                  <a:pt x="9067" y="0"/>
                  <a:pt x="9133" y="10"/>
                  <a:pt x="9200" y="30"/>
                </a:cubicBezTo>
                <a:cubicBezTo>
                  <a:pt x="9267" y="50"/>
                  <a:pt x="9333" y="80"/>
                  <a:pt x="9400" y="120"/>
                </a:cubicBezTo>
                <a:cubicBezTo>
                  <a:pt x="9467" y="160"/>
                  <a:pt x="9533" y="210"/>
                  <a:pt x="9600" y="268"/>
                </a:cubicBezTo>
                <a:cubicBezTo>
                  <a:pt x="9667" y="326"/>
                  <a:pt x="9733" y="394"/>
                  <a:pt x="9800" y="468"/>
                </a:cubicBezTo>
                <a:cubicBezTo>
                  <a:pt x="9867" y="542"/>
                  <a:pt x="9933" y="625"/>
                  <a:pt x="10000" y="714"/>
                </a:cubicBezTo>
                <a:cubicBezTo>
                  <a:pt x="10067" y="803"/>
                  <a:pt x="10133" y="900"/>
                  <a:pt x="10200" y="1000"/>
                </a:cubicBezTo>
                <a:cubicBezTo>
                  <a:pt x="10267" y="1100"/>
                  <a:pt x="10333" y="1206"/>
                  <a:pt x="10400" y="1315"/>
                </a:cubicBezTo>
                <a:cubicBezTo>
                  <a:pt x="10467" y="1424"/>
                  <a:pt x="10533" y="1538"/>
                  <a:pt x="10600" y="1652"/>
                </a:cubicBezTo>
                <a:cubicBezTo>
                  <a:pt x="10667" y="1766"/>
                  <a:pt x="10733" y="1883"/>
                  <a:pt x="10800" y="1999"/>
                </a:cubicBezTo>
                <a:cubicBezTo>
                  <a:pt x="10867" y="2115"/>
                  <a:pt x="10933" y="2233"/>
                  <a:pt x="11000" y="2347"/>
                </a:cubicBezTo>
                <a:cubicBezTo>
                  <a:pt x="11067" y="2461"/>
                  <a:pt x="11133" y="2574"/>
                  <a:pt x="11200" y="2683"/>
                </a:cubicBezTo>
                <a:cubicBezTo>
                  <a:pt x="11267" y="2792"/>
                  <a:pt x="11333" y="2899"/>
                  <a:pt x="11400" y="2999"/>
                </a:cubicBezTo>
                <a:cubicBezTo>
                  <a:pt x="11467" y="3099"/>
                  <a:pt x="11533" y="3196"/>
                  <a:pt x="11600" y="3285"/>
                </a:cubicBezTo>
                <a:cubicBezTo>
                  <a:pt x="11667" y="3374"/>
                  <a:pt x="11733" y="3458"/>
                  <a:pt x="11800" y="3532"/>
                </a:cubicBezTo>
                <a:cubicBezTo>
                  <a:pt x="11867" y="3606"/>
                  <a:pt x="11933" y="3674"/>
                  <a:pt x="12000" y="3732"/>
                </a:cubicBezTo>
                <a:cubicBezTo>
                  <a:pt x="12067" y="3790"/>
                  <a:pt x="12133" y="3839"/>
                  <a:pt x="12200" y="3879"/>
                </a:cubicBezTo>
                <a:cubicBezTo>
                  <a:pt x="12267" y="3919"/>
                  <a:pt x="12333" y="3950"/>
                  <a:pt x="12400" y="3970"/>
                </a:cubicBezTo>
                <a:cubicBezTo>
                  <a:pt x="12467" y="3990"/>
                  <a:pt x="12533" y="4000"/>
                  <a:pt x="12600" y="4000"/>
                </a:cubicBezTo>
                <a:cubicBezTo>
                  <a:pt x="12667" y="4000"/>
                  <a:pt x="12733" y="3990"/>
                  <a:pt x="12800" y="3970"/>
                </a:cubicBezTo>
                <a:cubicBezTo>
                  <a:pt x="12867" y="3950"/>
                  <a:pt x="12933" y="3920"/>
                  <a:pt x="13000" y="3880"/>
                </a:cubicBezTo>
                <a:cubicBezTo>
                  <a:pt x="13067" y="3840"/>
                  <a:pt x="13133" y="3790"/>
                  <a:pt x="13200" y="3732"/>
                </a:cubicBezTo>
                <a:cubicBezTo>
                  <a:pt x="13267" y="3674"/>
                  <a:pt x="13333" y="3607"/>
                  <a:pt x="13400" y="3533"/>
                </a:cubicBezTo>
                <a:cubicBezTo>
                  <a:pt x="13467" y="3459"/>
                  <a:pt x="13533" y="3375"/>
                  <a:pt x="13600" y="3286"/>
                </a:cubicBezTo>
                <a:cubicBezTo>
                  <a:pt x="13667" y="3197"/>
                  <a:pt x="13733" y="3101"/>
                  <a:pt x="13800" y="3001"/>
                </a:cubicBezTo>
                <a:cubicBezTo>
                  <a:pt x="13867" y="2901"/>
                  <a:pt x="13933" y="2794"/>
                  <a:pt x="14000" y="2685"/>
                </a:cubicBezTo>
                <a:cubicBezTo>
                  <a:pt x="14067" y="2576"/>
                  <a:pt x="14133" y="2462"/>
                  <a:pt x="14200" y="2348"/>
                </a:cubicBezTo>
                <a:cubicBezTo>
                  <a:pt x="14267" y="2234"/>
                  <a:pt x="14333" y="2117"/>
                  <a:pt x="14400" y="2001"/>
                </a:cubicBezTo>
                <a:cubicBezTo>
                  <a:pt x="14467" y="1885"/>
                  <a:pt x="14533" y="1767"/>
                  <a:pt x="14600" y="1653"/>
                </a:cubicBezTo>
                <a:cubicBezTo>
                  <a:pt x="14667" y="1539"/>
                  <a:pt x="14733" y="1426"/>
                  <a:pt x="14800" y="1317"/>
                </a:cubicBezTo>
                <a:cubicBezTo>
                  <a:pt x="14867" y="1208"/>
                  <a:pt x="14933" y="1101"/>
                  <a:pt x="15000" y="1001"/>
                </a:cubicBezTo>
                <a:cubicBezTo>
                  <a:pt x="15067" y="901"/>
                  <a:pt x="15133" y="804"/>
                  <a:pt x="15200" y="715"/>
                </a:cubicBezTo>
                <a:cubicBezTo>
                  <a:pt x="15267" y="626"/>
                  <a:pt x="15333" y="542"/>
                  <a:pt x="15400" y="468"/>
                </a:cubicBezTo>
                <a:cubicBezTo>
                  <a:pt x="15467" y="394"/>
                  <a:pt x="15533" y="326"/>
                  <a:pt x="15600" y="268"/>
                </a:cubicBezTo>
                <a:cubicBezTo>
                  <a:pt x="15667" y="210"/>
                  <a:pt x="15733" y="161"/>
                  <a:pt x="15800" y="121"/>
                </a:cubicBezTo>
                <a:cubicBezTo>
                  <a:pt x="15867" y="81"/>
                  <a:pt x="15933" y="51"/>
                  <a:pt x="16000" y="31"/>
                </a:cubicBezTo>
                <a:cubicBezTo>
                  <a:pt x="16067" y="11"/>
                  <a:pt x="16133" y="0"/>
                  <a:pt x="16200" y="0"/>
                </a:cubicBezTo>
                <a:cubicBezTo>
                  <a:pt x="16267" y="0"/>
                  <a:pt x="16333" y="10"/>
                  <a:pt x="16400" y="30"/>
                </a:cubicBezTo>
                <a:cubicBezTo>
                  <a:pt x="16467" y="50"/>
                  <a:pt x="16533" y="80"/>
                  <a:pt x="16600" y="120"/>
                </a:cubicBezTo>
                <a:cubicBezTo>
                  <a:pt x="16667" y="160"/>
                  <a:pt x="16733" y="210"/>
                  <a:pt x="16800" y="268"/>
                </a:cubicBezTo>
                <a:cubicBezTo>
                  <a:pt x="16867" y="326"/>
                  <a:pt x="16933" y="393"/>
                  <a:pt x="17000" y="467"/>
                </a:cubicBezTo>
                <a:cubicBezTo>
                  <a:pt x="17067" y="541"/>
                  <a:pt x="17133" y="625"/>
                  <a:pt x="17200" y="714"/>
                </a:cubicBezTo>
                <a:cubicBezTo>
                  <a:pt x="17267" y="803"/>
                  <a:pt x="17333" y="899"/>
                  <a:pt x="17400" y="999"/>
                </a:cubicBezTo>
                <a:cubicBezTo>
                  <a:pt x="17467" y="1099"/>
                  <a:pt x="17533" y="1206"/>
                  <a:pt x="17600" y="1315"/>
                </a:cubicBezTo>
                <a:cubicBezTo>
                  <a:pt x="17667" y="1424"/>
                  <a:pt x="17733" y="1538"/>
                  <a:pt x="17800" y="1652"/>
                </a:cubicBezTo>
                <a:cubicBezTo>
                  <a:pt x="17867" y="1766"/>
                  <a:pt x="17933" y="1883"/>
                  <a:pt x="18000" y="1999"/>
                </a:cubicBezTo>
                <a:cubicBezTo>
                  <a:pt x="18067" y="2115"/>
                  <a:pt x="18133" y="2232"/>
                  <a:pt x="18200" y="2346"/>
                </a:cubicBezTo>
                <a:cubicBezTo>
                  <a:pt x="18267" y="2460"/>
                  <a:pt x="18333" y="2574"/>
                  <a:pt x="18400" y="2683"/>
                </a:cubicBezTo>
                <a:cubicBezTo>
                  <a:pt x="18467" y="2792"/>
                  <a:pt x="18533" y="2899"/>
                  <a:pt x="18600" y="2999"/>
                </a:cubicBezTo>
                <a:cubicBezTo>
                  <a:pt x="18667" y="3099"/>
                  <a:pt x="18733" y="3196"/>
                  <a:pt x="18800" y="3285"/>
                </a:cubicBezTo>
                <a:cubicBezTo>
                  <a:pt x="18867" y="3374"/>
                  <a:pt x="18933" y="3456"/>
                  <a:pt x="19000" y="3531"/>
                </a:cubicBezTo>
                <a:cubicBezTo>
                  <a:pt x="19067" y="3606"/>
                  <a:pt x="19133" y="3674"/>
                  <a:pt x="19200" y="3732"/>
                </a:cubicBezTo>
                <a:cubicBezTo>
                  <a:pt x="19267" y="3790"/>
                  <a:pt x="19333" y="3839"/>
                  <a:pt x="19400" y="3879"/>
                </a:cubicBezTo>
                <a:cubicBezTo>
                  <a:pt x="19467" y="3919"/>
                  <a:pt x="19533" y="3949"/>
                  <a:pt x="19600" y="3969"/>
                </a:cubicBezTo>
                <a:cubicBezTo>
                  <a:pt x="19667" y="3989"/>
                  <a:pt x="19733" y="4000"/>
                  <a:pt x="19800" y="4000"/>
                </a:cubicBezTo>
                <a:cubicBezTo>
                  <a:pt x="19867" y="4000"/>
                  <a:pt x="19933" y="3990"/>
                  <a:pt x="20000" y="3970"/>
                </a:cubicBezTo>
                <a:cubicBezTo>
                  <a:pt x="20067" y="3950"/>
                  <a:pt x="20133" y="3920"/>
                  <a:pt x="20200" y="3880"/>
                </a:cubicBezTo>
                <a:cubicBezTo>
                  <a:pt x="20267" y="3840"/>
                  <a:pt x="20333" y="3791"/>
                  <a:pt x="20400" y="3733"/>
                </a:cubicBezTo>
                <a:cubicBezTo>
                  <a:pt x="20467" y="3675"/>
                  <a:pt x="20533" y="3608"/>
                  <a:pt x="20600" y="3533"/>
                </a:cubicBezTo>
                <a:cubicBezTo>
                  <a:pt x="20667" y="3458"/>
                  <a:pt x="20733" y="3375"/>
                  <a:pt x="20800" y="3286"/>
                </a:cubicBezTo>
                <a:cubicBezTo>
                  <a:pt x="20867" y="3197"/>
                  <a:pt x="20933" y="3101"/>
                  <a:pt x="21000" y="3001"/>
                </a:cubicBezTo>
                <a:cubicBezTo>
                  <a:pt x="21067" y="2901"/>
                  <a:pt x="21133" y="2794"/>
                  <a:pt x="21200" y="2685"/>
                </a:cubicBezTo>
                <a:cubicBezTo>
                  <a:pt x="21267" y="2576"/>
                  <a:pt x="21333" y="2462"/>
                  <a:pt x="21400" y="2348"/>
                </a:cubicBezTo>
                <a:cubicBezTo>
                  <a:pt x="21467" y="2234"/>
                  <a:pt x="21567" y="2059"/>
                  <a:pt x="21600" y="2001"/>
                </a:cubicBezTo>
                <a:cubicBezTo>
                  <a:pt x="21633" y="1943"/>
                  <a:pt x="21616" y="1972"/>
                  <a:pt x="21600" y="2001"/>
                </a:cubicBezTo>
              </a:path>
            </a:pathLst>
          </a:custGeom>
          <a:noFill/>
          <a:ln w="2844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5"/>
          <p:cNvSpPr/>
          <p:nvPr/>
        </p:nvSpPr>
        <p:spPr>
          <a:xfrm flipH="1">
            <a:off x="1196280" y="2889360"/>
            <a:ext cx="1066680" cy="576000"/>
          </a:xfrm>
          <a:prstGeom prst="wedgeRoundRectCallout">
            <a:avLst>
              <a:gd name="adj1" fmla="val -93601"/>
              <a:gd name="adj2" fmla="val 30712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波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 flipH="1">
            <a:off x="1197000" y="3878280"/>
            <a:ext cx="1008000" cy="576360"/>
          </a:xfrm>
          <a:prstGeom prst="wedgeRoundRectCallout">
            <a:avLst>
              <a:gd name="adj1" fmla="val -181185"/>
              <a:gd name="adj2" fmla="val -238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波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4427640" y="2924280"/>
            <a:ext cx="1728720" cy="520560"/>
            <a:chOff x="4427640" y="2924280"/>
            <a:chExt cx="1728720" cy="520560"/>
          </a:xfrm>
        </p:grpSpPr>
        <p:sp>
          <p:nvSpPr>
            <p:cNvPr id="82" name="Line 10"/>
            <p:cNvSpPr/>
            <p:nvPr/>
          </p:nvSpPr>
          <p:spPr>
            <a:xfrm>
              <a:off x="4427640" y="3011760"/>
              <a:ext cx="0" cy="323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6156360" y="3046680"/>
              <a:ext cx="0" cy="323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2"/>
            <p:cNvSpPr/>
            <p:nvPr/>
          </p:nvSpPr>
          <p:spPr>
            <a:xfrm flipH="1">
              <a:off x="4464000" y="3191040"/>
              <a:ext cx="3952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>
              <a:off x="5688000" y="3191040"/>
              <a:ext cx="3952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4969800" y="292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5292720" y="3989520"/>
            <a:ext cx="1728720" cy="520560"/>
            <a:chOff x="5292720" y="3989520"/>
            <a:chExt cx="1728720" cy="520560"/>
          </a:xfrm>
        </p:grpSpPr>
        <p:sp>
          <p:nvSpPr>
            <p:cNvPr id="88" name="Line 16"/>
            <p:cNvSpPr/>
            <p:nvPr/>
          </p:nvSpPr>
          <p:spPr>
            <a:xfrm>
              <a:off x="5292720" y="4077000"/>
              <a:ext cx="0" cy="323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>
              <a:off x="7021440" y="4111920"/>
              <a:ext cx="0" cy="323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 flipH="1">
              <a:off x="5329080" y="4256280"/>
              <a:ext cx="3952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>
              <a:off x="6553080" y="4256280"/>
              <a:ext cx="3952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0"/>
            <p:cNvSpPr/>
            <p:nvPr/>
          </p:nvSpPr>
          <p:spPr>
            <a:xfrm>
              <a:off x="5834880" y="3989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4"/>
          <p:cNvSpPr/>
          <p:nvPr/>
        </p:nvSpPr>
        <p:spPr>
          <a:xfrm>
            <a:off x="431640" y="411120"/>
            <a:ext cx="54356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电磁波是怎样传播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431640" y="4581360"/>
            <a:ext cx="692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磁波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31640" y="5235480"/>
            <a:ext cx="6929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真空中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.997 924 58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31640" y="5918040"/>
            <a:ext cx="692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空气中：接近真空光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31640" y="3427560"/>
            <a:ext cx="692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波速：波传播的快慢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单位：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31640" y="958680"/>
            <a:ext cx="8388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频率：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有多少次波峰或波谷通过，波的频率就是多少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单位：赫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千赫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兆赫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3"/>
          <p:cNvGrpSpPr/>
          <p:nvPr/>
        </p:nvGrpSpPr>
        <p:grpSpPr>
          <a:xfrm>
            <a:off x="898560" y="2313000"/>
            <a:ext cx="380880" cy="2819520"/>
            <a:chOff x="898560" y="2313000"/>
            <a:chExt cx="380880" cy="2819520"/>
          </a:xfrm>
        </p:grpSpPr>
        <p:sp>
          <p:nvSpPr>
            <p:cNvPr id="102" name="Rectangle 3"/>
            <p:cNvSpPr/>
            <p:nvPr/>
          </p:nvSpPr>
          <p:spPr>
            <a:xfrm>
              <a:off x="898560" y="2313000"/>
              <a:ext cx="380880" cy="28195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>
              <a:off x="898560" y="2998800"/>
              <a:ext cx="380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宇宙射线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1279440" y="2313000"/>
            <a:ext cx="380880" cy="2819520"/>
            <a:chOff x="1279440" y="2313000"/>
            <a:chExt cx="380880" cy="2819520"/>
          </a:xfrm>
        </p:grpSpPr>
        <p:sp>
          <p:nvSpPr>
            <p:cNvPr id="105" name="Rectangle 6"/>
            <p:cNvSpPr/>
            <p:nvPr/>
          </p:nvSpPr>
          <p:spPr>
            <a:xfrm>
              <a:off x="1279440" y="2313000"/>
              <a:ext cx="380880" cy="2819520"/>
            </a:xfrm>
            <a:prstGeom prst="rect">
              <a:avLst/>
            </a:prstGeom>
            <a:solidFill>
              <a:srgbClr val="00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1279440" y="3151080"/>
              <a:ext cx="380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射线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9"/>
          <p:cNvGrpSpPr/>
          <p:nvPr/>
        </p:nvGrpSpPr>
        <p:grpSpPr>
          <a:xfrm>
            <a:off x="1660680" y="2313000"/>
            <a:ext cx="685800" cy="2819520"/>
            <a:chOff x="1660680" y="2313000"/>
            <a:chExt cx="685800" cy="2819520"/>
          </a:xfrm>
        </p:grpSpPr>
        <p:sp>
          <p:nvSpPr>
            <p:cNvPr id="108" name="Rectangle 9"/>
            <p:cNvSpPr/>
            <p:nvPr/>
          </p:nvSpPr>
          <p:spPr>
            <a:xfrm>
              <a:off x="1660680" y="2313000"/>
              <a:ext cx="685800" cy="2819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812960" y="3135240"/>
              <a:ext cx="381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射线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2"/>
          <p:cNvGrpSpPr/>
          <p:nvPr/>
        </p:nvGrpSpPr>
        <p:grpSpPr>
          <a:xfrm>
            <a:off x="2346480" y="2313000"/>
            <a:ext cx="581040" cy="2819520"/>
            <a:chOff x="2346480" y="2313000"/>
            <a:chExt cx="581040" cy="2819520"/>
          </a:xfrm>
        </p:grpSpPr>
        <p:sp>
          <p:nvSpPr>
            <p:cNvPr id="111" name="Rectangle 12"/>
            <p:cNvSpPr/>
            <p:nvPr/>
          </p:nvSpPr>
          <p:spPr>
            <a:xfrm>
              <a:off x="2346480" y="2313000"/>
              <a:ext cx="581040" cy="2819520"/>
            </a:xfrm>
            <a:prstGeom prst="rect">
              <a:avLst/>
            </a:prstGeom>
            <a:solidFill>
              <a:srgbClr val="e8d1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2394000" y="3151080"/>
              <a:ext cx="381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紫外线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2927520" y="2313000"/>
            <a:ext cx="457200" cy="2819520"/>
            <a:chOff x="2927520" y="2313000"/>
            <a:chExt cx="457200" cy="2819520"/>
          </a:xfrm>
        </p:grpSpPr>
        <p:sp>
          <p:nvSpPr>
            <p:cNvPr id="114" name="Rectangle 15"/>
            <p:cNvSpPr/>
            <p:nvPr/>
          </p:nvSpPr>
          <p:spPr>
            <a:xfrm>
              <a:off x="2927520" y="2313000"/>
              <a:ext cx="457200" cy="2819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27520" y="3151080"/>
              <a:ext cx="38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见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355920" y="2313000"/>
            <a:ext cx="638280" cy="2819520"/>
            <a:chOff x="3355920" y="2313000"/>
            <a:chExt cx="638280" cy="2819520"/>
          </a:xfrm>
        </p:grpSpPr>
        <p:sp>
          <p:nvSpPr>
            <p:cNvPr id="117" name="Rectangle 18"/>
            <p:cNvSpPr/>
            <p:nvPr/>
          </p:nvSpPr>
          <p:spPr>
            <a:xfrm>
              <a:off x="3355920" y="2313000"/>
              <a:ext cx="638280" cy="2819520"/>
            </a:xfrm>
            <a:prstGeom prst="rect">
              <a:avLst/>
            </a:prstGeom>
            <a:solidFill>
              <a:srgbClr val="ffcdc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3432240" y="3151080"/>
              <a:ext cx="38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红外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3994200" y="2313000"/>
            <a:ext cx="1371600" cy="685800"/>
            <a:chOff x="3994200" y="2313000"/>
            <a:chExt cx="1371600" cy="685800"/>
          </a:xfrm>
        </p:grpSpPr>
        <p:sp>
          <p:nvSpPr>
            <p:cNvPr id="120" name="Rectangle 21"/>
            <p:cNvSpPr/>
            <p:nvPr/>
          </p:nvSpPr>
          <p:spPr>
            <a:xfrm>
              <a:off x="3994200" y="2313000"/>
              <a:ext cx="1371600" cy="685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4222800" y="24652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微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4"/>
          <p:cNvGrpSpPr/>
          <p:nvPr/>
        </p:nvGrpSpPr>
        <p:grpSpPr>
          <a:xfrm>
            <a:off x="3994200" y="2998800"/>
            <a:ext cx="457200" cy="1447920"/>
            <a:chOff x="3994200" y="2998800"/>
            <a:chExt cx="457200" cy="1447920"/>
          </a:xfrm>
        </p:grpSpPr>
        <p:sp>
          <p:nvSpPr>
            <p:cNvPr id="123" name="Rectangle 24"/>
            <p:cNvSpPr/>
            <p:nvPr/>
          </p:nvSpPr>
          <p:spPr>
            <a:xfrm>
              <a:off x="3994200" y="2998800"/>
              <a:ext cx="457200" cy="1447920"/>
            </a:xfrm>
            <a:prstGeom prst="rect">
              <a:avLst/>
            </a:prstGeom>
            <a:solidFill>
              <a:srgbClr val="ebff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994200" y="3227400"/>
              <a:ext cx="38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毫米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7"/>
          <p:cNvGrpSpPr/>
          <p:nvPr/>
        </p:nvGrpSpPr>
        <p:grpSpPr>
          <a:xfrm>
            <a:off x="4451400" y="2998800"/>
            <a:ext cx="457200" cy="1447920"/>
            <a:chOff x="4451400" y="2998800"/>
            <a:chExt cx="457200" cy="1447920"/>
          </a:xfrm>
        </p:grpSpPr>
        <p:sp>
          <p:nvSpPr>
            <p:cNvPr id="126" name="Rectangle 27"/>
            <p:cNvSpPr/>
            <p:nvPr/>
          </p:nvSpPr>
          <p:spPr>
            <a:xfrm>
              <a:off x="4451400" y="2998800"/>
              <a:ext cx="457200" cy="1447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4527720" y="3227400"/>
              <a:ext cx="38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厘米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0"/>
          <p:cNvGrpSpPr/>
          <p:nvPr/>
        </p:nvGrpSpPr>
        <p:grpSpPr>
          <a:xfrm>
            <a:off x="4908600" y="2998800"/>
            <a:ext cx="457200" cy="1447920"/>
            <a:chOff x="4908600" y="2998800"/>
            <a:chExt cx="457200" cy="1447920"/>
          </a:xfrm>
        </p:grpSpPr>
        <p:sp>
          <p:nvSpPr>
            <p:cNvPr id="129" name="Rectangle 30"/>
            <p:cNvSpPr/>
            <p:nvPr/>
          </p:nvSpPr>
          <p:spPr>
            <a:xfrm>
              <a:off x="4908600" y="2998800"/>
              <a:ext cx="457200" cy="1447920"/>
            </a:xfrm>
            <a:prstGeom prst="rect">
              <a:avLst/>
            </a:prstGeom>
            <a:solidFill>
              <a:srgbClr val="8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4908600" y="3227400"/>
              <a:ext cx="38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米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3"/>
          <p:cNvGrpSpPr/>
          <p:nvPr/>
        </p:nvGrpSpPr>
        <p:grpSpPr>
          <a:xfrm>
            <a:off x="5365800" y="2313000"/>
            <a:ext cx="685800" cy="2133720"/>
            <a:chOff x="5365800" y="2313000"/>
            <a:chExt cx="685800" cy="2133720"/>
          </a:xfrm>
        </p:grpSpPr>
        <p:sp>
          <p:nvSpPr>
            <p:cNvPr id="132" name="Rectangle 33"/>
            <p:cNvSpPr/>
            <p:nvPr/>
          </p:nvSpPr>
          <p:spPr>
            <a:xfrm>
              <a:off x="5365800" y="2313000"/>
              <a:ext cx="685800" cy="2133720"/>
            </a:xfrm>
            <a:prstGeom prst="rect">
              <a:avLst/>
            </a:prstGeom>
            <a:solidFill>
              <a:srgbClr val="ffe7e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5518080" y="2846520"/>
              <a:ext cx="381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超短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6"/>
          <p:cNvGrpSpPr/>
          <p:nvPr/>
        </p:nvGrpSpPr>
        <p:grpSpPr>
          <a:xfrm>
            <a:off x="6051600" y="2313000"/>
            <a:ext cx="685800" cy="2133720"/>
            <a:chOff x="6051600" y="2313000"/>
            <a:chExt cx="685800" cy="2133720"/>
          </a:xfrm>
        </p:grpSpPr>
        <p:sp>
          <p:nvSpPr>
            <p:cNvPr id="135" name="Rectangle 36"/>
            <p:cNvSpPr/>
            <p:nvPr/>
          </p:nvSpPr>
          <p:spPr>
            <a:xfrm>
              <a:off x="6051600" y="2313000"/>
              <a:ext cx="685800" cy="2133720"/>
            </a:xfrm>
            <a:prstGeom prst="rect">
              <a:avLst/>
            </a:prstGeom>
            <a:solidFill>
              <a:srgbClr val="e7ffe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6203880" y="2982960"/>
              <a:ext cx="38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短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9"/>
          <p:cNvGrpSpPr/>
          <p:nvPr/>
        </p:nvGrpSpPr>
        <p:grpSpPr>
          <a:xfrm>
            <a:off x="6737400" y="2313000"/>
            <a:ext cx="685800" cy="2133720"/>
            <a:chOff x="6737400" y="2313000"/>
            <a:chExt cx="685800" cy="2133720"/>
          </a:xfrm>
        </p:grpSpPr>
        <p:sp>
          <p:nvSpPr>
            <p:cNvPr id="138" name="Rectangle 39"/>
            <p:cNvSpPr/>
            <p:nvPr/>
          </p:nvSpPr>
          <p:spPr>
            <a:xfrm>
              <a:off x="6737400" y="2313000"/>
              <a:ext cx="685800" cy="2133720"/>
            </a:xfrm>
            <a:prstGeom prst="rect">
              <a:avLst/>
            </a:prstGeom>
            <a:solidFill>
              <a:srgbClr val="dd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0"/>
            <p:cNvSpPr/>
            <p:nvPr/>
          </p:nvSpPr>
          <p:spPr>
            <a:xfrm>
              <a:off x="6889680" y="2982960"/>
              <a:ext cx="38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2"/>
          <p:cNvGrpSpPr/>
          <p:nvPr/>
        </p:nvGrpSpPr>
        <p:grpSpPr>
          <a:xfrm>
            <a:off x="7423200" y="2313000"/>
            <a:ext cx="685800" cy="2133720"/>
            <a:chOff x="7423200" y="2313000"/>
            <a:chExt cx="685800" cy="2133720"/>
          </a:xfrm>
        </p:grpSpPr>
        <p:sp>
          <p:nvSpPr>
            <p:cNvPr id="141" name="Rectangle 42"/>
            <p:cNvSpPr/>
            <p:nvPr/>
          </p:nvSpPr>
          <p:spPr>
            <a:xfrm>
              <a:off x="7423200" y="2313000"/>
              <a:ext cx="685800" cy="2133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7575480" y="2982960"/>
              <a:ext cx="38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长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45"/>
          <p:cNvGrpSpPr/>
          <p:nvPr/>
        </p:nvGrpSpPr>
        <p:grpSpPr>
          <a:xfrm>
            <a:off x="3994200" y="4446720"/>
            <a:ext cx="4114800" cy="685800"/>
            <a:chOff x="3994200" y="4446720"/>
            <a:chExt cx="4114800" cy="685800"/>
          </a:xfrm>
        </p:grpSpPr>
        <p:sp>
          <p:nvSpPr>
            <p:cNvPr id="144" name="Rectangle 45"/>
            <p:cNvSpPr/>
            <p:nvPr/>
          </p:nvSpPr>
          <p:spPr>
            <a:xfrm>
              <a:off x="3994200" y="4446720"/>
              <a:ext cx="4114800" cy="68580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6"/>
            <p:cNvSpPr/>
            <p:nvPr/>
          </p:nvSpPr>
          <p:spPr>
            <a:xfrm>
              <a:off x="5137200" y="45910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无  线  电  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47"/>
          <p:cNvSpPr/>
          <p:nvPr/>
        </p:nvSpPr>
        <p:spPr>
          <a:xfrm>
            <a:off x="870120" y="2313000"/>
            <a:ext cx="784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9"/>
          <p:cNvSpPr/>
          <p:nvPr/>
        </p:nvSpPr>
        <p:spPr>
          <a:xfrm>
            <a:off x="960480" y="1808280"/>
            <a:ext cx="83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m)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0"/>
          <p:cNvSpPr/>
          <p:nvPr/>
        </p:nvSpPr>
        <p:spPr>
          <a:xfrm>
            <a:off x="826920" y="5335560"/>
            <a:ext cx="83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3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3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3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3×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z)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611280" y="590400"/>
            <a:ext cx="2952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电磁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4"/>
          <p:cNvSpPr/>
          <p:nvPr/>
        </p:nvSpPr>
        <p:spPr>
          <a:xfrm>
            <a:off x="431640" y="411120"/>
            <a:ext cx="29163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电磁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216000" y="1592280"/>
            <a:ext cx="8712000" cy="4178160"/>
            <a:chOff x="216000" y="1592280"/>
            <a:chExt cx="8712000" cy="4178160"/>
          </a:xfrm>
        </p:grpSpPr>
        <p:sp>
          <p:nvSpPr>
            <p:cNvPr id="153" name="Rectangle 4"/>
            <p:cNvSpPr/>
            <p:nvPr/>
          </p:nvSpPr>
          <p:spPr>
            <a:xfrm>
              <a:off x="216000" y="1592280"/>
              <a:ext cx="8712000" cy="41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3560400" y="3619440"/>
              <a:ext cx="3419280" cy="4780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3611160" y="3703680"/>
              <a:ext cx="11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76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5974920" y="3700440"/>
              <a:ext cx="110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40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4522680" y="3976560"/>
              <a:ext cx="1476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4670280" y="3567240"/>
              <a:ext cx="13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见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>
              <a:off x="5236920" y="2935440"/>
              <a:ext cx="294840" cy="671400"/>
            </a:xfrm>
            <a:prstGeom prst="upArrow">
              <a:avLst>
                <a:gd name="adj1" fmla="val 41667"/>
                <a:gd name="adj2" fmla="val 77487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 flipH="1">
              <a:off x="4717440" y="3191040"/>
              <a:ext cx="517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5605200" y="3191040"/>
              <a:ext cx="294840" cy="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236920" y="3191040"/>
              <a:ext cx="3679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4497120" y="3191040"/>
              <a:ext cx="221760" cy="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5974920" y="3191040"/>
              <a:ext cx="147600" cy="0"/>
            </a:xfrm>
            <a:prstGeom prst="line">
              <a:avLst/>
            </a:prstGeom>
            <a:ln cap="rnd" w="38160">
              <a:solidFill>
                <a:srgbClr val="99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4424040" y="3265560"/>
              <a:ext cx="20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红外线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000" spc="-1" strike="noStrike">
                  <a:solidFill>
                    <a:srgbClr val="9900cc"/>
                  </a:solidFill>
                  <a:latin typeface="Times New Roman"/>
                </a:rPr>
                <a:t>紫外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8"/>
            <p:cNvSpPr/>
            <p:nvPr/>
          </p:nvSpPr>
          <p:spPr>
            <a:xfrm>
              <a:off x="6638760" y="3414600"/>
              <a:ext cx="1918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9"/>
            <p:cNvGrpSpPr/>
            <p:nvPr/>
          </p:nvGrpSpPr>
          <p:grpSpPr>
            <a:xfrm>
              <a:off x="7081560" y="3489480"/>
              <a:ext cx="1180800" cy="459720"/>
              <a:chOff x="7081560" y="3489480"/>
              <a:chExt cx="1180800" cy="459720"/>
            </a:xfrm>
          </p:grpSpPr>
          <p:sp>
            <p:nvSpPr>
              <p:cNvPr id="168" name="Text Box 20"/>
              <p:cNvSpPr/>
              <p:nvPr/>
            </p:nvSpPr>
            <p:spPr>
              <a:xfrm>
                <a:off x="7081560" y="3489480"/>
                <a:ext cx="1180800" cy="45972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50000">
                    <a:srgbClr val="ffffff"/>
                  </a:gs>
                  <a:gs pos="100000">
                    <a:srgbClr val="4f81bd"/>
                  </a:gs>
                </a:gsLst>
                <a:lin ang="5400000"/>
              </a:gradFill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射 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28800" y="3638160"/>
                <a:ext cx="224280" cy="29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Group 22"/>
            <p:cNvGrpSpPr/>
            <p:nvPr/>
          </p:nvGrpSpPr>
          <p:grpSpPr>
            <a:xfrm>
              <a:off x="5570280" y="4832280"/>
              <a:ext cx="1550160" cy="0"/>
              <a:chOff x="5570280" y="4832280"/>
              <a:chExt cx="1550160" cy="0"/>
            </a:xfrm>
          </p:grpSpPr>
          <p:sp>
            <p:nvSpPr>
              <p:cNvPr id="171" name="Line 23"/>
              <p:cNvSpPr/>
              <p:nvPr/>
            </p:nvSpPr>
            <p:spPr>
              <a:xfrm>
                <a:off x="5865480" y="4832280"/>
                <a:ext cx="1033560" cy="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4"/>
              <p:cNvSpPr/>
              <p:nvPr/>
            </p:nvSpPr>
            <p:spPr>
              <a:xfrm>
                <a:off x="5570280" y="4832280"/>
                <a:ext cx="221400" cy="0"/>
              </a:xfrm>
              <a:prstGeom prst="line">
                <a:avLst/>
              </a:prstGeom>
              <a:ln cap="rnd" w="381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5"/>
              <p:cNvSpPr/>
              <p:nvPr/>
            </p:nvSpPr>
            <p:spPr>
              <a:xfrm>
                <a:off x="6899040" y="4832280"/>
                <a:ext cx="221400" cy="0"/>
              </a:xfrm>
              <a:prstGeom prst="line">
                <a:avLst/>
              </a:prstGeom>
              <a:ln cap="rnd" w="38160">
                <a:solidFill>
                  <a:srgbClr val="cc00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26"/>
            <p:cNvSpPr/>
            <p:nvPr/>
          </p:nvSpPr>
          <p:spPr>
            <a:xfrm>
              <a:off x="5974920" y="4384800"/>
              <a:ext cx="1044360" cy="39888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射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27"/>
            <p:cNvGrpSpPr/>
            <p:nvPr/>
          </p:nvGrpSpPr>
          <p:grpSpPr>
            <a:xfrm>
              <a:off x="1248840" y="3340080"/>
              <a:ext cx="2277720" cy="547560"/>
              <a:chOff x="1248840" y="3340080"/>
              <a:chExt cx="2277720" cy="547560"/>
            </a:xfrm>
          </p:grpSpPr>
          <p:sp>
            <p:nvSpPr>
              <p:cNvPr id="176" name="Line 28"/>
              <p:cNvSpPr/>
              <p:nvPr/>
            </p:nvSpPr>
            <p:spPr>
              <a:xfrm flipH="1">
                <a:off x="1248840" y="3340080"/>
                <a:ext cx="19364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9"/>
              <p:cNvSpPr/>
              <p:nvPr/>
            </p:nvSpPr>
            <p:spPr>
              <a:xfrm>
                <a:off x="3157560" y="3340080"/>
                <a:ext cx="369000" cy="0"/>
              </a:xfrm>
              <a:prstGeom prst="line">
                <a:avLst/>
              </a:prstGeom>
              <a:ln cap="rnd" w="38160">
                <a:solidFill>
                  <a:srgbClr val="0099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0"/>
              <p:cNvSpPr/>
              <p:nvPr/>
            </p:nvSpPr>
            <p:spPr>
              <a:xfrm>
                <a:off x="1326960" y="3488760"/>
                <a:ext cx="1828800" cy="39888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50000">
                    <a:srgbClr val="ffffff"/>
                  </a:gs>
                  <a:gs pos="100000">
                    <a:srgbClr val="4f81bd"/>
                  </a:gs>
                </a:gsLst>
                <a:lin ang="5400000"/>
              </a:gradFill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长波无线电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Line 31"/>
            <p:cNvSpPr/>
            <p:nvPr/>
          </p:nvSpPr>
          <p:spPr>
            <a:xfrm flipH="1">
              <a:off x="8299080" y="2873520"/>
              <a:ext cx="590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2"/>
            <p:cNvSpPr/>
            <p:nvPr/>
          </p:nvSpPr>
          <p:spPr>
            <a:xfrm>
              <a:off x="915840" y="2873520"/>
              <a:ext cx="753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3"/>
            <p:cNvSpPr/>
            <p:nvPr/>
          </p:nvSpPr>
          <p:spPr>
            <a:xfrm>
              <a:off x="11714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14475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5"/>
            <p:cNvSpPr/>
            <p:nvPr/>
          </p:nvSpPr>
          <p:spPr>
            <a:xfrm>
              <a:off x="172368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6"/>
            <p:cNvSpPr/>
            <p:nvPr/>
          </p:nvSpPr>
          <p:spPr>
            <a:xfrm>
              <a:off x="19983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7"/>
            <p:cNvSpPr/>
            <p:nvPr/>
          </p:nvSpPr>
          <p:spPr>
            <a:xfrm>
              <a:off x="227448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8"/>
            <p:cNvSpPr/>
            <p:nvPr/>
          </p:nvSpPr>
          <p:spPr>
            <a:xfrm>
              <a:off x="25491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9"/>
            <p:cNvSpPr/>
            <p:nvPr/>
          </p:nvSpPr>
          <p:spPr>
            <a:xfrm>
              <a:off x="28238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0"/>
            <p:cNvSpPr/>
            <p:nvPr/>
          </p:nvSpPr>
          <p:spPr>
            <a:xfrm>
              <a:off x="31017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1"/>
            <p:cNvSpPr/>
            <p:nvPr/>
          </p:nvSpPr>
          <p:spPr>
            <a:xfrm>
              <a:off x="33764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2"/>
            <p:cNvSpPr/>
            <p:nvPr/>
          </p:nvSpPr>
          <p:spPr>
            <a:xfrm>
              <a:off x="36525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392868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4"/>
            <p:cNvSpPr/>
            <p:nvPr/>
          </p:nvSpPr>
          <p:spPr>
            <a:xfrm>
              <a:off x="420192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5"/>
            <p:cNvSpPr/>
            <p:nvPr/>
          </p:nvSpPr>
          <p:spPr>
            <a:xfrm>
              <a:off x="44780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6"/>
            <p:cNvSpPr/>
            <p:nvPr/>
          </p:nvSpPr>
          <p:spPr>
            <a:xfrm>
              <a:off x="47541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>
              <a:off x="50306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8"/>
            <p:cNvSpPr/>
            <p:nvPr/>
          </p:nvSpPr>
          <p:spPr>
            <a:xfrm>
              <a:off x="53067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9"/>
            <p:cNvSpPr/>
            <p:nvPr/>
          </p:nvSpPr>
          <p:spPr>
            <a:xfrm>
              <a:off x="558288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0"/>
            <p:cNvSpPr/>
            <p:nvPr/>
          </p:nvSpPr>
          <p:spPr>
            <a:xfrm>
              <a:off x="585612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1"/>
            <p:cNvSpPr/>
            <p:nvPr/>
          </p:nvSpPr>
          <p:spPr>
            <a:xfrm>
              <a:off x="61322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2"/>
            <p:cNvSpPr/>
            <p:nvPr/>
          </p:nvSpPr>
          <p:spPr>
            <a:xfrm>
              <a:off x="64083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3"/>
            <p:cNvSpPr/>
            <p:nvPr/>
          </p:nvSpPr>
          <p:spPr>
            <a:xfrm>
              <a:off x="66830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4"/>
            <p:cNvSpPr/>
            <p:nvPr/>
          </p:nvSpPr>
          <p:spPr>
            <a:xfrm>
              <a:off x="696096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5"/>
            <p:cNvSpPr/>
            <p:nvPr/>
          </p:nvSpPr>
          <p:spPr>
            <a:xfrm>
              <a:off x="72356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6"/>
            <p:cNvSpPr/>
            <p:nvPr/>
          </p:nvSpPr>
          <p:spPr>
            <a:xfrm>
              <a:off x="751032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7"/>
            <p:cNvSpPr/>
            <p:nvPr/>
          </p:nvSpPr>
          <p:spPr>
            <a:xfrm>
              <a:off x="7786440" y="2873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>
              <a:off x="8061120" y="2873520"/>
              <a:ext cx="0" cy="263520"/>
            </a:xfrm>
            <a:prstGeom prst="line">
              <a:avLst/>
            </a:prstGeom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9"/>
            <p:cNvSpPr/>
            <p:nvPr/>
          </p:nvSpPr>
          <p:spPr>
            <a:xfrm flipH="1">
              <a:off x="325080" y="2873520"/>
              <a:ext cx="590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3"/>
            <p:cNvSpPr/>
            <p:nvPr/>
          </p:nvSpPr>
          <p:spPr>
            <a:xfrm>
              <a:off x="250560" y="3116160"/>
              <a:ext cx="1033200" cy="398880"/>
            </a:xfrm>
            <a:prstGeom prst="rect">
              <a:avLst/>
            </a:prstGeom>
            <a:gradFill rotWithShape="0">
              <a:gsLst>
                <a:gs pos="0">
                  <a:srgbClr val="fbe0fc"/>
                </a:gs>
                <a:gs pos="50000">
                  <a:srgbClr val="ffffff"/>
                </a:gs>
                <a:gs pos="100000">
                  <a:srgbClr val="fbe0fc"/>
                </a:gs>
              </a:gsLst>
              <a:lin ang="5400000"/>
            </a:gradFill>
            <a:ln w="1260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频率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7"/>
            <p:cNvSpPr/>
            <p:nvPr/>
          </p:nvSpPr>
          <p:spPr>
            <a:xfrm>
              <a:off x="290160" y="5205600"/>
              <a:ext cx="956880" cy="398880"/>
            </a:xfrm>
            <a:prstGeom prst="rect">
              <a:avLst/>
            </a:prstGeom>
            <a:gradFill rotWithShape="0">
              <a:gsLst>
                <a:gs pos="0">
                  <a:srgbClr val="f2e5c6"/>
                </a:gs>
                <a:gs pos="50000">
                  <a:srgbClr val="ffffff"/>
                </a:gs>
                <a:gs pos="100000">
                  <a:srgbClr val="f2e5c6"/>
                </a:gs>
              </a:gsLst>
              <a:lin ang="5400000"/>
            </a:gra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波长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8"/>
            <p:cNvSpPr/>
            <p:nvPr/>
          </p:nvSpPr>
          <p:spPr>
            <a:xfrm>
              <a:off x="1028520" y="5130720"/>
              <a:ext cx="7529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79"/>
            <p:cNvSpPr/>
            <p:nvPr/>
          </p:nvSpPr>
          <p:spPr>
            <a:xfrm flipV="1">
              <a:off x="12823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0"/>
            <p:cNvSpPr/>
            <p:nvPr/>
          </p:nvSpPr>
          <p:spPr>
            <a:xfrm flipV="1">
              <a:off x="15602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1"/>
            <p:cNvSpPr/>
            <p:nvPr/>
          </p:nvSpPr>
          <p:spPr>
            <a:xfrm flipV="1">
              <a:off x="18349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2"/>
            <p:cNvSpPr/>
            <p:nvPr/>
          </p:nvSpPr>
          <p:spPr>
            <a:xfrm flipV="1">
              <a:off x="21110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3"/>
            <p:cNvSpPr/>
            <p:nvPr/>
          </p:nvSpPr>
          <p:spPr>
            <a:xfrm flipV="1">
              <a:off x="23875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4"/>
            <p:cNvSpPr/>
            <p:nvPr/>
          </p:nvSpPr>
          <p:spPr>
            <a:xfrm flipV="1">
              <a:off x="26618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5"/>
            <p:cNvSpPr/>
            <p:nvPr/>
          </p:nvSpPr>
          <p:spPr>
            <a:xfrm flipV="1">
              <a:off x="29365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86"/>
            <p:cNvSpPr/>
            <p:nvPr/>
          </p:nvSpPr>
          <p:spPr>
            <a:xfrm flipV="1">
              <a:off x="32130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87"/>
            <p:cNvSpPr/>
            <p:nvPr/>
          </p:nvSpPr>
          <p:spPr>
            <a:xfrm flipV="1">
              <a:off x="34891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8"/>
            <p:cNvSpPr/>
            <p:nvPr/>
          </p:nvSpPr>
          <p:spPr>
            <a:xfrm flipV="1">
              <a:off x="37638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9"/>
            <p:cNvSpPr/>
            <p:nvPr/>
          </p:nvSpPr>
          <p:spPr>
            <a:xfrm flipV="1">
              <a:off x="404136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0"/>
            <p:cNvSpPr/>
            <p:nvPr/>
          </p:nvSpPr>
          <p:spPr>
            <a:xfrm flipV="1">
              <a:off x="43146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1"/>
            <p:cNvSpPr/>
            <p:nvPr/>
          </p:nvSpPr>
          <p:spPr>
            <a:xfrm flipV="1">
              <a:off x="45907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2"/>
            <p:cNvSpPr/>
            <p:nvPr/>
          </p:nvSpPr>
          <p:spPr>
            <a:xfrm flipV="1">
              <a:off x="48668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93"/>
            <p:cNvSpPr/>
            <p:nvPr/>
          </p:nvSpPr>
          <p:spPr>
            <a:xfrm flipV="1">
              <a:off x="51415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94"/>
            <p:cNvSpPr/>
            <p:nvPr/>
          </p:nvSpPr>
          <p:spPr>
            <a:xfrm flipV="1">
              <a:off x="54194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5"/>
            <p:cNvSpPr/>
            <p:nvPr/>
          </p:nvSpPr>
          <p:spPr>
            <a:xfrm flipV="1">
              <a:off x="56941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6"/>
            <p:cNvSpPr/>
            <p:nvPr/>
          </p:nvSpPr>
          <p:spPr>
            <a:xfrm flipV="1">
              <a:off x="59688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97"/>
            <p:cNvSpPr/>
            <p:nvPr/>
          </p:nvSpPr>
          <p:spPr>
            <a:xfrm flipV="1">
              <a:off x="62449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98"/>
            <p:cNvSpPr/>
            <p:nvPr/>
          </p:nvSpPr>
          <p:spPr>
            <a:xfrm flipV="1">
              <a:off x="652104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9"/>
            <p:cNvSpPr/>
            <p:nvPr/>
          </p:nvSpPr>
          <p:spPr>
            <a:xfrm flipV="1">
              <a:off x="67957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0"/>
            <p:cNvSpPr/>
            <p:nvPr/>
          </p:nvSpPr>
          <p:spPr>
            <a:xfrm flipV="1">
              <a:off x="70722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1"/>
            <p:cNvSpPr/>
            <p:nvPr/>
          </p:nvSpPr>
          <p:spPr>
            <a:xfrm flipV="1">
              <a:off x="73483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2"/>
            <p:cNvSpPr/>
            <p:nvPr/>
          </p:nvSpPr>
          <p:spPr>
            <a:xfrm flipV="1">
              <a:off x="76212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3"/>
            <p:cNvSpPr/>
            <p:nvPr/>
          </p:nvSpPr>
          <p:spPr>
            <a:xfrm flipV="1">
              <a:off x="7899120" y="49795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4"/>
            <p:cNvSpPr/>
            <p:nvPr/>
          </p:nvSpPr>
          <p:spPr>
            <a:xfrm flipV="1">
              <a:off x="8173800" y="4979520"/>
              <a:ext cx="0" cy="149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5"/>
            <p:cNvSpPr/>
            <p:nvPr/>
          </p:nvSpPr>
          <p:spPr>
            <a:xfrm flipH="1">
              <a:off x="437760" y="5130720"/>
              <a:ext cx="5904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06"/>
            <p:cNvSpPr/>
            <p:nvPr/>
          </p:nvSpPr>
          <p:spPr>
            <a:xfrm flipH="1">
              <a:off x="8337240" y="5130720"/>
              <a:ext cx="5155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7"/>
            <p:cNvSpPr/>
            <p:nvPr/>
          </p:nvSpPr>
          <p:spPr>
            <a:xfrm>
              <a:off x="1544400" y="4907160"/>
              <a:ext cx="0" cy="37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8"/>
            <p:cNvSpPr/>
            <p:nvPr/>
          </p:nvSpPr>
          <p:spPr>
            <a:xfrm>
              <a:off x="8189640" y="4907160"/>
              <a:ext cx="0" cy="37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4"/>
            <a:stretch/>
          </p:blipFill>
          <p:spPr>
            <a:xfrm>
              <a:off x="925200" y="5334120"/>
              <a:ext cx="2505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Line 115"/>
            <p:cNvSpPr/>
            <p:nvPr/>
          </p:nvSpPr>
          <p:spPr>
            <a:xfrm>
              <a:off x="3207960" y="4813200"/>
              <a:ext cx="169668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6"/>
            <p:cNvSpPr/>
            <p:nvPr/>
          </p:nvSpPr>
          <p:spPr>
            <a:xfrm>
              <a:off x="3355560" y="4819680"/>
              <a:ext cx="1180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17"/>
            <p:cNvSpPr/>
            <p:nvPr/>
          </p:nvSpPr>
          <p:spPr>
            <a:xfrm>
              <a:off x="3523680" y="4365720"/>
              <a:ext cx="1095120" cy="39888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短波无线电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7"/>
            <p:cNvSpPr/>
            <p:nvPr/>
          </p:nvSpPr>
          <p:spPr>
            <a:xfrm>
              <a:off x="1195200" y="23925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8"/>
            <p:cNvSpPr/>
            <p:nvPr/>
          </p:nvSpPr>
          <p:spPr>
            <a:xfrm>
              <a:off x="1734840" y="24084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9"/>
            <p:cNvSpPr/>
            <p:nvPr/>
          </p:nvSpPr>
          <p:spPr>
            <a:xfrm>
              <a:off x="2274480" y="24066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0"/>
            <p:cNvSpPr/>
            <p:nvPr/>
          </p:nvSpPr>
          <p:spPr>
            <a:xfrm>
              <a:off x="2815920" y="24066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1"/>
            <p:cNvSpPr/>
            <p:nvPr/>
          </p:nvSpPr>
          <p:spPr>
            <a:xfrm>
              <a:off x="3385800" y="24066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02"/>
            <p:cNvSpPr/>
            <p:nvPr/>
          </p:nvSpPr>
          <p:spPr>
            <a:xfrm>
              <a:off x="3932280" y="242244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03"/>
            <p:cNvSpPr/>
            <p:nvPr/>
          </p:nvSpPr>
          <p:spPr>
            <a:xfrm>
              <a:off x="4471920" y="242100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4"/>
            <p:cNvSpPr/>
            <p:nvPr/>
          </p:nvSpPr>
          <p:spPr>
            <a:xfrm>
              <a:off x="5011920" y="242100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5"/>
            <p:cNvSpPr/>
            <p:nvPr/>
          </p:nvSpPr>
          <p:spPr>
            <a:xfrm>
              <a:off x="5631120" y="243684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6"/>
            <p:cNvSpPr/>
            <p:nvPr/>
          </p:nvSpPr>
          <p:spPr>
            <a:xfrm>
              <a:off x="6170760" y="245268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7"/>
            <p:cNvSpPr/>
            <p:nvPr/>
          </p:nvSpPr>
          <p:spPr>
            <a:xfrm>
              <a:off x="6710400" y="245124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08"/>
            <p:cNvSpPr/>
            <p:nvPr/>
          </p:nvSpPr>
          <p:spPr>
            <a:xfrm>
              <a:off x="7251840" y="245124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09"/>
            <p:cNvSpPr/>
            <p:nvPr/>
          </p:nvSpPr>
          <p:spPr>
            <a:xfrm>
              <a:off x="7828200" y="244332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0"/>
            <p:cNvSpPr/>
            <p:nvPr/>
          </p:nvSpPr>
          <p:spPr>
            <a:xfrm>
              <a:off x="1375920" y="52164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11"/>
            <p:cNvSpPr/>
            <p:nvPr/>
          </p:nvSpPr>
          <p:spPr>
            <a:xfrm>
              <a:off x="2374560" y="5226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12"/>
            <p:cNvSpPr/>
            <p:nvPr/>
          </p:nvSpPr>
          <p:spPr>
            <a:xfrm>
              <a:off x="3535200" y="521496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3"/>
            <p:cNvSpPr/>
            <p:nvPr/>
          </p:nvSpPr>
          <p:spPr>
            <a:xfrm>
              <a:off x="4583880" y="521496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4"/>
            <p:cNvSpPr/>
            <p:nvPr/>
          </p:nvSpPr>
          <p:spPr>
            <a:xfrm>
              <a:off x="5722200" y="5226120"/>
              <a:ext cx="6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5"/>
            <p:cNvSpPr/>
            <p:nvPr/>
          </p:nvSpPr>
          <p:spPr>
            <a:xfrm>
              <a:off x="6751440" y="521496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6"/>
            <p:cNvSpPr/>
            <p:nvPr/>
          </p:nvSpPr>
          <p:spPr>
            <a:xfrm>
              <a:off x="7867440" y="521496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</a:rPr>
                <a:t>-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17"/>
            <p:cNvGrpSpPr/>
            <p:nvPr/>
          </p:nvGrpSpPr>
          <p:grpSpPr>
            <a:xfrm>
              <a:off x="340920" y="1628640"/>
              <a:ext cx="8505720" cy="642600"/>
              <a:chOff x="340920" y="1628640"/>
              <a:chExt cx="8505720" cy="642600"/>
            </a:xfrm>
          </p:grpSpPr>
          <p:sp>
            <p:nvSpPr>
              <p:cNvPr id="266" name="Text Box 11"/>
              <p:cNvSpPr/>
              <p:nvPr/>
            </p:nvSpPr>
            <p:spPr>
              <a:xfrm>
                <a:off x="385200" y="1628640"/>
                <a:ext cx="8461440" cy="6426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d2dfe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电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磁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波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谱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19"/>
              <p:cNvSpPr/>
              <p:nvPr/>
            </p:nvSpPr>
            <p:spPr>
              <a:xfrm>
                <a:off x="340920" y="1628640"/>
                <a:ext cx="1081080" cy="630360"/>
              </a:xfrm>
              <a:prstGeom prst="rect">
                <a:avLst/>
              </a:prstGeom>
              <a:gradFill rotWithShape="0">
                <a:gsLst>
                  <a:gs pos="0">
                    <a:srgbClr val="d2dfe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15:3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