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58F-7476-4B89-8F4D-3D385125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079-0978-4C39-AF92-96619FE8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549-64DD-4F9D-909F-8F9DF177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730-8457-4961-AE2B-8296373D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2971-1ABB-436F-91A8-9BE28EC0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55B1-23F5-4C68-BF33-B0E297DC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3365-C750-4BEC-BF4D-9F3FF938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964C-1DFC-4848-A215-7BE7EB03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64DA-A4B6-4B04-96AC-25BEA40F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305D-AB52-4764-8EA8-BFDFB604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F8FF-0EF7-4438-ADF5-FC31251C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69A-B753-495E-B227-78061A90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F7D4-935A-455F-98F0-2686455D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1F0-01CF-4BBE-978A-C3FAD75D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D819-6FC2-433D-AA1B-27B20443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C450-09EF-4D46-A205-87CE1C7D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7906-783B-4891-8D5A-7D413975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306-5E4E-48D5-9728-31ABF02C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196-EB14-46A6-8577-FA281BFE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AF8-46FC-42D5-82CF-03A8E778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B75-DA9C-4DC0-8801-9C4D349C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C22-8736-4165-B27A-6CF68DD6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595-D712-43E5-AC9B-6D7C0D44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CB4-A5AD-4C9D-B2C0-BCDDE6CC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7285-23D9-4840-8BA1-4B2075C66E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686D-B93A-401E-86C3-80AA2F8556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28B2-A9C1-480D-8230-514B9CCAD9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C2AA-9F0C-4BF5-9A05-A1C82DEBD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648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1995120" y="213372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淡雅古典中国风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2C6A-3D33-4DDD-AFE2-1A89980EC0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9:03:00Z</dcterms:created>
  <dc:creator>第一PPT模板网-WWW.1PPT.COM</dc:creator>
  <dc:description/>
  <dc:language>en-US</dc:language>
  <cp:lastModifiedBy>a</cp:lastModifiedBy>
  <dcterms:modified xsi:type="dcterms:W3CDTF">2015-05-20T05:28:54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