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DEE9-8F95-40FF-8ED7-BAC627BD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FBD-F89D-42FE-9FCF-86E22AFE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759B-F807-4E76-B915-10667314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F858-56F2-445C-9D91-44273B87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02B-85B4-49FC-8FE6-08C053B3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E76-2A73-4287-9990-5F43DBC2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1ED-2048-4EA4-9138-8663F593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667-CE81-4E4F-8A3D-B1F14127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24C-68F8-4A0C-BB5F-75B839BB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1231-0425-4342-B312-1FB16245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DFA-C304-484A-8A45-516940E7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DB5-13FB-483D-9B73-75714F60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37B1-5EE4-48C5-A9DB-42BFDB2BD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1"/>
          <p:cNvSpPr/>
          <p:nvPr/>
        </p:nvSpPr>
        <p:spPr>
          <a:xfrm>
            <a:off x="2581200" y="401940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2" descr=""/>
          <p:cNvPicPr/>
          <p:nvPr/>
        </p:nvPicPr>
        <p:blipFill>
          <a:blip r:embed="rId1"/>
          <a:stretch/>
        </p:blipFill>
        <p:spPr>
          <a:xfrm>
            <a:off x="-246240" y="-963720"/>
            <a:ext cx="9383760" cy="274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红旗A002"/>
          <p:cNvPicPr/>
          <p:nvPr/>
        </p:nvPicPr>
        <p:blipFill>
          <a:blip r:embed="rId2"/>
          <a:stretch/>
        </p:blipFill>
        <p:spPr>
          <a:xfrm>
            <a:off x="466560" y="0"/>
            <a:ext cx="8677440" cy="4000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"/>
          <p:cNvPicPr/>
          <p:nvPr/>
        </p:nvPicPr>
        <p:blipFill>
          <a:blip r:embed="rId3"/>
          <a:stretch/>
        </p:blipFill>
        <p:spPr>
          <a:xfrm>
            <a:off x="1409760" y="1557360"/>
            <a:ext cx="8985240" cy="2560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4" descr=""/>
          <p:cNvPicPr/>
          <p:nvPr/>
        </p:nvPicPr>
        <p:blipFill>
          <a:blip r:embed="rId4"/>
          <a:stretch/>
        </p:blipFill>
        <p:spPr>
          <a:xfrm>
            <a:off x="971640" y="190440"/>
            <a:ext cx="8421480" cy="546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"/>
          <p:cNvPicPr/>
          <p:nvPr/>
        </p:nvPicPr>
        <p:blipFill>
          <a:blip r:embed="rId5"/>
          <a:stretch/>
        </p:blipFill>
        <p:spPr>
          <a:xfrm>
            <a:off x="1333440" y="-531720"/>
            <a:ext cx="4189320" cy="27972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9"/>
          <p:cNvSpPr/>
          <p:nvPr/>
        </p:nvSpPr>
        <p:spPr>
          <a:xfrm>
            <a:off x="2482920" y="6237360"/>
            <a:ext cx="43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"/>
          <p:cNvSpPr/>
          <p:nvPr/>
        </p:nvSpPr>
        <p:spPr>
          <a:xfrm>
            <a:off x="3840120" y="2114640"/>
            <a:ext cx="361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见证历史，再铸辉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十一欢度国庆节幻灯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"/>
          <p:cNvPicPr/>
          <p:nvPr/>
        </p:nvPicPr>
        <p:blipFill>
          <a:blip r:embed="rId6"/>
          <a:stretch/>
        </p:blipFill>
        <p:spPr>
          <a:xfrm>
            <a:off x="-3421080" y="765000"/>
            <a:ext cx="597060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0:06:12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6:53:22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