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1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306-8182-48E1-89DA-6F3E5913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E4D-9377-4F18-93DD-723A45C4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38F-FA71-4317-905E-D684B025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F70-520A-4561-BDAA-067CAD9D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D72-7C09-4C41-8002-21839A8D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B2D-F152-43E9-85B1-E7546302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924-AD0D-42BD-91AB-D8E52A59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68E-DFFA-435B-B1A8-6192AE95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63D-D406-4142-A32A-7864354E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3C2-5B94-49AF-8A6F-E735433B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0DC-BA9B-41A9-A476-6648F6A1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BFE-FFC9-4045-9D68-7CA633FC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5640-6FCA-4180-96E3-C24A3B2D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6AA6-0510-458C-8517-92E051CF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9916-9831-4A53-BA91-07F2ECFB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D635-C3B5-4362-84E7-3742C246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5AB0-05E9-4C2B-B81D-31483A11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5EA7-27DF-4A02-AC39-422407DB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150C-B4F4-4904-B9DB-C5DCFD70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3144-4433-4CBA-B8CD-C8FEB03B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32D7-2431-450D-8311-EDBBEFE6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2C05-EAC7-4363-890C-47897919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E74C-348C-4137-ACD7-E2962BAE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565E-B8D6-4BEC-A680-EA221B36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F39B4-D09F-4452-A186-7A66CEE0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7C058-9796-48BC-A08F-6B5A3871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57C38-C535-4818-815E-1847D7AE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2CBD-5AEB-41D8-B4C3-B7642DB2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3A43-71B3-4160-BCE4-DED00BFA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CAFFF-D8B3-4A24-A9E4-C1002C54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554FF-16FA-4074-B463-3F8D5D68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013E3-75E7-4AA8-AA4D-2C4D3E26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E6AE9-FF7A-477A-87A8-F9F46BF7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DE21A-6606-45EE-AC64-F98CC6B1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A22F-B250-4F98-8AC6-322BA2F8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D85A2-65E3-4FDC-B5F8-C3301997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9F7A-4510-4668-B209-71595D4301A5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44B3-8708-4E9E-BDF0-0BD21463CE2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578E-8686-49E3-8DE0-6DE883C9A88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Freeform 7"/>
          <p:cNvSpPr/>
          <p:nvPr/>
        </p:nvSpPr>
        <p:spPr>
          <a:xfrm>
            <a:off x="3059280" y="3716280"/>
            <a:ext cx="6145200" cy="1986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8"/>
          <p:cNvSpPr/>
          <p:nvPr/>
        </p:nvSpPr>
        <p:spPr>
          <a:xfrm flipH="1" rot="21165600">
            <a:off x="106920" y="3645000"/>
            <a:ext cx="7056360" cy="2416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9"/>
          <p:cNvSpPr/>
          <p:nvPr/>
        </p:nvSpPr>
        <p:spPr>
          <a:xfrm flipH="1" rot="35400">
            <a:off x="11160" y="3987360"/>
            <a:ext cx="4751280" cy="1441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0"/>
          <p:cNvSpPr/>
          <p:nvPr/>
        </p:nvSpPr>
        <p:spPr>
          <a:xfrm flipH="1" rot="21165600">
            <a:off x="102600" y="3760920"/>
            <a:ext cx="6835680" cy="2347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1"/>
          <p:cNvSpPr/>
          <p:nvPr/>
        </p:nvSpPr>
        <p:spPr>
          <a:xfrm>
            <a:off x="2556000" y="4006800"/>
            <a:ext cx="6648480" cy="223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 rot="20833200">
            <a:off x="4287960" y="4170240"/>
            <a:ext cx="5038560" cy="1008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3"/>
          <p:cNvSpPr/>
          <p:nvPr/>
        </p:nvSpPr>
        <p:spPr>
          <a:xfrm flipH="1" rot="133200">
            <a:off x="-36720" y="4722840"/>
            <a:ext cx="5760720" cy="1531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4"/>
          <p:cNvSpPr/>
          <p:nvPr/>
        </p:nvSpPr>
        <p:spPr>
          <a:xfrm>
            <a:off x="2516040" y="3949560"/>
            <a:ext cx="6648480" cy="2216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5" descr=""/>
          <p:cNvPicPr/>
          <p:nvPr/>
        </p:nvPicPr>
        <p:blipFill>
          <a:blip r:embed="rId2"/>
          <a:srcRect l="398" t="4698" r="414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"/>
          <p:cNvPicPr/>
          <p:nvPr/>
        </p:nvPicPr>
        <p:blipFill>
          <a:blip r:embed="rId3"/>
          <a:stretch/>
        </p:blipFill>
        <p:spPr>
          <a:xfrm>
            <a:off x="-34920" y="-25560"/>
            <a:ext cx="9142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7"/>
          <p:cNvGrpSpPr/>
          <p:nvPr/>
        </p:nvGrpSpPr>
        <p:grpSpPr>
          <a:xfrm>
            <a:off x="2894400" y="2248920"/>
            <a:ext cx="740520" cy="847440"/>
            <a:chOff x="2894400" y="2248920"/>
            <a:chExt cx="740520" cy="847440"/>
          </a:xfrm>
        </p:grpSpPr>
        <p:grpSp>
          <p:nvGrpSpPr>
            <p:cNvPr id="93" name="Group 18"/>
            <p:cNvGrpSpPr/>
            <p:nvPr/>
          </p:nvGrpSpPr>
          <p:grpSpPr>
            <a:xfrm>
              <a:off x="3053160" y="2614680"/>
              <a:ext cx="410040" cy="442800"/>
              <a:chOff x="3053160" y="2614680"/>
              <a:chExt cx="410040" cy="442800"/>
            </a:xfrm>
          </p:grpSpPr>
          <p:sp>
            <p:nvSpPr>
              <p:cNvPr id="94" name="Freeform 19"/>
              <p:cNvSpPr/>
              <p:nvPr/>
            </p:nvSpPr>
            <p:spPr>
              <a:xfrm rot="3869400">
                <a:off x="3081240" y="269316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 rot="5914200">
                <a:off x="3075840" y="282132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1"/>
              <p:cNvSpPr/>
              <p:nvPr/>
            </p:nvSpPr>
            <p:spPr>
              <a:xfrm rot="6212400">
                <a:off x="3112920" y="275256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2"/>
              <p:cNvSpPr/>
              <p:nvPr/>
            </p:nvSpPr>
            <p:spPr>
              <a:xfrm rot="6212400">
                <a:off x="3080880" y="277920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23"/>
            <p:cNvGrpSpPr/>
            <p:nvPr/>
          </p:nvGrpSpPr>
          <p:grpSpPr>
            <a:xfrm>
              <a:off x="2983680" y="2535840"/>
              <a:ext cx="335520" cy="391320"/>
              <a:chOff x="2983680" y="2535840"/>
              <a:chExt cx="335520" cy="391320"/>
            </a:xfrm>
          </p:grpSpPr>
          <p:sp>
            <p:nvSpPr>
              <p:cNvPr id="99" name="Freeform 24"/>
              <p:cNvSpPr/>
              <p:nvPr/>
            </p:nvSpPr>
            <p:spPr>
              <a:xfrm rot="5910600">
                <a:off x="2974680" y="258804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 rot="7955400">
                <a:off x="2964960" y="272772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6"/>
              <p:cNvSpPr/>
              <p:nvPr/>
            </p:nvSpPr>
            <p:spPr>
              <a:xfrm rot="8253600">
                <a:off x="3045600" y="266400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 rot="8253600">
                <a:off x="3005640" y="266832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8"/>
            <p:cNvGrpSpPr/>
            <p:nvPr/>
          </p:nvGrpSpPr>
          <p:grpSpPr>
            <a:xfrm>
              <a:off x="2894400" y="2431800"/>
              <a:ext cx="442080" cy="454320"/>
              <a:chOff x="2894400" y="2431800"/>
              <a:chExt cx="442080" cy="454320"/>
            </a:xfrm>
          </p:grpSpPr>
          <p:sp>
            <p:nvSpPr>
              <p:cNvPr id="104" name="Freeform 29"/>
              <p:cNvSpPr/>
              <p:nvPr/>
            </p:nvSpPr>
            <p:spPr>
              <a:xfrm rot="7644000">
                <a:off x="2939040" y="251532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0"/>
              <p:cNvSpPr/>
              <p:nvPr/>
            </p:nvSpPr>
            <p:spPr>
              <a:xfrm rot="9688800">
                <a:off x="2921040" y="266112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 rot="9987000">
                <a:off x="3030840" y="262008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2"/>
              <p:cNvSpPr/>
              <p:nvPr/>
            </p:nvSpPr>
            <p:spPr>
              <a:xfrm rot="9987000">
                <a:off x="2995560" y="260532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33"/>
            <p:cNvGrpSpPr/>
            <p:nvPr/>
          </p:nvGrpSpPr>
          <p:grpSpPr>
            <a:xfrm>
              <a:off x="2903760" y="2342880"/>
              <a:ext cx="428400" cy="383400"/>
              <a:chOff x="2903760" y="2342880"/>
              <a:chExt cx="428400" cy="383400"/>
            </a:xfrm>
          </p:grpSpPr>
          <p:sp>
            <p:nvSpPr>
              <p:cNvPr id="109" name="Freeform 34"/>
              <p:cNvSpPr/>
              <p:nvPr/>
            </p:nvSpPr>
            <p:spPr>
              <a:xfrm rot="9694200">
                <a:off x="2939760" y="239112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5"/>
              <p:cNvSpPr/>
              <p:nvPr/>
            </p:nvSpPr>
            <p:spPr>
              <a:xfrm rot="11739000">
                <a:off x="2909880" y="253764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6"/>
              <p:cNvSpPr/>
              <p:nvPr/>
            </p:nvSpPr>
            <p:spPr>
              <a:xfrm rot="12037200">
                <a:off x="3034800" y="253800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7"/>
              <p:cNvSpPr/>
              <p:nvPr/>
            </p:nvSpPr>
            <p:spPr>
              <a:xfrm rot="12037200">
                <a:off x="3016080" y="250668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38"/>
            <p:cNvGrpSpPr/>
            <p:nvPr/>
          </p:nvGrpSpPr>
          <p:grpSpPr>
            <a:xfrm>
              <a:off x="2977200" y="2292120"/>
              <a:ext cx="418680" cy="372600"/>
              <a:chOff x="2977200" y="2292120"/>
              <a:chExt cx="418680" cy="372600"/>
            </a:xfrm>
          </p:grpSpPr>
          <p:sp>
            <p:nvSpPr>
              <p:cNvPr id="114" name="Freeform 39"/>
              <p:cNvSpPr/>
              <p:nvPr/>
            </p:nvSpPr>
            <p:spPr>
              <a:xfrm rot="11763000">
                <a:off x="3009960" y="233496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40"/>
              <p:cNvSpPr/>
              <p:nvPr/>
            </p:nvSpPr>
            <p:spPr>
              <a:xfrm rot="13807800">
                <a:off x="2970360" y="247536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41"/>
              <p:cNvSpPr/>
              <p:nvPr/>
            </p:nvSpPr>
            <p:spPr>
              <a:xfrm rot="14106000">
                <a:off x="3084120" y="251820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42"/>
              <p:cNvSpPr/>
              <p:nvPr/>
            </p:nvSpPr>
            <p:spPr>
              <a:xfrm rot="14106000">
                <a:off x="3088800" y="248292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43"/>
            <p:cNvGrpSpPr/>
            <p:nvPr/>
          </p:nvGrpSpPr>
          <p:grpSpPr>
            <a:xfrm>
              <a:off x="3054600" y="2248920"/>
              <a:ext cx="444600" cy="454680"/>
              <a:chOff x="3054600" y="2248920"/>
              <a:chExt cx="444600" cy="454680"/>
            </a:xfrm>
          </p:grpSpPr>
          <p:sp>
            <p:nvSpPr>
              <p:cNvPr id="119" name="Freeform 44"/>
              <p:cNvSpPr/>
              <p:nvPr/>
            </p:nvSpPr>
            <p:spPr>
              <a:xfrm rot="13857000">
                <a:off x="3100320" y="233316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5"/>
              <p:cNvSpPr/>
              <p:nvPr/>
            </p:nvSpPr>
            <p:spPr>
              <a:xfrm rot="15901800">
                <a:off x="3055680" y="246276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46"/>
              <p:cNvSpPr/>
              <p:nvPr/>
            </p:nvSpPr>
            <p:spPr>
              <a:xfrm rot="16200000">
                <a:off x="3136320" y="253512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47"/>
              <p:cNvSpPr/>
              <p:nvPr/>
            </p:nvSpPr>
            <p:spPr>
              <a:xfrm rot="16200000">
                <a:off x="3162240" y="250956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48"/>
            <p:cNvGrpSpPr/>
            <p:nvPr/>
          </p:nvGrpSpPr>
          <p:grpSpPr>
            <a:xfrm>
              <a:off x="3153960" y="2607120"/>
              <a:ext cx="428040" cy="386640"/>
              <a:chOff x="3153960" y="2607120"/>
              <a:chExt cx="428040" cy="386640"/>
            </a:xfrm>
          </p:grpSpPr>
          <p:sp>
            <p:nvSpPr>
              <p:cNvPr id="124" name="Freeform 49"/>
              <p:cNvSpPr/>
              <p:nvPr/>
            </p:nvSpPr>
            <p:spPr>
              <a:xfrm rot="1156800">
                <a:off x="3191400" y="265716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50"/>
              <p:cNvSpPr/>
              <p:nvPr/>
            </p:nvSpPr>
            <p:spPr>
              <a:xfrm rot="3201600">
                <a:off x="3180960" y="277128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51"/>
              <p:cNvSpPr/>
              <p:nvPr/>
            </p:nvSpPr>
            <p:spPr>
              <a:xfrm rot="3500400">
                <a:off x="3169800" y="273348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52"/>
              <p:cNvSpPr/>
              <p:nvPr/>
            </p:nvSpPr>
            <p:spPr>
              <a:xfrm rot="3500400">
                <a:off x="3163680" y="277632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53"/>
            <p:cNvGrpSpPr/>
            <p:nvPr/>
          </p:nvGrpSpPr>
          <p:grpSpPr>
            <a:xfrm>
              <a:off x="3180960" y="2431800"/>
              <a:ext cx="453960" cy="448200"/>
              <a:chOff x="3180960" y="2431800"/>
              <a:chExt cx="453960" cy="448200"/>
            </a:xfrm>
          </p:grpSpPr>
          <p:sp>
            <p:nvSpPr>
              <p:cNvPr id="129" name="Freeform 54"/>
              <p:cNvSpPr/>
              <p:nvPr/>
            </p:nvSpPr>
            <p:spPr>
              <a:xfrm rot="19110000">
                <a:off x="3231360" y="251244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55"/>
              <p:cNvSpPr/>
              <p:nvPr/>
            </p:nvSpPr>
            <p:spPr>
              <a:xfrm rot="21154800">
                <a:off x="3202200" y="261936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6"/>
              <p:cNvSpPr/>
              <p:nvPr/>
            </p:nvSpPr>
            <p:spPr>
              <a:xfrm rot="21453600">
                <a:off x="3186000" y="265680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57"/>
              <p:cNvSpPr/>
              <p:nvPr/>
            </p:nvSpPr>
            <p:spPr>
              <a:xfrm rot="21453600">
                <a:off x="3216600" y="268560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58"/>
            <p:cNvGrpSpPr/>
            <p:nvPr/>
          </p:nvGrpSpPr>
          <p:grpSpPr>
            <a:xfrm>
              <a:off x="3214440" y="2336400"/>
              <a:ext cx="383400" cy="425520"/>
              <a:chOff x="3214440" y="2336400"/>
              <a:chExt cx="383400" cy="425520"/>
            </a:xfrm>
          </p:grpSpPr>
          <p:sp>
            <p:nvSpPr>
              <p:cNvPr id="134" name="Freeform 59"/>
              <p:cNvSpPr/>
              <p:nvPr/>
            </p:nvSpPr>
            <p:spPr>
              <a:xfrm rot="17306400">
                <a:off x="3229560" y="240588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60"/>
              <p:cNvSpPr/>
              <p:nvPr/>
            </p:nvSpPr>
            <p:spPr>
              <a:xfrm rot="19351200">
                <a:off x="3190680" y="251712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61"/>
              <p:cNvSpPr/>
              <p:nvPr/>
            </p:nvSpPr>
            <p:spPr>
              <a:xfrm rot="19650000">
                <a:off x="3200400" y="258372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62"/>
              <p:cNvSpPr/>
              <p:nvPr/>
            </p:nvSpPr>
            <p:spPr>
              <a:xfrm rot="19650000">
                <a:off x="3239280" y="259380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63"/>
            <p:cNvGrpSpPr/>
            <p:nvPr/>
          </p:nvGrpSpPr>
          <p:grpSpPr>
            <a:xfrm>
              <a:off x="3110400" y="2300760"/>
              <a:ext cx="376560" cy="424440"/>
              <a:chOff x="3110400" y="2300760"/>
              <a:chExt cx="376560" cy="424440"/>
            </a:xfrm>
          </p:grpSpPr>
          <p:sp>
            <p:nvSpPr>
              <p:cNvPr id="139" name="Freeform 64"/>
              <p:cNvSpPr/>
              <p:nvPr/>
            </p:nvSpPr>
            <p:spPr>
              <a:xfrm rot="15187200">
                <a:off x="3121920" y="236772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65"/>
              <p:cNvSpPr/>
              <p:nvPr/>
            </p:nvSpPr>
            <p:spPr>
              <a:xfrm rot="17232000">
                <a:off x="3077640" y="248976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66"/>
              <p:cNvSpPr/>
              <p:nvPr/>
            </p:nvSpPr>
            <p:spPr>
              <a:xfrm rot="17530800">
                <a:off x="3130560" y="256824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67"/>
              <p:cNvSpPr/>
              <p:nvPr/>
            </p:nvSpPr>
            <p:spPr>
              <a:xfrm rot="17530800">
                <a:off x="3165480" y="255492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68"/>
            <p:cNvGrpSpPr/>
            <p:nvPr/>
          </p:nvGrpSpPr>
          <p:grpSpPr>
            <a:xfrm>
              <a:off x="3212280" y="2594520"/>
              <a:ext cx="384480" cy="306360"/>
              <a:chOff x="3212280" y="2594520"/>
              <a:chExt cx="384480" cy="306360"/>
            </a:xfrm>
          </p:grpSpPr>
          <p:sp>
            <p:nvSpPr>
              <p:cNvPr id="144" name="Freeform 69"/>
              <p:cNvSpPr/>
              <p:nvPr/>
            </p:nvSpPr>
            <p:spPr>
              <a:xfrm rot="21405000">
                <a:off x="3228840" y="260424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70"/>
              <p:cNvSpPr/>
              <p:nvPr/>
            </p:nvSpPr>
            <p:spPr>
              <a:xfrm rot="1849200">
                <a:off x="3213000" y="271296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71"/>
              <p:cNvSpPr/>
              <p:nvPr/>
            </p:nvSpPr>
            <p:spPr>
              <a:xfrm rot="2147400">
                <a:off x="3190680" y="270216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72"/>
              <p:cNvSpPr/>
              <p:nvPr/>
            </p:nvSpPr>
            <p:spPr>
              <a:xfrm rot="2147400">
                <a:off x="3199320" y="274464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73"/>
            <p:cNvGrpSpPr/>
            <p:nvPr/>
          </p:nvGrpSpPr>
          <p:grpSpPr>
            <a:xfrm>
              <a:off x="2992680" y="2549880"/>
              <a:ext cx="393840" cy="434520"/>
              <a:chOff x="2992680" y="2549880"/>
              <a:chExt cx="393840" cy="434520"/>
            </a:xfrm>
          </p:grpSpPr>
          <p:sp>
            <p:nvSpPr>
              <p:cNvPr id="149" name="Freeform 74"/>
              <p:cNvSpPr/>
              <p:nvPr/>
            </p:nvSpPr>
            <p:spPr>
              <a:xfrm rot="4137000">
                <a:off x="3012840" y="262512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75"/>
              <p:cNvSpPr/>
              <p:nvPr/>
            </p:nvSpPr>
            <p:spPr>
              <a:xfrm rot="6181800">
                <a:off x="3007080" y="275508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76"/>
              <p:cNvSpPr/>
              <p:nvPr/>
            </p:nvSpPr>
            <p:spPr>
              <a:xfrm rot="6480000">
                <a:off x="3049920" y="268560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7"/>
              <p:cNvSpPr/>
              <p:nvPr/>
            </p:nvSpPr>
            <p:spPr>
              <a:xfrm rot="6480000">
                <a:off x="3016080" y="270936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78"/>
            <p:cNvGrpSpPr/>
            <p:nvPr/>
          </p:nvGrpSpPr>
          <p:grpSpPr>
            <a:xfrm>
              <a:off x="3104280" y="2643120"/>
              <a:ext cx="450720" cy="453240"/>
              <a:chOff x="3104280" y="2643120"/>
              <a:chExt cx="450720" cy="453240"/>
            </a:xfrm>
          </p:grpSpPr>
          <p:sp>
            <p:nvSpPr>
              <p:cNvPr id="154" name="Freeform 79"/>
              <p:cNvSpPr/>
              <p:nvPr/>
            </p:nvSpPr>
            <p:spPr>
              <a:xfrm rot="2797200">
                <a:off x="3152880" y="272664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80"/>
              <p:cNvSpPr/>
              <p:nvPr/>
            </p:nvSpPr>
            <p:spPr>
              <a:xfrm rot="4842000">
                <a:off x="3146760" y="284868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81"/>
              <p:cNvSpPr/>
              <p:nvPr/>
            </p:nvSpPr>
            <p:spPr>
              <a:xfrm rot="5140200">
                <a:off x="3161880" y="278748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82"/>
              <p:cNvSpPr/>
              <p:nvPr/>
            </p:nvSpPr>
            <p:spPr>
              <a:xfrm rot="5140200">
                <a:off x="3138120" y="282276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83"/>
            <p:cNvGrpSpPr/>
            <p:nvPr/>
          </p:nvGrpSpPr>
          <p:grpSpPr>
            <a:xfrm>
              <a:off x="3117960" y="2530800"/>
              <a:ext cx="302760" cy="302760"/>
              <a:chOff x="3117960" y="2530800"/>
              <a:chExt cx="302760" cy="302760"/>
            </a:xfrm>
          </p:grpSpPr>
          <p:sp>
            <p:nvSpPr>
              <p:cNvPr id="159" name="AutoShape 84"/>
              <p:cNvSpPr/>
              <p:nvPr/>
            </p:nvSpPr>
            <p:spPr>
              <a:xfrm rot="16200000">
                <a:off x="3117960" y="2530800"/>
                <a:ext cx="302760" cy="302760"/>
              </a:xfrm>
              <a:custGeom>
                <a:avLst/>
                <a:gdLst>
                  <a:gd name="textAreaLeft" fmla="*/ 70920 w 302760"/>
                  <a:gd name="textAreaRight" fmla="*/ 231840 w 302760"/>
                  <a:gd name="textAreaTop" fmla="*/ 70920 h 302760"/>
                  <a:gd name="textAreaBottom" fmla="*/ 231840 h 30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85"/>
              <p:cNvSpPr/>
              <p:nvPr/>
            </p:nvSpPr>
            <p:spPr>
              <a:xfrm rot="16200000">
                <a:off x="3161880" y="2579040"/>
                <a:ext cx="201960" cy="2016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Group 86"/>
          <p:cNvGrpSpPr/>
          <p:nvPr/>
        </p:nvGrpSpPr>
        <p:grpSpPr>
          <a:xfrm>
            <a:off x="2437560" y="2459880"/>
            <a:ext cx="765720" cy="780120"/>
            <a:chOff x="2437560" y="2459880"/>
            <a:chExt cx="765720" cy="780120"/>
          </a:xfrm>
        </p:grpSpPr>
        <p:grpSp>
          <p:nvGrpSpPr>
            <p:cNvPr id="162" name="Group 87"/>
            <p:cNvGrpSpPr/>
            <p:nvPr/>
          </p:nvGrpSpPr>
          <p:grpSpPr>
            <a:xfrm>
              <a:off x="2742480" y="2705040"/>
              <a:ext cx="398880" cy="356760"/>
              <a:chOff x="2742480" y="2705040"/>
              <a:chExt cx="398880" cy="356760"/>
            </a:xfrm>
          </p:grpSpPr>
          <p:sp>
            <p:nvSpPr>
              <p:cNvPr id="163" name="Freeform 88"/>
              <p:cNvSpPr/>
              <p:nvPr/>
            </p:nvSpPr>
            <p:spPr>
              <a:xfrm rot="9707400">
                <a:off x="2775600" y="2749680"/>
                <a:ext cx="32904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89"/>
              <p:cNvSpPr/>
              <p:nvPr/>
            </p:nvSpPr>
            <p:spPr>
              <a:xfrm rot="11752200">
                <a:off x="2747880" y="2886480"/>
                <a:ext cx="37620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90"/>
              <p:cNvSpPr/>
              <p:nvPr/>
            </p:nvSpPr>
            <p:spPr>
              <a:xfrm rot="12051000">
                <a:off x="2864520" y="2886480"/>
                <a:ext cx="28188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91"/>
              <p:cNvSpPr/>
              <p:nvPr/>
            </p:nvSpPr>
            <p:spPr>
              <a:xfrm rot="12051000">
                <a:off x="2847960" y="2857680"/>
                <a:ext cx="28224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92"/>
            <p:cNvGrpSpPr/>
            <p:nvPr/>
          </p:nvGrpSpPr>
          <p:grpSpPr>
            <a:xfrm>
              <a:off x="2614680" y="2815920"/>
              <a:ext cx="416880" cy="424080"/>
              <a:chOff x="2614680" y="2815920"/>
              <a:chExt cx="416880" cy="424080"/>
            </a:xfrm>
          </p:grpSpPr>
          <p:sp>
            <p:nvSpPr>
              <p:cNvPr id="168" name="Freeform 93"/>
              <p:cNvSpPr/>
              <p:nvPr/>
            </p:nvSpPr>
            <p:spPr>
              <a:xfrm rot="13786800">
                <a:off x="2658240" y="289440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4"/>
              <p:cNvSpPr/>
              <p:nvPr/>
            </p:nvSpPr>
            <p:spPr>
              <a:xfrm rot="15831600">
                <a:off x="2615760" y="301572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95"/>
              <p:cNvSpPr/>
              <p:nvPr/>
            </p:nvSpPr>
            <p:spPr>
              <a:xfrm rot="16129800">
                <a:off x="2692440" y="308232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96"/>
              <p:cNvSpPr/>
              <p:nvPr/>
            </p:nvSpPr>
            <p:spPr>
              <a:xfrm rot="16129800">
                <a:off x="2715840" y="30585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97"/>
            <p:cNvGrpSpPr/>
            <p:nvPr/>
          </p:nvGrpSpPr>
          <p:grpSpPr>
            <a:xfrm>
              <a:off x="2778480" y="2574000"/>
              <a:ext cx="417240" cy="424080"/>
              <a:chOff x="2778480" y="2574000"/>
              <a:chExt cx="417240" cy="424080"/>
            </a:xfrm>
          </p:grpSpPr>
          <p:sp>
            <p:nvSpPr>
              <p:cNvPr id="173" name="Freeform 98"/>
              <p:cNvSpPr/>
              <p:nvPr/>
            </p:nvSpPr>
            <p:spPr>
              <a:xfrm rot="7834200">
                <a:off x="2822400" y="265248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99"/>
              <p:cNvSpPr/>
              <p:nvPr/>
            </p:nvSpPr>
            <p:spPr>
              <a:xfrm rot="9879000">
                <a:off x="2804760" y="278820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0"/>
              <p:cNvSpPr/>
              <p:nvPr/>
            </p:nvSpPr>
            <p:spPr>
              <a:xfrm rot="10177200">
                <a:off x="2909160" y="275328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01"/>
              <p:cNvSpPr/>
              <p:nvPr/>
            </p:nvSpPr>
            <p:spPr>
              <a:xfrm rot="10177200">
                <a:off x="2877480" y="27381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02"/>
            <p:cNvGrpSpPr/>
            <p:nvPr/>
          </p:nvGrpSpPr>
          <p:grpSpPr>
            <a:xfrm>
              <a:off x="2437560" y="2647440"/>
              <a:ext cx="422640" cy="420480"/>
              <a:chOff x="2437560" y="2647440"/>
              <a:chExt cx="422640" cy="420480"/>
            </a:xfrm>
          </p:grpSpPr>
          <p:sp>
            <p:nvSpPr>
              <p:cNvPr id="178" name="Freeform 103"/>
              <p:cNvSpPr/>
              <p:nvPr/>
            </p:nvSpPr>
            <p:spPr>
              <a:xfrm rot="18982200">
                <a:off x="2484000" y="2724120"/>
                <a:ext cx="32904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4"/>
              <p:cNvSpPr/>
              <p:nvPr/>
            </p:nvSpPr>
            <p:spPr>
              <a:xfrm rot="21027600">
                <a:off x="2456640" y="2823480"/>
                <a:ext cx="37620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5"/>
              <p:cNvSpPr/>
              <p:nvPr/>
            </p:nvSpPr>
            <p:spPr>
              <a:xfrm rot="21325800">
                <a:off x="2442960" y="2860920"/>
                <a:ext cx="28188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6"/>
              <p:cNvSpPr/>
              <p:nvPr/>
            </p:nvSpPr>
            <p:spPr>
              <a:xfrm rot="21325800">
                <a:off x="2472120" y="2886840"/>
                <a:ext cx="28224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07"/>
            <p:cNvGrpSpPr/>
            <p:nvPr/>
          </p:nvGrpSpPr>
          <p:grpSpPr>
            <a:xfrm>
              <a:off x="2650680" y="2459880"/>
              <a:ext cx="385920" cy="414000"/>
              <a:chOff x="2650680" y="2459880"/>
              <a:chExt cx="385920" cy="414000"/>
            </a:xfrm>
          </p:grpSpPr>
          <p:sp>
            <p:nvSpPr>
              <p:cNvPr id="183" name="Freeform 108"/>
              <p:cNvSpPr/>
              <p:nvPr/>
            </p:nvSpPr>
            <p:spPr>
              <a:xfrm rot="3809400">
                <a:off x="2678760" y="253296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09"/>
              <p:cNvSpPr/>
              <p:nvPr/>
            </p:nvSpPr>
            <p:spPr>
              <a:xfrm rot="5854200">
                <a:off x="2673720" y="265284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10"/>
              <p:cNvSpPr/>
              <p:nvPr/>
            </p:nvSpPr>
            <p:spPr>
              <a:xfrm rot="6153000">
                <a:off x="2707560" y="258876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11"/>
              <p:cNvSpPr/>
              <p:nvPr/>
            </p:nvSpPr>
            <p:spPr>
              <a:xfrm rot="6153000">
                <a:off x="2677320" y="26139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12"/>
            <p:cNvGrpSpPr/>
            <p:nvPr/>
          </p:nvGrpSpPr>
          <p:grpSpPr>
            <a:xfrm>
              <a:off x="2490840" y="2800080"/>
              <a:ext cx="337320" cy="382680"/>
              <a:chOff x="2490840" y="2800080"/>
              <a:chExt cx="337320" cy="382680"/>
            </a:xfrm>
          </p:grpSpPr>
          <p:sp>
            <p:nvSpPr>
              <p:cNvPr id="188" name="Freeform 113"/>
              <p:cNvSpPr/>
              <p:nvPr/>
            </p:nvSpPr>
            <p:spPr>
              <a:xfrm rot="17020800">
                <a:off x="2494800" y="2857680"/>
                <a:ext cx="32904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14"/>
              <p:cNvSpPr/>
              <p:nvPr/>
            </p:nvSpPr>
            <p:spPr>
              <a:xfrm rot="19065000">
                <a:off x="2457720" y="2962080"/>
                <a:ext cx="37620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15"/>
              <p:cNvSpPr/>
              <p:nvPr/>
            </p:nvSpPr>
            <p:spPr>
              <a:xfrm rot="19363800">
                <a:off x="2471760" y="3027600"/>
                <a:ext cx="28188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16"/>
              <p:cNvSpPr/>
              <p:nvPr/>
            </p:nvSpPr>
            <p:spPr>
              <a:xfrm rot="19363800">
                <a:off x="2507760" y="3034080"/>
                <a:ext cx="28224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17"/>
            <p:cNvGrpSpPr/>
            <p:nvPr/>
          </p:nvGrpSpPr>
          <p:grpSpPr>
            <a:xfrm>
              <a:off x="2525040" y="2576160"/>
              <a:ext cx="387360" cy="343080"/>
              <a:chOff x="2525040" y="2576160"/>
              <a:chExt cx="387360" cy="343080"/>
            </a:xfrm>
          </p:grpSpPr>
          <p:sp>
            <p:nvSpPr>
              <p:cNvPr id="193" name="Freeform 118"/>
              <p:cNvSpPr/>
              <p:nvPr/>
            </p:nvSpPr>
            <p:spPr>
              <a:xfrm rot="899400">
                <a:off x="2553840" y="261396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19"/>
              <p:cNvSpPr/>
              <p:nvPr/>
            </p:nvSpPr>
            <p:spPr>
              <a:xfrm rot="2944800">
                <a:off x="2543760" y="271908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20"/>
              <p:cNvSpPr/>
              <p:nvPr/>
            </p:nvSpPr>
            <p:spPr>
              <a:xfrm rot="3243000">
                <a:off x="2530440" y="268812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21"/>
              <p:cNvSpPr/>
              <p:nvPr/>
            </p:nvSpPr>
            <p:spPr>
              <a:xfrm rot="3243000">
                <a:off x="2526840" y="272880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22"/>
            <p:cNvGrpSpPr/>
            <p:nvPr/>
          </p:nvGrpSpPr>
          <p:grpSpPr>
            <a:xfrm>
              <a:off x="2765880" y="2820240"/>
              <a:ext cx="374400" cy="325440"/>
              <a:chOff x="2765880" y="2820240"/>
              <a:chExt cx="374400" cy="325440"/>
            </a:xfrm>
          </p:grpSpPr>
          <p:sp>
            <p:nvSpPr>
              <p:cNvPr id="198" name="Freeform 123"/>
              <p:cNvSpPr/>
              <p:nvPr/>
            </p:nvSpPr>
            <p:spPr>
              <a:xfrm rot="11463600">
                <a:off x="2788200" y="284940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24"/>
              <p:cNvSpPr/>
              <p:nvPr/>
            </p:nvSpPr>
            <p:spPr>
              <a:xfrm rot="13508400">
                <a:off x="2752560" y="298152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25"/>
              <p:cNvSpPr/>
              <p:nvPr/>
            </p:nvSpPr>
            <p:spPr>
              <a:xfrm rot="13807200">
                <a:off x="2861640" y="301644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26"/>
              <p:cNvSpPr/>
              <p:nvPr/>
            </p:nvSpPr>
            <p:spPr>
              <a:xfrm rot="13807200">
                <a:off x="2862720" y="298368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27"/>
            <p:cNvGrpSpPr/>
            <p:nvPr/>
          </p:nvGrpSpPr>
          <p:grpSpPr>
            <a:xfrm>
              <a:off x="2590920" y="2795400"/>
              <a:ext cx="353160" cy="396720"/>
              <a:chOff x="2590920" y="2795400"/>
              <a:chExt cx="353160" cy="396720"/>
            </a:xfrm>
          </p:grpSpPr>
          <p:sp>
            <p:nvSpPr>
              <p:cNvPr id="203" name="Freeform 128"/>
              <p:cNvSpPr/>
              <p:nvPr/>
            </p:nvSpPr>
            <p:spPr>
              <a:xfrm rot="15164400">
                <a:off x="2602440" y="285840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29"/>
              <p:cNvSpPr/>
              <p:nvPr/>
            </p:nvSpPr>
            <p:spPr>
              <a:xfrm rot="17208600">
                <a:off x="2560680" y="297252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30"/>
              <p:cNvSpPr/>
              <p:nvPr/>
            </p:nvSpPr>
            <p:spPr>
              <a:xfrm rot="17506800">
                <a:off x="2610720" y="304560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31"/>
              <p:cNvSpPr/>
              <p:nvPr/>
            </p:nvSpPr>
            <p:spPr>
              <a:xfrm rot="17506800">
                <a:off x="2643120" y="30333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32"/>
            <p:cNvGrpSpPr/>
            <p:nvPr/>
          </p:nvGrpSpPr>
          <p:grpSpPr>
            <a:xfrm>
              <a:off x="2831400" y="2462040"/>
              <a:ext cx="279000" cy="355320"/>
              <a:chOff x="2831400" y="2462040"/>
              <a:chExt cx="279000" cy="355320"/>
            </a:xfrm>
          </p:grpSpPr>
          <p:sp>
            <p:nvSpPr>
              <p:cNvPr id="208" name="Freeform 133"/>
              <p:cNvSpPr/>
              <p:nvPr/>
            </p:nvSpPr>
            <p:spPr>
              <a:xfrm rot="5278200">
                <a:off x="2806200" y="250632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4"/>
              <p:cNvSpPr/>
              <p:nvPr/>
            </p:nvSpPr>
            <p:spPr>
              <a:xfrm rot="7323000">
                <a:off x="2799000" y="263412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35"/>
              <p:cNvSpPr/>
              <p:nvPr/>
            </p:nvSpPr>
            <p:spPr>
              <a:xfrm rot="7621200">
                <a:off x="2861640" y="257004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36"/>
              <p:cNvSpPr/>
              <p:nvPr/>
            </p:nvSpPr>
            <p:spPr>
              <a:xfrm rot="7621200">
                <a:off x="2825640" y="258120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137"/>
            <p:cNvGrpSpPr/>
            <p:nvPr/>
          </p:nvGrpSpPr>
          <p:grpSpPr>
            <a:xfrm>
              <a:off x="2556000" y="2507040"/>
              <a:ext cx="423000" cy="419760"/>
              <a:chOff x="2556000" y="2507040"/>
              <a:chExt cx="423000" cy="419760"/>
            </a:xfrm>
          </p:grpSpPr>
          <p:sp>
            <p:nvSpPr>
              <p:cNvPr id="213" name="Freeform 138"/>
              <p:cNvSpPr/>
              <p:nvPr/>
            </p:nvSpPr>
            <p:spPr>
              <a:xfrm rot="2557200">
                <a:off x="2602440" y="258300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9"/>
              <p:cNvSpPr/>
              <p:nvPr/>
            </p:nvSpPr>
            <p:spPr>
              <a:xfrm rot="4602600">
                <a:off x="2597040" y="269568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40"/>
              <p:cNvSpPr/>
              <p:nvPr/>
            </p:nvSpPr>
            <p:spPr>
              <a:xfrm rot="4900200">
                <a:off x="2607120" y="264096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41"/>
              <p:cNvSpPr/>
              <p:nvPr/>
            </p:nvSpPr>
            <p:spPr>
              <a:xfrm rot="4900200">
                <a:off x="2586600" y="26751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42"/>
            <p:cNvGrpSpPr/>
            <p:nvPr/>
          </p:nvGrpSpPr>
          <p:grpSpPr>
            <a:xfrm>
              <a:off x="2448000" y="2628720"/>
              <a:ext cx="382320" cy="328680"/>
              <a:chOff x="2448000" y="2628720"/>
              <a:chExt cx="382320" cy="328680"/>
            </a:xfrm>
          </p:grpSpPr>
          <p:sp>
            <p:nvSpPr>
              <p:cNvPr id="218" name="Freeform 143"/>
              <p:cNvSpPr/>
              <p:nvPr/>
            </p:nvSpPr>
            <p:spPr>
              <a:xfrm rot="20898000">
                <a:off x="2476800" y="265932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44"/>
              <p:cNvSpPr/>
              <p:nvPr/>
            </p:nvSpPr>
            <p:spPr>
              <a:xfrm rot="1342200">
                <a:off x="2459520" y="275976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45"/>
              <p:cNvSpPr/>
              <p:nvPr/>
            </p:nvSpPr>
            <p:spPr>
              <a:xfrm rot="1640400">
                <a:off x="2437200" y="275976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46"/>
              <p:cNvSpPr/>
              <p:nvPr/>
            </p:nvSpPr>
            <p:spPr>
              <a:xfrm rot="1640400">
                <a:off x="2450160" y="27975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47"/>
            <p:cNvGrpSpPr/>
            <p:nvPr/>
          </p:nvGrpSpPr>
          <p:grpSpPr>
            <a:xfrm>
              <a:off x="2514960" y="2694600"/>
              <a:ext cx="403200" cy="421560"/>
              <a:chOff x="2514960" y="2694600"/>
              <a:chExt cx="403200" cy="421560"/>
            </a:xfrm>
          </p:grpSpPr>
          <p:sp>
            <p:nvSpPr>
              <p:cNvPr id="223" name="Freeform 148"/>
              <p:cNvSpPr/>
              <p:nvPr/>
            </p:nvSpPr>
            <p:spPr>
              <a:xfrm rot="18171600">
                <a:off x="2551680" y="277164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49"/>
              <p:cNvSpPr/>
              <p:nvPr/>
            </p:nvSpPr>
            <p:spPr>
              <a:xfrm rot="20216400">
                <a:off x="2519640" y="287352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50"/>
              <p:cNvSpPr/>
              <p:nvPr/>
            </p:nvSpPr>
            <p:spPr>
              <a:xfrm rot="20514000">
                <a:off x="2514960" y="292392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51"/>
              <p:cNvSpPr/>
              <p:nvPr/>
            </p:nvSpPr>
            <p:spPr>
              <a:xfrm rot="20514000">
                <a:off x="2548800" y="294228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52"/>
            <p:cNvGrpSpPr/>
            <p:nvPr/>
          </p:nvGrpSpPr>
          <p:grpSpPr>
            <a:xfrm>
              <a:off x="2784600" y="2654280"/>
              <a:ext cx="418680" cy="396000"/>
              <a:chOff x="2784600" y="2654280"/>
              <a:chExt cx="418680" cy="396000"/>
            </a:xfrm>
          </p:grpSpPr>
          <p:sp>
            <p:nvSpPr>
              <p:cNvPr id="228" name="Freeform 153"/>
              <p:cNvSpPr/>
              <p:nvPr/>
            </p:nvSpPr>
            <p:spPr>
              <a:xfrm rot="8996400">
                <a:off x="2829240" y="2718360"/>
                <a:ext cx="32904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54"/>
              <p:cNvSpPr/>
              <p:nvPr/>
            </p:nvSpPr>
            <p:spPr>
              <a:xfrm rot="11040600">
                <a:off x="2805120" y="2855520"/>
                <a:ext cx="37620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55"/>
              <p:cNvSpPr/>
              <p:nvPr/>
            </p:nvSpPr>
            <p:spPr>
              <a:xfrm rot="11338800">
                <a:off x="2919240" y="2841840"/>
                <a:ext cx="28188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56"/>
              <p:cNvSpPr/>
              <p:nvPr/>
            </p:nvSpPr>
            <p:spPr>
              <a:xfrm rot="11338800">
                <a:off x="2896200" y="2817000"/>
                <a:ext cx="28224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157"/>
            <p:cNvGrpSpPr/>
            <p:nvPr/>
          </p:nvGrpSpPr>
          <p:grpSpPr>
            <a:xfrm>
              <a:off x="2815920" y="2496240"/>
              <a:ext cx="385200" cy="413280"/>
              <a:chOff x="2815920" y="2496240"/>
              <a:chExt cx="385200" cy="413280"/>
            </a:xfrm>
          </p:grpSpPr>
          <p:sp>
            <p:nvSpPr>
              <p:cNvPr id="233" name="Freeform 158"/>
              <p:cNvSpPr/>
              <p:nvPr/>
            </p:nvSpPr>
            <p:spPr>
              <a:xfrm rot="6971400">
                <a:off x="2843640" y="256896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59"/>
              <p:cNvSpPr/>
              <p:nvPr/>
            </p:nvSpPr>
            <p:spPr>
              <a:xfrm rot="9016200">
                <a:off x="2830680" y="270288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60"/>
              <p:cNvSpPr/>
              <p:nvPr/>
            </p:nvSpPr>
            <p:spPr>
              <a:xfrm rot="9314400">
                <a:off x="2923200" y="265500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61"/>
              <p:cNvSpPr/>
              <p:nvPr/>
            </p:nvSpPr>
            <p:spPr>
              <a:xfrm rot="9314400">
                <a:off x="2888280" y="26481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62"/>
            <p:cNvGrpSpPr/>
            <p:nvPr/>
          </p:nvGrpSpPr>
          <p:grpSpPr>
            <a:xfrm>
              <a:off x="2643480" y="2643120"/>
              <a:ext cx="388440" cy="388080"/>
              <a:chOff x="2643480" y="2643120"/>
              <a:chExt cx="388440" cy="388080"/>
            </a:xfrm>
          </p:grpSpPr>
          <p:sp>
            <p:nvSpPr>
              <p:cNvPr id="238" name="AutoShape 163"/>
              <p:cNvSpPr/>
              <p:nvPr/>
            </p:nvSpPr>
            <p:spPr>
              <a:xfrm rot="8901600">
                <a:off x="2696400" y="2695680"/>
                <a:ext cx="282240" cy="282240"/>
              </a:xfrm>
              <a:custGeom>
                <a:avLst/>
                <a:gdLst>
                  <a:gd name="textAreaLeft" fmla="*/ 66240 w 282240"/>
                  <a:gd name="textAreaRight" fmla="*/ 216000 w 282240"/>
                  <a:gd name="textAreaTop" fmla="*/ 66240 h 282240"/>
                  <a:gd name="textAreaBottom" fmla="*/ 216000 h 28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164"/>
              <p:cNvSpPr/>
              <p:nvPr/>
            </p:nvSpPr>
            <p:spPr>
              <a:xfrm rot="8901600">
                <a:off x="2744640" y="2748600"/>
                <a:ext cx="188280" cy="18792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165"/>
          <p:cNvGrpSpPr/>
          <p:nvPr/>
        </p:nvGrpSpPr>
        <p:grpSpPr>
          <a:xfrm>
            <a:off x="1614600" y="2347560"/>
            <a:ext cx="1270080" cy="1088640"/>
            <a:chOff x="1614600" y="2347560"/>
            <a:chExt cx="1270080" cy="1088640"/>
          </a:xfrm>
        </p:grpSpPr>
        <p:grpSp>
          <p:nvGrpSpPr>
            <p:cNvPr id="241" name="Group 166"/>
            <p:cNvGrpSpPr/>
            <p:nvPr/>
          </p:nvGrpSpPr>
          <p:grpSpPr>
            <a:xfrm>
              <a:off x="1865520" y="2542680"/>
              <a:ext cx="558000" cy="490680"/>
              <a:chOff x="1865520" y="2542680"/>
              <a:chExt cx="558000" cy="490680"/>
            </a:xfrm>
          </p:grpSpPr>
          <p:sp>
            <p:nvSpPr>
              <p:cNvPr id="242" name="Freeform 167"/>
              <p:cNvSpPr/>
              <p:nvPr/>
            </p:nvSpPr>
            <p:spPr>
              <a:xfrm rot="805800">
                <a:off x="1903680" y="2593080"/>
                <a:ext cx="480960" cy="38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68"/>
              <p:cNvSpPr/>
              <p:nvPr/>
            </p:nvSpPr>
            <p:spPr>
              <a:xfrm rot="2850600">
                <a:off x="1888920" y="2745720"/>
                <a:ext cx="549720" cy="4464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69"/>
              <p:cNvSpPr/>
              <p:nvPr/>
            </p:nvSpPr>
            <p:spPr>
              <a:xfrm rot="3148800">
                <a:off x="1868400" y="2703600"/>
                <a:ext cx="41220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70"/>
              <p:cNvSpPr/>
              <p:nvPr/>
            </p:nvSpPr>
            <p:spPr>
              <a:xfrm rot="3148800">
                <a:off x="1864800" y="2762640"/>
                <a:ext cx="41256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71"/>
            <p:cNvGrpSpPr/>
            <p:nvPr/>
          </p:nvGrpSpPr>
          <p:grpSpPr>
            <a:xfrm>
              <a:off x="2173320" y="2421720"/>
              <a:ext cx="456840" cy="545040"/>
              <a:chOff x="2173320" y="2421720"/>
              <a:chExt cx="456840" cy="545040"/>
            </a:xfrm>
          </p:grpSpPr>
          <p:sp>
            <p:nvSpPr>
              <p:cNvPr id="247" name="Freeform 172"/>
              <p:cNvSpPr/>
              <p:nvPr/>
            </p:nvSpPr>
            <p:spPr>
              <a:xfrm rot="4885200">
                <a:off x="2161080" y="2503080"/>
                <a:ext cx="481320" cy="38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73"/>
              <p:cNvSpPr/>
              <p:nvPr/>
            </p:nvSpPr>
            <p:spPr>
              <a:xfrm rot="6929400">
                <a:off x="2152080" y="2686320"/>
                <a:ext cx="550080" cy="4464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74"/>
              <p:cNvSpPr/>
              <p:nvPr/>
            </p:nvSpPr>
            <p:spPr>
              <a:xfrm rot="7227600">
                <a:off x="2232360" y="259128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75"/>
              <p:cNvSpPr/>
              <p:nvPr/>
            </p:nvSpPr>
            <p:spPr>
              <a:xfrm rot="7227600">
                <a:off x="2181240" y="261324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176"/>
            <p:cNvGrpSpPr/>
            <p:nvPr/>
          </p:nvGrpSpPr>
          <p:grpSpPr>
            <a:xfrm>
              <a:off x="1719720" y="2614320"/>
              <a:ext cx="581400" cy="518400"/>
              <a:chOff x="1719720" y="2614320"/>
              <a:chExt cx="581400" cy="518400"/>
            </a:xfrm>
          </p:grpSpPr>
          <p:sp>
            <p:nvSpPr>
              <p:cNvPr id="252" name="Freeform 177"/>
              <p:cNvSpPr/>
              <p:nvPr/>
            </p:nvSpPr>
            <p:spPr>
              <a:xfrm rot="20532600">
                <a:off x="1772280" y="267840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78"/>
              <p:cNvSpPr/>
              <p:nvPr/>
            </p:nvSpPr>
            <p:spPr>
              <a:xfrm rot="977400">
                <a:off x="1743840" y="282420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9"/>
              <p:cNvSpPr/>
              <p:nvPr/>
            </p:nvSpPr>
            <p:spPr>
              <a:xfrm rot="1275600">
                <a:off x="1711440" y="283500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80"/>
              <p:cNvSpPr/>
              <p:nvPr/>
            </p:nvSpPr>
            <p:spPr>
              <a:xfrm rot="1275600">
                <a:off x="1735560" y="288792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81"/>
            <p:cNvGrpSpPr/>
            <p:nvPr/>
          </p:nvGrpSpPr>
          <p:grpSpPr>
            <a:xfrm>
              <a:off x="2211480" y="2802600"/>
              <a:ext cx="559440" cy="481680"/>
              <a:chOff x="2211480" y="2802600"/>
              <a:chExt cx="559440" cy="481680"/>
            </a:xfrm>
          </p:grpSpPr>
          <p:sp>
            <p:nvSpPr>
              <p:cNvPr id="257" name="Freeform 182"/>
              <p:cNvSpPr/>
              <p:nvPr/>
            </p:nvSpPr>
            <p:spPr>
              <a:xfrm rot="10080600">
                <a:off x="2246400" y="2847960"/>
                <a:ext cx="480600" cy="390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83"/>
              <p:cNvSpPr/>
              <p:nvPr/>
            </p:nvSpPr>
            <p:spPr>
              <a:xfrm rot="12125400">
                <a:off x="2204280" y="304632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84"/>
              <p:cNvSpPr/>
              <p:nvPr/>
            </p:nvSpPr>
            <p:spPr>
              <a:xfrm rot="12423600">
                <a:off x="2373840" y="305748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85"/>
              <p:cNvSpPr/>
              <p:nvPr/>
            </p:nvSpPr>
            <p:spPr>
              <a:xfrm rot="12423600">
                <a:off x="2354400" y="301320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86"/>
            <p:cNvGrpSpPr/>
            <p:nvPr/>
          </p:nvGrpSpPr>
          <p:grpSpPr>
            <a:xfrm>
              <a:off x="1883520" y="2874600"/>
              <a:ext cx="431280" cy="514440"/>
              <a:chOff x="1883520" y="2874600"/>
              <a:chExt cx="431280" cy="514440"/>
            </a:xfrm>
          </p:grpSpPr>
          <p:sp>
            <p:nvSpPr>
              <p:cNvPr id="262" name="Freeform 187"/>
              <p:cNvSpPr/>
              <p:nvPr/>
            </p:nvSpPr>
            <p:spPr>
              <a:xfrm rot="16507800">
                <a:off x="1858320" y="2936880"/>
                <a:ext cx="481320" cy="389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88"/>
              <p:cNvSpPr/>
              <p:nvPr/>
            </p:nvSpPr>
            <p:spPr>
              <a:xfrm rot="18552600">
                <a:off x="1802160" y="3092760"/>
                <a:ext cx="55008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89"/>
              <p:cNvSpPr/>
              <p:nvPr/>
            </p:nvSpPr>
            <p:spPr>
              <a:xfrm rot="18850800">
                <a:off x="1836000" y="319428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90"/>
              <p:cNvSpPr/>
              <p:nvPr/>
            </p:nvSpPr>
            <p:spPr>
              <a:xfrm rot="18850800">
                <a:off x="1889280" y="319536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91"/>
            <p:cNvGrpSpPr/>
            <p:nvPr/>
          </p:nvGrpSpPr>
          <p:grpSpPr>
            <a:xfrm>
              <a:off x="2268720" y="2561760"/>
              <a:ext cx="615960" cy="615600"/>
              <a:chOff x="2268720" y="2561760"/>
              <a:chExt cx="615960" cy="615600"/>
            </a:xfrm>
          </p:grpSpPr>
          <p:sp>
            <p:nvSpPr>
              <p:cNvPr id="267" name="Freeform 192"/>
              <p:cNvSpPr/>
              <p:nvPr/>
            </p:nvSpPr>
            <p:spPr>
              <a:xfrm rot="8118600">
                <a:off x="2336040" y="267408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93"/>
              <p:cNvSpPr/>
              <p:nvPr/>
            </p:nvSpPr>
            <p:spPr>
              <a:xfrm rot="10163400">
                <a:off x="2308680" y="287316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94"/>
              <p:cNvSpPr/>
              <p:nvPr/>
            </p:nvSpPr>
            <p:spPr>
              <a:xfrm rot="10461600">
                <a:off x="2465640" y="282924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95"/>
              <p:cNvSpPr/>
              <p:nvPr/>
            </p:nvSpPr>
            <p:spPr>
              <a:xfrm rot="10461600">
                <a:off x="2422080" y="280296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96"/>
            <p:cNvGrpSpPr/>
            <p:nvPr/>
          </p:nvGrpSpPr>
          <p:grpSpPr>
            <a:xfrm>
              <a:off x="2009880" y="2818440"/>
              <a:ext cx="613800" cy="617760"/>
              <a:chOff x="2009880" y="2818440"/>
              <a:chExt cx="613800" cy="617760"/>
            </a:xfrm>
          </p:grpSpPr>
          <p:sp>
            <p:nvSpPr>
              <p:cNvPr id="272" name="Freeform 197"/>
              <p:cNvSpPr/>
              <p:nvPr/>
            </p:nvSpPr>
            <p:spPr>
              <a:xfrm rot="13597800">
                <a:off x="2076120" y="2932200"/>
                <a:ext cx="481320" cy="389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98"/>
              <p:cNvSpPr/>
              <p:nvPr/>
            </p:nvSpPr>
            <p:spPr>
              <a:xfrm rot="15642600">
                <a:off x="2014560" y="3110040"/>
                <a:ext cx="55008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99"/>
              <p:cNvSpPr/>
              <p:nvPr/>
            </p:nvSpPr>
            <p:spPr>
              <a:xfrm rot="15940800">
                <a:off x="2131560" y="320580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00"/>
              <p:cNvSpPr/>
              <p:nvPr/>
            </p:nvSpPr>
            <p:spPr>
              <a:xfrm rot="15940800">
                <a:off x="2163960" y="316800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01"/>
            <p:cNvGrpSpPr/>
            <p:nvPr/>
          </p:nvGrpSpPr>
          <p:grpSpPr>
            <a:xfrm>
              <a:off x="1896120" y="2347560"/>
              <a:ext cx="617760" cy="612720"/>
              <a:chOff x="1896120" y="2347560"/>
              <a:chExt cx="617760" cy="612720"/>
            </a:xfrm>
          </p:grpSpPr>
          <p:sp>
            <p:nvSpPr>
              <p:cNvPr id="277" name="Freeform 202"/>
              <p:cNvSpPr/>
              <p:nvPr/>
            </p:nvSpPr>
            <p:spPr>
              <a:xfrm rot="2562000">
                <a:off x="1964160" y="2458800"/>
                <a:ext cx="481320" cy="38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03"/>
              <p:cNvSpPr/>
              <p:nvPr/>
            </p:nvSpPr>
            <p:spPr>
              <a:xfrm rot="4606800">
                <a:off x="1956240" y="2623680"/>
                <a:ext cx="550080" cy="4464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04"/>
              <p:cNvSpPr/>
              <p:nvPr/>
            </p:nvSpPr>
            <p:spPr>
              <a:xfrm rot="4905000">
                <a:off x="1970640" y="254340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5"/>
              <p:cNvSpPr/>
              <p:nvPr/>
            </p:nvSpPr>
            <p:spPr>
              <a:xfrm rot="4905000">
                <a:off x="1941480" y="259416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06"/>
            <p:cNvGrpSpPr/>
            <p:nvPr/>
          </p:nvGrpSpPr>
          <p:grpSpPr>
            <a:xfrm>
              <a:off x="2193480" y="2504160"/>
              <a:ext cx="497520" cy="562320"/>
              <a:chOff x="2193480" y="2504160"/>
              <a:chExt cx="497520" cy="562320"/>
            </a:xfrm>
          </p:grpSpPr>
          <p:sp>
            <p:nvSpPr>
              <p:cNvPr id="282" name="Freeform 207"/>
              <p:cNvSpPr/>
              <p:nvPr/>
            </p:nvSpPr>
            <p:spPr>
              <a:xfrm rot="6262200">
                <a:off x="2201760" y="258984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08"/>
              <p:cNvSpPr/>
              <p:nvPr/>
            </p:nvSpPr>
            <p:spPr>
              <a:xfrm rot="8307000">
                <a:off x="2187000" y="278172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09"/>
              <p:cNvSpPr/>
              <p:nvPr/>
            </p:nvSpPr>
            <p:spPr>
              <a:xfrm rot="8605200">
                <a:off x="2305440" y="269928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10"/>
              <p:cNvSpPr/>
              <p:nvPr/>
            </p:nvSpPr>
            <p:spPr>
              <a:xfrm rot="8605200">
                <a:off x="2252160" y="270000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211"/>
            <p:cNvGrpSpPr/>
            <p:nvPr/>
          </p:nvGrpSpPr>
          <p:grpSpPr>
            <a:xfrm>
              <a:off x="1632600" y="2761560"/>
              <a:ext cx="577080" cy="610920"/>
              <a:chOff x="1632600" y="2761560"/>
              <a:chExt cx="577080" cy="610920"/>
            </a:xfrm>
          </p:grpSpPr>
          <p:sp>
            <p:nvSpPr>
              <p:cNvPr id="287" name="Freeform 212"/>
              <p:cNvSpPr/>
              <p:nvPr/>
            </p:nvSpPr>
            <p:spPr>
              <a:xfrm rot="17976000">
                <a:off x="1680480" y="2871720"/>
                <a:ext cx="480600" cy="390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13"/>
              <p:cNvSpPr/>
              <p:nvPr/>
            </p:nvSpPr>
            <p:spPr>
              <a:xfrm rot="20020800">
                <a:off x="1632240" y="302076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14"/>
              <p:cNvSpPr/>
              <p:nvPr/>
            </p:nvSpPr>
            <p:spPr>
              <a:xfrm rot="20319000">
                <a:off x="1629720" y="309888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15"/>
              <p:cNvSpPr/>
              <p:nvPr/>
            </p:nvSpPr>
            <p:spPr>
              <a:xfrm rot="20319000">
                <a:off x="1680120" y="312300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16"/>
            <p:cNvGrpSpPr/>
            <p:nvPr/>
          </p:nvGrpSpPr>
          <p:grpSpPr>
            <a:xfrm>
              <a:off x="1979640" y="2844360"/>
              <a:ext cx="505080" cy="574200"/>
              <a:chOff x="1979640" y="2844360"/>
              <a:chExt cx="505080" cy="574200"/>
            </a:xfrm>
          </p:grpSpPr>
          <p:sp>
            <p:nvSpPr>
              <p:cNvPr id="292" name="Freeform 217"/>
              <p:cNvSpPr/>
              <p:nvPr/>
            </p:nvSpPr>
            <p:spPr>
              <a:xfrm rot="15255600">
                <a:off x="1991520" y="2933640"/>
                <a:ext cx="481320" cy="38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18"/>
              <p:cNvSpPr/>
              <p:nvPr/>
            </p:nvSpPr>
            <p:spPr>
              <a:xfrm rot="17300400">
                <a:off x="1930680" y="3098520"/>
                <a:ext cx="550080" cy="4464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19"/>
              <p:cNvSpPr/>
              <p:nvPr/>
            </p:nvSpPr>
            <p:spPr>
              <a:xfrm rot="17598600">
                <a:off x="2000160" y="320580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20"/>
              <p:cNvSpPr/>
              <p:nvPr/>
            </p:nvSpPr>
            <p:spPr>
              <a:xfrm rot="17598600">
                <a:off x="2048760" y="318816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21"/>
            <p:cNvGrpSpPr/>
            <p:nvPr/>
          </p:nvGrpSpPr>
          <p:grpSpPr>
            <a:xfrm>
              <a:off x="2154600" y="2864520"/>
              <a:ext cx="585360" cy="530280"/>
              <a:chOff x="2154600" y="2864520"/>
              <a:chExt cx="585360" cy="530280"/>
            </a:xfrm>
          </p:grpSpPr>
          <p:sp>
            <p:nvSpPr>
              <p:cNvPr id="297" name="Freeform 222"/>
              <p:cNvSpPr/>
              <p:nvPr/>
            </p:nvSpPr>
            <p:spPr>
              <a:xfrm rot="11995800">
                <a:off x="2206440" y="2934720"/>
                <a:ext cx="481320" cy="38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23"/>
              <p:cNvSpPr/>
              <p:nvPr/>
            </p:nvSpPr>
            <p:spPr>
              <a:xfrm rot="14040600">
                <a:off x="2150640" y="3124080"/>
                <a:ext cx="550080" cy="4464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24"/>
              <p:cNvSpPr/>
              <p:nvPr/>
            </p:nvSpPr>
            <p:spPr>
              <a:xfrm rot="14338800">
                <a:off x="2302560" y="318816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25"/>
              <p:cNvSpPr/>
              <p:nvPr/>
            </p:nvSpPr>
            <p:spPr>
              <a:xfrm rot="14338800">
                <a:off x="2311920" y="314064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226"/>
            <p:cNvGrpSpPr/>
            <p:nvPr/>
          </p:nvGrpSpPr>
          <p:grpSpPr>
            <a:xfrm>
              <a:off x="2138400" y="2652840"/>
              <a:ext cx="602640" cy="559080"/>
              <a:chOff x="2138400" y="2652840"/>
              <a:chExt cx="602640" cy="559080"/>
            </a:xfrm>
          </p:grpSpPr>
          <p:sp>
            <p:nvSpPr>
              <p:cNvPr id="302" name="Freeform 227"/>
              <p:cNvSpPr/>
              <p:nvPr/>
            </p:nvSpPr>
            <p:spPr>
              <a:xfrm rot="9269400">
                <a:off x="2198880" y="273708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28"/>
              <p:cNvSpPr/>
              <p:nvPr/>
            </p:nvSpPr>
            <p:spPr>
              <a:xfrm rot="11314200">
                <a:off x="2162520" y="293652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29"/>
              <p:cNvSpPr/>
              <p:nvPr/>
            </p:nvSpPr>
            <p:spPr>
              <a:xfrm rot="11612400">
                <a:off x="2330640" y="292428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230"/>
              <p:cNvSpPr/>
              <p:nvPr/>
            </p:nvSpPr>
            <p:spPr>
              <a:xfrm rot="11612400">
                <a:off x="2300400" y="288540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231"/>
            <p:cNvGrpSpPr/>
            <p:nvPr/>
          </p:nvGrpSpPr>
          <p:grpSpPr>
            <a:xfrm>
              <a:off x="1805400" y="2584440"/>
              <a:ext cx="500400" cy="403200"/>
              <a:chOff x="1805400" y="2584440"/>
              <a:chExt cx="500400" cy="403200"/>
            </a:xfrm>
          </p:grpSpPr>
          <p:sp>
            <p:nvSpPr>
              <p:cNvPr id="307" name="Freeform 232"/>
              <p:cNvSpPr/>
              <p:nvPr/>
            </p:nvSpPr>
            <p:spPr>
              <a:xfrm rot="94200">
                <a:off x="1814760" y="259092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33"/>
              <p:cNvSpPr/>
              <p:nvPr/>
            </p:nvSpPr>
            <p:spPr>
              <a:xfrm rot="2139000">
                <a:off x="1794960" y="274032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34"/>
              <p:cNvSpPr/>
              <p:nvPr/>
            </p:nvSpPr>
            <p:spPr>
              <a:xfrm rot="2437200">
                <a:off x="1766520" y="271692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35"/>
              <p:cNvSpPr/>
              <p:nvPr/>
            </p:nvSpPr>
            <p:spPr>
              <a:xfrm rot="2437200">
                <a:off x="1773360" y="277524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236"/>
            <p:cNvGrpSpPr/>
            <p:nvPr/>
          </p:nvGrpSpPr>
          <p:grpSpPr>
            <a:xfrm>
              <a:off x="1614600" y="2667240"/>
              <a:ext cx="614520" cy="586440"/>
              <a:chOff x="1614600" y="2667240"/>
              <a:chExt cx="614520" cy="586440"/>
            </a:xfrm>
          </p:grpSpPr>
          <p:sp>
            <p:nvSpPr>
              <p:cNvPr id="312" name="Freeform 237"/>
              <p:cNvSpPr/>
              <p:nvPr/>
            </p:nvSpPr>
            <p:spPr>
              <a:xfrm rot="19669800">
                <a:off x="1681560" y="276516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38"/>
              <p:cNvSpPr/>
              <p:nvPr/>
            </p:nvSpPr>
            <p:spPr>
              <a:xfrm rot="114600">
                <a:off x="1646280" y="291096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39"/>
              <p:cNvSpPr/>
              <p:nvPr/>
            </p:nvSpPr>
            <p:spPr>
              <a:xfrm rot="412800">
                <a:off x="1618200" y="294660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40"/>
              <p:cNvSpPr/>
              <p:nvPr/>
            </p:nvSpPr>
            <p:spPr>
              <a:xfrm rot="412800">
                <a:off x="1653480" y="299196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241"/>
            <p:cNvGrpSpPr/>
            <p:nvPr/>
          </p:nvGrpSpPr>
          <p:grpSpPr>
            <a:xfrm>
              <a:off x="2031120" y="2718360"/>
              <a:ext cx="411840" cy="412560"/>
              <a:chOff x="2031120" y="2718360"/>
              <a:chExt cx="411840" cy="412560"/>
            </a:xfrm>
          </p:grpSpPr>
          <p:sp>
            <p:nvSpPr>
              <p:cNvPr id="317" name="AutoShape 242"/>
              <p:cNvSpPr/>
              <p:nvPr/>
            </p:nvSpPr>
            <p:spPr>
              <a:xfrm>
                <a:off x="2031120" y="2718360"/>
                <a:ext cx="411840" cy="412560"/>
              </a:xfrm>
              <a:custGeom>
                <a:avLst/>
                <a:gdLst>
                  <a:gd name="textAreaLeft" fmla="*/ 96480 w 411840"/>
                  <a:gd name="textAreaRight" fmla="*/ 315360 w 411840"/>
                  <a:gd name="textAreaTop" fmla="*/ 96840 h 412560"/>
                  <a:gd name="textAreaBottom" fmla="*/ 315720 h 41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243"/>
              <p:cNvSpPr/>
              <p:nvPr/>
            </p:nvSpPr>
            <p:spPr>
              <a:xfrm>
                <a:off x="2102760" y="2778840"/>
                <a:ext cx="274680" cy="27504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Group 244"/>
          <p:cNvGrpSpPr/>
          <p:nvPr/>
        </p:nvGrpSpPr>
        <p:grpSpPr>
          <a:xfrm>
            <a:off x="947520" y="2714760"/>
            <a:ext cx="1792800" cy="1947960"/>
            <a:chOff x="947520" y="2714760"/>
            <a:chExt cx="1792800" cy="1947960"/>
          </a:xfrm>
        </p:grpSpPr>
        <p:grpSp>
          <p:nvGrpSpPr>
            <p:cNvPr id="320" name="Group 245"/>
            <p:cNvGrpSpPr/>
            <p:nvPr/>
          </p:nvGrpSpPr>
          <p:grpSpPr>
            <a:xfrm>
              <a:off x="1747440" y="3108960"/>
              <a:ext cx="979920" cy="983520"/>
              <a:chOff x="1747440" y="3108960"/>
              <a:chExt cx="979920" cy="983520"/>
            </a:xfrm>
          </p:grpSpPr>
          <p:sp>
            <p:nvSpPr>
              <p:cNvPr id="321" name="Freeform 246"/>
              <p:cNvSpPr/>
              <p:nvPr/>
            </p:nvSpPr>
            <p:spPr>
              <a:xfrm rot="18826800">
                <a:off x="1859400" y="3283920"/>
                <a:ext cx="75528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47"/>
              <p:cNvSpPr/>
              <p:nvPr/>
            </p:nvSpPr>
            <p:spPr>
              <a:xfrm rot="20871600">
                <a:off x="1793880" y="3521880"/>
                <a:ext cx="86328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48"/>
              <p:cNvSpPr/>
              <p:nvPr/>
            </p:nvSpPr>
            <p:spPr>
              <a:xfrm rot="21169800">
                <a:off x="1765440" y="3615840"/>
                <a:ext cx="64728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49"/>
              <p:cNvSpPr/>
              <p:nvPr/>
            </p:nvSpPr>
            <p:spPr>
              <a:xfrm rot="21169800">
                <a:off x="1835280" y="3674160"/>
                <a:ext cx="64764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250"/>
            <p:cNvGrpSpPr/>
            <p:nvPr/>
          </p:nvGrpSpPr>
          <p:grpSpPr>
            <a:xfrm>
              <a:off x="1762920" y="2930760"/>
              <a:ext cx="796320" cy="885240"/>
              <a:chOff x="1762920" y="2930760"/>
              <a:chExt cx="796320" cy="885240"/>
            </a:xfrm>
          </p:grpSpPr>
          <p:sp>
            <p:nvSpPr>
              <p:cNvPr id="326" name="Freeform 251"/>
              <p:cNvSpPr/>
              <p:nvPr/>
            </p:nvSpPr>
            <p:spPr>
              <a:xfrm rot="17034600">
                <a:off x="1783440" y="3056760"/>
                <a:ext cx="75492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52"/>
              <p:cNvSpPr/>
              <p:nvPr/>
            </p:nvSpPr>
            <p:spPr>
              <a:xfrm rot="19078800">
                <a:off x="1698120" y="3305520"/>
                <a:ext cx="86292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53"/>
              <p:cNvSpPr/>
              <p:nvPr/>
            </p:nvSpPr>
            <p:spPr>
              <a:xfrm rot="19377600">
                <a:off x="1730160" y="3456360"/>
                <a:ext cx="64692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54"/>
              <p:cNvSpPr/>
              <p:nvPr/>
            </p:nvSpPr>
            <p:spPr>
              <a:xfrm rot="19377600">
                <a:off x="1815120" y="3473280"/>
                <a:ext cx="64728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255"/>
            <p:cNvGrpSpPr/>
            <p:nvPr/>
          </p:nvGrpSpPr>
          <p:grpSpPr>
            <a:xfrm>
              <a:off x="1302120" y="2714760"/>
              <a:ext cx="975600" cy="984960"/>
              <a:chOff x="1302120" y="2714760"/>
              <a:chExt cx="975600" cy="984960"/>
            </a:xfrm>
          </p:grpSpPr>
          <p:sp>
            <p:nvSpPr>
              <p:cNvPr id="331" name="Freeform 256"/>
              <p:cNvSpPr/>
              <p:nvPr/>
            </p:nvSpPr>
            <p:spPr>
              <a:xfrm rot="13688400">
                <a:off x="1411920" y="2890800"/>
                <a:ext cx="755280" cy="63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57"/>
              <p:cNvSpPr/>
              <p:nvPr/>
            </p:nvSpPr>
            <p:spPr>
              <a:xfrm rot="15733200">
                <a:off x="1314360" y="3178800"/>
                <a:ext cx="863280" cy="72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58"/>
              <p:cNvSpPr/>
              <p:nvPr/>
            </p:nvSpPr>
            <p:spPr>
              <a:xfrm rot="16031400">
                <a:off x="1496160" y="3330720"/>
                <a:ext cx="64728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59"/>
              <p:cNvSpPr/>
              <p:nvPr/>
            </p:nvSpPr>
            <p:spPr>
              <a:xfrm rot="16031400">
                <a:off x="1550880" y="3273840"/>
                <a:ext cx="64764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260"/>
            <p:cNvGrpSpPr/>
            <p:nvPr/>
          </p:nvGrpSpPr>
          <p:grpSpPr>
            <a:xfrm>
              <a:off x="959400" y="2982600"/>
              <a:ext cx="890640" cy="789840"/>
              <a:chOff x="959400" y="2982600"/>
              <a:chExt cx="890640" cy="789840"/>
            </a:xfrm>
          </p:grpSpPr>
          <p:sp>
            <p:nvSpPr>
              <p:cNvPr id="336" name="Freeform 261"/>
              <p:cNvSpPr/>
              <p:nvPr/>
            </p:nvSpPr>
            <p:spPr>
              <a:xfrm rot="10003800">
                <a:off x="1022040" y="3060720"/>
                <a:ext cx="75528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62"/>
              <p:cNvSpPr/>
              <p:nvPr/>
            </p:nvSpPr>
            <p:spPr>
              <a:xfrm rot="12048600">
                <a:off x="954720" y="3382560"/>
                <a:ext cx="86328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63"/>
              <p:cNvSpPr/>
              <p:nvPr/>
            </p:nvSpPr>
            <p:spPr>
              <a:xfrm rot="12346800">
                <a:off x="1223280" y="3395160"/>
                <a:ext cx="64728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64"/>
              <p:cNvSpPr/>
              <p:nvPr/>
            </p:nvSpPr>
            <p:spPr>
              <a:xfrm rot="12346800">
                <a:off x="1191240" y="3324600"/>
                <a:ext cx="64764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265"/>
            <p:cNvGrpSpPr/>
            <p:nvPr/>
          </p:nvGrpSpPr>
          <p:grpSpPr>
            <a:xfrm>
              <a:off x="1461960" y="3593160"/>
              <a:ext cx="981000" cy="982440"/>
              <a:chOff x="1461960" y="3593160"/>
              <a:chExt cx="981000" cy="982440"/>
            </a:xfrm>
          </p:grpSpPr>
          <p:sp>
            <p:nvSpPr>
              <p:cNvPr id="341" name="Freeform 266"/>
              <p:cNvSpPr/>
              <p:nvPr/>
            </p:nvSpPr>
            <p:spPr>
              <a:xfrm rot="2727600">
                <a:off x="1574280" y="3767760"/>
                <a:ext cx="755640" cy="63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67"/>
              <p:cNvSpPr/>
              <p:nvPr/>
            </p:nvSpPr>
            <p:spPr>
              <a:xfrm rot="4772400">
                <a:off x="1563120" y="4037400"/>
                <a:ext cx="863640" cy="72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68"/>
              <p:cNvSpPr/>
              <p:nvPr/>
            </p:nvSpPr>
            <p:spPr>
              <a:xfrm rot="5070600">
                <a:off x="1590840" y="3908160"/>
                <a:ext cx="64764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69"/>
              <p:cNvSpPr/>
              <p:nvPr/>
            </p:nvSpPr>
            <p:spPr>
              <a:xfrm rot="5070600">
                <a:off x="1539360" y="3985560"/>
                <a:ext cx="64800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270"/>
            <p:cNvGrpSpPr/>
            <p:nvPr/>
          </p:nvGrpSpPr>
          <p:grpSpPr>
            <a:xfrm>
              <a:off x="1145520" y="3644640"/>
              <a:ext cx="681840" cy="795960"/>
              <a:chOff x="1145520" y="3644640"/>
              <a:chExt cx="681840" cy="795960"/>
            </a:xfrm>
          </p:grpSpPr>
          <p:sp>
            <p:nvSpPr>
              <p:cNvPr id="346" name="Freeform 271"/>
              <p:cNvSpPr/>
              <p:nvPr/>
            </p:nvSpPr>
            <p:spPr>
              <a:xfrm rot="5628000">
                <a:off x="1108440" y="3726000"/>
                <a:ext cx="755640" cy="63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72"/>
              <p:cNvSpPr/>
              <p:nvPr/>
            </p:nvSpPr>
            <p:spPr>
              <a:xfrm rot="7672800">
                <a:off x="1090800" y="4031640"/>
                <a:ext cx="863640" cy="72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273"/>
              <p:cNvSpPr/>
              <p:nvPr/>
            </p:nvSpPr>
            <p:spPr>
              <a:xfrm rot="7971000">
                <a:off x="1249560" y="3888720"/>
                <a:ext cx="64764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274"/>
              <p:cNvSpPr/>
              <p:nvPr/>
            </p:nvSpPr>
            <p:spPr>
              <a:xfrm rot="7971000">
                <a:off x="1163520" y="3904560"/>
                <a:ext cx="64800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275"/>
            <p:cNvGrpSpPr/>
            <p:nvPr/>
          </p:nvGrpSpPr>
          <p:grpSpPr>
            <a:xfrm>
              <a:off x="951480" y="3353400"/>
              <a:ext cx="896400" cy="954360"/>
              <a:chOff x="951480" y="3353400"/>
              <a:chExt cx="896400" cy="954360"/>
            </a:xfrm>
          </p:grpSpPr>
          <p:sp>
            <p:nvSpPr>
              <p:cNvPr id="351" name="Freeform 276"/>
              <p:cNvSpPr/>
              <p:nvPr/>
            </p:nvSpPr>
            <p:spPr>
              <a:xfrm rot="6925800">
                <a:off x="1022040" y="3513600"/>
                <a:ext cx="75528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77"/>
              <p:cNvSpPr/>
              <p:nvPr/>
            </p:nvSpPr>
            <p:spPr>
              <a:xfrm rot="8970600">
                <a:off x="992520" y="3830760"/>
                <a:ext cx="86328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278"/>
              <p:cNvSpPr/>
              <p:nvPr/>
            </p:nvSpPr>
            <p:spPr>
              <a:xfrm rot="9268800">
                <a:off x="1203120" y="3717000"/>
                <a:ext cx="64728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79"/>
              <p:cNvSpPr/>
              <p:nvPr/>
            </p:nvSpPr>
            <p:spPr>
              <a:xfrm rot="9268800">
                <a:off x="1121400" y="3700800"/>
                <a:ext cx="64764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80"/>
            <p:cNvGrpSpPr/>
            <p:nvPr/>
          </p:nvGrpSpPr>
          <p:grpSpPr>
            <a:xfrm>
              <a:off x="1831680" y="3421080"/>
              <a:ext cx="908640" cy="817200"/>
              <a:chOff x="1831680" y="3421080"/>
              <a:chExt cx="908640" cy="817200"/>
            </a:xfrm>
          </p:grpSpPr>
          <p:sp>
            <p:nvSpPr>
              <p:cNvPr id="356" name="Freeform 281"/>
              <p:cNvSpPr/>
              <p:nvPr/>
            </p:nvSpPr>
            <p:spPr>
              <a:xfrm rot="20636400">
                <a:off x="1911960" y="3512880"/>
                <a:ext cx="75528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82"/>
              <p:cNvSpPr/>
              <p:nvPr/>
            </p:nvSpPr>
            <p:spPr>
              <a:xfrm rot="1081200">
                <a:off x="1869120" y="3750480"/>
                <a:ext cx="86328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83"/>
              <p:cNvSpPr/>
              <p:nvPr/>
            </p:nvSpPr>
            <p:spPr>
              <a:xfrm rot="1379400">
                <a:off x="1816560" y="3764880"/>
                <a:ext cx="64728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84"/>
              <p:cNvSpPr/>
              <p:nvPr/>
            </p:nvSpPr>
            <p:spPr>
              <a:xfrm rot="1379400">
                <a:off x="1851840" y="3851280"/>
                <a:ext cx="64764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285"/>
            <p:cNvGrpSpPr/>
            <p:nvPr/>
          </p:nvGrpSpPr>
          <p:grpSpPr>
            <a:xfrm>
              <a:off x="1644840" y="3615840"/>
              <a:ext cx="877320" cy="771120"/>
              <a:chOff x="1644840" y="3615840"/>
              <a:chExt cx="877320" cy="771120"/>
            </a:xfrm>
          </p:grpSpPr>
          <p:sp>
            <p:nvSpPr>
              <p:cNvPr id="361" name="Freeform 286"/>
              <p:cNvSpPr/>
              <p:nvPr/>
            </p:nvSpPr>
            <p:spPr>
              <a:xfrm rot="805800">
                <a:off x="1705320" y="3695040"/>
                <a:ext cx="755640" cy="61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87"/>
              <p:cNvSpPr/>
              <p:nvPr/>
            </p:nvSpPr>
            <p:spPr>
              <a:xfrm rot="2850600">
                <a:off x="1681200" y="3935160"/>
                <a:ext cx="863640" cy="70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88"/>
              <p:cNvSpPr/>
              <p:nvPr/>
            </p:nvSpPr>
            <p:spPr>
              <a:xfrm rot="3148800">
                <a:off x="1648440" y="3868200"/>
                <a:ext cx="647640" cy="522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89"/>
              <p:cNvSpPr/>
              <p:nvPr/>
            </p:nvSpPr>
            <p:spPr>
              <a:xfrm rot="3148800">
                <a:off x="1643040" y="3961080"/>
                <a:ext cx="648000" cy="349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290"/>
            <p:cNvGrpSpPr/>
            <p:nvPr/>
          </p:nvGrpSpPr>
          <p:grpSpPr>
            <a:xfrm>
              <a:off x="947520" y="3161160"/>
              <a:ext cx="1039680" cy="970920"/>
              <a:chOff x="947520" y="3161160"/>
              <a:chExt cx="1039680" cy="970920"/>
            </a:xfrm>
          </p:grpSpPr>
          <p:sp>
            <p:nvSpPr>
              <p:cNvPr id="366" name="Freeform 291"/>
              <p:cNvSpPr/>
              <p:nvPr/>
            </p:nvSpPr>
            <p:spPr>
              <a:xfrm rot="7717200">
                <a:off x="1219320" y="3178800"/>
                <a:ext cx="495720" cy="93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92"/>
              <p:cNvSpPr/>
              <p:nvPr/>
            </p:nvSpPr>
            <p:spPr>
              <a:xfrm rot="9762000">
                <a:off x="1201680" y="3654000"/>
                <a:ext cx="566640" cy="107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3"/>
              <p:cNvSpPr/>
              <p:nvPr/>
            </p:nvSpPr>
            <p:spPr>
              <a:xfrm rot="10060200">
                <a:off x="1344960" y="3551400"/>
                <a:ext cx="424800" cy="79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94"/>
              <p:cNvSpPr/>
              <p:nvPr/>
            </p:nvSpPr>
            <p:spPr>
              <a:xfrm rot="10060200">
                <a:off x="1285920" y="3489840"/>
                <a:ext cx="42516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95"/>
            <p:cNvGrpSpPr/>
            <p:nvPr/>
          </p:nvGrpSpPr>
          <p:grpSpPr>
            <a:xfrm>
              <a:off x="1466280" y="2839680"/>
              <a:ext cx="953640" cy="869760"/>
              <a:chOff x="1466280" y="2839680"/>
              <a:chExt cx="953640" cy="869760"/>
            </a:xfrm>
          </p:grpSpPr>
          <p:sp>
            <p:nvSpPr>
              <p:cNvPr id="371" name="Freeform 296"/>
              <p:cNvSpPr/>
              <p:nvPr/>
            </p:nvSpPr>
            <p:spPr>
              <a:xfrm rot="13857000">
                <a:off x="1762200" y="2807280"/>
                <a:ext cx="361800" cy="93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97"/>
              <p:cNvSpPr/>
              <p:nvPr/>
            </p:nvSpPr>
            <p:spPr>
              <a:xfrm rot="15901800">
                <a:off x="1671480" y="3223440"/>
                <a:ext cx="413640" cy="107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98"/>
              <p:cNvSpPr/>
              <p:nvPr/>
            </p:nvSpPr>
            <p:spPr>
              <a:xfrm rot="16200000">
                <a:off x="1821960" y="3306960"/>
                <a:ext cx="310320" cy="79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99"/>
              <p:cNvSpPr/>
              <p:nvPr/>
            </p:nvSpPr>
            <p:spPr>
              <a:xfrm rot="16200000">
                <a:off x="1907280" y="3289680"/>
                <a:ext cx="31032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00"/>
            <p:cNvGrpSpPr/>
            <p:nvPr/>
          </p:nvGrpSpPr>
          <p:grpSpPr>
            <a:xfrm>
              <a:off x="1272240" y="2999880"/>
              <a:ext cx="729000" cy="776160"/>
              <a:chOff x="1272240" y="2999880"/>
              <a:chExt cx="729000" cy="776160"/>
            </a:xfrm>
          </p:grpSpPr>
          <p:sp>
            <p:nvSpPr>
              <p:cNvPr id="376" name="Freeform 301"/>
              <p:cNvSpPr/>
              <p:nvPr/>
            </p:nvSpPr>
            <p:spPr>
              <a:xfrm rot="11895600">
                <a:off x="1357200" y="3071520"/>
                <a:ext cx="558720" cy="63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02"/>
              <p:cNvSpPr/>
              <p:nvPr/>
            </p:nvSpPr>
            <p:spPr>
              <a:xfrm rot="13940400">
                <a:off x="1282680" y="3378960"/>
                <a:ext cx="638280" cy="72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03"/>
              <p:cNvSpPr/>
              <p:nvPr/>
            </p:nvSpPr>
            <p:spPr>
              <a:xfrm rot="14238600">
                <a:off x="1477080" y="3443040"/>
                <a:ext cx="47880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04"/>
              <p:cNvSpPr/>
              <p:nvPr/>
            </p:nvSpPr>
            <p:spPr>
              <a:xfrm rot="14238600">
                <a:off x="1500120" y="3381480"/>
                <a:ext cx="47880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305"/>
            <p:cNvGrpSpPr/>
            <p:nvPr/>
          </p:nvGrpSpPr>
          <p:grpSpPr>
            <a:xfrm>
              <a:off x="1275840" y="3722400"/>
              <a:ext cx="872280" cy="940320"/>
              <a:chOff x="1275840" y="3722400"/>
              <a:chExt cx="872280" cy="940320"/>
            </a:xfrm>
          </p:grpSpPr>
          <p:sp>
            <p:nvSpPr>
              <p:cNvPr id="381" name="Freeform 306"/>
              <p:cNvSpPr/>
              <p:nvPr/>
            </p:nvSpPr>
            <p:spPr>
              <a:xfrm rot="4063800">
                <a:off x="1334160" y="3876480"/>
                <a:ext cx="75564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07"/>
              <p:cNvSpPr/>
              <p:nvPr/>
            </p:nvSpPr>
            <p:spPr>
              <a:xfrm rot="6108000">
                <a:off x="1323360" y="4162680"/>
                <a:ext cx="86364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08"/>
              <p:cNvSpPr/>
              <p:nvPr/>
            </p:nvSpPr>
            <p:spPr>
              <a:xfrm rot="6406200">
                <a:off x="1409760" y="4012920"/>
                <a:ext cx="64764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09"/>
              <p:cNvSpPr/>
              <p:nvPr/>
            </p:nvSpPr>
            <p:spPr>
              <a:xfrm rot="6406200">
                <a:off x="1335600" y="4065840"/>
                <a:ext cx="64800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310"/>
            <p:cNvGrpSpPr/>
            <p:nvPr/>
          </p:nvGrpSpPr>
          <p:grpSpPr>
            <a:xfrm>
              <a:off x="1474560" y="3360600"/>
              <a:ext cx="647280" cy="647640"/>
              <a:chOff x="1474560" y="3360600"/>
              <a:chExt cx="647280" cy="647640"/>
            </a:xfrm>
          </p:grpSpPr>
          <p:sp>
            <p:nvSpPr>
              <p:cNvPr id="386" name="AutoShape 311"/>
              <p:cNvSpPr/>
              <p:nvPr/>
            </p:nvSpPr>
            <p:spPr>
              <a:xfrm>
                <a:off x="1474560" y="3360600"/>
                <a:ext cx="647280" cy="647640"/>
              </a:xfrm>
              <a:custGeom>
                <a:avLst/>
                <a:gdLst>
                  <a:gd name="textAreaLeft" fmla="*/ 151920 w 647280"/>
                  <a:gd name="textAreaRight" fmla="*/ 495360 w 647280"/>
                  <a:gd name="textAreaTop" fmla="*/ 151920 h 647640"/>
                  <a:gd name="textAreaBottom" fmla="*/ 49572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312"/>
              <p:cNvSpPr/>
              <p:nvPr/>
            </p:nvSpPr>
            <p:spPr>
              <a:xfrm>
                <a:off x="1586880" y="3456000"/>
                <a:ext cx="431640" cy="43164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8" name="Group 313"/>
          <p:cNvGrpSpPr/>
          <p:nvPr/>
        </p:nvGrpSpPr>
        <p:grpSpPr>
          <a:xfrm>
            <a:off x="48600" y="2471400"/>
            <a:ext cx="2012040" cy="1789560"/>
            <a:chOff x="48600" y="2471400"/>
            <a:chExt cx="2012040" cy="1789560"/>
          </a:xfrm>
        </p:grpSpPr>
        <p:grpSp>
          <p:nvGrpSpPr>
            <p:cNvPr id="389" name="Group 314"/>
            <p:cNvGrpSpPr/>
            <p:nvPr/>
          </p:nvGrpSpPr>
          <p:grpSpPr>
            <a:xfrm>
              <a:off x="582480" y="3168000"/>
              <a:ext cx="972720" cy="951840"/>
              <a:chOff x="582480" y="3168000"/>
              <a:chExt cx="972720" cy="951840"/>
            </a:xfrm>
          </p:grpSpPr>
          <p:sp>
            <p:nvSpPr>
              <p:cNvPr id="390" name="Freeform 315"/>
              <p:cNvSpPr/>
              <p:nvPr/>
            </p:nvSpPr>
            <p:spPr>
              <a:xfrm rot="13149000">
                <a:off x="690840" y="3337200"/>
                <a:ext cx="75528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316"/>
              <p:cNvSpPr/>
              <p:nvPr/>
            </p:nvSpPr>
            <p:spPr>
              <a:xfrm rot="15194400">
                <a:off x="596160" y="3622680"/>
                <a:ext cx="86328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317"/>
              <p:cNvSpPr/>
              <p:nvPr/>
            </p:nvSpPr>
            <p:spPr>
              <a:xfrm rot="15492600">
                <a:off x="797760" y="3761640"/>
                <a:ext cx="64728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318"/>
              <p:cNvSpPr/>
              <p:nvPr/>
            </p:nvSpPr>
            <p:spPr>
              <a:xfrm rot="15492600">
                <a:off x="839160" y="3696840"/>
                <a:ext cx="64764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319"/>
            <p:cNvGrpSpPr/>
            <p:nvPr/>
          </p:nvGrpSpPr>
          <p:grpSpPr>
            <a:xfrm>
              <a:off x="239400" y="3143520"/>
              <a:ext cx="808200" cy="902880"/>
              <a:chOff x="239400" y="3143520"/>
              <a:chExt cx="808200" cy="902880"/>
            </a:xfrm>
          </p:grpSpPr>
          <p:sp>
            <p:nvSpPr>
              <p:cNvPr id="395" name="Freeform 320"/>
              <p:cNvSpPr/>
              <p:nvPr/>
            </p:nvSpPr>
            <p:spPr>
              <a:xfrm rot="17227800">
                <a:off x="265680" y="328824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321"/>
              <p:cNvSpPr/>
              <p:nvPr/>
            </p:nvSpPr>
            <p:spPr>
              <a:xfrm rot="19273200">
                <a:off x="182520" y="352764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322"/>
              <p:cNvSpPr/>
              <p:nvPr/>
            </p:nvSpPr>
            <p:spPr>
              <a:xfrm rot="19571400">
                <a:off x="205560" y="367236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323"/>
              <p:cNvSpPr/>
              <p:nvPr/>
            </p:nvSpPr>
            <p:spPr>
              <a:xfrm rot="19571400">
                <a:off x="288720" y="369144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24"/>
            <p:cNvGrpSpPr/>
            <p:nvPr/>
          </p:nvGrpSpPr>
          <p:grpSpPr>
            <a:xfrm>
              <a:off x="897480" y="3257640"/>
              <a:ext cx="833040" cy="711000"/>
              <a:chOff x="897480" y="3257640"/>
              <a:chExt cx="833040" cy="711000"/>
            </a:xfrm>
          </p:grpSpPr>
          <p:sp>
            <p:nvSpPr>
              <p:cNvPr id="400" name="Freeform 325"/>
              <p:cNvSpPr/>
              <p:nvPr/>
            </p:nvSpPr>
            <p:spPr>
              <a:xfrm rot="11275800">
                <a:off x="936000" y="330660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26"/>
              <p:cNvSpPr/>
              <p:nvPr/>
            </p:nvSpPr>
            <p:spPr>
              <a:xfrm rot="13320600">
                <a:off x="854640" y="361116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27"/>
              <p:cNvSpPr/>
              <p:nvPr/>
            </p:nvSpPr>
            <p:spPr>
              <a:xfrm rot="13619400">
                <a:off x="1109880" y="368280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28"/>
              <p:cNvSpPr/>
              <p:nvPr/>
            </p:nvSpPr>
            <p:spPr>
              <a:xfrm rot="13619400">
                <a:off x="1107000" y="360720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329"/>
            <p:cNvGrpSpPr/>
            <p:nvPr/>
          </p:nvGrpSpPr>
          <p:grpSpPr>
            <a:xfrm>
              <a:off x="317160" y="2661480"/>
              <a:ext cx="879120" cy="774720"/>
              <a:chOff x="317160" y="2661480"/>
              <a:chExt cx="879120" cy="774720"/>
            </a:xfrm>
          </p:grpSpPr>
          <p:sp>
            <p:nvSpPr>
              <p:cNvPr id="405" name="Freeform 330"/>
              <p:cNvSpPr/>
              <p:nvPr/>
            </p:nvSpPr>
            <p:spPr>
              <a:xfrm rot="823800">
                <a:off x="378720" y="2742120"/>
                <a:ext cx="755280" cy="61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31"/>
              <p:cNvSpPr/>
              <p:nvPr/>
            </p:nvSpPr>
            <p:spPr>
              <a:xfrm rot="2868600">
                <a:off x="354600" y="2982960"/>
                <a:ext cx="86328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32"/>
              <p:cNvSpPr/>
              <p:nvPr/>
            </p:nvSpPr>
            <p:spPr>
              <a:xfrm rot="3166800">
                <a:off x="323280" y="2915280"/>
                <a:ext cx="64728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33"/>
              <p:cNvSpPr/>
              <p:nvPr/>
            </p:nvSpPr>
            <p:spPr>
              <a:xfrm rot="3166800">
                <a:off x="316440" y="3008160"/>
                <a:ext cx="64764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334"/>
            <p:cNvGrpSpPr/>
            <p:nvPr/>
          </p:nvGrpSpPr>
          <p:grpSpPr>
            <a:xfrm>
              <a:off x="909000" y="2707920"/>
              <a:ext cx="913680" cy="963000"/>
              <a:chOff x="909000" y="2707920"/>
              <a:chExt cx="913680" cy="963000"/>
            </a:xfrm>
          </p:grpSpPr>
          <p:sp>
            <p:nvSpPr>
              <p:cNvPr id="410" name="Freeform 335"/>
              <p:cNvSpPr/>
              <p:nvPr/>
            </p:nvSpPr>
            <p:spPr>
              <a:xfrm rot="7251000">
                <a:off x="987840" y="2882520"/>
                <a:ext cx="755640" cy="61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36"/>
              <p:cNvSpPr/>
              <p:nvPr/>
            </p:nvSpPr>
            <p:spPr>
              <a:xfrm rot="9295800">
                <a:off x="954000" y="319176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37"/>
              <p:cNvSpPr/>
              <p:nvPr/>
            </p:nvSpPr>
            <p:spPr>
              <a:xfrm rot="9594000">
                <a:off x="1176840" y="308952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38"/>
              <p:cNvSpPr/>
              <p:nvPr/>
            </p:nvSpPr>
            <p:spPr>
              <a:xfrm rot="9594000">
                <a:off x="1098000" y="306792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339"/>
            <p:cNvGrpSpPr/>
            <p:nvPr/>
          </p:nvGrpSpPr>
          <p:grpSpPr>
            <a:xfrm>
              <a:off x="48600" y="2821680"/>
              <a:ext cx="919440" cy="825120"/>
              <a:chOff x="48600" y="2821680"/>
              <a:chExt cx="919440" cy="825120"/>
            </a:xfrm>
          </p:grpSpPr>
          <p:sp>
            <p:nvSpPr>
              <p:cNvPr id="415" name="Freeform 340"/>
              <p:cNvSpPr/>
              <p:nvPr/>
            </p:nvSpPr>
            <p:spPr>
              <a:xfrm rot="20461800">
                <a:off x="133560" y="2927520"/>
                <a:ext cx="75528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41"/>
              <p:cNvSpPr/>
              <p:nvPr/>
            </p:nvSpPr>
            <p:spPr>
              <a:xfrm rot="906600">
                <a:off x="88920" y="3156840"/>
                <a:ext cx="86328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42"/>
              <p:cNvSpPr/>
              <p:nvPr/>
            </p:nvSpPr>
            <p:spPr>
              <a:xfrm rot="1205400">
                <a:off x="37800" y="3176640"/>
                <a:ext cx="64728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43"/>
              <p:cNvSpPr/>
              <p:nvPr/>
            </p:nvSpPr>
            <p:spPr>
              <a:xfrm rot="1205400">
                <a:off x="77760" y="3259080"/>
                <a:ext cx="64764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344"/>
            <p:cNvGrpSpPr/>
            <p:nvPr/>
          </p:nvGrpSpPr>
          <p:grpSpPr>
            <a:xfrm>
              <a:off x="649080" y="2586960"/>
              <a:ext cx="813240" cy="914400"/>
              <a:chOff x="649080" y="2586960"/>
              <a:chExt cx="813240" cy="914400"/>
            </a:xfrm>
          </p:grpSpPr>
          <p:sp>
            <p:nvSpPr>
              <p:cNvPr id="420" name="Freeform 345"/>
              <p:cNvSpPr/>
              <p:nvPr/>
            </p:nvSpPr>
            <p:spPr>
              <a:xfrm rot="4341600">
                <a:off x="677880" y="2741400"/>
                <a:ext cx="755640" cy="61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346"/>
              <p:cNvSpPr/>
              <p:nvPr/>
            </p:nvSpPr>
            <p:spPr>
              <a:xfrm rot="6385800">
                <a:off x="665280" y="302220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47"/>
              <p:cNvSpPr/>
              <p:nvPr/>
            </p:nvSpPr>
            <p:spPr>
              <a:xfrm rot="6684000">
                <a:off x="766080" y="287172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48"/>
              <p:cNvSpPr/>
              <p:nvPr/>
            </p:nvSpPr>
            <p:spPr>
              <a:xfrm rot="6684000">
                <a:off x="690840" y="291888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349"/>
            <p:cNvGrpSpPr/>
            <p:nvPr/>
          </p:nvGrpSpPr>
          <p:grpSpPr>
            <a:xfrm>
              <a:off x="467640" y="3328200"/>
              <a:ext cx="847800" cy="932760"/>
              <a:chOff x="467640" y="3328200"/>
              <a:chExt cx="847800" cy="932760"/>
            </a:xfrm>
          </p:grpSpPr>
          <p:sp>
            <p:nvSpPr>
              <p:cNvPr id="425" name="Freeform 350"/>
              <p:cNvSpPr/>
              <p:nvPr/>
            </p:nvSpPr>
            <p:spPr>
              <a:xfrm rot="14905200">
                <a:off x="513360" y="348588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51"/>
              <p:cNvSpPr/>
              <p:nvPr/>
            </p:nvSpPr>
            <p:spPr>
              <a:xfrm rot="16950000">
                <a:off x="416880" y="374976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52"/>
              <p:cNvSpPr/>
              <p:nvPr/>
            </p:nvSpPr>
            <p:spPr>
              <a:xfrm rot="17248800">
                <a:off x="542880" y="391788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53"/>
              <p:cNvSpPr/>
              <p:nvPr/>
            </p:nvSpPr>
            <p:spPr>
              <a:xfrm rot="17248800">
                <a:off x="615240" y="388260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354"/>
            <p:cNvGrpSpPr/>
            <p:nvPr/>
          </p:nvGrpSpPr>
          <p:grpSpPr>
            <a:xfrm>
              <a:off x="167400" y="2958120"/>
              <a:ext cx="955440" cy="972720"/>
              <a:chOff x="167400" y="2958120"/>
              <a:chExt cx="955440" cy="972720"/>
            </a:xfrm>
          </p:grpSpPr>
          <p:sp>
            <p:nvSpPr>
              <p:cNvPr id="430" name="Freeform 355"/>
              <p:cNvSpPr/>
              <p:nvPr/>
            </p:nvSpPr>
            <p:spPr>
              <a:xfrm rot="18606000">
                <a:off x="267120" y="313812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56"/>
              <p:cNvSpPr/>
              <p:nvPr/>
            </p:nvSpPr>
            <p:spPr>
              <a:xfrm rot="20650200">
                <a:off x="199440" y="336852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357"/>
              <p:cNvSpPr/>
              <p:nvPr/>
            </p:nvSpPr>
            <p:spPr>
              <a:xfrm rot="20948400">
                <a:off x="176040" y="346896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358"/>
              <p:cNvSpPr/>
              <p:nvPr/>
            </p:nvSpPr>
            <p:spPr>
              <a:xfrm rot="20948400">
                <a:off x="248760" y="352008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359"/>
            <p:cNvGrpSpPr/>
            <p:nvPr/>
          </p:nvGrpSpPr>
          <p:grpSpPr>
            <a:xfrm>
              <a:off x="1090440" y="2935080"/>
              <a:ext cx="970200" cy="933840"/>
              <a:chOff x="1090440" y="2935080"/>
              <a:chExt cx="970200" cy="933840"/>
            </a:xfrm>
          </p:grpSpPr>
          <p:sp>
            <p:nvSpPr>
              <p:cNvPr id="435" name="Freeform 360"/>
              <p:cNvSpPr/>
              <p:nvPr/>
            </p:nvSpPr>
            <p:spPr>
              <a:xfrm rot="8719200">
                <a:off x="1197360" y="3095280"/>
                <a:ext cx="755640" cy="61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361"/>
              <p:cNvSpPr/>
              <p:nvPr/>
            </p:nvSpPr>
            <p:spPr>
              <a:xfrm rot="10764000">
                <a:off x="1146600" y="340920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62"/>
              <p:cNvSpPr/>
              <p:nvPr/>
            </p:nvSpPr>
            <p:spPr>
              <a:xfrm rot="11062200">
                <a:off x="1405440" y="336492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363"/>
              <p:cNvSpPr/>
              <p:nvPr/>
            </p:nvSpPr>
            <p:spPr>
              <a:xfrm rot="11062200">
                <a:off x="1346040" y="331308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364"/>
            <p:cNvGrpSpPr/>
            <p:nvPr/>
          </p:nvGrpSpPr>
          <p:grpSpPr>
            <a:xfrm>
              <a:off x="808560" y="2678400"/>
              <a:ext cx="734400" cy="850320"/>
              <a:chOff x="808560" y="2678400"/>
              <a:chExt cx="734400" cy="850320"/>
            </a:xfrm>
          </p:grpSpPr>
          <p:sp>
            <p:nvSpPr>
              <p:cNvPr id="440" name="Freeform 365"/>
              <p:cNvSpPr/>
              <p:nvPr/>
            </p:nvSpPr>
            <p:spPr>
              <a:xfrm rot="5998800">
                <a:off x="797760" y="279720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366"/>
              <p:cNvSpPr/>
              <p:nvPr/>
            </p:nvSpPr>
            <p:spPr>
              <a:xfrm rot="8043600">
                <a:off x="776160" y="309600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367"/>
              <p:cNvSpPr/>
              <p:nvPr/>
            </p:nvSpPr>
            <p:spPr>
              <a:xfrm rot="8341800">
                <a:off x="952200" y="296100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368"/>
              <p:cNvSpPr/>
              <p:nvPr/>
            </p:nvSpPr>
            <p:spPr>
              <a:xfrm rot="8341800">
                <a:off x="867240" y="296856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369"/>
            <p:cNvGrpSpPr/>
            <p:nvPr/>
          </p:nvGrpSpPr>
          <p:grpSpPr>
            <a:xfrm>
              <a:off x="389520" y="2471400"/>
              <a:ext cx="966240" cy="968760"/>
              <a:chOff x="389520" y="2471400"/>
              <a:chExt cx="966240" cy="968760"/>
            </a:xfrm>
          </p:grpSpPr>
          <p:sp>
            <p:nvSpPr>
              <p:cNvPr id="445" name="Freeform 370"/>
              <p:cNvSpPr/>
              <p:nvPr/>
            </p:nvSpPr>
            <p:spPr>
              <a:xfrm rot="2739000">
                <a:off x="494640" y="264924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71"/>
              <p:cNvSpPr/>
              <p:nvPr/>
            </p:nvSpPr>
            <p:spPr>
              <a:xfrm rot="4783800">
                <a:off x="482040" y="291024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72"/>
              <p:cNvSpPr/>
              <p:nvPr/>
            </p:nvSpPr>
            <p:spPr>
              <a:xfrm rot="5082000">
                <a:off x="512640" y="277956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373"/>
              <p:cNvSpPr/>
              <p:nvPr/>
            </p:nvSpPr>
            <p:spPr>
              <a:xfrm rot="5082000">
                <a:off x="462600" y="285696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374"/>
            <p:cNvGrpSpPr/>
            <p:nvPr/>
          </p:nvGrpSpPr>
          <p:grpSpPr>
            <a:xfrm>
              <a:off x="349560" y="2930040"/>
              <a:ext cx="798120" cy="617040"/>
              <a:chOff x="349560" y="2930040"/>
              <a:chExt cx="798120" cy="617040"/>
            </a:xfrm>
          </p:grpSpPr>
          <p:sp>
            <p:nvSpPr>
              <p:cNvPr id="450" name="Freeform 375"/>
              <p:cNvSpPr/>
              <p:nvPr/>
            </p:nvSpPr>
            <p:spPr>
              <a:xfrm rot="12600">
                <a:off x="370800" y="293256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376"/>
              <p:cNvSpPr/>
              <p:nvPr/>
            </p:nvSpPr>
            <p:spPr>
              <a:xfrm rot="2057400">
                <a:off x="339120" y="316692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377"/>
              <p:cNvSpPr/>
              <p:nvPr/>
            </p:nvSpPr>
            <p:spPr>
              <a:xfrm rot="2355600">
                <a:off x="293040" y="313380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78"/>
              <p:cNvSpPr/>
              <p:nvPr/>
            </p:nvSpPr>
            <p:spPr>
              <a:xfrm rot="2355600">
                <a:off x="307080" y="322596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379"/>
            <p:cNvGrpSpPr/>
            <p:nvPr/>
          </p:nvGrpSpPr>
          <p:grpSpPr>
            <a:xfrm>
              <a:off x="717840" y="3262680"/>
              <a:ext cx="951840" cy="890640"/>
              <a:chOff x="717840" y="3262680"/>
              <a:chExt cx="951840" cy="890640"/>
            </a:xfrm>
          </p:grpSpPr>
          <p:sp>
            <p:nvSpPr>
              <p:cNvPr id="455" name="Freeform 380"/>
              <p:cNvSpPr/>
              <p:nvPr/>
            </p:nvSpPr>
            <p:spPr>
              <a:xfrm rot="12437400">
                <a:off x="815760" y="3401280"/>
                <a:ext cx="75528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81"/>
              <p:cNvSpPr/>
              <p:nvPr/>
            </p:nvSpPr>
            <p:spPr>
              <a:xfrm rot="14482200">
                <a:off x="725760" y="3695040"/>
                <a:ext cx="86328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382"/>
              <p:cNvSpPr/>
              <p:nvPr/>
            </p:nvSpPr>
            <p:spPr>
              <a:xfrm rot="14781000">
                <a:off x="951120" y="3811320"/>
                <a:ext cx="64728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383"/>
              <p:cNvSpPr/>
              <p:nvPr/>
            </p:nvSpPr>
            <p:spPr>
              <a:xfrm rot="14781000">
                <a:off x="976680" y="3740400"/>
                <a:ext cx="64764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384"/>
            <p:cNvGrpSpPr/>
            <p:nvPr/>
          </p:nvGrpSpPr>
          <p:grpSpPr>
            <a:xfrm>
              <a:off x="1085040" y="3205080"/>
              <a:ext cx="843840" cy="693720"/>
              <a:chOff x="1085040" y="3205080"/>
              <a:chExt cx="843840" cy="693720"/>
            </a:xfrm>
          </p:grpSpPr>
          <p:sp>
            <p:nvSpPr>
              <p:cNvPr id="460" name="Freeform 385"/>
              <p:cNvSpPr/>
              <p:nvPr/>
            </p:nvSpPr>
            <p:spPr>
              <a:xfrm rot="10413000">
                <a:off x="1123920" y="324540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386"/>
              <p:cNvSpPr/>
              <p:nvPr/>
            </p:nvSpPr>
            <p:spPr>
              <a:xfrm rot="12457800">
                <a:off x="1051920" y="355536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387"/>
              <p:cNvSpPr/>
              <p:nvPr/>
            </p:nvSpPr>
            <p:spPr>
              <a:xfrm rot="12756600">
                <a:off x="1317960" y="358884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388"/>
              <p:cNvSpPr/>
              <p:nvPr/>
            </p:nvSpPr>
            <p:spPr>
              <a:xfrm rot="12756600">
                <a:off x="1294200" y="351612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389"/>
            <p:cNvGrpSpPr/>
            <p:nvPr/>
          </p:nvGrpSpPr>
          <p:grpSpPr>
            <a:xfrm>
              <a:off x="598320" y="2955960"/>
              <a:ext cx="864720" cy="864360"/>
              <a:chOff x="598320" y="2955960"/>
              <a:chExt cx="864720" cy="864360"/>
            </a:xfrm>
          </p:grpSpPr>
          <p:sp>
            <p:nvSpPr>
              <p:cNvPr id="465" name="AutoShape 390"/>
              <p:cNvSpPr/>
              <p:nvPr/>
            </p:nvSpPr>
            <p:spPr>
              <a:xfrm rot="12343200">
                <a:off x="706680" y="3063960"/>
                <a:ext cx="647640" cy="647640"/>
              </a:xfrm>
              <a:custGeom>
                <a:avLst/>
                <a:gdLst>
                  <a:gd name="textAreaLeft" fmla="*/ 151920 w 647640"/>
                  <a:gd name="textAreaRight" fmla="*/ 495720 w 647640"/>
                  <a:gd name="textAreaTop" fmla="*/ 151920 h 647640"/>
                  <a:gd name="textAreaBottom" fmla="*/ 49572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391"/>
              <p:cNvSpPr/>
              <p:nvPr/>
            </p:nvSpPr>
            <p:spPr>
              <a:xfrm rot="12343200">
                <a:off x="804600" y="3181320"/>
                <a:ext cx="432000" cy="43164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Group 392"/>
          <p:cNvGrpSpPr/>
          <p:nvPr/>
        </p:nvGrpSpPr>
        <p:grpSpPr>
          <a:xfrm>
            <a:off x="5724360" y="5921280"/>
            <a:ext cx="936720" cy="936720"/>
            <a:chOff x="5724360" y="5921280"/>
            <a:chExt cx="936720" cy="936720"/>
          </a:xfrm>
        </p:grpSpPr>
        <p:sp>
          <p:nvSpPr>
            <p:cNvPr id="468" name="AutoShape 393"/>
            <p:cNvSpPr/>
            <p:nvPr/>
          </p:nvSpPr>
          <p:spPr>
            <a:xfrm>
              <a:off x="5834520" y="6031440"/>
              <a:ext cx="715680" cy="7156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94"/>
            <p:cNvSpPr/>
            <p:nvPr/>
          </p:nvSpPr>
          <p:spPr>
            <a:xfrm>
              <a:off x="5724360" y="5921280"/>
              <a:ext cx="936720" cy="9367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395"/>
          <p:cNvGrpSpPr/>
          <p:nvPr/>
        </p:nvGrpSpPr>
        <p:grpSpPr>
          <a:xfrm>
            <a:off x="6504120" y="5339520"/>
            <a:ext cx="913320" cy="990360"/>
            <a:chOff x="6504120" y="5339520"/>
            <a:chExt cx="913320" cy="990360"/>
          </a:xfrm>
        </p:grpSpPr>
        <p:grpSp>
          <p:nvGrpSpPr>
            <p:cNvPr id="471" name="Group 396"/>
            <p:cNvGrpSpPr/>
            <p:nvPr/>
          </p:nvGrpSpPr>
          <p:grpSpPr>
            <a:xfrm>
              <a:off x="6912000" y="5540040"/>
              <a:ext cx="498600" cy="500400"/>
              <a:chOff x="6912000" y="5540040"/>
              <a:chExt cx="498600" cy="500400"/>
            </a:xfrm>
          </p:grpSpPr>
          <p:sp>
            <p:nvSpPr>
              <p:cNvPr id="472" name="Freeform 397"/>
              <p:cNvSpPr/>
              <p:nvPr/>
            </p:nvSpPr>
            <p:spPr>
              <a:xfrm rot="18826800">
                <a:off x="6968880" y="5628960"/>
                <a:ext cx="38448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398"/>
              <p:cNvSpPr/>
              <p:nvPr/>
            </p:nvSpPr>
            <p:spPr>
              <a:xfrm rot="20871600">
                <a:off x="6935040" y="5750280"/>
                <a:ext cx="43956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399"/>
              <p:cNvSpPr/>
              <p:nvPr/>
            </p:nvSpPr>
            <p:spPr>
              <a:xfrm rot="21169800">
                <a:off x="6920640" y="5798160"/>
                <a:ext cx="3297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400"/>
              <p:cNvSpPr/>
              <p:nvPr/>
            </p:nvSpPr>
            <p:spPr>
              <a:xfrm rot="21169800">
                <a:off x="6955920" y="5827680"/>
                <a:ext cx="32976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01"/>
            <p:cNvGrpSpPr/>
            <p:nvPr/>
          </p:nvGrpSpPr>
          <p:grpSpPr>
            <a:xfrm>
              <a:off x="6919560" y="5449680"/>
              <a:ext cx="404640" cy="450360"/>
              <a:chOff x="6919560" y="5449680"/>
              <a:chExt cx="404640" cy="450360"/>
            </a:xfrm>
          </p:grpSpPr>
          <p:sp>
            <p:nvSpPr>
              <p:cNvPr id="477" name="Freeform 402"/>
              <p:cNvSpPr/>
              <p:nvPr/>
            </p:nvSpPr>
            <p:spPr>
              <a:xfrm rot="17034600">
                <a:off x="6929640" y="5513760"/>
                <a:ext cx="384120" cy="32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403"/>
              <p:cNvSpPr/>
              <p:nvPr/>
            </p:nvSpPr>
            <p:spPr>
              <a:xfrm rot="19078800">
                <a:off x="6886440" y="5640120"/>
                <a:ext cx="43920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404"/>
              <p:cNvSpPr/>
              <p:nvPr/>
            </p:nvSpPr>
            <p:spPr>
              <a:xfrm rot="19377600">
                <a:off x="6902640" y="5716440"/>
                <a:ext cx="32940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405"/>
              <p:cNvSpPr/>
              <p:nvPr/>
            </p:nvSpPr>
            <p:spPr>
              <a:xfrm rot="19377600">
                <a:off x="6945840" y="5725080"/>
                <a:ext cx="32940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406"/>
            <p:cNvGrpSpPr/>
            <p:nvPr/>
          </p:nvGrpSpPr>
          <p:grpSpPr>
            <a:xfrm>
              <a:off x="6684840" y="5339520"/>
              <a:ext cx="496440" cy="501120"/>
              <a:chOff x="6684840" y="5339520"/>
              <a:chExt cx="496440" cy="501120"/>
            </a:xfrm>
          </p:grpSpPr>
          <p:sp>
            <p:nvSpPr>
              <p:cNvPr id="482" name="Freeform 407"/>
              <p:cNvSpPr/>
              <p:nvPr/>
            </p:nvSpPr>
            <p:spPr>
              <a:xfrm rot="13688400">
                <a:off x="6740640" y="5428800"/>
                <a:ext cx="38412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08"/>
              <p:cNvSpPr/>
              <p:nvPr/>
            </p:nvSpPr>
            <p:spPr>
              <a:xfrm rot="15733200">
                <a:off x="6691680" y="5575320"/>
                <a:ext cx="43884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09"/>
              <p:cNvSpPr/>
              <p:nvPr/>
            </p:nvSpPr>
            <p:spPr>
              <a:xfrm rot="16031400">
                <a:off x="6783840" y="5652360"/>
                <a:ext cx="32904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10"/>
              <p:cNvSpPr/>
              <p:nvPr/>
            </p:nvSpPr>
            <p:spPr>
              <a:xfrm rot="16031400">
                <a:off x="6811560" y="5623560"/>
                <a:ext cx="32940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411"/>
            <p:cNvGrpSpPr/>
            <p:nvPr/>
          </p:nvGrpSpPr>
          <p:grpSpPr>
            <a:xfrm>
              <a:off x="6510240" y="5475960"/>
              <a:ext cx="453240" cy="401400"/>
              <a:chOff x="6510240" y="5475960"/>
              <a:chExt cx="453240" cy="401400"/>
            </a:xfrm>
          </p:grpSpPr>
          <p:sp>
            <p:nvSpPr>
              <p:cNvPr id="487" name="Freeform 412"/>
              <p:cNvSpPr/>
              <p:nvPr/>
            </p:nvSpPr>
            <p:spPr>
              <a:xfrm rot="10003800">
                <a:off x="6541920" y="5515560"/>
                <a:ext cx="384480" cy="32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413"/>
              <p:cNvSpPr/>
              <p:nvPr/>
            </p:nvSpPr>
            <p:spPr>
              <a:xfrm rot="12048600">
                <a:off x="6508080" y="5679360"/>
                <a:ext cx="43956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414"/>
              <p:cNvSpPr/>
              <p:nvPr/>
            </p:nvSpPr>
            <p:spPr>
              <a:xfrm rot="12346800">
                <a:off x="6644160" y="5685840"/>
                <a:ext cx="3297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415"/>
              <p:cNvSpPr/>
              <p:nvPr/>
            </p:nvSpPr>
            <p:spPr>
              <a:xfrm rot="12346800">
                <a:off x="6627960" y="5650200"/>
                <a:ext cx="32976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416"/>
            <p:cNvGrpSpPr/>
            <p:nvPr/>
          </p:nvGrpSpPr>
          <p:grpSpPr>
            <a:xfrm>
              <a:off x="6766200" y="5785920"/>
              <a:ext cx="498960" cy="499680"/>
              <a:chOff x="6766200" y="5785920"/>
              <a:chExt cx="498960" cy="499680"/>
            </a:xfrm>
          </p:grpSpPr>
          <p:sp>
            <p:nvSpPr>
              <p:cNvPr id="492" name="Freeform 417"/>
              <p:cNvSpPr/>
              <p:nvPr/>
            </p:nvSpPr>
            <p:spPr>
              <a:xfrm rot="2727600">
                <a:off x="6823440" y="5874480"/>
                <a:ext cx="38412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418"/>
              <p:cNvSpPr/>
              <p:nvPr/>
            </p:nvSpPr>
            <p:spPr>
              <a:xfrm rot="4772400">
                <a:off x="6818040" y="6012000"/>
                <a:ext cx="43920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419"/>
              <p:cNvSpPr/>
              <p:nvPr/>
            </p:nvSpPr>
            <p:spPr>
              <a:xfrm rot="5070600">
                <a:off x="6831720" y="5946480"/>
                <a:ext cx="32940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420"/>
              <p:cNvSpPr/>
              <p:nvPr/>
            </p:nvSpPr>
            <p:spPr>
              <a:xfrm rot="5070600">
                <a:off x="6805440" y="5985720"/>
                <a:ext cx="32940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421"/>
            <p:cNvGrpSpPr/>
            <p:nvPr/>
          </p:nvGrpSpPr>
          <p:grpSpPr>
            <a:xfrm>
              <a:off x="6605280" y="5812560"/>
              <a:ext cx="347040" cy="404640"/>
              <a:chOff x="6605280" y="5812560"/>
              <a:chExt cx="347040" cy="404640"/>
            </a:xfrm>
          </p:grpSpPr>
          <p:sp>
            <p:nvSpPr>
              <p:cNvPr id="497" name="Freeform 422"/>
              <p:cNvSpPr/>
              <p:nvPr/>
            </p:nvSpPr>
            <p:spPr>
              <a:xfrm rot="5628000">
                <a:off x="6586560" y="5853600"/>
                <a:ext cx="38412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423"/>
              <p:cNvSpPr/>
              <p:nvPr/>
            </p:nvSpPr>
            <p:spPr>
              <a:xfrm rot="7672800">
                <a:off x="6577560" y="6009120"/>
                <a:ext cx="43920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424"/>
              <p:cNvSpPr/>
              <p:nvPr/>
            </p:nvSpPr>
            <p:spPr>
              <a:xfrm rot="7971000">
                <a:off x="6657840" y="5936400"/>
                <a:ext cx="32940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425"/>
              <p:cNvSpPr/>
              <p:nvPr/>
            </p:nvSpPr>
            <p:spPr>
              <a:xfrm rot="7971000">
                <a:off x="6614280" y="5944680"/>
                <a:ext cx="32940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426"/>
            <p:cNvGrpSpPr/>
            <p:nvPr/>
          </p:nvGrpSpPr>
          <p:grpSpPr>
            <a:xfrm>
              <a:off x="6506280" y="5664960"/>
              <a:ext cx="455760" cy="485280"/>
              <a:chOff x="6506280" y="5664960"/>
              <a:chExt cx="455760" cy="485280"/>
            </a:xfrm>
          </p:grpSpPr>
          <p:sp>
            <p:nvSpPr>
              <p:cNvPr id="502" name="Freeform 427"/>
              <p:cNvSpPr/>
              <p:nvPr/>
            </p:nvSpPr>
            <p:spPr>
              <a:xfrm rot="6925800">
                <a:off x="6541560" y="5746680"/>
                <a:ext cx="384480" cy="32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428"/>
              <p:cNvSpPr/>
              <p:nvPr/>
            </p:nvSpPr>
            <p:spPr>
              <a:xfrm rot="8970600">
                <a:off x="6527160" y="5907240"/>
                <a:ext cx="43956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29"/>
              <p:cNvSpPr/>
              <p:nvPr/>
            </p:nvSpPr>
            <p:spPr>
              <a:xfrm rot="9268800">
                <a:off x="6634080" y="5850000"/>
                <a:ext cx="3297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30"/>
              <p:cNvSpPr/>
              <p:nvPr/>
            </p:nvSpPr>
            <p:spPr>
              <a:xfrm rot="9268800">
                <a:off x="6592680" y="5841360"/>
                <a:ext cx="32976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31"/>
            <p:cNvGrpSpPr/>
            <p:nvPr/>
          </p:nvGrpSpPr>
          <p:grpSpPr>
            <a:xfrm>
              <a:off x="6954840" y="5699160"/>
              <a:ext cx="462600" cy="415440"/>
              <a:chOff x="6954840" y="5699160"/>
              <a:chExt cx="462600" cy="415440"/>
            </a:xfrm>
          </p:grpSpPr>
          <p:sp>
            <p:nvSpPr>
              <p:cNvPr id="507" name="Freeform 432"/>
              <p:cNvSpPr/>
              <p:nvPr/>
            </p:nvSpPr>
            <p:spPr>
              <a:xfrm rot="20636400">
                <a:off x="6995520" y="5745600"/>
                <a:ext cx="384480" cy="32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433"/>
              <p:cNvSpPr/>
              <p:nvPr/>
            </p:nvSpPr>
            <p:spPr>
              <a:xfrm rot="1081200">
                <a:off x="6973560" y="5866560"/>
                <a:ext cx="43956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434"/>
              <p:cNvSpPr/>
              <p:nvPr/>
            </p:nvSpPr>
            <p:spPr>
              <a:xfrm rot="1379400">
                <a:off x="6946920" y="5873400"/>
                <a:ext cx="3297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435"/>
              <p:cNvSpPr/>
              <p:nvPr/>
            </p:nvSpPr>
            <p:spPr>
              <a:xfrm rot="1379400">
                <a:off x="6964920" y="5917320"/>
                <a:ext cx="32976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436"/>
            <p:cNvGrpSpPr/>
            <p:nvPr/>
          </p:nvGrpSpPr>
          <p:grpSpPr>
            <a:xfrm>
              <a:off x="6859080" y="5797440"/>
              <a:ext cx="446040" cy="392400"/>
              <a:chOff x="6859080" y="5797440"/>
              <a:chExt cx="446040" cy="392400"/>
            </a:xfrm>
          </p:grpSpPr>
          <p:sp>
            <p:nvSpPr>
              <p:cNvPr id="512" name="Freeform 437"/>
              <p:cNvSpPr/>
              <p:nvPr/>
            </p:nvSpPr>
            <p:spPr>
              <a:xfrm rot="805800">
                <a:off x="6889680" y="5837760"/>
                <a:ext cx="384120" cy="31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438"/>
              <p:cNvSpPr/>
              <p:nvPr/>
            </p:nvSpPr>
            <p:spPr>
              <a:xfrm rot="2850600">
                <a:off x="6877800" y="5960160"/>
                <a:ext cx="43920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439"/>
              <p:cNvSpPr/>
              <p:nvPr/>
            </p:nvSpPr>
            <p:spPr>
              <a:xfrm rot="3148800">
                <a:off x="6861600" y="5926320"/>
                <a:ext cx="329400" cy="26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440"/>
              <p:cNvSpPr/>
              <p:nvPr/>
            </p:nvSpPr>
            <p:spPr>
              <a:xfrm rot="3148800">
                <a:off x="6858360" y="5973480"/>
                <a:ext cx="329400" cy="17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441"/>
            <p:cNvGrpSpPr/>
            <p:nvPr/>
          </p:nvGrpSpPr>
          <p:grpSpPr>
            <a:xfrm>
              <a:off x="6504120" y="5565960"/>
              <a:ext cx="529200" cy="494280"/>
              <a:chOff x="6504120" y="5565960"/>
              <a:chExt cx="529200" cy="494280"/>
            </a:xfrm>
          </p:grpSpPr>
          <p:sp>
            <p:nvSpPr>
              <p:cNvPr id="517" name="Freeform 442"/>
              <p:cNvSpPr/>
              <p:nvPr/>
            </p:nvSpPr>
            <p:spPr>
              <a:xfrm rot="7717200">
                <a:off x="6642360" y="5574960"/>
                <a:ext cx="252360" cy="475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443"/>
              <p:cNvSpPr/>
              <p:nvPr/>
            </p:nvSpPr>
            <p:spPr>
              <a:xfrm rot="9762000">
                <a:off x="6633000" y="5817240"/>
                <a:ext cx="288720" cy="54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444"/>
              <p:cNvSpPr/>
              <p:nvPr/>
            </p:nvSpPr>
            <p:spPr>
              <a:xfrm rot="10060200">
                <a:off x="6706080" y="5765400"/>
                <a:ext cx="216360" cy="403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45"/>
              <p:cNvSpPr/>
              <p:nvPr/>
            </p:nvSpPr>
            <p:spPr>
              <a:xfrm rot="10060200">
                <a:off x="6676560" y="5734080"/>
                <a:ext cx="216360" cy="27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446"/>
            <p:cNvGrpSpPr/>
            <p:nvPr/>
          </p:nvGrpSpPr>
          <p:grpSpPr>
            <a:xfrm>
              <a:off x="6768360" y="5402520"/>
              <a:ext cx="485640" cy="442800"/>
              <a:chOff x="6768360" y="5402520"/>
              <a:chExt cx="485640" cy="442800"/>
            </a:xfrm>
          </p:grpSpPr>
          <p:sp>
            <p:nvSpPr>
              <p:cNvPr id="522" name="Freeform 447"/>
              <p:cNvSpPr/>
              <p:nvPr/>
            </p:nvSpPr>
            <p:spPr>
              <a:xfrm rot="13857000">
                <a:off x="6918840" y="5385960"/>
                <a:ext cx="183960" cy="47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48"/>
              <p:cNvSpPr/>
              <p:nvPr/>
            </p:nvSpPr>
            <p:spPr>
              <a:xfrm rot="15901800">
                <a:off x="6873120" y="5598000"/>
                <a:ext cx="210240" cy="54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49"/>
              <p:cNvSpPr/>
              <p:nvPr/>
            </p:nvSpPr>
            <p:spPr>
              <a:xfrm rot="16200000">
                <a:off x="6949800" y="5640840"/>
                <a:ext cx="157680" cy="403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50"/>
              <p:cNvSpPr/>
              <p:nvPr/>
            </p:nvSpPr>
            <p:spPr>
              <a:xfrm rot="16200000">
                <a:off x="6993000" y="5632200"/>
                <a:ext cx="157680" cy="27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451"/>
            <p:cNvGrpSpPr/>
            <p:nvPr/>
          </p:nvGrpSpPr>
          <p:grpSpPr>
            <a:xfrm>
              <a:off x="6670080" y="5484600"/>
              <a:ext cx="370800" cy="394920"/>
              <a:chOff x="6670080" y="5484600"/>
              <a:chExt cx="370800" cy="394920"/>
            </a:xfrm>
          </p:grpSpPr>
          <p:sp>
            <p:nvSpPr>
              <p:cNvPr id="527" name="Freeform 452"/>
              <p:cNvSpPr/>
              <p:nvPr/>
            </p:nvSpPr>
            <p:spPr>
              <a:xfrm rot="11895600">
                <a:off x="6713280" y="5520600"/>
                <a:ext cx="28404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453"/>
              <p:cNvSpPr/>
              <p:nvPr/>
            </p:nvSpPr>
            <p:spPr>
              <a:xfrm rot="13940400">
                <a:off x="6675480" y="5677560"/>
                <a:ext cx="32472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454"/>
              <p:cNvSpPr/>
              <p:nvPr/>
            </p:nvSpPr>
            <p:spPr>
              <a:xfrm rot="14238600">
                <a:off x="6774120" y="5709960"/>
                <a:ext cx="2433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455"/>
              <p:cNvSpPr/>
              <p:nvPr/>
            </p:nvSpPr>
            <p:spPr>
              <a:xfrm rot="14238600">
                <a:off x="6786000" y="5678280"/>
                <a:ext cx="24372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456"/>
            <p:cNvGrpSpPr/>
            <p:nvPr/>
          </p:nvGrpSpPr>
          <p:grpSpPr>
            <a:xfrm>
              <a:off x="6671880" y="5852160"/>
              <a:ext cx="443520" cy="477720"/>
              <a:chOff x="6671880" y="5852160"/>
              <a:chExt cx="443520" cy="477720"/>
            </a:xfrm>
          </p:grpSpPr>
          <p:sp>
            <p:nvSpPr>
              <p:cNvPr id="532" name="Freeform 457"/>
              <p:cNvSpPr/>
              <p:nvPr/>
            </p:nvSpPr>
            <p:spPr>
              <a:xfrm rot="4063800">
                <a:off x="6701400" y="5929560"/>
                <a:ext cx="38412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458"/>
              <p:cNvSpPr/>
              <p:nvPr/>
            </p:nvSpPr>
            <p:spPr>
              <a:xfrm rot="6108000">
                <a:off x="6696000" y="6076080"/>
                <a:ext cx="43920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459"/>
              <p:cNvSpPr/>
              <p:nvPr/>
            </p:nvSpPr>
            <p:spPr>
              <a:xfrm rot="6406200">
                <a:off x="6739920" y="6000480"/>
                <a:ext cx="32940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460"/>
              <p:cNvSpPr/>
              <p:nvPr/>
            </p:nvSpPr>
            <p:spPr>
              <a:xfrm rot="6406200">
                <a:off x="6702480" y="6027120"/>
                <a:ext cx="32940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461"/>
            <p:cNvGrpSpPr/>
            <p:nvPr/>
          </p:nvGrpSpPr>
          <p:grpSpPr>
            <a:xfrm>
              <a:off x="6772680" y="5668200"/>
              <a:ext cx="329400" cy="329400"/>
              <a:chOff x="6772680" y="5668200"/>
              <a:chExt cx="329400" cy="329400"/>
            </a:xfrm>
          </p:grpSpPr>
          <p:sp>
            <p:nvSpPr>
              <p:cNvPr id="537" name="AutoShape 462"/>
              <p:cNvSpPr/>
              <p:nvPr/>
            </p:nvSpPr>
            <p:spPr>
              <a:xfrm>
                <a:off x="6772680" y="5668200"/>
                <a:ext cx="329400" cy="329400"/>
              </a:xfrm>
              <a:custGeom>
                <a:avLst/>
                <a:gdLst>
                  <a:gd name="textAreaLeft" fmla="*/ 77400 w 329400"/>
                  <a:gd name="textAreaRight" fmla="*/ 252000 w 329400"/>
                  <a:gd name="textAreaTop" fmla="*/ 77400 h 329400"/>
                  <a:gd name="textAreaBottom" fmla="*/ 252000 h 32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463"/>
              <p:cNvSpPr/>
              <p:nvPr/>
            </p:nvSpPr>
            <p:spPr>
              <a:xfrm>
                <a:off x="6829920" y="5716440"/>
                <a:ext cx="219600" cy="21960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9" name="Group 464"/>
          <p:cNvGrpSpPr/>
          <p:nvPr/>
        </p:nvGrpSpPr>
        <p:grpSpPr>
          <a:xfrm>
            <a:off x="6217920" y="5850360"/>
            <a:ext cx="728280" cy="789120"/>
            <a:chOff x="6217920" y="5850360"/>
            <a:chExt cx="728280" cy="789120"/>
          </a:xfrm>
        </p:grpSpPr>
        <p:grpSp>
          <p:nvGrpSpPr>
            <p:cNvPr id="540" name="Group 465"/>
            <p:cNvGrpSpPr/>
            <p:nvPr/>
          </p:nvGrpSpPr>
          <p:grpSpPr>
            <a:xfrm>
              <a:off x="6543000" y="6009480"/>
              <a:ext cx="398160" cy="399600"/>
              <a:chOff x="6543000" y="6009480"/>
              <a:chExt cx="398160" cy="399600"/>
            </a:xfrm>
          </p:grpSpPr>
          <p:sp>
            <p:nvSpPr>
              <p:cNvPr id="541" name="Freeform 466"/>
              <p:cNvSpPr/>
              <p:nvPr/>
            </p:nvSpPr>
            <p:spPr>
              <a:xfrm rot="18826800">
                <a:off x="6588360" y="6080760"/>
                <a:ext cx="30708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467"/>
              <p:cNvSpPr/>
              <p:nvPr/>
            </p:nvSpPr>
            <p:spPr>
              <a:xfrm rot="20871600">
                <a:off x="6561720" y="6176880"/>
                <a:ext cx="35100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468"/>
              <p:cNvSpPr/>
              <p:nvPr/>
            </p:nvSpPr>
            <p:spPr>
              <a:xfrm rot="21169800">
                <a:off x="6549840" y="6215760"/>
                <a:ext cx="26316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469"/>
              <p:cNvSpPr/>
              <p:nvPr/>
            </p:nvSpPr>
            <p:spPr>
              <a:xfrm rot="21169800">
                <a:off x="6578280" y="6239160"/>
                <a:ext cx="26316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470"/>
            <p:cNvGrpSpPr/>
            <p:nvPr/>
          </p:nvGrpSpPr>
          <p:grpSpPr>
            <a:xfrm>
              <a:off x="6549120" y="5937480"/>
              <a:ext cx="323280" cy="359640"/>
              <a:chOff x="6549120" y="5937480"/>
              <a:chExt cx="323280" cy="359640"/>
            </a:xfrm>
          </p:grpSpPr>
          <p:sp>
            <p:nvSpPr>
              <p:cNvPr id="546" name="Freeform 471"/>
              <p:cNvSpPr/>
              <p:nvPr/>
            </p:nvSpPr>
            <p:spPr>
              <a:xfrm rot="17034600">
                <a:off x="6557040" y="5988600"/>
                <a:ext cx="3067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472"/>
              <p:cNvSpPr/>
              <p:nvPr/>
            </p:nvSpPr>
            <p:spPr>
              <a:xfrm rot="19078800">
                <a:off x="6522840" y="6089040"/>
                <a:ext cx="35064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473"/>
              <p:cNvSpPr/>
              <p:nvPr/>
            </p:nvSpPr>
            <p:spPr>
              <a:xfrm rot="19377600">
                <a:off x="6535800" y="6150960"/>
                <a:ext cx="2628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474"/>
              <p:cNvSpPr/>
              <p:nvPr/>
            </p:nvSpPr>
            <p:spPr>
              <a:xfrm rot="19377600">
                <a:off x="6570360" y="6157440"/>
                <a:ext cx="26316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475"/>
            <p:cNvGrpSpPr/>
            <p:nvPr/>
          </p:nvGrpSpPr>
          <p:grpSpPr>
            <a:xfrm>
              <a:off x="6362280" y="5850360"/>
              <a:ext cx="396000" cy="399600"/>
              <a:chOff x="6362280" y="5850360"/>
              <a:chExt cx="396000" cy="399600"/>
            </a:xfrm>
          </p:grpSpPr>
          <p:sp>
            <p:nvSpPr>
              <p:cNvPr id="551" name="Freeform 476"/>
              <p:cNvSpPr/>
              <p:nvPr/>
            </p:nvSpPr>
            <p:spPr>
              <a:xfrm rot="13688400">
                <a:off x="6406920" y="5921280"/>
                <a:ext cx="306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477"/>
              <p:cNvSpPr/>
              <p:nvPr/>
            </p:nvSpPr>
            <p:spPr>
              <a:xfrm rot="15733200">
                <a:off x="6366960" y="6038280"/>
                <a:ext cx="35028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478"/>
              <p:cNvSpPr/>
              <p:nvPr/>
            </p:nvSpPr>
            <p:spPr>
              <a:xfrm rot="16031400">
                <a:off x="6441120" y="6099840"/>
                <a:ext cx="2628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479"/>
              <p:cNvSpPr/>
              <p:nvPr/>
            </p:nvSpPr>
            <p:spPr>
              <a:xfrm rot="16031400">
                <a:off x="6463080" y="6076440"/>
                <a:ext cx="26280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480"/>
            <p:cNvGrpSpPr/>
            <p:nvPr/>
          </p:nvGrpSpPr>
          <p:grpSpPr>
            <a:xfrm>
              <a:off x="6222960" y="5958720"/>
              <a:ext cx="361800" cy="320760"/>
              <a:chOff x="6222960" y="5958720"/>
              <a:chExt cx="361800" cy="320760"/>
            </a:xfrm>
          </p:grpSpPr>
          <p:sp>
            <p:nvSpPr>
              <p:cNvPr id="556" name="Freeform 481"/>
              <p:cNvSpPr/>
              <p:nvPr/>
            </p:nvSpPr>
            <p:spPr>
              <a:xfrm rot="10003800">
                <a:off x="6248160" y="5990400"/>
                <a:ext cx="30708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82"/>
              <p:cNvSpPr/>
              <p:nvPr/>
            </p:nvSpPr>
            <p:spPr>
              <a:xfrm rot="12048600">
                <a:off x="6220440" y="6121440"/>
                <a:ext cx="35100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483"/>
              <p:cNvSpPr/>
              <p:nvPr/>
            </p:nvSpPr>
            <p:spPr>
              <a:xfrm rot="12346800">
                <a:off x="6329880" y="6126480"/>
                <a:ext cx="26316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84"/>
              <p:cNvSpPr/>
              <p:nvPr/>
            </p:nvSpPr>
            <p:spPr>
              <a:xfrm rot="12346800">
                <a:off x="6316920" y="6097320"/>
                <a:ext cx="26316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485"/>
            <p:cNvGrpSpPr/>
            <p:nvPr/>
          </p:nvGrpSpPr>
          <p:grpSpPr>
            <a:xfrm>
              <a:off x="6426720" y="6206040"/>
              <a:ext cx="398160" cy="398520"/>
              <a:chOff x="6426720" y="6206040"/>
              <a:chExt cx="398160" cy="398520"/>
            </a:xfrm>
          </p:grpSpPr>
          <p:sp>
            <p:nvSpPr>
              <p:cNvPr id="561" name="Freeform 486"/>
              <p:cNvSpPr/>
              <p:nvPr/>
            </p:nvSpPr>
            <p:spPr>
              <a:xfrm rot="2727600">
                <a:off x="6472440" y="6276600"/>
                <a:ext cx="306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87"/>
              <p:cNvSpPr/>
              <p:nvPr/>
            </p:nvSpPr>
            <p:spPr>
              <a:xfrm rot="4772400">
                <a:off x="6468480" y="6386040"/>
                <a:ext cx="35028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88"/>
              <p:cNvSpPr/>
              <p:nvPr/>
            </p:nvSpPr>
            <p:spPr>
              <a:xfrm rot="5070600">
                <a:off x="6479280" y="6334200"/>
                <a:ext cx="2628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89"/>
              <p:cNvSpPr/>
              <p:nvPr/>
            </p:nvSpPr>
            <p:spPr>
              <a:xfrm rot="5070600">
                <a:off x="6458400" y="6365160"/>
                <a:ext cx="26280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490"/>
            <p:cNvGrpSpPr/>
            <p:nvPr/>
          </p:nvGrpSpPr>
          <p:grpSpPr>
            <a:xfrm>
              <a:off x="6298560" y="6227280"/>
              <a:ext cx="276840" cy="322560"/>
              <a:chOff x="6298560" y="6227280"/>
              <a:chExt cx="276840" cy="322560"/>
            </a:xfrm>
          </p:grpSpPr>
          <p:sp>
            <p:nvSpPr>
              <p:cNvPr id="566" name="Freeform 491"/>
              <p:cNvSpPr/>
              <p:nvPr/>
            </p:nvSpPr>
            <p:spPr>
              <a:xfrm rot="5628000">
                <a:off x="6283800" y="6259680"/>
                <a:ext cx="306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492"/>
              <p:cNvSpPr/>
              <p:nvPr/>
            </p:nvSpPr>
            <p:spPr>
              <a:xfrm rot="7672800">
                <a:off x="6276600" y="6384240"/>
                <a:ext cx="35028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493"/>
              <p:cNvSpPr/>
              <p:nvPr/>
            </p:nvSpPr>
            <p:spPr>
              <a:xfrm rot="7971000">
                <a:off x="6339960" y="6326280"/>
                <a:ext cx="2628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494"/>
              <p:cNvSpPr/>
              <p:nvPr/>
            </p:nvSpPr>
            <p:spPr>
              <a:xfrm rot="7971000">
                <a:off x="6305400" y="6332400"/>
                <a:ext cx="26280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495"/>
            <p:cNvGrpSpPr/>
            <p:nvPr/>
          </p:nvGrpSpPr>
          <p:grpSpPr>
            <a:xfrm>
              <a:off x="6219720" y="6109200"/>
              <a:ext cx="363960" cy="387720"/>
              <a:chOff x="6219720" y="6109200"/>
              <a:chExt cx="363960" cy="387720"/>
            </a:xfrm>
          </p:grpSpPr>
          <p:sp>
            <p:nvSpPr>
              <p:cNvPr id="571" name="Freeform 496"/>
              <p:cNvSpPr/>
              <p:nvPr/>
            </p:nvSpPr>
            <p:spPr>
              <a:xfrm rot="6925800">
                <a:off x="6247800" y="6174360"/>
                <a:ext cx="30708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497"/>
              <p:cNvSpPr/>
              <p:nvPr/>
            </p:nvSpPr>
            <p:spPr>
              <a:xfrm rot="8970600">
                <a:off x="6235920" y="6303600"/>
                <a:ext cx="35100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498"/>
              <p:cNvSpPr/>
              <p:nvPr/>
            </p:nvSpPr>
            <p:spPr>
              <a:xfrm rot="9268800">
                <a:off x="6321600" y="6256800"/>
                <a:ext cx="26316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499"/>
              <p:cNvSpPr/>
              <p:nvPr/>
            </p:nvSpPr>
            <p:spPr>
              <a:xfrm rot="9268800">
                <a:off x="6288480" y="6249960"/>
                <a:ext cx="26316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500"/>
            <p:cNvGrpSpPr/>
            <p:nvPr/>
          </p:nvGrpSpPr>
          <p:grpSpPr>
            <a:xfrm>
              <a:off x="6577560" y="6136200"/>
              <a:ext cx="368640" cy="331920"/>
              <a:chOff x="6577560" y="6136200"/>
              <a:chExt cx="368640" cy="331920"/>
            </a:xfrm>
          </p:grpSpPr>
          <p:sp>
            <p:nvSpPr>
              <p:cNvPr id="576" name="Freeform 501"/>
              <p:cNvSpPr/>
              <p:nvPr/>
            </p:nvSpPr>
            <p:spPr>
              <a:xfrm rot="20636400">
                <a:off x="6609600" y="6173640"/>
                <a:ext cx="30708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502"/>
              <p:cNvSpPr/>
              <p:nvPr/>
            </p:nvSpPr>
            <p:spPr>
              <a:xfrm rot="1081200">
                <a:off x="6592320" y="6269760"/>
                <a:ext cx="35100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503"/>
              <p:cNvSpPr/>
              <p:nvPr/>
            </p:nvSpPr>
            <p:spPr>
              <a:xfrm rot="1379400">
                <a:off x="6571080" y="6276240"/>
                <a:ext cx="26316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504"/>
              <p:cNvSpPr/>
              <p:nvPr/>
            </p:nvSpPr>
            <p:spPr>
              <a:xfrm rot="1379400">
                <a:off x="6585120" y="6311160"/>
                <a:ext cx="26316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505"/>
            <p:cNvGrpSpPr/>
            <p:nvPr/>
          </p:nvGrpSpPr>
          <p:grpSpPr>
            <a:xfrm>
              <a:off x="6500880" y="6215400"/>
              <a:ext cx="356040" cy="313200"/>
              <a:chOff x="6500880" y="6215400"/>
              <a:chExt cx="356040" cy="313200"/>
            </a:xfrm>
          </p:grpSpPr>
          <p:sp>
            <p:nvSpPr>
              <p:cNvPr id="581" name="Freeform 506"/>
              <p:cNvSpPr/>
              <p:nvPr/>
            </p:nvSpPr>
            <p:spPr>
              <a:xfrm rot="805800">
                <a:off x="6525720" y="6247440"/>
                <a:ext cx="30636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07"/>
              <p:cNvSpPr/>
              <p:nvPr/>
            </p:nvSpPr>
            <p:spPr>
              <a:xfrm rot="2850600">
                <a:off x="6515640" y="6344640"/>
                <a:ext cx="35028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08"/>
              <p:cNvSpPr/>
              <p:nvPr/>
            </p:nvSpPr>
            <p:spPr>
              <a:xfrm rot="3148800">
                <a:off x="6503040" y="6318000"/>
                <a:ext cx="262800" cy="208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509"/>
              <p:cNvSpPr/>
              <p:nvPr/>
            </p:nvSpPr>
            <p:spPr>
              <a:xfrm rot="3148800">
                <a:off x="6500160" y="6355080"/>
                <a:ext cx="262800" cy="140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510"/>
            <p:cNvGrpSpPr/>
            <p:nvPr/>
          </p:nvGrpSpPr>
          <p:grpSpPr>
            <a:xfrm>
              <a:off x="6217920" y="6030360"/>
              <a:ext cx="422280" cy="394200"/>
              <a:chOff x="6217920" y="6030360"/>
              <a:chExt cx="422280" cy="394200"/>
            </a:xfrm>
          </p:grpSpPr>
          <p:sp>
            <p:nvSpPr>
              <p:cNvPr id="586" name="Freeform 511"/>
              <p:cNvSpPr/>
              <p:nvPr/>
            </p:nvSpPr>
            <p:spPr>
              <a:xfrm rot="7717200">
                <a:off x="6328080" y="6037560"/>
                <a:ext cx="201600" cy="37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512"/>
              <p:cNvSpPr/>
              <p:nvPr/>
            </p:nvSpPr>
            <p:spPr>
              <a:xfrm rot="9762000">
                <a:off x="6320520" y="6230880"/>
                <a:ext cx="230400" cy="43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513"/>
              <p:cNvSpPr/>
              <p:nvPr/>
            </p:nvSpPr>
            <p:spPr>
              <a:xfrm rot="10060200">
                <a:off x="6379200" y="6189840"/>
                <a:ext cx="172800" cy="320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514"/>
              <p:cNvSpPr/>
              <p:nvPr/>
            </p:nvSpPr>
            <p:spPr>
              <a:xfrm rot="10060200">
                <a:off x="6355440" y="6164280"/>
                <a:ext cx="1728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515"/>
            <p:cNvGrpSpPr/>
            <p:nvPr/>
          </p:nvGrpSpPr>
          <p:grpSpPr>
            <a:xfrm>
              <a:off x="6428520" y="5899680"/>
              <a:ext cx="387360" cy="353160"/>
              <a:chOff x="6428520" y="5899680"/>
              <a:chExt cx="387360" cy="353160"/>
            </a:xfrm>
          </p:grpSpPr>
          <p:sp>
            <p:nvSpPr>
              <p:cNvPr id="591" name="Freeform 516"/>
              <p:cNvSpPr/>
              <p:nvPr/>
            </p:nvSpPr>
            <p:spPr>
              <a:xfrm rot="13857000">
                <a:off x="6548760" y="5886000"/>
                <a:ext cx="146880" cy="37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517"/>
              <p:cNvSpPr/>
              <p:nvPr/>
            </p:nvSpPr>
            <p:spPr>
              <a:xfrm rot="15901800">
                <a:off x="6511680" y="6055560"/>
                <a:ext cx="168120" cy="43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518"/>
              <p:cNvSpPr/>
              <p:nvPr/>
            </p:nvSpPr>
            <p:spPr>
              <a:xfrm rot="16200000">
                <a:off x="6573240" y="6089760"/>
                <a:ext cx="126000" cy="324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519"/>
              <p:cNvSpPr/>
              <p:nvPr/>
            </p:nvSpPr>
            <p:spPr>
              <a:xfrm rot="16200000">
                <a:off x="6607800" y="6082920"/>
                <a:ext cx="1260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20"/>
            <p:cNvGrpSpPr/>
            <p:nvPr/>
          </p:nvGrpSpPr>
          <p:grpSpPr>
            <a:xfrm>
              <a:off x="6350400" y="5965560"/>
              <a:ext cx="295560" cy="315000"/>
              <a:chOff x="6350400" y="5965560"/>
              <a:chExt cx="295560" cy="315000"/>
            </a:xfrm>
          </p:grpSpPr>
          <p:sp>
            <p:nvSpPr>
              <p:cNvPr id="596" name="Freeform 521"/>
              <p:cNvSpPr/>
              <p:nvPr/>
            </p:nvSpPr>
            <p:spPr>
              <a:xfrm rot="11895600">
                <a:off x="6384600" y="5994360"/>
                <a:ext cx="22644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522"/>
              <p:cNvSpPr/>
              <p:nvPr/>
            </p:nvSpPr>
            <p:spPr>
              <a:xfrm rot="13940400">
                <a:off x="6354000" y="6119280"/>
                <a:ext cx="25884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523"/>
              <p:cNvSpPr/>
              <p:nvPr/>
            </p:nvSpPr>
            <p:spPr>
              <a:xfrm rot="14238600">
                <a:off x="6433200" y="6144840"/>
                <a:ext cx="19404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524"/>
              <p:cNvSpPr/>
              <p:nvPr/>
            </p:nvSpPr>
            <p:spPr>
              <a:xfrm rot="14238600">
                <a:off x="6442560" y="6119640"/>
                <a:ext cx="19440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525"/>
            <p:cNvGrpSpPr/>
            <p:nvPr/>
          </p:nvGrpSpPr>
          <p:grpSpPr>
            <a:xfrm>
              <a:off x="6351120" y="6258600"/>
              <a:ext cx="354600" cy="380880"/>
              <a:chOff x="6351120" y="6258600"/>
              <a:chExt cx="354600" cy="380880"/>
            </a:xfrm>
          </p:grpSpPr>
          <p:sp>
            <p:nvSpPr>
              <p:cNvPr id="601" name="Freeform 526"/>
              <p:cNvSpPr/>
              <p:nvPr/>
            </p:nvSpPr>
            <p:spPr>
              <a:xfrm rot="4063800">
                <a:off x="6374880" y="6320160"/>
                <a:ext cx="306360" cy="25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527"/>
              <p:cNvSpPr/>
              <p:nvPr/>
            </p:nvSpPr>
            <p:spPr>
              <a:xfrm rot="6108000">
                <a:off x="6370920" y="6437160"/>
                <a:ext cx="35028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528"/>
              <p:cNvSpPr/>
              <p:nvPr/>
            </p:nvSpPr>
            <p:spPr>
              <a:xfrm rot="6406200">
                <a:off x="6405480" y="6376680"/>
                <a:ext cx="262800" cy="219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529"/>
              <p:cNvSpPr/>
              <p:nvPr/>
            </p:nvSpPr>
            <p:spPr>
              <a:xfrm rot="6406200">
                <a:off x="6375960" y="6397920"/>
                <a:ext cx="26280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30"/>
            <p:cNvGrpSpPr/>
            <p:nvPr/>
          </p:nvGrpSpPr>
          <p:grpSpPr>
            <a:xfrm>
              <a:off x="6432120" y="6112080"/>
              <a:ext cx="263160" cy="262800"/>
              <a:chOff x="6432120" y="6112080"/>
              <a:chExt cx="263160" cy="262800"/>
            </a:xfrm>
          </p:grpSpPr>
          <p:sp>
            <p:nvSpPr>
              <p:cNvPr id="606" name="AutoShape 531"/>
              <p:cNvSpPr/>
              <p:nvPr/>
            </p:nvSpPr>
            <p:spPr>
              <a:xfrm>
                <a:off x="6432120" y="6112080"/>
                <a:ext cx="263160" cy="262800"/>
              </a:xfrm>
              <a:custGeom>
                <a:avLst/>
                <a:gdLst>
                  <a:gd name="textAreaLeft" fmla="*/ 61560 w 263160"/>
                  <a:gd name="textAreaRight" fmla="*/ 201600 w 263160"/>
                  <a:gd name="textAreaTop" fmla="*/ 61560 h 262800"/>
                  <a:gd name="textAreaBottom" fmla="*/ 201240 h 26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532"/>
              <p:cNvSpPr/>
              <p:nvPr/>
            </p:nvSpPr>
            <p:spPr>
              <a:xfrm>
                <a:off x="6477840" y="6150600"/>
                <a:ext cx="175680" cy="17496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8" name="Group 533"/>
          <p:cNvGrpSpPr/>
          <p:nvPr/>
        </p:nvGrpSpPr>
        <p:grpSpPr>
          <a:xfrm>
            <a:off x="6602760" y="4273560"/>
            <a:ext cx="1925280" cy="1871280"/>
            <a:chOff x="6602760" y="4273560"/>
            <a:chExt cx="1925280" cy="1871280"/>
          </a:xfrm>
        </p:grpSpPr>
        <p:grpSp>
          <p:nvGrpSpPr>
            <p:cNvPr id="609" name="Group 534"/>
            <p:cNvGrpSpPr/>
            <p:nvPr/>
          </p:nvGrpSpPr>
          <p:grpSpPr>
            <a:xfrm>
              <a:off x="7112880" y="5080320"/>
              <a:ext cx="888840" cy="979200"/>
              <a:chOff x="7112880" y="5080320"/>
              <a:chExt cx="888840" cy="979200"/>
            </a:xfrm>
          </p:grpSpPr>
          <p:sp>
            <p:nvSpPr>
              <p:cNvPr id="610" name="Freeform 535"/>
              <p:cNvSpPr/>
              <p:nvPr/>
            </p:nvSpPr>
            <p:spPr>
              <a:xfrm rot="3869400">
                <a:off x="7163640" y="5268600"/>
                <a:ext cx="786600" cy="60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536"/>
              <p:cNvSpPr/>
              <p:nvPr/>
            </p:nvSpPr>
            <p:spPr>
              <a:xfrm rot="5914200">
                <a:off x="7150680" y="554148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537"/>
              <p:cNvSpPr/>
              <p:nvPr/>
            </p:nvSpPr>
            <p:spPr>
              <a:xfrm rot="6213000">
                <a:off x="7235640" y="538812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538"/>
              <p:cNvSpPr/>
              <p:nvPr/>
            </p:nvSpPr>
            <p:spPr>
              <a:xfrm rot="6213000">
                <a:off x="7166160" y="544752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539"/>
            <p:cNvGrpSpPr/>
            <p:nvPr/>
          </p:nvGrpSpPr>
          <p:grpSpPr>
            <a:xfrm>
              <a:off x="6863400" y="4952880"/>
              <a:ext cx="742320" cy="839160"/>
              <a:chOff x="6863400" y="4952880"/>
              <a:chExt cx="742320" cy="839160"/>
            </a:xfrm>
          </p:grpSpPr>
          <p:sp>
            <p:nvSpPr>
              <p:cNvPr id="615" name="Freeform 540"/>
              <p:cNvSpPr/>
              <p:nvPr/>
            </p:nvSpPr>
            <p:spPr>
              <a:xfrm rot="5910600">
                <a:off x="6858000" y="5053320"/>
                <a:ext cx="752760" cy="63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541"/>
              <p:cNvSpPr/>
              <p:nvPr/>
            </p:nvSpPr>
            <p:spPr>
              <a:xfrm rot="7955400">
                <a:off x="6838200" y="536400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542"/>
              <p:cNvSpPr/>
              <p:nvPr/>
            </p:nvSpPr>
            <p:spPr>
              <a:xfrm rot="8253600">
                <a:off x="7007760" y="522576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543"/>
              <p:cNvSpPr/>
              <p:nvPr/>
            </p:nvSpPr>
            <p:spPr>
              <a:xfrm rot="8253600">
                <a:off x="6921720" y="523440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544"/>
            <p:cNvGrpSpPr/>
            <p:nvPr/>
          </p:nvGrpSpPr>
          <p:grpSpPr>
            <a:xfrm>
              <a:off x="6602760" y="4713120"/>
              <a:ext cx="964080" cy="985680"/>
              <a:chOff x="6602760" y="4713120"/>
              <a:chExt cx="964080" cy="985680"/>
            </a:xfrm>
          </p:grpSpPr>
          <p:sp>
            <p:nvSpPr>
              <p:cNvPr id="620" name="Freeform 545"/>
              <p:cNvSpPr/>
              <p:nvPr/>
            </p:nvSpPr>
            <p:spPr>
              <a:xfrm rot="7644000">
                <a:off x="6708240" y="4887000"/>
                <a:ext cx="752760" cy="63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546"/>
              <p:cNvSpPr/>
              <p:nvPr/>
            </p:nvSpPr>
            <p:spPr>
              <a:xfrm rot="9688800">
                <a:off x="6670440" y="521028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547"/>
              <p:cNvSpPr/>
              <p:nvPr/>
            </p:nvSpPr>
            <p:spPr>
              <a:xfrm rot="9987000">
                <a:off x="6904080" y="512064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48"/>
              <p:cNvSpPr/>
              <p:nvPr/>
            </p:nvSpPr>
            <p:spPr>
              <a:xfrm rot="9987000">
                <a:off x="6828840" y="508788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549"/>
            <p:cNvGrpSpPr/>
            <p:nvPr/>
          </p:nvGrpSpPr>
          <p:grpSpPr>
            <a:xfrm>
              <a:off x="6796440" y="4482000"/>
              <a:ext cx="919440" cy="843120"/>
              <a:chOff x="6796440" y="4482000"/>
              <a:chExt cx="919440" cy="843120"/>
            </a:xfrm>
          </p:grpSpPr>
          <p:sp>
            <p:nvSpPr>
              <p:cNvPr id="625" name="Freeform 550"/>
              <p:cNvSpPr/>
              <p:nvPr/>
            </p:nvSpPr>
            <p:spPr>
              <a:xfrm rot="9694200">
                <a:off x="6877800" y="4584240"/>
                <a:ext cx="752760" cy="63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51"/>
              <p:cNvSpPr/>
              <p:nvPr/>
            </p:nvSpPr>
            <p:spPr>
              <a:xfrm rot="11739000">
                <a:off x="6814080" y="490968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52"/>
              <p:cNvSpPr/>
              <p:nvPr/>
            </p:nvSpPr>
            <p:spPr>
              <a:xfrm rot="12037200">
                <a:off x="7081560" y="490788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3"/>
              <p:cNvSpPr/>
              <p:nvPr/>
            </p:nvSpPr>
            <p:spPr>
              <a:xfrm rot="12037200">
                <a:off x="7043040" y="483984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554"/>
            <p:cNvGrpSpPr/>
            <p:nvPr/>
          </p:nvGrpSpPr>
          <p:grpSpPr>
            <a:xfrm>
              <a:off x="6941160" y="4374000"/>
              <a:ext cx="924480" cy="810000"/>
              <a:chOff x="6941160" y="4374000"/>
              <a:chExt cx="924480" cy="810000"/>
            </a:xfrm>
          </p:grpSpPr>
          <p:sp>
            <p:nvSpPr>
              <p:cNvPr id="630" name="Freeform 555"/>
              <p:cNvSpPr/>
              <p:nvPr/>
            </p:nvSpPr>
            <p:spPr>
              <a:xfrm rot="11763000">
                <a:off x="7009920" y="4470480"/>
                <a:ext cx="786600" cy="60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56"/>
              <p:cNvSpPr/>
              <p:nvPr/>
            </p:nvSpPr>
            <p:spPr>
              <a:xfrm rot="13807800">
                <a:off x="6922800" y="476964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57"/>
              <p:cNvSpPr/>
              <p:nvPr/>
            </p:nvSpPr>
            <p:spPr>
              <a:xfrm rot="14106000">
                <a:off x="7175520" y="486684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558"/>
              <p:cNvSpPr/>
              <p:nvPr/>
            </p:nvSpPr>
            <p:spPr>
              <a:xfrm rot="14106000">
                <a:off x="7183080" y="478908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559"/>
            <p:cNvGrpSpPr/>
            <p:nvPr/>
          </p:nvGrpSpPr>
          <p:grpSpPr>
            <a:xfrm>
              <a:off x="7112880" y="4273560"/>
              <a:ext cx="968760" cy="994680"/>
              <a:chOff x="7112880" y="4273560"/>
              <a:chExt cx="968760" cy="994680"/>
            </a:xfrm>
          </p:grpSpPr>
          <p:sp>
            <p:nvSpPr>
              <p:cNvPr id="635" name="Freeform 560"/>
              <p:cNvSpPr/>
              <p:nvPr/>
            </p:nvSpPr>
            <p:spPr>
              <a:xfrm rot="13857000">
                <a:off x="7203600" y="4465800"/>
                <a:ext cx="786600" cy="60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561"/>
              <p:cNvSpPr/>
              <p:nvPr/>
            </p:nvSpPr>
            <p:spPr>
              <a:xfrm rot="15901800">
                <a:off x="7105320" y="474228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562"/>
              <p:cNvSpPr/>
              <p:nvPr/>
            </p:nvSpPr>
            <p:spPr>
              <a:xfrm rot="16200000">
                <a:off x="7282440" y="490356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563"/>
              <p:cNvSpPr/>
              <p:nvPr/>
            </p:nvSpPr>
            <p:spPr>
              <a:xfrm rot="16200000">
                <a:off x="7337880" y="484596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564"/>
            <p:cNvGrpSpPr/>
            <p:nvPr/>
          </p:nvGrpSpPr>
          <p:grpSpPr>
            <a:xfrm>
              <a:off x="7320240" y="5069880"/>
              <a:ext cx="943560" cy="841320"/>
              <a:chOff x="7320240" y="5069880"/>
              <a:chExt cx="943560" cy="841320"/>
            </a:xfrm>
          </p:grpSpPr>
          <p:sp>
            <p:nvSpPr>
              <p:cNvPr id="640" name="Freeform 565"/>
              <p:cNvSpPr/>
              <p:nvPr/>
            </p:nvSpPr>
            <p:spPr>
              <a:xfrm rot="1156800">
                <a:off x="7398720" y="5188680"/>
                <a:ext cx="786600" cy="60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566"/>
              <p:cNvSpPr/>
              <p:nvPr/>
            </p:nvSpPr>
            <p:spPr>
              <a:xfrm rot="3201600">
                <a:off x="7374960" y="543060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567"/>
              <p:cNvSpPr/>
              <p:nvPr/>
            </p:nvSpPr>
            <p:spPr>
              <a:xfrm rot="3499800">
                <a:off x="7353000" y="534420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568"/>
              <p:cNvSpPr/>
              <p:nvPr/>
            </p:nvSpPr>
            <p:spPr>
              <a:xfrm rot="3499800">
                <a:off x="7339680" y="543816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569"/>
            <p:cNvGrpSpPr/>
            <p:nvPr/>
          </p:nvGrpSpPr>
          <p:grpSpPr>
            <a:xfrm>
              <a:off x="7541640" y="4651200"/>
              <a:ext cx="986400" cy="976320"/>
              <a:chOff x="7541640" y="4651200"/>
              <a:chExt cx="986400" cy="976320"/>
            </a:xfrm>
          </p:grpSpPr>
          <p:sp>
            <p:nvSpPr>
              <p:cNvPr id="645" name="Freeform 570"/>
              <p:cNvSpPr/>
              <p:nvPr/>
            </p:nvSpPr>
            <p:spPr>
              <a:xfrm rot="19110000">
                <a:off x="7658280" y="4820400"/>
                <a:ext cx="752760" cy="63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571"/>
              <p:cNvSpPr/>
              <p:nvPr/>
            </p:nvSpPr>
            <p:spPr>
              <a:xfrm rot="21154800">
                <a:off x="7596720" y="505872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572"/>
              <p:cNvSpPr/>
              <p:nvPr/>
            </p:nvSpPr>
            <p:spPr>
              <a:xfrm rot="21453000">
                <a:off x="7561800" y="514152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573"/>
              <p:cNvSpPr/>
              <p:nvPr/>
            </p:nvSpPr>
            <p:spPr>
              <a:xfrm rot="21453000">
                <a:off x="7627320" y="520632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574"/>
            <p:cNvGrpSpPr/>
            <p:nvPr/>
          </p:nvGrpSpPr>
          <p:grpSpPr>
            <a:xfrm>
              <a:off x="7450920" y="4476960"/>
              <a:ext cx="843120" cy="915840"/>
              <a:chOff x="7450920" y="4476960"/>
              <a:chExt cx="843120" cy="915840"/>
            </a:xfrm>
          </p:grpSpPr>
          <p:sp>
            <p:nvSpPr>
              <p:cNvPr id="650" name="Freeform 575"/>
              <p:cNvSpPr/>
              <p:nvPr/>
            </p:nvSpPr>
            <p:spPr>
              <a:xfrm rot="17306400">
                <a:off x="7495920" y="4615920"/>
                <a:ext cx="752760" cy="637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576"/>
              <p:cNvSpPr/>
              <p:nvPr/>
            </p:nvSpPr>
            <p:spPr>
              <a:xfrm rot="19351800">
                <a:off x="7413120" y="486432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577"/>
              <p:cNvSpPr/>
              <p:nvPr/>
            </p:nvSpPr>
            <p:spPr>
              <a:xfrm rot="19649400">
                <a:off x="7434360" y="500904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578"/>
              <p:cNvSpPr/>
              <p:nvPr/>
            </p:nvSpPr>
            <p:spPr>
              <a:xfrm rot="19649400">
                <a:off x="7518240" y="503316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579"/>
            <p:cNvGrpSpPr/>
            <p:nvPr/>
          </p:nvGrpSpPr>
          <p:grpSpPr>
            <a:xfrm>
              <a:off x="7447320" y="4320000"/>
              <a:ext cx="642240" cy="847080"/>
              <a:chOff x="7447320" y="4320000"/>
              <a:chExt cx="642240" cy="847080"/>
            </a:xfrm>
          </p:grpSpPr>
          <p:sp>
            <p:nvSpPr>
              <p:cNvPr id="655" name="Freeform 580"/>
              <p:cNvSpPr/>
              <p:nvPr/>
            </p:nvSpPr>
            <p:spPr>
              <a:xfrm rot="16059600">
                <a:off x="7374960" y="4435560"/>
                <a:ext cx="786600" cy="6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581"/>
              <p:cNvSpPr/>
              <p:nvPr/>
            </p:nvSpPr>
            <p:spPr>
              <a:xfrm rot="18104400">
                <a:off x="7281000" y="468576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582"/>
              <p:cNvSpPr/>
              <p:nvPr/>
            </p:nvSpPr>
            <p:spPr>
              <a:xfrm rot="18402600">
                <a:off x="7354440" y="485532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583"/>
              <p:cNvSpPr/>
              <p:nvPr/>
            </p:nvSpPr>
            <p:spPr>
              <a:xfrm rot="18402600">
                <a:off x="7438680" y="484416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584"/>
            <p:cNvGrpSpPr/>
            <p:nvPr/>
          </p:nvGrpSpPr>
          <p:grpSpPr>
            <a:xfrm>
              <a:off x="7457400" y="5036760"/>
              <a:ext cx="822960" cy="679680"/>
              <a:chOff x="7457400" y="5036760"/>
              <a:chExt cx="822960" cy="679680"/>
            </a:xfrm>
          </p:grpSpPr>
          <p:sp>
            <p:nvSpPr>
              <p:cNvPr id="660" name="Freeform 585"/>
              <p:cNvSpPr/>
              <p:nvPr/>
            </p:nvSpPr>
            <p:spPr>
              <a:xfrm rot="21405000">
                <a:off x="7494840" y="5057640"/>
                <a:ext cx="752760" cy="63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586"/>
              <p:cNvSpPr/>
              <p:nvPr/>
            </p:nvSpPr>
            <p:spPr>
              <a:xfrm rot="1849200">
                <a:off x="7461720" y="530064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587"/>
              <p:cNvSpPr/>
              <p:nvPr/>
            </p:nvSpPr>
            <p:spPr>
              <a:xfrm rot="2148000">
                <a:off x="7412040" y="527940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588"/>
              <p:cNvSpPr/>
              <p:nvPr/>
            </p:nvSpPr>
            <p:spPr>
              <a:xfrm rot="2148000">
                <a:off x="7429320" y="537264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589"/>
            <p:cNvGrpSpPr/>
            <p:nvPr/>
          </p:nvGrpSpPr>
          <p:grpSpPr>
            <a:xfrm>
              <a:off x="7007040" y="5110920"/>
              <a:ext cx="671400" cy="863280"/>
              <a:chOff x="7007040" y="5110920"/>
              <a:chExt cx="671400" cy="863280"/>
            </a:xfrm>
          </p:grpSpPr>
          <p:sp>
            <p:nvSpPr>
              <p:cNvPr id="665" name="Freeform 590"/>
              <p:cNvSpPr/>
              <p:nvPr/>
            </p:nvSpPr>
            <p:spPr>
              <a:xfrm rot="5119200">
                <a:off x="6949080" y="5242320"/>
                <a:ext cx="786600" cy="60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591"/>
              <p:cNvSpPr/>
              <p:nvPr/>
            </p:nvSpPr>
            <p:spPr>
              <a:xfrm rot="7164000">
                <a:off x="6931800" y="553032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592"/>
              <p:cNvSpPr/>
              <p:nvPr/>
            </p:nvSpPr>
            <p:spPr>
              <a:xfrm rot="7462200">
                <a:off x="7076880" y="537732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593"/>
              <p:cNvSpPr/>
              <p:nvPr/>
            </p:nvSpPr>
            <p:spPr>
              <a:xfrm rot="7462200">
                <a:off x="6993360" y="540936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594"/>
            <p:cNvGrpSpPr/>
            <p:nvPr/>
          </p:nvGrpSpPr>
          <p:grpSpPr>
            <a:xfrm>
              <a:off x="7217280" y="5153760"/>
              <a:ext cx="983880" cy="991080"/>
              <a:chOff x="7217280" y="5153760"/>
              <a:chExt cx="983880" cy="991080"/>
            </a:xfrm>
          </p:grpSpPr>
          <p:sp>
            <p:nvSpPr>
              <p:cNvPr id="670" name="Freeform 595"/>
              <p:cNvSpPr/>
              <p:nvPr/>
            </p:nvSpPr>
            <p:spPr>
              <a:xfrm rot="2797200">
                <a:off x="7315920" y="5343840"/>
                <a:ext cx="786600" cy="6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596"/>
              <p:cNvSpPr/>
              <p:nvPr/>
            </p:nvSpPr>
            <p:spPr>
              <a:xfrm rot="4842000">
                <a:off x="7301520" y="560412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597"/>
              <p:cNvSpPr/>
              <p:nvPr/>
            </p:nvSpPr>
            <p:spPr>
              <a:xfrm rot="5140200">
                <a:off x="7338240" y="546660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598"/>
              <p:cNvSpPr/>
              <p:nvPr/>
            </p:nvSpPr>
            <p:spPr>
              <a:xfrm rot="5140200">
                <a:off x="7287120" y="554508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599"/>
            <p:cNvGrpSpPr/>
            <p:nvPr/>
          </p:nvGrpSpPr>
          <p:grpSpPr>
            <a:xfrm>
              <a:off x="7278840" y="4820400"/>
              <a:ext cx="644400" cy="673920"/>
              <a:chOff x="7278840" y="4820400"/>
              <a:chExt cx="644400" cy="673920"/>
            </a:xfrm>
          </p:grpSpPr>
          <p:sp>
            <p:nvSpPr>
              <p:cNvPr id="675" name="AutoShape 600"/>
              <p:cNvSpPr/>
              <p:nvPr/>
            </p:nvSpPr>
            <p:spPr>
              <a:xfrm rot="16200000">
                <a:off x="7264080" y="4835160"/>
                <a:ext cx="673920" cy="644400"/>
              </a:xfrm>
              <a:custGeom>
                <a:avLst/>
                <a:gdLst>
                  <a:gd name="textAreaLeft" fmla="*/ 158040 w 673920"/>
                  <a:gd name="textAreaRight" fmla="*/ 515880 w 673920"/>
                  <a:gd name="textAreaTop" fmla="*/ 151200 h 644400"/>
                  <a:gd name="textAreaBottom" fmla="*/ 493200 h 64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601"/>
              <p:cNvSpPr/>
              <p:nvPr/>
            </p:nvSpPr>
            <p:spPr>
              <a:xfrm rot="16200000">
                <a:off x="7363440" y="4937760"/>
                <a:ext cx="449640" cy="42948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7" name="Group 602"/>
          <p:cNvGrpSpPr/>
          <p:nvPr/>
        </p:nvGrpSpPr>
        <p:grpSpPr>
          <a:xfrm>
            <a:off x="7756200" y="4313160"/>
            <a:ext cx="1405080" cy="1527120"/>
            <a:chOff x="7756200" y="4313160"/>
            <a:chExt cx="1405080" cy="1527120"/>
          </a:xfrm>
        </p:grpSpPr>
        <p:grpSp>
          <p:nvGrpSpPr>
            <p:cNvPr id="678" name="Group 603"/>
            <p:cNvGrpSpPr/>
            <p:nvPr/>
          </p:nvGrpSpPr>
          <p:grpSpPr>
            <a:xfrm>
              <a:off x="8383320" y="4622760"/>
              <a:ext cx="768240" cy="771120"/>
              <a:chOff x="8383320" y="4622760"/>
              <a:chExt cx="768240" cy="771120"/>
            </a:xfrm>
          </p:grpSpPr>
          <p:sp>
            <p:nvSpPr>
              <p:cNvPr id="679" name="Freeform 604"/>
              <p:cNvSpPr/>
              <p:nvPr/>
            </p:nvSpPr>
            <p:spPr>
              <a:xfrm rot="18826800">
                <a:off x="8471160" y="4759920"/>
                <a:ext cx="591840" cy="496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605"/>
              <p:cNvSpPr/>
              <p:nvPr/>
            </p:nvSpPr>
            <p:spPr>
              <a:xfrm rot="20871600">
                <a:off x="8420040" y="4946040"/>
                <a:ext cx="67644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606"/>
              <p:cNvSpPr/>
              <p:nvPr/>
            </p:nvSpPr>
            <p:spPr>
              <a:xfrm rot="21169800">
                <a:off x="8397720" y="501984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607"/>
              <p:cNvSpPr/>
              <p:nvPr/>
            </p:nvSpPr>
            <p:spPr>
              <a:xfrm rot="21169800">
                <a:off x="8452440" y="5065560"/>
                <a:ext cx="50724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608"/>
            <p:cNvGrpSpPr/>
            <p:nvPr/>
          </p:nvGrpSpPr>
          <p:grpSpPr>
            <a:xfrm>
              <a:off x="8395920" y="4482720"/>
              <a:ext cx="624240" cy="694080"/>
              <a:chOff x="8395920" y="4482720"/>
              <a:chExt cx="624240" cy="694080"/>
            </a:xfrm>
          </p:grpSpPr>
          <p:sp>
            <p:nvSpPr>
              <p:cNvPr id="684" name="Freeform 609"/>
              <p:cNvSpPr/>
              <p:nvPr/>
            </p:nvSpPr>
            <p:spPr>
              <a:xfrm rot="17034600">
                <a:off x="8411760" y="4581360"/>
                <a:ext cx="591840" cy="49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610"/>
              <p:cNvSpPr/>
              <p:nvPr/>
            </p:nvSpPr>
            <p:spPr>
              <a:xfrm rot="19078800">
                <a:off x="8345160" y="4776120"/>
                <a:ext cx="67644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611"/>
              <p:cNvSpPr/>
              <p:nvPr/>
            </p:nvSpPr>
            <p:spPr>
              <a:xfrm rot="19377600">
                <a:off x="8370000" y="489456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612"/>
              <p:cNvSpPr/>
              <p:nvPr/>
            </p:nvSpPr>
            <p:spPr>
              <a:xfrm rot="19377600">
                <a:off x="8436600" y="4907880"/>
                <a:ext cx="50724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613"/>
            <p:cNvGrpSpPr/>
            <p:nvPr/>
          </p:nvGrpSpPr>
          <p:grpSpPr>
            <a:xfrm>
              <a:off x="8034480" y="4313160"/>
              <a:ext cx="764640" cy="772200"/>
              <a:chOff x="8034480" y="4313160"/>
              <a:chExt cx="764640" cy="772200"/>
            </a:xfrm>
          </p:grpSpPr>
          <p:sp>
            <p:nvSpPr>
              <p:cNvPr id="689" name="Freeform 614"/>
              <p:cNvSpPr/>
              <p:nvPr/>
            </p:nvSpPr>
            <p:spPr>
              <a:xfrm rot="13688400">
                <a:off x="8120520" y="4451040"/>
                <a:ext cx="592200" cy="49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615"/>
              <p:cNvSpPr/>
              <p:nvPr/>
            </p:nvSpPr>
            <p:spPr>
              <a:xfrm rot="15733200">
                <a:off x="8044200" y="4676400"/>
                <a:ext cx="67680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616"/>
              <p:cNvSpPr/>
              <p:nvPr/>
            </p:nvSpPr>
            <p:spPr>
              <a:xfrm rot="16031400">
                <a:off x="8186760" y="479592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617"/>
              <p:cNvSpPr/>
              <p:nvPr/>
            </p:nvSpPr>
            <p:spPr>
              <a:xfrm rot="16031400">
                <a:off x="8229240" y="4751280"/>
                <a:ext cx="50760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618"/>
            <p:cNvGrpSpPr/>
            <p:nvPr/>
          </p:nvGrpSpPr>
          <p:grpSpPr>
            <a:xfrm>
              <a:off x="7765920" y="4523040"/>
              <a:ext cx="698040" cy="618840"/>
              <a:chOff x="7765920" y="4523040"/>
              <a:chExt cx="698040" cy="618840"/>
            </a:xfrm>
          </p:grpSpPr>
          <p:sp>
            <p:nvSpPr>
              <p:cNvPr id="694" name="Freeform 619"/>
              <p:cNvSpPr/>
              <p:nvPr/>
            </p:nvSpPr>
            <p:spPr>
              <a:xfrm rot="10003800">
                <a:off x="7814880" y="4584240"/>
                <a:ext cx="591840" cy="49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620"/>
              <p:cNvSpPr/>
              <p:nvPr/>
            </p:nvSpPr>
            <p:spPr>
              <a:xfrm rot="12048600">
                <a:off x="7761960" y="4836600"/>
                <a:ext cx="67644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621"/>
              <p:cNvSpPr/>
              <p:nvPr/>
            </p:nvSpPr>
            <p:spPr>
              <a:xfrm rot="12346800">
                <a:off x="7972560" y="484704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622"/>
              <p:cNvSpPr/>
              <p:nvPr/>
            </p:nvSpPr>
            <p:spPr>
              <a:xfrm rot="12346800">
                <a:off x="7948080" y="4791600"/>
                <a:ext cx="50724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623"/>
            <p:cNvGrpSpPr/>
            <p:nvPr/>
          </p:nvGrpSpPr>
          <p:grpSpPr>
            <a:xfrm>
              <a:off x="8160120" y="5002200"/>
              <a:ext cx="768960" cy="770040"/>
              <a:chOff x="8160120" y="5002200"/>
              <a:chExt cx="768960" cy="770040"/>
            </a:xfrm>
          </p:grpSpPr>
          <p:sp>
            <p:nvSpPr>
              <p:cNvPr id="699" name="Freeform 624"/>
              <p:cNvSpPr/>
              <p:nvPr/>
            </p:nvSpPr>
            <p:spPr>
              <a:xfrm rot="2727600">
                <a:off x="8248320" y="5139000"/>
                <a:ext cx="592200" cy="49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625"/>
              <p:cNvSpPr/>
              <p:nvPr/>
            </p:nvSpPr>
            <p:spPr>
              <a:xfrm rot="4772400">
                <a:off x="8239320" y="5350320"/>
                <a:ext cx="67716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626"/>
              <p:cNvSpPr/>
              <p:nvPr/>
            </p:nvSpPr>
            <p:spPr>
              <a:xfrm rot="5070600">
                <a:off x="8261280" y="5248800"/>
                <a:ext cx="50760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627"/>
              <p:cNvSpPr/>
              <p:nvPr/>
            </p:nvSpPr>
            <p:spPr>
              <a:xfrm rot="5070600">
                <a:off x="8220600" y="5309640"/>
                <a:ext cx="50796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628"/>
            <p:cNvGrpSpPr/>
            <p:nvPr/>
          </p:nvGrpSpPr>
          <p:grpSpPr>
            <a:xfrm>
              <a:off x="7912440" y="5042520"/>
              <a:ext cx="534240" cy="623880"/>
              <a:chOff x="7912440" y="5042520"/>
              <a:chExt cx="534240" cy="623880"/>
            </a:xfrm>
          </p:grpSpPr>
          <p:sp>
            <p:nvSpPr>
              <p:cNvPr id="704" name="Freeform 629"/>
              <p:cNvSpPr/>
              <p:nvPr/>
            </p:nvSpPr>
            <p:spPr>
              <a:xfrm rot="5628000">
                <a:off x="7883280" y="5106240"/>
                <a:ext cx="592200" cy="49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630"/>
              <p:cNvSpPr/>
              <p:nvPr/>
            </p:nvSpPr>
            <p:spPr>
              <a:xfrm rot="7672800">
                <a:off x="7869240" y="5346000"/>
                <a:ext cx="67716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631"/>
              <p:cNvSpPr/>
              <p:nvPr/>
            </p:nvSpPr>
            <p:spPr>
              <a:xfrm rot="7971000">
                <a:off x="7993440" y="5233680"/>
                <a:ext cx="50760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632"/>
              <p:cNvSpPr/>
              <p:nvPr/>
            </p:nvSpPr>
            <p:spPr>
              <a:xfrm rot="7971000">
                <a:off x="7926120" y="5246280"/>
                <a:ext cx="50796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Group 633"/>
            <p:cNvGrpSpPr/>
            <p:nvPr/>
          </p:nvGrpSpPr>
          <p:grpSpPr>
            <a:xfrm>
              <a:off x="7759800" y="4814640"/>
              <a:ext cx="702360" cy="747720"/>
              <a:chOff x="7759800" y="4814640"/>
              <a:chExt cx="702360" cy="747720"/>
            </a:xfrm>
          </p:grpSpPr>
          <p:sp>
            <p:nvSpPr>
              <p:cNvPr id="709" name="Freeform 634"/>
              <p:cNvSpPr/>
              <p:nvPr/>
            </p:nvSpPr>
            <p:spPr>
              <a:xfrm rot="6925800">
                <a:off x="7814880" y="4939920"/>
                <a:ext cx="591840" cy="49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35"/>
              <p:cNvSpPr/>
              <p:nvPr/>
            </p:nvSpPr>
            <p:spPr>
              <a:xfrm rot="8970600">
                <a:off x="7791480" y="5188320"/>
                <a:ext cx="67644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636"/>
              <p:cNvSpPr/>
              <p:nvPr/>
            </p:nvSpPr>
            <p:spPr>
              <a:xfrm rot="9268800">
                <a:off x="7957080" y="509976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637"/>
              <p:cNvSpPr/>
              <p:nvPr/>
            </p:nvSpPr>
            <p:spPr>
              <a:xfrm rot="9268800">
                <a:off x="7893000" y="5086800"/>
                <a:ext cx="50724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38"/>
            <p:cNvGrpSpPr/>
            <p:nvPr/>
          </p:nvGrpSpPr>
          <p:grpSpPr>
            <a:xfrm>
              <a:off x="8449920" y="4867560"/>
              <a:ext cx="711360" cy="640800"/>
              <a:chOff x="8449920" y="4867560"/>
              <a:chExt cx="711360" cy="640800"/>
            </a:xfrm>
          </p:grpSpPr>
          <p:sp>
            <p:nvSpPr>
              <p:cNvPr id="714" name="Freeform 639"/>
              <p:cNvSpPr/>
              <p:nvPr/>
            </p:nvSpPr>
            <p:spPr>
              <a:xfrm rot="20636400">
                <a:off x="8512200" y="4939560"/>
                <a:ext cx="591840" cy="49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640"/>
              <p:cNvSpPr/>
              <p:nvPr/>
            </p:nvSpPr>
            <p:spPr>
              <a:xfrm rot="1081200">
                <a:off x="8479080" y="5125680"/>
                <a:ext cx="67644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641"/>
              <p:cNvSpPr/>
              <p:nvPr/>
            </p:nvSpPr>
            <p:spPr>
              <a:xfrm rot="1379400">
                <a:off x="8438040" y="513648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642"/>
              <p:cNvSpPr/>
              <p:nvPr/>
            </p:nvSpPr>
            <p:spPr>
              <a:xfrm rot="1379400">
                <a:off x="8465760" y="5204520"/>
                <a:ext cx="50724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643"/>
            <p:cNvGrpSpPr/>
            <p:nvPr/>
          </p:nvGrpSpPr>
          <p:grpSpPr>
            <a:xfrm>
              <a:off x="8302680" y="5019840"/>
              <a:ext cx="687600" cy="604440"/>
              <a:chOff x="8302680" y="5019840"/>
              <a:chExt cx="687600" cy="604440"/>
            </a:xfrm>
          </p:grpSpPr>
          <p:sp>
            <p:nvSpPr>
              <p:cNvPr id="719" name="Freeform 644"/>
              <p:cNvSpPr/>
              <p:nvPr/>
            </p:nvSpPr>
            <p:spPr>
              <a:xfrm rot="805800">
                <a:off x="8350200" y="5081760"/>
                <a:ext cx="592200" cy="47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645"/>
              <p:cNvSpPr/>
              <p:nvPr/>
            </p:nvSpPr>
            <p:spPr>
              <a:xfrm rot="2850600">
                <a:off x="8331480" y="5270400"/>
                <a:ext cx="677160" cy="55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646"/>
              <p:cNvSpPr/>
              <p:nvPr/>
            </p:nvSpPr>
            <p:spPr>
              <a:xfrm rot="3148800">
                <a:off x="8305920" y="5217480"/>
                <a:ext cx="507600" cy="406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647"/>
              <p:cNvSpPr/>
              <p:nvPr/>
            </p:nvSpPr>
            <p:spPr>
              <a:xfrm rot="3148800">
                <a:off x="8301600" y="5290200"/>
                <a:ext cx="5079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Group 648"/>
            <p:cNvGrpSpPr/>
            <p:nvPr/>
          </p:nvGrpSpPr>
          <p:grpSpPr>
            <a:xfrm>
              <a:off x="7756200" y="4662720"/>
              <a:ext cx="815400" cy="761400"/>
              <a:chOff x="7756200" y="4662720"/>
              <a:chExt cx="815400" cy="761400"/>
            </a:xfrm>
          </p:grpSpPr>
          <p:sp>
            <p:nvSpPr>
              <p:cNvPr id="724" name="Freeform 649"/>
              <p:cNvSpPr/>
              <p:nvPr/>
            </p:nvSpPr>
            <p:spPr>
              <a:xfrm rot="7717200">
                <a:off x="7969320" y="4676760"/>
                <a:ext cx="388800" cy="73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650"/>
              <p:cNvSpPr/>
              <p:nvPr/>
            </p:nvSpPr>
            <p:spPr>
              <a:xfrm rot="9762000">
                <a:off x="7955640" y="5049720"/>
                <a:ext cx="444240" cy="84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651"/>
              <p:cNvSpPr/>
              <p:nvPr/>
            </p:nvSpPr>
            <p:spPr>
              <a:xfrm rot="10060200">
                <a:off x="8067960" y="4969080"/>
                <a:ext cx="333360" cy="62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652"/>
              <p:cNvSpPr/>
              <p:nvPr/>
            </p:nvSpPr>
            <p:spPr>
              <a:xfrm rot="10060200">
                <a:off x="8021880" y="4921200"/>
                <a:ext cx="333360" cy="41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653"/>
            <p:cNvGrpSpPr/>
            <p:nvPr/>
          </p:nvGrpSpPr>
          <p:grpSpPr>
            <a:xfrm>
              <a:off x="8163000" y="4410720"/>
              <a:ext cx="747720" cy="681840"/>
              <a:chOff x="8163000" y="4410720"/>
              <a:chExt cx="747720" cy="681840"/>
            </a:xfrm>
          </p:grpSpPr>
          <p:sp>
            <p:nvSpPr>
              <p:cNvPr id="729" name="Freeform 654"/>
              <p:cNvSpPr/>
              <p:nvPr/>
            </p:nvSpPr>
            <p:spPr>
              <a:xfrm rot="13857000">
                <a:off x="8394480" y="4385520"/>
                <a:ext cx="284040" cy="732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655"/>
              <p:cNvSpPr/>
              <p:nvPr/>
            </p:nvSpPr>
            <p:spPr>
              <a:xfrm rot="15901800">
                <a:off x="8324280" y="4711680"/>
                <a:ext cx="324360" cy="84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656"/>
              <p:cNvSpPr/>
              <p:nvPr/>
            </p:nvSpPr>
            <p:spPr>
              <a:xfrm rot="16200000">
                <a:off x="8442000" y="4777200"/>
                <a:ext cx="243360" cy="62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657"/>
              <p:cNvSpPr/>
              <p:nvPr/>
            </p:nvSpPr>
            <p:spPr>
              <a:xfrm rot="16200000">
                <a:off x="8508960" y="4763880"/>
                <a:ext cx="243360" cy="41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658"/>
            <p:cNvGrpSpPr/>
            <p:nvPr/>
          </p:nvGrpSpPr>
          <p:grpSpPr>
            <a:xfrm>
              <a:off x="8011080" y="4536720"/>
              <a:ext cx="571680" cy="608400"/>
              <a:chOff x="8011080" y="4536720"/>
              <a:chExt cx="571680" cy="608400"/>
            </a:xfrm>
          </p:grpSpPr>
          <p:sp>
            <p:nvSpPr>
              <p:cNvPr id="734" name="Freeform 659"/>
              <p:cNvSpPr/>
              <p:nvPr/>
            </p:nvSpPr>
            <p:spPr>
              <a:xfrm rot="11895600">
                <a:off x="8077680" y="4592520"/>
                <a:ext cx="438120" cy="49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660"/>
              <p:cNvSpPr/>
              <p:nvPr/>
            </p:nvSpPr>
            <p:spPr>
              <a:xfrm rot="13940400">
                <a:off x="8019720" y="4833720"/>
                <a:ext cx="50040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661"/>
              <p:cNvSpPr/>
              <p:nvPr/>
            </p:nvSpPr>
            <p:spPr>
              <a:xfrm rot="14238600">
                <a:off x="8172000" y="4884480"/>
                <a:ext cx="37548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662"/>
              <p:cNvSpPr/>
              <p:nvPr/>
            </p:nvSpPr>
            <p:spPr>
              <a:xfrm rot="14238600">
                <a:off x="8190000" y="4835880"/>
                <a:ext cx="37548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Group 663"/>
            <p:cNvGrpSpPr/>
            <p:nvPr/>
          </p:nvGrpSpPr>
          <p:grpSpPr>
            <a:xfrm>
              <a:off x="8013960" y="5103360"/>
              <a:ext cx="683640" cy="736920"/>
              <a:chOff x="8013960" y="5103360"/>
              <a:chExt cx="683640" cy="736920"/>
            </a:xfrm>
          </p:grpSpPr>
          <p:sp>
            <p:nvSpPr>
              <p:cNvPr id="739" name="Freeform 664"/>
              <p:cNvSpPr/>
              <p:nvPr/>
            </p:nvSpPr>
            <p:spPr>
              <a:xfrm rot="4063800">
                <a:off x="8059680" y="5223600"/>
                <a:ext cx="592200" cy="49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665"/>
              <p:cNvSpPr/>
              <p:nvPr/>
            </p:nvSpPr>
            <p:spPr>
              <a:xfrm rot="6108000">
                <a:off x="8051040" y="5448600"/>
                <a:ext cx="67716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666"/>
              <p:cNvSpPr/>
              <p:nvPr/>
            </p:nvSpPr>
            <p:spPr>
              <a:xfrm rot="6406200">
                <a:off x="8119080" y="5331240"/>
                <a:ext cx="50760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667"/>
              <p:cNvSpPr/>
              <p:nvPr/>
            </p:nvSpPr>
            <p:spPr>
              <a:xfrm rot="6406200">
                <a:off x="8061120" y="5372640"/>
                <a:ext cx="50796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668"/>
            <p:cNvGrpSpPr/>
            <p:nvPr/>
          </p:nvGrpSpPr>
          <p:grpSpPr>
            <a:xfrm>
              <a:off x="8169840" y="4819680"/>
              <a:ext cx="507240" cy="507600"/>
              <a:chOff x="8169840" y="4819680"/>
              <a:chExt cx="507240" cy="507600"/>
            </a:xfrm>
          </p:grpSpPr>
          <p:sp>
            <p:nvSpPr>
              <p:cNvPr id="744" name="AutoShape 669"/>
              <p:cNvSpPr/>
              <p:nvPr/>
            </p:nvSpPr>
            <p:spPr>
              <a:xfrm>
                <a:off x="8169840" y="4819680"/>
                <a:ext cx="507240" cy="507600"/>
              </a:xfrm>
              <a:custGeom>
                <a:avLst/>
                <a:gdLst>
                  <a:gd name="textAreaLeft" fmla="*/ 119160 w 507240"/>
                  <a:gd name="textAreaRight" fmla="*/ 388080 w 507240"/>
                  <a:gd name="textAreaTop" fmla="*/ 119160 h 507600"/>
                  <a:gd name="textAreaBottom" fmla="*/ 388440 h 50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670"/>
              <p:cNvSpPr/>
              <p:nvPr/>
            </p:nvSpPr>
            <p:spPr>
              <a:xfrm>
                <a:off x="8258040" y="4894200"/>
                <a:ext cx="338400" cy="33804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Group 671"/>
          <p:cNvGrpSpPr/>
          <p:nvPr/>
        </p:nvGrpSpPr>
        <p:grpSpPr>
          <a:xfrm>
            <a:off x="7731720" y="2992320"/>
            <a:ext cx="1827360" cy="1924560"/>
            <a:chOff x="7731720" y="2992320"/>
            <a:chExt cx="1827360" cy="1924560"/>
          </a:xfrm>
        </p:grpSpPr>
        <p:grpSp>
          <p:nvGrpSpPr>
            <p:cNvPr id="747" name="Group 672"/>
            <p:cNvGrpSpPr/>
            <p:nvPr/>
          </p:nvGrpSpPr>
          <p:grpSpPr>
            <a:xfrm>
              <a:off x="8552520" y="3375360"/>
              <a:ext cx="986400" cy="991080"/>
              <a:chOff x="8552520" y="3375360"/>
              <a:chExt cx="986400" cy="991080"/>
            </a:xfrm>
          </p:grpSpPr>
          <p:sp>
            <p:nvSpPr>
              <p:cNvPr id="748" name="Freeform 673"/>
              <p:cNvSpPr/>
              <p:nvPr/>
            </p:nvSpPr>
            <p:spPr>
              <a:xfrm rot="18826800">
                <a:off x="8656200" y="3560760"/>
                <a:ext cx="778320" cy="620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674"/>
              <p:cNvSpPr/>
              <p:nvPr/>
            </p:nvSpPr>
            <p:spPr>
              <a:xfrm rot="20871600">
                <a:off x="8588880" y="3793320"/>
                <a:ext cx="889560" cy="71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675"/>
              <p:cNvSpPr/>
              <p:nvPr/>
            </p:nvSpPr>
            <p:spPr>
              <a:xfrm rot="21169800">
                <a:off x="8559000" y="3886560"/>
                <a:ext cx="66708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676"/>
              <p:cNvSpPr/>
              <p:nvPr/>
            </p:nvSpPr>
            <p:spPr>
              <a:xfrm rot="21169800">
                <a:off x="8630640" y="3943080"/>
                <a:ext cx="667440" cy="35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677"/>
            <p:cNvGrpSpPr/>
            <p:nvPr/>
          </p:nvGrpSpPr>
          <p:grpSpPr>
            <a:xfrm>
              <a:off x="8572680" y="3195360"/>
              <a:ext cx="788760" cy="904320"/>
              <a:chOff x="8572680" y="3195360"/>
              <a:chExt cx="788760" cy="904320"/>
            </a:xfrm>
          </p:grpSpPr>
          <p:sp>
            <p:nvSpPr>
              <p:cNvPr id="753" name="Freeform 678"/>
              <p:cNvSpPr/>
              <p:nvPr/>
            </p:nvSpPr>
            <p:spPr>
              <a:xfrm rot="17034600">
                <a:off x="8578080" y="3337560"/>
                <a:ext cx="777960" cy="61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679"/>
              <p:cNvSpPr/>
              <p:nvPr/>
            </p:nvSpPr>
            <p:spPr>
              <a:xfrm rot="19078800">
                <a:off x="8490960" y="3580920"/>
                <a:ext cx="889200" cy="71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680"/>
              <p:cNvSpPr/>
              <p:nvPr/>
            </p:nvSpPr>
            <p:spPr>
              <a:xfrm rot="19377600">
                <a:off x="8521920" y="3733200"/>
                <a:ext cx="66672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681"/>
              <p:cNvSpPr/>
              <p:nvPr/>
            </p:nvSpPr>
            <p:spPr>
              <a:xfrm rot="19377600">
                <a:off x="8607600" y="3747600"/>
                <a:ext cx="667080" cy="35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Group 682"/>
            <p:cNvGrpSpPr/>
            <p:nvPr/>
          </p:nvGrpSpPr>
          <p:grpSpPr>
            <a:xfrm>
              <a:off x="8094600" y="2992320"/>
              <a:ext cx="979200" cy="986040"/>
              <a:chOff x="8094600" y="2992320"/>
              <a:chExt cx="979200" cy="986040"/>
            </a:xfrm>
          </p:grpSpPr>
          <p:sp>
            <p:nvSpPr>
              <p:cNvPr id="758" name="Freeform 683"/>
              <p:cNvSpPr/>
              <p:nvPr/>
            </p:nvSpPr>
            <p:spPr>
              <a:xfrm rot="13688400">
                <a:off x="8214120" y="3159000"/>
                <a:ext cx="739440" cy="65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684"/>
              <p:cNvSpPr/>
              <p:nvPr/>
            </p:nvSpPr>
            <p:spPr>
              <a:xfrm rot="15733200">
                <a:off x="8116560" y="3456360"/>
                <a:ext cx="845280" cy="75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685"/>
              <p:cNvSpPr/>
              <p:nvPr/>
            </p:nvSpPr>
            <p:spPr>
              <a:xfrm rot="16031400">
                <a:off x="8298000" y="3605400"/>
                <a:ext cx="633600" cy="55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686"/>
              <p:cNvSpPr/>
              <p:nvPr/>
            </p:nvSpPr>
            <p:spPr>
              <a:xfrm rot="16031400">
                <a:off x="8354520" y="3549600"/>
                <a:ext cx="633960" cy="37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Group 687"/>
            <p:cNvGrpSpPr/>
            <p:nvPr/>
          </p:nvGrpSpPr>
          <p:grpSpPr>
            <a:xfrm>
              <a:off x="7731720" y="3260880"/>
              <a:ext cx="912600" cy="781920"/>
              <a:chOff x="7731720" y="3260880"/>
              <a:chExt cx="912600" cy="781920"/>
            </a:xfrm>
          </p:grpSpPr>
          <p:sp>
            <p:nvSpPr>
              <p:cNvPr id="763" name="Freeform 688"/>
              <p:cNvSpPr/>
              <p:nvPr/>
            </p:nvSpPr>
            <p:spPr>
              <a:xfrm rot="10003800">
                <a:off x="7792560" y="3341880"/>
                <a:ext cx="778320" cy="61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689"/>
              <p:cNvSpPr/>
              <p:nvPr/>
            </p:nvSpPr>
            <p:spPr>
              <a:xfrm rot="12048600">
                <a:off x="7723800" y="3657240"/>
                <a:ext cx="889560" cy="71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690"/>
              <p:cNvSpPr/>
              <p:nvPr/>
            </p:nvSpPr>
            <p:spPr>
              <a:xfrm rot="12346800">
                <a:off x="7998840" y="3673440"/>
                <a:ext cx="66708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691"/>
              <p:cNvSpPr/>
              <p:nvPr/>
            </p:nvSpPr>
            <p:spPr>
              <a:xfrm rot="12346800">
                <a:off x="7964640" y="3602520"/>
                <a:ext cx="667440" cy="35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692"/>
            <p:cNvGrpSpPr/>
            <p:nvPr/>
          </p:nvGrpSpPr>
          <p:grpSpPr>
            <a:xfrm>
              <a:off x="8259480" y="3852000"/>
              <a:ext cx="983880" cy="984960"/>
              <a:chOff x="8259480" y="3852000"/>
              <a:chExt cx="983880" cy="984960"/>
            </a:xfrm>
          </p:grpSpPr>
          <p:sp>
            <p:nvSpPr>
              <p:cNvPr id="768" name="Freeform 693"/>
              <p:cNvSpPr/>
              <p:nvPr/>
            </p:nvSpPr>
            <p:spPr>
              <a:xfrm rot="2727600">
                <a:off x="8381520" y="4017960"/>
                <a:ext cx="739800" cy="65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694"/>
              <p:cNvSpPr/>
              <p:nvPr/>
            </p:nvSpPr>
            <p:spPr>
              <a:xfrm rot="4772400">
                <a:off x="8372160" y="4295880"/>
                <a:ext cx="845640" cy="75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695"/>
              <p:cNvSpPr/>
              <p:nvPr/>
            </p:nvSpPr>
            <p:spPr>
              <a:xfrm rot="5070600">
                <a:off x="8396640" y="4170240"/>
                <a:ext cx="633960" cy="55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696"/>
              <p:cNvSpPr/>
              <p:nvPr/>
            </p:nvSpPr>
            <p:spPr>
              <a:xfrm rot="5070600">
                <a:off x="8342640" y="4246560"/>
                <a:ext cx="634320" cy="37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697"/>
            <p:cNvGrpSpPr/>
            <p:nvPr/>
          </p:nvGrpSpPr>
          <p:grpSpPr>
            <a:xfrm>
              <a:off x="7922520" y="3913200"/>
              <a:ext cx="700200" cy="781200"/>
              <a:chOff x="7922520" y="3913200"/>
              <a:chExt cx="700200" cy="781200"/>
            </a:xfrm>
          </p:grpSpPr>
          <p:sp>
            <p:nvSpPr>
              <p:cNvPr id="773" name="Freeform 698"/>
              <p:cNvSpPr/>
              <p:nvPr/>
            </p:nvSpPr>
            <p:spPr>
              <a:xfrm rot="5628000">
                <a:off x="7902720" y="3977640"/>
                <a:ext cx="739800" cy="65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699"/>
              <p:cNvSpPr/>
              <p:nvPr/>
            </p:nvSpPr>
            <p:spPr>
              <a:xfrm rot="7672800">
                <a:off x="7886520" y="4291560"/>
                <a:ext cx="845640" cy="75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700"/>
              <p:cNvSpPr/>
              <p:nvPr/>
            </p:nvSpPr>
            <p:spPr>
              <a:xfrm rot="7971000">
                <a:off x="8039520" y="4150440"/>
                <a:ext cx="633960" cy="55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701"/>
              <p:cNvSpPr/>
              <p:nvPr/>
            </p:nvSpPr>
            <p:spPr>
              <a:xfrm rot="7971000">
                <a:off x="7953120" y="4164120"/>
                <a:ext cx="634320" cy="37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Group 702"/>
            <p:cNvGrpSpPr/>
            <p:nvPr/>
          </p:nvGrpSpPr>
          <p:grpSpPr>
            <a:xfrm>
              <a:off x="7734600" y="3612240"/>
              <a:ext cx="894240" cy="969120"/>
              <a:chOff x="7734600" y="3612240"/>
              <a:chExt cx="894240" cy="969120"/>
            </a:xfrm>
          </p:grpSpPr>
          <p:sp>
            <p:nvSpPr>
              <p:cNvPr id="778" name="Freeform 703"/>
              <p:cNvSpPr/>
              <p:nvPr/>
            </p:nvSpPr>
            <p:spPr>
              <a:xfrm rot="6925800">
                <a:off x="7792560" y="3786840"/>
                <a:ext cx="778320" cy="61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704"/>
              <p:cNvSpPr/>
              <p:nvPr/>
            </p:nvSpPr>
            <p:spPr>
              <a:xfrm rot="8970600">
                <a:off x="7760880" y="4097160"/>
                <a:ext cx="889560" cy="71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705"/>
              <p:cNvSpPr/>
              <p:nvPr/>
            </p:nvSpPr>
            <p:spPr>
              <a:xfrm rot="9268800">
                <a:off x="7979760" y="3982680"/>
                <a:ext cx="66708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706"/>
              <p:cNvSpPr/>
              <p:nvPr/>
            </p:nvSpPr>
            <p:spPr>
              <a:xfrm rot="9268800">
                <a:off x="7896600" y="3968640"/>
                <a:ext cx="667440" cy="35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707"/>
            <p:cNvGrpSpPr/>
            <p:nvPr/>
          </p:nvGrpSpPr>
          <p:grpSpPr>
            <a:xfrm>
              <a:off x="8629200" y="3690000"/>
              <a:ext cx="929880" cy="811080"/>
              <a:chOff x="8629200" y="3690000"/>
              <a:chExt cx="929880" cy="811080"/>
            </a:xfrm>
          </p:grpSpPr>
          <p:sp>
            <p:nvSpPr>
              <p:cNvPr id="783" name="Freeform 708"/>
              <p:cNvSpPr/>
              <p:nvPr/>
            </p:nvSpPr>
            <p:spPr>
              <a:xfrm rot="20636400">
                <a:off x="8709840" y="3785400"/>
                <a:ext cx="778320" cy="61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709"/>
              <p:cNvSpPr/>
              <p:nvPr/>
            </p:nvSpPr>
            <p:spPr>
              <a:xfrm rot="1081200">
                <a:off x="8665200" y="4017960"/>
                <a:ext cx="889560" cy="71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710"/>
              <p:cNvSpPr/>
              <p:nvPr/>
            </p:nvSpPr>
            <p:spPr>
              <a:xfrm rot="1379400">
                <a:off x="8612640" y="4028760"/>
                <a:ext cx="66708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711"/>
              <p:cNvSpPr/>
              <p:nvPr/>
            </p:nvSpPr>
            <p:spPr>
              <a:xfrm rot="1379400">
                <a:off x="8650800" y="4114800"/>
                <a:ext cx="667440" cy="35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712"/>
            <p:cNvGrpSpPr/>
            <p:nvPr/>
          </p:nvGrpSpPr>
          <p:grpSpPr>
            <a:xfrm>
              <a:off x="8452800" y="3870000"/>
              <a:ext cx="866520" cy="786240"/>
              <a:chOff x="8452800" y="3870000"/>
              <a:chExt cx="866520" cy="786240"/>
            </a:xfrm>
          </p:grpSpPr>
          <p:sp>
            <p:nvSpPr>
              <p:cNvPr id="788" name="Freeform 713"/>
              <p:cNvSpPr/>
              <p:nvPr/>
            </p:nvSpPr>
            <p:spPr>
              <a:xfrm rot="805800">
                <a:off x="8516160" y="3947040"/>
                <a:ext cx="739800" cy="63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14"/>
              <p:cNvSpPr/>
              <p:nvPr/>
            </p:nvSpPr>
            <p:spPr>
              <a:xfrm rot="2850600">
                <a:off x="8494200" y="4195440"/>
                <a:ext cx="845640" cy="72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715"/>
              <p:cNvSpPr/>
              <p:nvPr/>
            </p:nvSpPr>
            <p:spPr>
              <a:xfrm rot="3148800">
                <a:off x="8460000" y="4132080"/>
                <a:ext cx="63396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716"/>
              <p:cNvSpPr/>
              <p:nvPr/>
            </p:nvSpPr>
            <p:spPr>
              <a:xfrm rot="3148800">
                <a:off x="8451720" y="4225320"/>
                <a:ext cx="63432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717"/>
            <p:cNvGrpSpPr/>
            <p:nvPr/>
          </p:nvGrpSpPr>
          <p:grpSpPr>
            <a:xfrm>
              <a:off x="7734240" y="3430080"/>
              <a:ext cx="1034280" cy="970920"/>
              <a:chOff x="7734240" y="3430080"/>
              <a:chExt cx="1034280" cy="970920"/>
            </a:xfrm>
          </p:grpSpPr>
          <p:sp>
            <p:nvSpPr>
              <p:cNvPr id="793" name="Freeform 718"/>
              <p:cNvSpPr/>
              <p:nvPr/>
            </p:nvSpPr>
            <p:spPr>
              <a:xfrm rot="7717200">
                <a:off x="7995600" y="3457800"/>
                <a:ext cx="511200" cy="91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719"/>
              <p:cNvSpPr/>
              <p:nvPr/>
            </p:nvSpPr>
            <p:spPr>
              <a:xfrm rot="9762000">
                <a:off x="7976880" y="3922920"/>
                <a:ext cx="584280" cy="1054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20"/>
              <p:cNvSpPr/>
              <p:nvPr/>
            </p:nvSpPr>
            <p:spPr>
              <a:xfrm rot="10060200">
                <a:off x="8125560" y="3822120"/>
                <a:ext cx="438120" cy="77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721"/>
              <p:cNvSpPr/>
              <p:nvPr/>
            </p:nvSpPr>
            <p:spPr>
              <a:xfrm rot="10060200">
                <a:off x="8065440" y="3761640"/>
                <a:ext cx="43848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722"/>
            <p:cNvGrpSpPr/>
            <p:nvPr/>
          </p:nvGrpSpPr>
          <p:grpSpPr>
            <a:xfrm>
              <a:off x="8256960" y="3109320"/>
              <a:ext cx="971280" cy="882360"/>
              <a:chOff x="8256960" y="3109320"/>
              <a:chExt cx="971280" cy="882360"/>
            </a:xfrm>
          </p:grpSpPr>
          <p:sp>
            <p:nvSpPr>
              <p:cNvPr id="798" name="Freeform 723"/>
              <p:cNvSpPr/>
              <p:nvPr/>
            </p:nvSpPr>
            <p:spPr>
              <a:xfrm rot="13857000">
                <a:off x="8565120" y="3068640"/>
                <a:ext cx="354600" cy="96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724"/>
              <p:cNvSpPr/>
              <p:nvPr/>
            </p:nvSpPr>
            <p:spPr>
              <a:xfrm rot="15901800">
                <a:off x="8473320" y="3498120"/>
                <a:ext cx="405000" cy="1108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725"/>
              <p:cNvSpPr/>
              <p:nvPr/>
            </p:nvSpPr>
            <p:spPr>
              <a:xfrm rot="16200000">
                <a:off x="8625960" y="3580920"/>
                <a:ext cx="303840" cy="82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26"/>
              <p:cNvSpPr/>
              <p:nvPr/>
            </p:nvSpPr>
            <p:spPr>
              <a:xfrm rot="16200000">
                <a:off x="8713440" y="3564720"/>
                <a:ext cx="303840" cy="55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Group 727"/>
            <p:cNvGrpSpPr/>
            <p:nvPr/>
          </p:nvGrpSpPr>
          <p:grpSpPr>
            <a:xfrm>
              <a:off x="8065080" y="3266640"/>
              <a:ext cx="723600" cy="790920"/>
              <a:chOff x="8065080" y="3266640"/>
              <a:chExt cx="723600" cy="790920"/>
            </a:xfrm>
          </p:grpSpPr>
          <p:sp>
            <p:nvSpPr>
              <p:cNvPr id="803" name="Freeform 728"/>
              <p:cNvSpPr/>
              <p:nvPr/>
            </p:nvSpPr>
            <p:spPr>
              <a:xfrm rot="11895600">
                <a:off x="8153280" y="3335760"/>
                <a:ext cx="546840" cy="65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729"/>
              <p:cNvSpPr/>
              <p:nvPr/>
            </p:nvSpPr>
            <p:spPr>
              <a:xfrm rot="13940400">
                <a:off x="8079120" y="3652200"/>
                <a:ext cx="624960" cy="75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730"/>
              <p:cNvSpPr/>
              <p:nvPr/>
            </p:nvSpPr>
            <p:spPr>
              <a:xfrm rot="14238600">
                <a:off x="8271720" y="3713760"/>
                <a:ext cx="468720" cy="55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731"/>
              <p:cNvSpPr/>
              <p:nvPr/>
            </p:nvSpPr>
            <p:spPr>
              <a:xfrm rot="14238600">
                <a:off x="8297280" y="3652200"/>
                <a:ext cx="468720" cy="37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732"/>
            <p:cNvGrpSpPr/>
            <p:nvPr/>
          </p:nvGrpSpPr>
          <p:grpSpPr>
            <a:xfrm>
              <a:off x="8062920" y="3984840"/>
              <a:ext cx="884520" cy="932040"/>
              <a:chOff x="8062920" y="3984840"/>
              <a:chExt cx="884520" cy="932040"/>
            </a:xfrm>
          </p:grpSpPr>
          <p:sp>
            <p:nvSpPr>
              <p:cNvPr id="808" name="Freeform 733"/>
              <p:cNvSpPr/>
              <p:nvPr/>
            </p:nvSpPr>
            <p:spPr>
              <a:xfrm rot="4063800">
                <a:off x="8135280" y="4124160"/>
                <a:ext cx="739800" cy="65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734"/>
              <p:cNvSpPr/>
              <p:nvPr/>
            </p:nvSpPr>
            <p:spPr>
              <a:xfrm rot="6108000">
                <a:off x="8127000" y="4419720"/>
                <a:ext cx="845640" cy="75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735"/>
              <p:cNvSpPr/>
              <p:nvPr/>
            </p:nvSpPr>
            <p:spPr>
              <a:xfrm rot="6406200">
                <a:off x="8207640" y="4272840"/>
                <a:ext cx="633960" cy="55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736"/>
              <p:cNvSpPr/>
              <p:nvPr/>
            </p:nvSpPr>
            <p:spPr>
              <a:xfrm rot="6406200">
                <a:off x="8133120" y="4324320"/>
                <a:ext cx="634320" cy="37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737"/>
            <p:cNvGrpSpPr/>
            <p:nvPr/>
          </p:nvGrpSpPr>
          <p:grpSpPr>
            <a:xfrm>
              <a:off x="8259120" y="3635640"/>
              <a:ext cx="667080" cy="634320"/>
              <a:chOff x="8259120" y="3635640"/>
              <a:chExt cx="667080" cy="634320"/>
            </a:xfrm>
          </p:grpSpPr>
          <p:sp>
            <p:nvSpPr>
              <p:cNvPr id="813" name="AutoShape 738"/>
              <p:cNvSpPr/>
              <p:nvPr/>
            </p:nvSpPr>
            <p:spPr>
              <a:xfrm>
                <a:off x="8259120" y="3635640"/>
                <a:ext cx="667080" cy="634320"/>
              </a:xfrm>
              <a:custGeom>
                <a:avLst/>
                <a:gdLst>
                  <a:gd name="textAreaLeft" fmla="*/ 156600 w 667080"/>
                  <a:gd name="textAreaRight" fmla="*/ 510480 w 667080"/>
                  <a:gd name="textAreaTop" fmla="*/ 149040 h 634320"/>
                  <a:gd name="textAreaBottom" fmla="*/ 485280 h 63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Oval 739"/>
              <p:cNvSpPr/>
              <p:nvPr/>
            </p:nvSpPr>
            <p:spPr>
              <a:xfrm>
                <a:off x="8375040" y="3728880"/>
                <a:ext cx="444960" cy="422640"/>
              </a:xfrm>
              <a:prstGeom prst="ellips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5268-414A-4E57-B8D2-F0C193EC924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87FE-4E57-4E57-9A87-6FF98064FE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file:///tmp/home/.config/libreoffice/4/user/gallery/media1.m4a" TargetMode="External"/><Relationship Id="rId3" Type="http://schemas.microsoft.com/office/2007/relationships/media" Target="file:///tmp/home/.config/libreoffice/4/user/gallery/media1.m4a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hyperlink" Target="http://www.eeppt.com/moban/gongzuo/" TargetMode="External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2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3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矩形 4"/>
          <p:cNvSpPr/>
          <p:nvPr/>
        </p:nvSpPr>
        <p:spPr>
          <a:xfrm rot="5400000">
            <a:off x="2041560" y="-325440"/>
            <a:ext cx="5472000" cy="7510320"/>
          </a:xfrm>
          <a:prstGeom prst="rect">
            <a:avLst/>
          </a:prstGeom>
          <a:solidFill>
            <a:srgbClr val="7f7f7f"/>
          </a:solidFill>
          <a:ln w="255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图片 43" descr=""/>
          <p:cNvPicPr/>
          <p:nvPr/>
        </p:nvPicPr>
        <p:blipFill>
          <a:blip r:embed="rId2"/>
          <a:stretch/>
        </p:blipFill>
        <p:spPr>
          <a:xfrm>
            <a:off x="1020600" y="692280"/>
            <a:ext cx="7512120" cy="5472000"/>
          </a:xfrm>
          <a:prstGeom prst="rect">
            <a:avLst/>
          </a:prstGeom>
          <a:ln w="0">
            <a:noFill/>
          </a:ln>
        </p:spPr>
      </p:pic>
      <p:sp>
        <p:nvSpPr>
          <p:cNvPr id="897" name="矩形 49"/>
          <p:cNvSpPr/>
          <p:nvPr/>
        </p:nvSpPr>
        <p:spPr>
          <a:xfrm>
            <a:off x="1019160" y="5440320"/>
            <a:ext cx="7513560" cy="72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矩形 47"/>
          <p:cNvSpPr/>
          <p:nvPr/>
        </p:nvSpPr>
        <p:spPr>
          <a:xfrm>
            <a:off x="1022400" y="692280"/>
            <a:ext cx="7510320" cy="3236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矩形 68"/>
          <p:cNvSpPr/>
          <p:nvPr/>
        </p:nvSpPr>
        <p:spPr>
          <a:xfrm rot="10800000">
            <a:off x="6082920" y="45720"/>
            <a:ext cx="2521080" cy="676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70"/>
          <p:cNvSpPr/>
          <p:nvPr/>
        </p:nvSpPr>
        <p:spPr>
          <a:xfrm>
            <a:off x="539640" y="46080"/>
            <a:ext cx="2521080" cy="676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圆角矩形 37"/>
          <p:cNvSpPr/>
          <p:nvPr/>
        </p:nvSpPr>
        <p:spPr>
          <a:xfrm>
            <a:off x="2595600" y="5560920"/>
            <a:ext cx="436248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组合 38"/>
          <p:cNvGrpSpPr/>
          <p:nvPr/>
        </p:nvGrpSpPr>
        <p:grpSpPr>
          <a:xfrm>
            <a:off x="2619360" y="5591160"/>
            <a:ext cx="557280" cy="395280"/>
            <a:chOff x="2619360" y="5591160"/>
            <a:chExt cx="557280" cy="395280"/>
          </a:xfrm>
        </p:grpSpPr>
        <p:sp>
          <p:nvSpPr>
            <p:cNvPr id="904" name="圆角矩形 39"/>
            <p:cNvSpPr/>
            <p:nvPr/>
          </p:nvSpPr>
          <p:spPr>
            <a:xfrm>
              <a:off x="2619360" y="5591160"/>
              <a:ext cx="557280" cy="395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右箭头 40"/>
            <p:cNvSpPr/>
            <p:nvPr/>
          </p:nvSpPr>
          <p:spPr>
            <a:xfrm>
              <a:off x="2760840" y="5661360"/>
              <a:ext cx="303840" cy="231480"/>
            </a:xfrm>
            <a:prstGeom prst="rightArrow">
              <a:avLst>
                <a:gd name="adj1" fmla="val 50000"/>
                <a:gd name="adj2" fmla="val 49994"/>
              </a:avLst>
            </a:prstGeom>
            <a:solidFill>
              <a:srgbClr val="857f7f"/>
            </a:solidFill>
            <a:ln w="93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矩形 41"/>
          <p:cNvSpPr/>
          <p:nvPr/>
        </p:nvSpPr>
        <p:spPr>
          <a:xfrm>
            <a:off x="3516840" y="560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汉鼎简特圆"/>
              </a:rPr>
              <a:t>滑动解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4"/>
          <p:cNvSpPr/>
          <p:nvPr/>
        </p:nvSpPr>
        <p:spPr>
          <a:xfrm>
            <a:off x="-525600" y="5802480"/>
            <a:ext cx="10418760" cy="57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组合 26"/>
          <p:cNvGrpSpPr/>
          <p:nvPr/>
        </p:nvGrpSpPr>
        <p:grpSpPr>
          <a:xfrm>
            <a:off x="4653000" y="708120"/>
            <a:ext cx="208080" cy="269640"/>
            <a:chOff x="4653000" y="708120"/>
            <a:chExt cx="208080" cy="269640"/>
          </a:xfrm>
        </p:grpSpPr>
        <p:sp>
          <p:nvSpPr>
            <p:cNvPr id="909" name="圆角矩形 58"/>
            <p:cNvSpPr/>
            <p:nvPr/>
          </p:nvSpPr>
          <p:spPr>
            <a:xfrm>
              <a:off x="4687560" y="708120"/>
              <a:ext cx="138960" cy="225000"/>
            </a:xfrm>
            <a:custGeom>
              <a:avLst/>
              <a:gdLst>
                <a:gd name="textAreaLeft" fmla="*/ 20160 w 138960"/>
                <a:gd name="textAreaRight" fmla="*/ 118800 w 138960"/>
                <a:gd name="textAreaTop" fmla="*/ 20160 h 225000"/>
                <a:gd name="textAreaBottom" fmla="*/ 204840 h 225000"/>
              </a:gdLst>
              <a:ahLst/>
              <a:rect l="textAreaLeft" t="textAreaTop" r="textAreaRight" b="textAreaBottom"/>
              <a:pathLst>
                <a:path w="21600" h="34940">
                  <a:moveTo>
                    <a:pt x="10800" y="0"/>
                  </a:moveTo>
                  <a:arcTo wR="10800" hR="10800" stAng="16200000" swAng="-5400000"/>
                  <a:lnTo>
                    <a:pt x="0" y="24140"/>
                  </a:lnTo>
                  <a:arcTo wR="10800" hR="10800" stAng="10800000" swAng="-5400000"/>
                  <a:lnTo>
                    <a:pt x="10800" y="3494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1260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矩形 59"/>
            <p:cNvSpPr/>
            <p:nvPr/>
          </p:nvSpPr>
          <p:spPr>
            <a:xfrm>
              <a:off x="4653000" y="809280"/>
              <a:ext cx="208080" cy="168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组合 25"/>
          <p:cNvGrpSpPr/>
          <p:nvPr/>
        </p:nvGrpSpPr>
        <p:grpSpPr>
          <a:xfrm>
            <a:off x="7956720" y="776160"/>
            <a:ext cx="404640" cy="166680"/>
            <a:chOff x="7956720" y="776160"/>
            <a:chExt cx="404640" cy="166680"/>
          </a:xfrm>
        </p:grpSpPr>
        <p:sp>
          <p:nvSpPr>
            <p:cNvPr id="912" name="矩形 61"/>
            <p:cNvSpPr/>
            <p:nvPr/>
          </p:nvSpPr>
          <p:spPr>
            <a:xfrm>
              <a:off x="7956720" y="776160"/>
              <a:ext cx="376560" cy="16668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矩形 62"/>
            <p:cNvSpPr/>
            <p:nvPr/>
          </p:nvSpPr>
          <p:spPr>
            <a:xfrm>
              <a:off x="7988400" y="803880"/>
              <a:ext cx="188280" cy="1083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矩形 63"/>
            <p:cNvSpPr/>
            <p:nvPr/>
          </p:nvSpPr>
          <p:spPr>
            <a:xfrm flipH="1">
              <a:off x="8333280" y="809280"/>
              <a:ext cx="28080" cy="8316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TextBox 76"/>
          <p:cNvSpPr/>
          <p:nvPr/>
        </p:nvSpPr>
        <p:spPr>
          <a:xfrm>
            <a:off x="1979640" y="3933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履行岗位职责    转变服务观念   提升保障水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组合 31"/>
          <p:cNvGrpSpPr/>
          <p:nvPr/>
        </p:nvGrpSpPr>
        <p:grpSpPr>
          <a:xfrm>
            <a:off x="1260360" y="776160"/>
            <a:ext cx="303480" cy="216000"/>
            <a:chOff x="1260360" y="776160"/>
            <a:chExt cx="303480" cy="216000"/>
          </a:xfrm>
        </p:grpSpPr>
        <p:sp>
          <p:nvSpPr>
            <p:cNvPr id="917" name="矩形 32"/>
            <p:cNvSpPr/>
            <p:nvPr/>
          </p:nvSpPr>
          <p:spPr>
            <a:xfrm>
              <a:off x="1260360" y="776160"/>
              <a:ext cx="64080" cy="216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33"/>
            <p:cNvSpPr/>
            <p:nvPr/>
          </p:nvSpPr>
          <p:spPr>
            <a:xfrm>
              <a:off x="1337760" y="812160"/>
              <a:ext cx="64080" cy="180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34"/>
            <p:cNvSpPr/>
            <p:nvPr/>
          </p:nvSpPr>
          <p:spPr>
            <a:xfrm>
              <a:off x="1422360" y="848160"/>
              <a:ext cx="64080" cy="14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矩形 35"/>
            <p:cNvSpPr/>
            <p:nvPr/>
          </p:nvSpPr>
          <p:spPr>
            <a:xfrm>
              <a:off x="1499760" y="884160"/>
              <a:ext cx="64080" cy="108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组合 69"/>
          <p:cNvGrpSpPr/>
          <p:nvPr/>
        </p:nvGrpSpPr>
        <p:grpSpPr>
          <a:xfrm>
            <a:off x="220320" y="3092760"/>
            <a:ext cx="672120" cy="672120"/>
            <a:chOff x="220320" y="3092760"/>
            <a:chExt cx="672120" cy="672120"/>
          </a:xfrm>
        </p:grpSpPr>
        <p:sp>
          <p:nvSpPr>
            <p:cNvPr id="922" name="椭圆 8"/>
            <p:cNvSpPr/>
            <p:nvPr/>
          </p:nvSpPr>
          <p:spPr>
            <a:xfrm rot="18950400">
              <a:off x="318960" y="3190680"/>
              <a:ext cx="474840" cy="4759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圆角矩形 9"/>
            <p:cNvSpPr/>
            <p:nvPr/>
          </p:nvSpPr>
          <p:spPr>
            <a:xfrm rot="5400000">
              <a:off x="477000" y="3355560"/>
              <a:ext cx="158400" cy="146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TextBox 75"/>
          <p:cNvSpPr/>
          <p:nvPr/>
        </p:nvSpPr>
        <p:spPr>
          <a:xfrm>
            <a:off x="2916360" y="3068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******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学院后勤集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图片 45" descr=""/>
          <p:cNvPicPr/>
          <p:nvPr/>
        </p:nvPicPr>
        <p:blipFill>
          <a:blip r:embed="rId4"/>
          <a:stretch/>
        </p:blipFill>
        <p:spPr>
          <a:xfrm>
            <a:off x="2146320" y="5662440"/>
            <a:ext cx="1836720" cy="489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2.59259E-006 L 0.40121 2.59259E-006 E">
                                      <p:cBhvr>
                                        <p:cTn id="11" dur="1000" fill="hold"/>
                                        <p:tgtEl>
                                          <p:spTgt spid="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-1.48148E-006 L 0.40365 -1.48148E-006 E">
                                      <p:cBhvr>
                                        <p:cTn id="13" dur="1000" fill="hold"/>
                                        <p:tgtEl>
                                          <p:spTgt spid="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2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121 4.44444E-006 L -0.26024 -0.3676 E">
                                      <p:cBhvr>
                                        <p:cTn id="30" dur="1000" fill="hold"/>
                                        <p:tgtEl>
                                          <p:spTgt spid="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400"/>
                            </p:stCondLst>
                            <p:childTnLst>
                              <p:par>
                                <p:cTn id="32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" fill="hold"/>
                                        <p:tgtEl>
                                          <p:spTgt spid="92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800"/>
                            </p:stCondLst>
                            <p:childTnLst>
                              <p:par>
                                <p:cTn id="35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autoRev="1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40" dur="200" fill="hold"/>
                                        <p:tgtEl>
                                          <p:spTgt spid="92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3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path" presetID="49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1.48148E-006 L -0.004 -0.275 E">
                                      <p:cBhvr>
                                        <p:cTn id="66" dur="5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path" presetID="64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72222E-006 -1.11111E-006 L 0.00018 -0.2662 E">
                                      <p:cBhvr>
                                        <p:cTn id="71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800"/>
                            </p:stCondLst>
                            <p:childTnLst>
                              <p:par>
                                <p:cTn id="73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024 -0.36759 L 0.20434 -0.38866 E">
                                      <p:cBhvr>
                                        <p:cTn id="74" dur="1250" fill="hold"/>
                                        <p:tgtEl>
                                          <p:spTgt spid="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050"/>
                            </p:stCondLst>
                            <p:childTnLst>
                              <p:par>
                                <p:cTn id="76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50" fill="hold"/>
                                        <p:tgtEl>
                                          <p:spTgt spid="92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图片 35" descr=""/>
          <p:cNvPicPr/>
          <p:nvPr/>
        </p:nvPicPr>
        <p:blipFill>
          <a:blip r:embed="rId1"/>
          <a:stretch/>
        </p:blipFill>
        <p:spPr>
          <a:xfrm>
            <a:off x="152280" y="122400"/>
            <a:ext cx="9142560" cy="6887880"/>
          </a:xfrm>
          <a:prstGeom prst="rect">
            <a:avLst/>
          </a:prstGeom>
          <a:ln w="0">
            <a:noFill/>
          </a:ln>
        </p:spPr>
      </p:pic>
      <p:pic>
        <p:nvPicPr>
          <p:cNvPr id="1137" name="图片 21" descr=""/>
          <p:cNvPicPr/>
          <p:nvPr/>
        </p:nvPicPr>
        <p:blipFill>
          <a:blip r:embed="rId2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138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139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141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145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Rectangle 1"/>
          <p:cNvSpPr/>
          <p:nvPr/>
        </p:nvSpPr>
        <p:spPr>
          <a:xfrm>
            <a:off x="0" y="44280"/>
            <a:ext cx="665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18"/>
          <p:cNvSpPr/>
          <p:nvPr/>
        </p:nvSpPr>
        <p:spPr>
          <a:xfrm>
            <a:off x="-9109080" y="-4346640"/>
            <a:ext cx="7345440" cy="1373760"/>
          </a:xfrm>
          <a:prstGeom prst="rect">
            <a:avLst/>
          </a:prstGeom>
          <a:noFill/>
          <a:ln w="9360">
            <a:solidFill>
              <a:srgbClr val="aa751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在极其困难的情况下，后勤集团迎难而上，沉着应对，创造了一些优势，在床源不足的情况下，后勤、院系、教学、学工、宣传等部门通力配合，采取</a:t>
            </a:r>
            <a:r>
              <a:rPr b="1" lang="zh-CN" sz="2800" spc="-1" strike="noStrike">
                <a:solidFill>
                  <a:srgbClr val="d81d18"/>
                </a:solidFill>
                <a:latin typeface="楷体_GB2312"/>
                <a:ea typeface="楷体_GB2312"/>
              </a:rPr>
              <a:t>“早计划、巧安排、精心布局”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，形成了我校特色住宿工作管理机制。在食堂管理上，采取引进</a:t>
            </a:r>
            <a:r>
              <a:rPr b="1" lang="zh-CN" sz="2800" spc="-1" strike="noStrike">
                <a:solidFill>
                  <a:srgbClr val="d81d18"/>
                </a:solidFill>
                <a:latin typeface="楷体_GB2312"/>
                <a:ea typeface="楷体_GB2312"/>
              </a:rPr>
              <a:t>特色窗口与大伙自主经营相结合、多点布局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的办法，基本保证了师生的多样化的就餐需求。采取</a:t>
            </a:r>
            <a:r>
              <a:rPr b="1" lang="zh-CN" sz="2800" spc="-1" strike="noStrike">
                <a:solidFill>
                  <a:srgbClr val="d81d18"/>
                </a:solidFill>
                <a:latin typeface="楷体_GB2312"/>
                <a:ea typeface="楷体_GB2312"/>
              </a:rPr>
              <a:t>与劳务派遣公司合作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的办法，化解后勤用工难和成本高的困难。探索目标管理的新机制，提高和规范后勤的服务质量和管理水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s2" descr=""/>
          <p:cNvPicPr/>
          <p:nvPr/>
        </p:nvPicPr>
        <p:blipFill>
          <a:blip r:embed="rId3"/>
          <a:stretch/>
        </p:blipFill>
        <p:spPr>
          <a:xfrm rot="406800">
            <a:off x="-3713040" y="92160"/>
            <a:ext cx="1834920" cy="489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"/>
                            </p:stCondLst>
                            <p:childTnLst>
                              <p:par>
                                <p:cTn id="483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5 0.08855 L 1.10243 0.73896 E">
                                      <p:cBhvr>
                                        <p:cTn id="484" dur="1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19653E-006 L 0.67986 0.60578 E">
                                      <p:cBhvr>
                                        <p:cTn id="486" dur="1000" fill="hold"/>
                                        <p:tgtEl>
                                          <p:spTgt spid="1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图片 35" descr=""/>
          <p:cNvPicPr/>
          <p:nvPr/>
        </p:nvPicPr>
        <p:blipFill>
          <a:blip r:embed="rId1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153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154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5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156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160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4" name="Rectangle 1"/>
          <p:cNvSpPr/>
          <p:nvPr/>
        </p:nvSpPr>
        <p:spPr>
          <a:xfrm>
            <a:off x="0" y="44280"/>
            <a:ext cx="665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圆角矩形 19"/>
          <p:cNvSpPr/>
          <p:nvPr/>
        </p:nvSpPr>
        <p:spPr>
          <a:xfrm rot="448200">
            <a:off x="5743440" y="189000"/>
            <a:ext cx="3214800" cy="4922640"/>
          </a:xfrm>
          <a:custGeom>
            <a:avLst/>
            <a:gdLst>
              <a:gd name="textAreaLeft" fmla="*/ 156600 w 3214800"/>
              <a:gd name="textAreaRight" fmla="*/ 3058200 w 3214800"/>
              <a:gd name="textAreaTop" fmla="*/ 156600 h 4922640"/>
              <a:gd name="textAreaBottom" fmla="*/ 4766040 h 4922640"/>
            </a:gdLst>
            <a:ahLst/>
            <a:rect l="textAreaLeft" t="textAreaTop" r="textAreaRight" b="textAreaBottom"/>
            <a:pathLst>
              <a:path w="21600" h="33074">
                <a:moveTo>
                  <a:pt x="3600" y="0"/>
                </a:moveTo>
                <a:arcTo wR="3600" hR="3600" stAng="16200000" swAng="-5400000"/>
                <a:lnTo>
                  <a:pt x="0" y="29474"/>
                </a:lnTo>
                <a:arcTo wR="3600" hR="3600" stAng="10800000" swAng="-5400000"/>
                <a:lnTo>
                  <a:pt x="18000" y="330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是大局意识。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要当好后勤发展的带头人，既要有革新体制的全局观念，又要有处理个体矛盾的能力，提高问题处理能力，时刻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牢记学校生存和发展是大局；新校区建设是大局；内涵建设是大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6" name="s2" descr=""/>
          <p:cNvPicPr/>
          <p:nvPr/>
        </p:nvPicPr>
        <p:blipFill>
          <a:blip r:embed="rId2"/>
          <a:stretch/>
        </p:blipFill>
        <p:spPr>
          <a:xfrm>
            <a:off x="6680160" y="2400480"/>
            <a:ext cx="1836720" cy="4892400"/>
          </a:xfrm>
          <a:prstGeom prst="rect">
            <a:avLst/>
          </a:prstGeom>
          <a:ln w="0">
            <a:noFill/>
          </a:ln>
        </p:spPr>
      </p:pic>
      <p:sp>
        <p:nvSpPr>
          <p:cNvPr id="1167" name="TextBox 22"/>
          <p:cNvSpPr/>
          <p:nvPr/>
        </p:nvSpPr>
        <p:spPr>
          <a:xfrm rot="694200">
            <a:off x="6012360" y="437400"/>
            <a:ext cx="3456000" cy="82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是责任意识。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后勤工作与师生学习、生活息息相关，涉及面广、繁杂琐碎、应急性强。特别是近几年来学校极其困难的情况下，责任意识影响服务标准，决定工作质量。只有良好的责任意识，才能主动服务，主动承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s2" descr=""/>
          <p:cNvPicPr/>
          <p:nvPr/>
        </p:nvPicPr>
        <p:blipFill>
          <a:blip r:embed="rId3"/>
          <a:stretch/>
        </p:blipFill>
        <p:spPr>
          <a:xfrm>
            <a:off x="6672240" y="2384280"/>
            <a:ext cx="1836720" cy="4892760"/>
          </a:xfrm>
          <a:prstGeom prst="rect">
            <a:avLst/>
          </a:prstGeom>
          <a:ln w="0">
            <a:noFill/>
          </a:ln>
        </p:spPr>
      </p:pic>
      <p:sp>
        <p:nvSpPr>
          <p:cNvPr id="1169" name="圆角矩形 25"/>
          <p:cNvSpPr/>
          <p:nvPr/>
        </p:nvSpPr>
        <p:spPr>
          <a:xfrm rot="21015000">
            <a:off x="5798880" y="213840"/>
            <a:ext cx="2950920" cy="4897440"/>
          </a:xfrm>
          <a:custGeom>
            <a:avLst/>
            <a:gdLst>
              <a:gd name="textAreaLeft" fmla="*/ 144000 w 2950920"/>
              <a:gd name="textAreaRight" fmla="*/ 2806920 w 2950920"/>
              <a:gd name="textAreaTop" fmla="*/ 144000 h 4897440"/>
              <a:gd name="textAreaBottom" fmla="*/ 4753440 h 4897440"/>
            </a:gdLst>
            <a:ahLst/>
            <a:rect l="textAreaLeft" t="textAreaTop" r="textAreaRight" b="textAreaBottom"/>
            <a:pathLst>
              <a:path w="21600" h="35846">
                <a:moveTo>
                  <a:pt x="3600" y="0"/>
                </a:moveTo>
                <a:arcTo wR="3600" hR="3600" stAng="16200000" swAng="-5400000"/>
                <a:lnTo>
                  <a:pt x="0" y="32246"/>
                </a:lnTo>
                <a:arcTo wR="3600" hR="3600" stAng="10800000" swAng="-5400000"/>
                <a:lnTo>
                  <a:pt x="18000" y="358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6128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是学习意识。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文化不高，用自学来补；天资不厚，用时间来补；知识不多，用积累来补；专业不精，用钻研来补”。党的理论天天学，报刊文章常下载，领导讲话细琢磨，处处留意细心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0" name="s2" descr=""/>
          <p:cNvPicPr/>
          <p:nvPr/>
        </p:nvPicPr>
        <p:blipFill>
          <a:blip r:embed="rId4"/>
          <a:stretch/>
        </p:blipFill>
        <p:spPr>
          <a:xfrm>
            <a:off x="6824520" y="2536920"/>
            <a:ext cx="1836720" cy="4892760"/>
          </a:xfrm>
          <a:prstGeom prst="rect">
            <a:avLst/>
          </a:prstGeom>
          <a:ln w="0">
            <a:noFill/>
          </a:ln>
        </p:spPr>
      </p:pic>
      <p:sp>
        <p:nvSpPr>
          <p:cNvPr id="1171" name="圆角矩形 36"/>
          <p:cNvSpPr/>
          <p:nvPr/>
        </p:nvSpPr>
        <p:spPr>
          <a:xfrm rot="939000">
            <a:off x="6011640" y="193680"/>
            <a:ext cx="2923920" cy="4897440"/>
          </a:xfrm>
          <a:custGeom>
            <a:avLst/>
            <a:gdLst>
              <a:gd name="textAreaLeft" fmla="*/ 142560 w 2923920"/>
              <a:gd name="textAreaRight" fmla="*/ 2781360 w 2923920"/>
              <a:gd name="textAreaTop" fmla="*/ 142560 h 4897440"/>
              <a:gd name="textAreaBottom" fmla="*/ 4754880 h 4897440"/>
            </a:gdLst>
            <a:ahLst/>
            <a:rect l="textAreaLeft" t="textAreaTop" r="textAreaRight" b="textAreaBottom"/>
            <a:pathLst>
              <a:path w="21600" h="36177">
                <a:moveTo>
                  <a:pt x="3600" y="0"/>
                </a:moveTo>
                <a:arcTo wR="3600" hR="3600" stAng="16200000" swAng="-5400000"/>
                <a:lnTo>
                  <a:pt x="0" y="32577"/>
                </a:lnTo>
                <a:arcTo wR="3600" hR="3600" stAng="10800000" swAng="-5400000"/>
                <a:lnTo>
                  <a:pt x="18000" y="361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1859b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是预见意识。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凡事预则立，不预则废。后勤事务繁多，要统筹安排好各项工作，对什么时间干什么工作，干到什么程度，要做到心中有数，有条不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s2" descr=""/>
          <p:cNvPicPr/>
          <p:nvPr/>
        </p:nvPicPr>
        <p:blipFill>
          <a:blip r:embed="rId5"/>
          <a:stretch/>
        </p:blipFill>
        <p:spPr>
          <a:xfrm>
            <a:off x="6977160" y="2689200"/>
            <a:ext cx="1836720" cy="4892760"/>
          </a:xfrm>
          <a:prstGeom prst="rect">
            <a:avLst/>
          </a:prstGeom>
          <a:ln w="0">
            <a:noFill/>
          </a:ln>
        </p:spPr>
      </p:pic>
      <p:sp>
        <p:nvSpPr>
          <p:cNvPr id="1173" name="矩形 38"/>
          <p:cNvSpPr/>
          <p:nvPr/>
        </p:nvSpPr>
        <p:spPr>
          <a:xfrm>
            <a:off x="5796000" y="333360"/>
            <a:ext cx="3024000" cy="4606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是廉洁意识。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为部门负责人，必须时刻筑牢思想防线。在工作中，一是严格自律，做好带头示范作用，二是要求全体后勤员工提高认识，带领全体职工常敲“廉洁”钟，永走“阳光”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s2" descr=""/>
          <p:cNvPicPr/>
          <p:nvPr/>
        </p:nvPicPr>
        <p:blipFill>
          <a:blip r:embed="rId6"/>
          <a:stretch/>
        </p:blipFill>
        <p:spPr>
          <a:xfrm>
            <a:off x="7129440" y="2841480"/>
            <a:ext cx="1836720" cy="4892760"/>
          </a:xfrm>
          <a:prstGeom prst="rect">
            <a:avLst/>
          </a:prstGeom>
          <a:ln w="0">
            <a:noFill/>
          </a:ln>
        </p:spPr>
      </p:pic>
      <p:sp>
        <p:nvSpPr>
          <p:cNvPr id="1175" name="TextBox 40"/>
          <p:cNvSpPr/>
          <p:nvPr/>
        </p:nvSpPr>
        <p:spPr>
          <a:xfrm>
            <a:off x="395280" y="404640"/>
            <a:ext cx="1440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"/>
                            </p:stCondLst>
                            <p:childTnLst>
                              <p:par>
                                <p:cTn id="50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96296E-006 L -0.33871 0.4757 E">
                                      <p:cBhvr>
                                        <p:cTn id="502" dur="5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L -0.37014 0.12593 E">
                                      <p:cBhvr>
                                        <p:cTn id="504" dur="5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750"/>
                            </p:stCondLst>
                            <p:childTnLst>
                              <p:par>
                                <p:cTn id="506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85185E-006 L -0.40086 0.35208 E">
                                      <p:cBhvr>
                                        <p:cTn id="526" dur="5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44444E-006 L -0.37014 0.097 E">
                                      <p:cBhvr>
                                        <p:cTn id="528" dur="500" fill="hold"/>
                                        <p:tgtEl>
                                          <p:spTgt spid="1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85185E-006 L -0.40086 0.35208 E">
                                      <p:cBhvr>
                                        <p:cTn id="550" dur="5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444E-006 L -0.35851 0.09075 E">
                                      <p:cBhvr>
                                        <p:cTn id="552" dur="5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5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5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-0.36458 0.10416 E">
                                      <p:cBhvr>
                                        <p:cTn id="574" dur="5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85185E-006 L -0.40086 0.35208 E">
                                      <p:cBhvr>
                                        <p:cTn id="576" dur="500" fill="hold"/>
                                        <p:tgtEl>
                                          <p:spTgt spid="1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5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5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7.40741E-007 L -0.35434 0.14699 E">
                                      <p:cBhvr>
                                        <p:cTn id="597" dur="500" fill="hold"/>
                                        <p:tgtEl>
                                          <p:spTgt spid="1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85185E-006 L -0.40086 0.35208 E">
                                      <p:cBhvr>
                                        <p:cTn id="599" dur="5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7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9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81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82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4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5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1186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1189" name="图片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0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2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1193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6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1197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01" name="矩形 58"/>
          <p:cNvSpPr/>
          <p:nvPr/>
        </p:nvSpPr>
        <p:spPr>
          <a:xfrm>
            <a:off x="2241720" y="2141640"/>
            <a:ext cx="6003720" cy="568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准工作着力点，提高业务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矩形 59"/>
          <p:cNvSpPr/>
          <p:nvPr/>
        </p:nvSpPr>
        <p:spPr>
          <a:xfrm>
            <a:off x="2386080" y="2933640"/>
            <a:ext cx="5570640" cy="600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握工作重点，锤炼岗位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矩形 60"/>
          <p:cNvSpPr/>
          <p:nvPr/>
        </p:nvSpPr>
        <p:spPr>
          <a:xfrm>
            <a:off x="2340000" y="3797280"/>
            <a:ext cx="5545080" cy="60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破工作难点，创新岗位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矩形 61"/>
          <p:cNvSpPr/>
          <p:nvPr/>
        </p:nvSpPr>
        <p:spPr>
          <a:xfrm>
            <a:off x="2386080" y="4589640"/>
            <a:ext cx="2808360" cy="601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几点工作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矩形 62"/>
          <p:cNvSpPr/>
          <p:nvPr/>
        </p:nvSpPr>
        <p:spPr>
          <a:xfrm>
            <a:off x="1306440" y="2212920"/>
            <a:ext cx="70020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矩形 63"/>
          <p:cNvSpPr/>
          <p:nvPr/>
        </p:nvSpPr>
        <p:spPr>
          <a:xfrm>
            <a:off x="1306440" y="3005280"/>
            <a:ext cx="700200" cy="583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矩形 68"/>
          <p:cNvSpPr/>
          <p:nvPr/>
        </p:nvSpPr>
        <p:spPr>
          <a:xfrm>
            <a:off x="1260360" y="3797280"/>
            <a:ext cx="70020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矩形 69"/>
          <p:cNvSpPr/>
          <p:nvPr/>
        </p:nvSpPr>
        <p:spPr>
          <a:xfrm>
            <a:off x="1306440" y="4589640"/>
            <a:ext cx="700200" cy="583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矩形 70"/>
          <p:cNvSpPr/>
          <p:nvPr/>
        </p:nvSpPr>
        <p:spPr>
          <a:xfrm>
            <a:off x="2241720" y="1284120"/>
            <a:ext cx="5499000" cy="568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清发展形势，强化岗位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矩形 71"/>
          <p:cNvSpPr/>
          <p:nvPr/>
        </p:nvSpPr>
        <p:spPr>
          <a:xfrm>
            <a:off x="1306440" y="1268280"/>
            <a:ext cx="700200" cy="58428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图片 72" descr=""/>
          <p:cNvPicPr/>
          <p:nvPr/>
        </p:nvPicPr>
        <p:blipFill>
          <a:blip r:embed="rId5"/>
          <a:stretch/>
        </p:blipFill>
        <p:spPr>
          <a:xfrm>
            <a:off x="4067280" y="3284640"/>
            <a:ext cx="1836720" cy="48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0" dur="750" fill="hold"/>
                                        <p:tgtEl>
                                          <p:spTgt spid="1180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750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63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250" autoRev="1" fill="hold"/>
                                        <p:tgtEl>
                                          <p:spTgt spid="1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2" dur="250" autoRev="1" fill="hold"/>
                                        <p:tgtEl>
                                          <p:spTgt spid="1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图片 2" descr=""/>
          <p:cNvPicPr/>
          <p:nvPr/>
        </p:nvPicPr>
        <p:blipFill>
          <a:blip r:embed="rId1"/>
          <a:stretch/>
        </p:blipFill>
        <p:spPr>
          <a:xfrm flipH="1">
            <a:off x="3911400" y="1692360"/>
            <a:ext cx="1238040" cy="1974600"/>
          </a:xfrm>
          <a:prstGeom prst="rect">
            <a:avLst/>
          </a:prstGeom>
          <a:ln w="0">
            <a:noFill/>
          </a:ln>
        </p:spPr>
      </p:pic>
      <p:sp>
        <p:nvSpPr>
          <p:cNvPr id="1213" name="矩形 24"/>
          <p:cNvSpPr/>
          <p:nvPr/>
        </p:nvSpPr>
        <p:spPr>
          <a:xfrm>
            <a:off x="880920" y="795240"/>
            <a:ext cx="7554960" cy="53024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时光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直接连接符 159"/>
          <p:cNvSpPr/>
          <p:nvPr/>
        </p:nvSpPr>
        <p:spPr>
          <a:xfrm flipH="1" flipV="1">
            <a:off x="3868560" y="3477960"/>
            <a:ext cx="4680000" cy="468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642960" y="673416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216" name="组合 109"/>
          <p:cNvGrpSpPr/>
          <p:nvPr/>
        </p:nvGrpSpPr>
        <p:grpSpPr>
          <a:xfrm>
            <a:off x="10361520" y="1484280"/>
            <a:ext cx="40079880" cy="4249800"/>
            <a:chOff x="10361520" y="1484280"/>
            <a:chExt cx="40079880" cy="4249800"/>
          </a:xfrm>
        </p:grpSpPr>
        <p:sp>
          <p:nvSpPr>
            <p:cNvPr id="1217" name="直接连接符 110"/>
            <p:cNvSpPr/>
            <p:nvPr/>
          </p:nvSpPr>
          <p:spPr>
            <a:xfrm>
              <a:off x="10361520" y="3570480"/>
              <a:ext cx="40079880" cy="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8" name="组合 5"/>
            <p:cNvGrpSpPr/>
            <p:nvPr/>
          </p:nvGrpSpPr>
          <p:grpSpPr>
            <a:xfrm>
              <a:off x="12488400" y="1772280"/>
              <a:ext cx="1182240" cy="1800720"/>
              <a:chOff x="12488400" y="1772280"/>
              <a:chExt cx="1182240" cy="1800720"/>
            </a:xfrm>
          </p:grpSpPr>
          <p:sp>
            <p:nvSpPr>
              <p:cNvPr id="1219" name="直接连接符 157"/>
              <p:cNvSpPr/>
              <p:nvPr/>
            </p:nvSpPr>
            <p:spPr>
              <a:xfrm flipV="1">
                <a:off x="13043880" y="314280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圆角矩形 49"/>
              <p:cNvSpPr/>
              <p:nvPr/>
            </p:nvSpPr>
            <p:spPr>
              <a:xfrm>
                <a:off x="12488400" y="1772280"/>
                <a:ext cx="1182240" cy="1384200"/>
              </a:xfrm>
              <a:custGeom>
                <a:avLst/>
                <a:gdLst>
                  <a:gd name="textAreaLeft" fmla="*/ 57600 w 1182240"/>
                  <a:gd name="textAreaRight" fmla="*/ 1124640 w 1182240"/>
                  <a:gd name="textAreaTop" fmla="*/ 57600 h 1384200"/>
                  <a:gd name="textAreaBottom" fmla="*/ 1326600 h 1384200"/>
                </a:gdLst>
                <a:ahLst/>
                <a:rect l="textAreaLeft" t="textAreaTop" r="textAreaRight" b="textAreaBottom"/>
                <a:pathLst>
                  <a:path w="21600" h="25289">
                    <a:moveTo>
                      <a:pt x="3600" y="0"/>
                    </a:moveTo>
                    <a:arcTo wR="3600" hR="3600" stAng="16200000" swAng="-5400000"/>
                    <a:lnTo>
                      <a:pt x="0" y="21689"/>
                    </a:lnTo>
                    <a:arcTo wR="3600" hR="3600" stAng="10800000" swAng="-5400000"/>
                    <a:lnTo>
                      <a:pt x="18000" y="2528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吃住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组合 6"/>
            <p:cNvGrpSpPr/>
            <p:nvPr/>
          </p:nvGrpSpPr>
          <p:grpSpPr>
            <a:xfrm>
              <a:off x="14221440" y="3560760"/>
              <a:ext cx="1394280" cy="1956960"/>
              <a:chOff x="14221440" y="3560760"/>
              <a:chExt cx="1394280" cy="1956960"/>
            </a:xfrm>
          </p:grpSpPr>
          <p:sp>
            <p:nvSpPr>
              <p:cNvPr id="1222" name="直接连接符 155"/>
              <p:cNvSpPr/>
              <p:nvPr/>
            </p:nvSpPr>
            <p:spPr>
              <a:xfrm>
                <a:off x="14956920" y="356076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圆角矩形 156"/>
              <p:cNvSpPr/>
              <p:nvPr/>
            </p:nvSpPr>
            <p:spPr>
              <a:xfrm>
                <a:off x="14221440" y="4003560"/>
                <a:ext cx="1394280" cy="1514160"/>
              </a:xfrm>
              <a:custGeom>
                <a:avLst/>
                <a:gdLst>
                  <a:gd name="textAreaLeft" fmla="*/ 68040 w 1394280"/>
                  <a:gd name="textAreaRight" fmla="*/ 1326240 w 1394280"/>
                  <a:gd name="textAreaTop" fmla="*/ 68040 h 1514160"/>
                  <a:gd name="textAreaBottom" fmla="*/ 1446120 h 1514160"/>
                </a:gdLst>
                <a:ahLst/>
                <a:rect l="textAreaLeft" t="textAreaTop" r="textAreaRight" b="textAreaBottom"/>
                <a:pathLst>
                  <a:path w="21600" h="23457">
                    <a:moveTo>
                      <a:pt x="3600" y="0"/>
                    </a:moveTo>
                    <a:arcTo wR="3600" hR="3600" stAng="16200000" swAng="-5400000"/>
                    <a:lnTo>
                      <a:pt x="0" y="19857"/>
                    </a:lnTo>
                    <a:arcTo wR="3600" hR="3600" stAng="10800000" swAng="-5400000"/>
                    <a:lnTo>
                      <a:pt x="18000" y="234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180</a:t>
                </a: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天的事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组合 7"/>
            <p:cNvGrpSpPr/>
            <p:nvPr/>
          </p:nvGrpSpPr>
          <p:grpSpPr>
            <a:xfrm>
              <a:off x="38488320" y="1844280"/>
              <a:ext cx="1872000" cy="1728720"/>
              <a:chOff x="38488320" y="1844280"/>
              <a:chExt cx="1872000" cy="1728720"/>
            </a:xfrm>
          </p:grpSpPr>
          <p:sp>
            <p:nvSpPr>
              <p:cNvPr id="1225" name="直接连接符 153"/>
              <p:cNvSpPr/>
              <p:nvPr/>
            </p:nvSpPr>
            <p:spPr>
              <a:xfrm flipV="1">
                <a:off x="39226680" y="314280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圆角矩形 45"/>
              <p:cNvSpPr/>
              <p:nvPr/>
            </p:nvSpPr>
            <p:spPr>
              <a:xfrm>
                <a:off x="38488320" y="1844280"/>
                <a:ext cx="1872000" cy="12855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全面开展“服务节能年”活动节能降耗“计量收费全覆盖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组合 8"/>
            <p:cNvGrpSpPr/>
            <p:nvPr/>
          </p:nvGrpSpPr>
          <p:grpSpPr>
            <a:xfrm>
              <a:off x="16758360" y="3589560"/>
              <a:ext cx="1495440" cy="2071080"/>
              <a:chOff x="16758360" y="3589560"/>
              <a:chExt cx="1495440" cy="2071080"/>
            </a:xfrm>
          </p:grpSpPr>
          <p:sp>
            <p:nvSpPr>
              <p:cNvPr id="1228" name="直接连接符 151"/>
              <p:cNvSpPr/>
              <p:nvPr/>
            </p:nvSpPr>
            <p:spPr>
              <a:xfrm>
                <a:off x="17505720" y="358956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圆角矩形 152"/>
              <p:cNvSpPr/>
              <p:nvPr/>
            </p:nvSpPr>
            <p:spPr>
              <a:xfrm>
                <a:off x="16758360" y="4030920"/>
                <a:ext cx="1495440" cy="1629720"/>
              </a:xfrm>
              <a:custGeom>
                <a:avLst/>
                <a:gdLst>
                  <a:gd name="textAreaLeft" fmla="*/ 72720 w 1495440"/>
                  <a:gd name="textAreaRight" fmla="*/ 1422720 w 1495440"/>
                  <a:gd name="textAreaTop" fmla="*/ 72720 h 1629720"/>
                  <a:gd name="textAreaBottom" fmla="*/ 1557000 h 1629720"/>
                </a:gdLst>
                <a:ahLst/>
                <a:rect l="textAreaLeft" t="textAreaTop" r="textAreaRight" b="textAreaBottom"/>
                <a:pathLst>
                  <a:path w="21600" h="23539">
                    <a:moveTo>
                      <a:pt x="3600" y="0"/>
                    </a:moveTo>
                    <a:arcTo wR="3600" hR="3600" stAng="16200000" swAng="-5400000"/>
                    <a:lnTo>
                      <a:pt x="0" y="19939"/>
                    </a:lnTo>
                    <a:arcTo wR="3600" hR="3600" stAng="10800000" swAng="-5400000"/>
                    <a:lnTo>
                      <a:pt x="18000" y="235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倡导学生自带垃圾下楼，折射后勤管理育人成效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0" name="组合 9"/>
            <p:cNvGrpSpPr/>
            <p:nvPr/>
          </p:nvGrpSpPr>
          <p:grpSpPr>
            <a:xfrm>
              <a:off x="42176880" y="1772280"/>
              <a:ext cx="1355760" cy="1810080"/>
              <a:chOff x="42176880" y="1772280"/>
              <a:chExt cx="1355760" cy="1810080"/>
            </a:xfrm>
          </p:grpSpPr>
          <p:sp>
            <p:nvSpPr>
              <p:cNvPr id="1231" name="直接连接符 149"/>
              <p:cNvSpPr/>
              <p:nvPr/>
            </p:nvSpPr>
            <p:spPr>
              <a:xfrm flipV="1">
                <a:off x="42905880" y="315216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圆角矩形 41"/>
              <p:cNvSpPr/>
              <p:nvPr/>
            </p:nvSpPr>
            <p:spPr>
              <a:xfrm>
                <a:off x="42176880" y="1772280"/>
                <a:ext cx="1355760" cy="1393920"/>
              </a:xfrm>
              <a:custGeom>
                <a:avLst/>
                <a:gdLst>
                  <a:gd name="textAreaLeft" fmla="*/ 65880 w 1355760"/>
                  <a:gd name="textAreaRight" fmla="*/ 1289880 w 1355760"/>
                  <a:gd name="textAreaTop" fmla="*/ 65880 h 1393920"/>
                  <a:gd name="textAreaBottom" fmla="*/ 1328040 h 1393920"/>
                </a:gdLst>
                <a:ahLst/>
                <a:rect l="textAreaLeft" t="textAreaTop" r="textAreaRight" b="textAreaBottom"/>
                <a:pathLst>
                  <a:path w="21600" h="22208">
                    <a:moveTo>
                      <a:pt x="3600" y="0"/>
                    </a:moveTo>
                    <a:arcTo wR="3600" hR="3600" stAng="16200000" swAng="-5400000"/>
                    <a:lnTo>
                      <a:pt x="0" y="18608"/>
                    </a:lnTo>
                    <a:arcTo wR="3600" hR="3600" stAng="10800000" swAng="-5400000"/>
                    <a:lnTo>
                      <a:pt x="18000" y="2220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安全工作常抓不懈，近年无重大安全事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组合 12"/>
            <p:cNvGrpSpPr/>
            <p:nvPr/>
          </p:nvGrpSpPr>
          <p:grpSpPr>
            <a:xfrm>
              <a:off x="19766160" y="1484280"/>
              <a:ext cx="1728000" cy="2085840"/>
              <a:chOff x="19766160" y="1484280"/>
              <a:chExt cx="1728000" cy="2085840"/>
            </a:xfrm>
          </p:grpSpPr>
          <p:sp>
            <p:nvSpPr>
              <p:cNvPr id="1234" name="直接连接符 145"/>
              <p:cNvSpPr/>
              <p:nvPr/>
            </p:nvSpPr>
            <p:spPr>
              <a:xfrm flipV="1">
                <a:off x="20486160" y="313992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圆角矩形 35"/>
              <p:cNvSpPr/>
              <p:nvPr/>
            </p:nvSpPr>
            <p:spPr>
              <a:xfrm>
                <a:off x="19766160" y="1484280"/>
                <a:ext cx="1728000" cy="16556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恢复“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1</a:t>
                </a: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元菜” 供应，提供免费热开水，缓解学生矛盾，化解了师学生的情绪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组合 13"/>
            <p:cNvGrpSpPr/>
            <p:nvPr/>
          </p:nvGrpSpPr>
          <p:grpSpPr>
            <a:xfrm>
              <a:off x="31113720" y="1618200"/>
              <a:ext cx="1555920" cy="1934280"/>
              <a:chOff x="31113720" y="1618200"/>
              <a:chExt cx="1555920" cy="1934280"/>
            </a:xfrm>
          </p:grpSpPr>
          <p:sp>
            <p:nvSpPr>
              <p:cNvPr id="1237" name="直接连接符 143"/>
              <p:cNvSpPr/>
              <p:nvPr/>
            </p:nvSpPr>
            <p:spPr>
              <a:xfrm flipV="1">
                <a:off x="31907160" y="312228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圆角矩形 33"/>
              <p:cNvSpPr/>
              <p:nvPr/>
            </p:nvSpPr>
            <p:spPr>
              <a:xfrm>
                <a:off x="31113720" y="1618200"/>
                <a:ext cx="1555920" cy="15076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内部综合考试中心主任轮岗交流，全面提升干部素质</a:t>
                </a:r>
                <a:r>
                  <a:rPr b="1" lang="zh-CN" sz="16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9" name="组合 15"/>
            <p:cNvGrpSpPr/>
            <p:nvPr/>
          </p:nvGrpSpPr>
          <p:grpSpPr>
            <a:xfrm>
              <a:off x="22790520" y="3560760"/>
              <a:ext cx="1535040" cy="1812960"/>
              <a:chOff x="22790520" y="3560760"/>
              <a:chExt cx="1535040" cy="1812960"/>
            </a:xfrm>
          </p:grpSpPr>
          <p:sp>
            <p:nvSpPr>
              <p:cNvPr id="1240" name="直接连接符 139"/>
              <p:cNvSpPr/>
              <p:nvPr/>
            </p:nvSpPr>
            <p:spPr>
              <a:xfrm>
                <a:off x="23475240" y="356076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圆角矩形 29"/>
              <p:cNvSpPr/>
              <p:nvPr/>
            </p:nvSpPr>
            <p:spPr>
              <a:xfrm>
                <a:off x="22790520" y="4003560"/>
                <a:ext cx="1535040" cy="13701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“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6S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”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精细化管理推行有成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组合 16"/>
            <p:cNvGrpSpPr/>
            <p:nvPr/>
          </p:nvGrpSpPr>
          <p:grpSpPr>
            <a:xfrm>
              <a:off x="28280880" y="3584880"/>
              <a:ext cx="1494000" cy="1531440"/>
              <a:chOff x="28280880" y="3584880"/>
              <a:chExt cx="1494000" cy="1531440"/>
            </a:xfrm>
          </p:grpSpPr>
          <p:sp>
            <p:nvSpPr>
              <p:cNvPr id="1243" name="直接连接符 137"/>
              <p:cNvSpPr/>
              <p:nvPr/>
            </p:nvSpPr>
            <p:spPr>
              <a:xfrm>
                <a:off x="29027880" y="358488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圆角矩形 27"/>
              <p:cNvSpPr/>
              <p:nvPr/>
            </p:nvSpPr>
            <p:spPr>
              <a:xfrm>
                <a:off x="28280880" y="4026960"/>
                <a:ext cx="1494000" cy="10893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廉政宣誓，打造正气和谐后勤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5" name="组合 17"/>
            <p:cNvGrpSpPr/>
            <p:nvPr/>
          </p:nvGrpSpPr>
          <p:grpSpPr>
            <a:xfrm>
              <a:off x="36016560" y="3573000"/>
              <a:ext cx="6290280" cy="2088720"/>
              <a:chOff x="36016560" y="3573000"/>
              <a:chExt cx="6290280" cy="2088720"/>
            </a:xfrm>
          </p:grpSpPr>
          <p:sp>
            <p:nvSpPr>
              <p:cNvPr id="1246" name="直接连接符 135"/>
              <p:cNvSpPr/>
              <p:nvPr/>
            </p:nvSpPr>
            <p:spPr>
              <a:xfrm>
                <a:off x="37014120" y="357336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圆角矩形 25"/>
              <p:cNvSpPr/>
              <p:nvPr/>
            </p:nvSpPr>
            <p:spPr>
              <a:xfrm>
                <a:off x="36016560" y="4016880"/>
                <a:ext cx="2088000" cy="16448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2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、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3 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连续两年开展“百日安全节能服务活动”，助推平安校园建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直接连接符 49"/>
              <p:cNvSpPr/>
              <p:nvPr/>
            </p:nvSpPr>
            <p:spPr>
              <a:xfrm>
                <a:off x="41274720" y="357300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圆角矩形 25"/>
              <p:cNvSpPr/>
              <p:nvPr/>
            </p:nvSpPr>
            <p:spPr>
              <a:xfrm>
                <a:off x="40218840" y="4016520"/>
                <a:ext cx="2088000" cy="16448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利用微博、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QQ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群等新技术手段与师生交流，拓宽师生交流平台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组合 18"/>
            <p:cNvGrpSpPr/>
            <p:nvPr/>
          </p:nvGrpSpPr>
          <p:grpSpPr>
            <a:xfrm>
              <a:off x="44108640" y="3573000"/>
              <a:ext cx="2408400" cy="2161080"/>
              <a:chOff x="44108640" y="3573000"/>
              <a:chExt cx="2408400" cy="2161080"/>
            </a:xfrm>
          </p:grpSpPr>
          <p:sp>
            <p:nvSpPr>
              <p:cNvPr id="1251" name="直接连接符 133"/>
              <p:cNvSpPr/>
              <p:nvPr/>
            </p:nvSpPr>
            <p:spPr>
              <a:xfrm>
                <a:off x="45359280" y="357300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圆角矩形 134"/>
              <p:cNvSpPr/>
              <p:nvPr/>
            </p:nvSpPr>
            <p:spPr>
              <a:xfrm>
                <a:off x="44108640" y="4005000"/>
                <a:ext cx="2408400" cy="17290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主动承担东区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651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名学生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7856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包行李、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706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开水瓶、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520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水盆、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684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桶搬运工作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组合 19"/>
            <p:cNvGrpSpPr/>
            <p:nvPr/>
          </p:nvGrpSpPr>
          <p:grpSpPr>
            <a:xfrm>
              <a:off x="46472760" y="2043360"/>
              <a:ext cx="2395080" cy="1527480"/>
              <a:chOff x="46472760" y="2043360"/>
              <a:chExt cx="2395080" cy="1527480"/>
            </a:xfrm>
          </p:grpSpPr>
          <p:sp>
            <p:nvSpPr>
              <p:cNvPr id="1254" name="直接连接符 131"/>
              <p:cNvSpPr/>
              <p:nvPr/>
            </p:nvSpPr>
            <p:spPr>
              <a:xfrm flipV="1">
                <a:off x="47657520" y="314064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圆角矩形 21"/>
              <p:cNvSpPr/>
              <p:nvPr/>
            </p:nvSpPr>
            <p:spPr>
              <a:xfrm>
                <a:off x="46472760" y="2043360"/>
                <a:ext cx="2395080" cy="10918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我们不断努力着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……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组合 11"/>
            <p:cNvGrpSpPr/>
            <p:nvPr/>
          </p:nvGrpSpPr>
          <p:grpSpPr>
            <a:xfrm>
              <a:off x="25526880" y="1556280"/>
              <a:ext cx="1571760" cy="2019600"/>
              <a:chOff x="25526880" y="1556280"/>
              <a:chExt cx="1571760" cy="2019600"/>
            </a:xfrm>
          </p:grpSpPr>
          <p:sp>
            <p:nvSpPr>
              <p:cNvPr id="1257" name="直接连接符 129"/>
              <p:cNvSpPr/>
              <p:nvPr/>
            </p:nvSpPr>
            <p:spPr>
              <a:xfrm flipV="1">
                <a:off x="26363880" y="314568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圆角矩形 37"/>
              <p:cNvSpPr/>
              <p:nvPr/>
            </p:nvSpPr>
            <p:spPr>
              <a:xfrm>
                <a:off x="25526880" y="1556280"/>
                <a:ext cx="1571760" cy="1590120"/>
              </a:xfrm>
              <a:custGeom>
                <a:avLst/>
                <a:gdLst>
                  <a:gd name="textAreaLeft" fmla="*/ 76680 w 1571760"/>
                  <a:gd name="textAreaRight" fmla="*/ 1495080 w 1571760"/>
                  <a:gd name="textAreaTop" fmla="*/ 76680 h 1590120"/>
                  <a:gd name="textAreaBottom" fmla="*/ 1513440 h 1590120"/>
                </a:gdLst>
                <a:ahLst/>
                <a:rect l="textAreaLeft" t="textAreaTop" r="textAreaRight" b="textAreaBottom"/>
                <a:pathLst>
                  <a:path w="21600" h="21852">
                    <a:moveTo>
                      <a:pt x="3600" y="0"/>
                    </a:moveTo>
                    <a:arcTo wR="3600" hR="3600" stAng="16200000" swAng="-5400000"/>
                    <a:lnTo>
                      <a:pt x="0" y="18252"/>
                    </a:lnTo>
                    <a:arcTo wR="3600" hR="3600" stAng="10800000" swAng="-5400000"/>
                    <a:lnTo>
                      <a:pt x="18000" y="2185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督办实事，解决师生急难问题出新招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59" name="图片 69" descr=""/>
          <p:cNvPicPr/>
          <p:nvPr/>
        </p:nvPicPr>
        <p:blipFill>
          <a:blip r:embed="rId5"/>
          <a:stretch/>
        </p:blipFill>
        <p:spPr>
          <a:xfrm rot="10800000">
            <a:off x="31680" y="-32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260" name="s2" descr=""/>
          <p:cNvPicPr/>
          <p:nvPr/>
        </p:nvPicPr>
        <p:blipFill>
          <a:blip r:embed="rId6"/>
          <a:stretch/>
        </p:blipFill>
        <p:spPr>
          <a:xfrm rot="20344200">
            <a:off x="8226360" y="7424280"/>
            <a:ext cx="1835280" cy="4894200"/>
          </a:xfrm>
          <a:prstGeom prst="rect">
            <a:avLst/>
          </a:prstGeom>
          <a:ln w="0">
            <a:noFill/>
          </a:ln>
        </p:spPr>
      </p:pic>
      <p:sp>
        <p:nvSpPr>
          <p:cNvPr id="1261" name="TextBox 65"/>
          <p:cNvSpPr/>
          <p:nvPr/>
        </p:nvSpPr>
        <p:spPr>
          <a:xfrm>
            <a:off x="2266920" y="24066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后勤事务繁杂，只有认清工作重点，把握主线，分清以点带面的工作，才能实现工作目标，锤炼能力，近两年，一路走来，后勤集团抓的工作重点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15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500"/>
                            </p:stCondLst>
                            <p:childTnLst>
                              <p:par>
                                <p:cTn id="68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-0.16227 L -0.16927 -0.60324 E">
                                      <p:cBhvr>
                                        <p:cTn id="696" dur="1000" fill="hold"/>
                                        <p:tgtEl>
                                          <p:spTgt spid="1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500"/>
                            </p:stCondLst>
                            <p:childTnLst>
                              <p:par>
                                <p:cTn id="69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27 -0.60324 L -0.43698 -0.59282 E">
                                      <p:cBhvr>
                                        <p:cTn id="699" dur="500" fill="hold"/>
                                        <p:tgtEl>
                                          <p:spTgt spid="1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000"/>
                            </p:stCondLst>
                            <p:childTnLst>
                              <p:par>
                                <p:cTn id="7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4500"/>
                            </p:stCondLst>
                            <p:childTnLst>
                              <p:par>
                                <p:cTn id="70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59 -0.70833 L -0.4842 -0.12037 E">
                                      <p:cBhvr>
                                        <p:cTn id="706" dur="1000" fill="hold"/>
                                        <p:tgtEl>
                                          <p:spTgt spid="1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1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521 -0.01388 L -4.73837 -0.01388 E">
                                      <p:cBhvr>
                                        <p:cTn id="712" dur="30000" fill="hold"/>
                                        <p:tgtEl>
                                          <p:spTgt spid="1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3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67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268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0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1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1272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4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1275" name="图片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6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8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1279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2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1283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87" name="矩形 58"/>
          <p:cNvSpPr/>
          <p:nvPr/>
        </p:nvSpPr>
        <p:spPr>
          <a:xfrm>
            <a:off x="2241720" y="2141640"/>
            <a:ext cx="6003720" cy="568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准工作着力点，提高业务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矩形 59"/>
          <p:cNvSpPr/>
          <p:nvPr/>
        </p:nvSpPr>
        <p:spPr>
          <a:xfrm>
            <a:off x="2386080" y="2933640"/>
            <a:ext cx="5570640" cy="600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握工作重点，锤炼岗位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矩形 60"/>
          <p:cNvSpPr/>
          <p:nvPr/>
        </p:nvSpPr>
        <p:spPr>
          <a:xfrm>
            <a:off x="2340000" y="3797280"/>
            <a:ext cx="5545080" cy="60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破工作难点，创新岗位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矩形 61"/>
          <p:cNvSpPr/>
          <p:nvPr/>
        </p:nvSpPr>
        <p:spPr>
          <a:xfrm>
            <a:off x="2386080" y="4589640"/>
            <a:ext cx="2808360" cy="601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几点工作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矩形 62"/>
          <p:cNvSpPr/>
          <p:nvPr/>
        </p:nvSpPr>
        <p:spPr>
          <a:xfrm>
            <a:off x="1306440" y="2212920"/>
            <a:ext cx="70020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矩形 63"/>
          <p:cNvSpPr/>
          <p:nvPr/>
        </p:nvSpPr>
        <p:spPr>
          <a:xfrm>
            <a:off x="1306440" y="3005280"/>
            <a:ext cx="700200" cy="583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矩形 68"/>
          <p:cNvSpPr/>
          <p:nvPr/>
        </p:nvSpPr>
        <p:spPr>
          <a:xfrm>
            <a:off x="1260360" y="3797280"/>
            <a:ext cx="70020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矩形 69"/>
          <p:cNvSpPr/>
          <p:nvPr/>
        </p:nvSpPr>
        <p:spPr>
          <a:xfrm>
            <a:off x="1306440" y="4589640"/>
            <a:ext cx="700200" cy="583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矩形 70"/>
          <p:cNvSpPr/>
          <p:nvPr/>
        </p:nvSpPr>
        <p:spPr>
          <a:xfrm>
            <a:off x="2241720" y="1284120"/>
            <a:ext cx="5499000" cy="568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清发展形势，强化岗位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矩形 71"/>
          <p:cNvSpPr/>
          <p:nvPr/>
        </p:nvSpPr>
        <p:spPr>
          <a:xfrm>
            <a:off x="1306440" y="1268280"/>
            <a:ext cx="700200" cy="58428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7" name="图片 72" descr=""/>
          <p:cNvPicPr/>
          <p:nvPr/>
        </p:nvPicPr>
        <p:blipFill>
          <a:blip r:embed="rId5"/>
          <a:stretch/>
        </p:blipFill>
        <p:spPr>
          <a:xfrm>
            <a:off x="4067280" y="4076640"/>
            <a:ext cx="1836720" cy="489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2AC-BFB8-4C14-9DA8-43CA4D4DDEB8}" type="slidenum">
              <a:t>14</a:t>
            </a:fld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8" dur="750" fill="hold"/>
                                        <p:tgtEl>
                                          <p:spTgt spid="126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750"/>
                            </p:stCondLst>
                            <p:childTnLst>
                              <p:par>
                                <p:cTn id="7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71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2" dur="2000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7" dur="250" autoRev="1" fill="hold"/>
                                        <p:tgtEl>
                                          <p:spTgt spid="12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0" dur="250" autoRev="1" fill="hold"/>
                                        <p:tgtEl>
                                          <p:spTgt spid="1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图片 35" descr=""/>
          <p:cNvPicPr/>
          <p:nvPr/>
        </p:nvPicPr>
        <p:blipFill>
          <a:blip r:embed="rId1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299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300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1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302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306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0" name="Rectangle 1"/>
          <p:cNvSpPr/>
          <p:nvPr/>
        </p:nvSpPr>
        <p:spPr>
          <a:xfrm>
            <a:off x="0" y="44280"/>
            <a:ext cx="665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Box 19"/>
          <p:cNvSpPr/>
          <p:nvPr/>
        </p:nvSpPr>
        <p:spPr>
          <a:xfrm>
            <a:off x="1332000" y="6206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后勤文化建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Box 9"/>
          <p:cNvSpPr/>
          <p:nvPr/>
        </p:nvSpPr>
        <p:spPr>
          <a:xfrm>
            <a:off x="3564000" y="49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Box 14"/>
          <p:cNvSpPr/>
          <p:nvPr/>
        </p:nvSpPr>
        <p:spPr>
          <a:xfrm>
            <a:off x="4932360" y="938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Box 15"/>
          <p:cNvSpPr/>
          <p:nvPr/>
        </p:nvSpPr>
        <p:spPr>
          <a:xfrm>
            <a:off x="5364000" y="576360"/>
            <a:ext cx="18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组合 68"/>
          <p:cNvGrpSpPr/>
          <p:nvPr/>
        </p:nvGrpSpPr>
        <p:grpSpPr>
          <a:xfrm>
            <a:off x="820800" y="3718080"/>
            <a:ext cx="7419960" cy="1064880"/>
            <a:chOff x="820800" y="3718080"/>
            <a:chExt cx="7419960" cy="1064880"/>
          </a:xfrm>
        </p:grpSpPr>
        <p:sp>
          <p:nvSpPr>
            <p:cNvPr id="1316" name="AutoShape 49"/>
            <p:cNvSpPr/>
            <p:nvPr/>
          </p:nvSpPr>
          <p:spPr>
            <a:xfrm flipH="1">
              <a:off x="5396760" y="3718080"/>
              <a:ext cx="828360" cy="1064880"/>
            </a:xfrm>
            <a:prstGeom prst="rightArrow">
              <a:avLst>
                <a:gd name="adj1" fmla="val 70398"/>
                <a:gd name="adj2" fmla="val 68255"/>
              </a:avLst>
            </a:prstGeom>
            <a:solidFill>
              <a:srgbClr val="00b050"/>
            </a:solidFill>
            <a:ln w="12600">
              <a:solidFill>
                <a:srgbClr val="4b474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组合 67"/>
            <p:cNvGrpSpPr/>
            <p:nvPr/>
          </p:nvGrpSpPr>
          <p:grpSpPr>
            <a:xfrm>
              <a:off x="820800" y="3718080"/>
              <a:ext cx="7419960" cy="1064880"/>
              <a:chOff x="820800" y="3718080"/>
              <a:chExt cx="7419960" cy="1064880"/>
            </a:xfrm>
          </p:grpSpPr>
          <p:sp>
            <p:nvSpPr>
              <p:cNvPr id="1318" name="圆角矩形 37"/>
              <p:cNvSpPr/>
              <p:nvPr/>
            </p:nvSpPr>
            <p:spPr>
              <a:xfrm>
                <a:off x="6259680" y="387180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00b050"/>
              </a:solidFill>
              <a:ln w="12600">
                <a:solidFill>
                  <a:srgbClr val="4b4747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Text Box 18"/>
              <p:cNvSpPr/>
              <p:nvPr/>
            </p:nvSpPr>
            <p:spPr>
              <a:xfrm>
                <a:off x="6637320" y="3933360"/>
                <a:ext cx="1557360" cy="459720"/>
              </a:xfrm>
              <a:prstGeom prst="rect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创新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0" name="组合 57"/>
              <p:cNvGrpSpPr/>
              <p:nvPr/>
            </p:nvGrpSpPr>
            <p:grpSpPr>
              <a:xfrm>
                <a:off x="820800" y="3718080"/>
                <a:ext cx="2854440" cy="1064880"/>
                <a:chOff x="820800" y="3718080"/>
                <a:chExt cx="2854440" cy="1064880"/>
              </a:xfrm>
            </p:grpSpPr>
            <p:sp>
              <p:nvSpPr>
                <p:cNvPr id="1321" name="AutoShape 71"/>
                <p:cNvSpPr/>
                <p:nvPr/>
              </p:nvSpPr>
              <p:spPr>
                <a:xfrm>
                  <a:off x="2847240" y="3718080"/>
                  <a:ext cx="828000" cy="1064880"/>
                </a:xfrm>
                <a:prstGeom prst="rightArrow">
                  <a:avLst>
                    <a:gd name="adj1" fmla="val 70398"/>
                    <a:gd name="adj2" fmla="val 62116"/>
                  </a:avLst>
                </a:prstGeom>
                <a:solidFill>
                  <a:srgbClr val="00b050"/>
                </a:solidFill>
                <a:ln w="12600">
                  <a:solidFill>
                    <a:srgbClr val="4b4747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圆角矩形 16"/>
                <p:cNvSpPr/>
                <p:nvPr/>
              </p:nvSpPr>
              <p:spPr>
                <a:xfrm>
                  <a:off x="820800" y="3872520"/>
                  <a:ext cx="1980000" cy="75600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b050"/>
                </a:solidFill>
                <a:ln w="12600">
                  <a:solidFill>
                    <a:srgbClr val="4b4747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3" name="Text Box 18"/>
              <p:cNvSpPr/>
              <p:nvPr/>
            </p:nvSpPr>
            <p:spPr>
              <a:xfrm>
                <a:off x="941400" y="4081320"/>
                <a:ext cx="1433520" cy="459720"/>
              </a:xfrm>
              <a:prstGeom prst="rect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节约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4" name="组合 66"/>
          <p:cNvGrpSpPr/>
          <p:nvPr/>
        </p:nvGrpSpPr>
        <p:grpSpPr>
          <a:xfrm>
            <a:off x="1476360" y="2471760"/>
            <a:ext cx="6012000" cy="3533760"/>
            <a:chOff x="1476360" y="2471760"/>
            <a:chExt cx="6012000" cy="3533760"/>
          </a:xfrm>
        </p:grpSpPr>
        <p:sp>
          <p:nvSpPr>
            <p:cNvPr id="1325" name="AutoShape 75"/>
            <p:cNvSpPr/>
            <p:nvPr/>
          </p:nvSpPr>
          <p:spPr>
            <a:xfrm rot="18900000">
              <a:off x="3474360" y="4780080"/>
              <a:ext cx="828000" cy="1080360"/>
            </a:xfrm>
            <a:prstGeom prst="rightArrow">
              <a:avLst>
                <a:gd name="adj1" fmla="val 70398"/>
                <a:gd name="adj2" fmla="val 65690"/>
              </a:avLst>
            </a:prstGeom>
            <a:solidFill>
              <a:srgbClr val="00b050">
                <a:alpha val="69000"/>
              </a:srgbClr>
            </a:solidFill>
            <a:ln w="12600">
              <a:solidFill>
                <a:srgbClr val="4b474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圆角矩形 23"/>
            <p:cNvSpPr/>
            <p:nvPr/>
          </p:nvSpPr>
          <p:spPr>
            <a:xfrm>
              <a:off x="1560960" y="5249160"/>
              <a:ext cx="1980360" cy="756360"/>
            </a:xfrm>
            <a:prstGeom prst="roundRect">
              <a:avLst>
                <a:gd name="adj" fmla="val 3278"/>
              </a:avLst>
            </a:prstGeom>
            <a:solidFill>
              <a:srgbClr val="00b050">
                <a:alpha val="69000"/>
              </a:srgbClr>
            </a:solidFill>
            <a:ln w="12600">
              <a:solidFill>
                <a:srgbClr val="4b474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7" name="组合 74"/>
            <p:cNvGrpSpPr/>
            <p:nvPr/>
          </p:nvGrpSpPr>
          <p:grpSpPr>
            <a:xfrm>
              <a:off x="4593600" y="2471760"/>
              <a:ext cx="2894760" cy="1466640"/>
              <a:chOff x="4593600" y="2471760"/>
              <a:chExt cx="2894760" cy="1466640"/>
            </a:xfrm>
          </p:grpSpPr>
          <p:sp>
            <p:nvSpPr>
              <p:cNvPr id="1328" name="AutoShape 67"/>
              <p:cNvSpPr/>
              <p:nvPr/>
            </p:nvSpPr>
            <p:spPr>
              <a:xfrm flipH="1" rot="18900000">
                <a:off x="4820400" y="2743200"/>
                <a:ext cx="915480" cy="1020960"/>
              </a:xfrm>
              <a:prstGeom prst="rightArrow">
                <a:avLst>
                  <a:gd name="adj1" fmla="val 70398"/>
                  <a:gd name="adj2" fmla="val 63769"/>
                </a:avLst>
              </a:prstGeom>
              <a:solidFill>
                <a:srgbClr val="00b050">
                  <a:alpha val="69000"/>
                </a:srgbClr>
              </a:solidFill>
              <a:ln w="12600">
                <a:solidFill>
                  <a:srgbClr val="4b4747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圆角矩形 44"/>
              <p:cNvSpPr/>
              <p:nvPr/>
            </p:nvSpPr>
            <p:spPr>
              <a:xfrm>
                <a:off x="5590800" y="2471760"/>
                <a:ext cx="1897560" cy="835920"/>
              </a:xfrm>
              <a:prstGeom prst="roundRect">
                <a:avLst>
                  <a:gd name="adj" fmla="val 3278"/>
                </a:avLst>
              </a:prstGeom>
              <a:solidFill>
                <a:srgbClr val="00b050">
                  <a:alpha val="69000"/>
                </a:srgbClr>
              </a:solidFill>
              <a:ln w="12600">
                <a:solidFill>
                  <a:srgbClr val="4b4747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0" name="Text Box 18"/>
            <p:cNvSpPr/>
            <p:nvPr/>
          </p:nvSpPr>
          <p:spPr>
            <a:xfrm>
              <a:off x="5868360" y="2637000"/>
              <a:ext cx="155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学习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Text Box 18"/>
            <p:cNvSpPr/>
            <p:nvPr/>
          </p:nvSpPr>
          <p:spPr>
            <a:xfrm>
              <a:off x="1476360" y="5375160"/>
              <a:ext cx="18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数字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2" name="组合 64"/>
          <p:cNvGrpSpPr/>
          <p:nvPr/>
        </p:nvGrpSpPr>
        <p:grpSpPr>
          <a:xfrm>
            <a:off x="1560600" y="2471760"/>
            <a:ext cx="5927760" cy="3558240"/>
            <a:chOff x="1560600" y="2471760"/>
            <a:chExt cx="5927760" cy="3558240"/>
          </a:xfrm>
        </p:grpSpPr>
        <p:grpSp>
          <p:nvGrpSpPr>
            <p:cNvPr id="1333" name="组合 63"/>
            <p:cNvGrpSpPr/>
            <p:nvPr/>
          </p:nvGrpSpPr>
          <p:grpSpPr>
            <a:xfrm>
              <a:off x="1560600" y="2471760"/>
              <a:ext cx="3002040" cy="1375920"/>
              <a:chOff x="1560600" y="2471760"/>
              <a:chExt cx="3002040" cy="1375920"/>
            </a:xfrm>
          </p:grpSpPr>
          <p:grpSp>
            <p:nvGrpSpPr>
              <p:cNvPr id="1334" name="组合 76"/>
              <p:cNvGrpSpPr/>
              <p:nvPr/>
            </p:nvGrpSpPr>
            <p:grpSpPr>
              <a:xfrm>
                <a:off x="1560600" y="2471760"/>
                <a:ext cx="3002040" cy="1375920"/>
                <a:chOff x="1560600" y="2471760"/>
                <a:chExt cx="3002040" cy="1375920"/>
              </a:xfrm>
            </p:grpSpPr>
            <p:sp>
              <p:nvSpPr>
                <p:cNvPr id="1335" name="AutoShape 73"/>
                <p:cNvSpPr/>
                <p:nvPr/>
              </p:nvSpPr>
              <p:spPr>
                <a:xfrm rot="2700000">
                  <a:off x="3479400" y="2645280"/>
                  <a:ext cx="827280" cy="1065600"/>
                </a:xfrm>
                <a:prstGeom prst="rightArrow">
                  <a:avLst>
                    <a:gd name="adj1" fmla="val 70398"/>
                    <a:gd name="adj2" fmla="val 63769"/>
                  </a:avLst>
                </a:prstGeom>
                <a:solidFill>
                  <a:srgbClr val="00b050">
                    <a:alpha val="69000"/>
                  </a:srgbClr>
                </a:solidFill>
                <a:ln w="12600">
                  <a:solidFill>
                    <a:srgbClr val="4b4747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圆角矩形 9"/>
                <p:cNvSpPr/>
                <p:nvPr/>
              </p:nvSpPr>
              <p:spPr>
                <a:xfrm>
                  <a:off x="1560600" y="2471760"/>
                  <a:ext cx="1980720" cy="7552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b050">
                    <a:alpha val="69000"/>
                  </a:srgbClr>
                </a:solidFill>
                <a:ln w="12600">
                  <a:solidFill>
                    <a:srgbClr val="4b4747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7" name="Text Box 18"/>
              <p:cNvSpPr/>
              <p:nvPr/>
            </p:nvSpPr>
            <p:spPr>
              <a:xfrm>
                <a:off x="1647720" y="2565000"/>
                <a:ext cx="15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平安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组合 62"/>
            <p:cNvGrpSpPr/>
            <p:nvPr/>
          </p:nvGrpSpPr>
          <p:grpSpPr>
            <a:xfrm>
              <a:off x="4436640" y="4739760"/>
              <a:ext cx="3051720" cy="1290240"/>
              <a:chOff x="4436640" y="4739760"/>
              <a:chExt cx="3051720" cy="1290240"/>
            </a:xfrm>
          </p:grpSpPr>
          <p:grpSp>
            <p:nvGrpSpPr>
              <p:cNvPr id="1339" name="组合 72"/>
              <p:cNvGrpSpPr/>
              <p:nvPr/>
            </p:nvGrpSpPr>
            <p:grpSpPr>
              <a:xfrm>
                <a:off x="4436640" y="4739760"/>
                <a:ext cx="3051720" cy="1290240"/>
                <a:chOff x="4436640" y="4739760"/>
                <a:chExt cx="3051720" cy="1290240"/>
              </a:xfrm>
            </p:grpSpPr>
            <p:sp>
              <p:nvSpPr>
                <p:cNvPr id="1340" name="AutoShape 69"/>
                <p:cNvSpPr/>
                <p:nvPr/>
              </p:nvSpPr>
              <p:spPr>
                <a:xfrm flipH="1" rot="2700000">
                  <a:off x="4649760" y="4904280"/>
                  <a:ext cx="864000" cy="960840"/>
                </a:xfrm>
                <a:prstGeom prst="rightArrow">
                  <a:avLst>
                    <a:gd name="adj1" fmla="val 70398"/>
                    <a:gd name="adj2" fmla="val 64579"/>
                  </a:avLst>
                </a:prstGeom>
                <a:solidFill>
                  <a:srgbClr val="00b050">
                    <a:alpha val="69000"/>
                  </a:srgbClr>
                </a:solidFill>
                <a:ln w="12600">
                  <a:solidFill>
                    <a:srgbClr val="4b4747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圆角矩形 30"/>
                <p:cNvSpPr/>
                <p:nvPr/>
              </p:nvSpPr>
              <p:spPr>
                <a:xfrm>
                  <a:off x="5421960" y="5322600"/>
                  <a:ext cx="2066400" cy="6814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b050">
                    <a:alpha val="69000"/>
                  </a:srgbClr>
                </a:solidFill>
                <a:ln w="12600">
                  <a:solidFill>
                    <a:srgbClr val="4b4747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2" name="Text Box 18"/>
              <p:cNvSpPr/>
              <p:nvPr/>
            </p:nvSpPr>
            <p:spPr>
              <a:xfrm>
                <a:off x="5810400" y="5300280"/>
                <a:ext cx="149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职业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3" name="组合 61"/>
          <p:cNvGrpSpPr/>
          <p:nvPr/>
        </p:nvGrpSpPr>
        <p:grpSpPr>
          <a:xfrm>
            <a:off x="3727440" y="3440160"/>
            <a:ext cx="1620720" cy="1620720"/>
            <a:chOff x="3727440" y="3440160"/>
            <a:chExt cx="1620720" cy="1620720"/>
          </a:xfrm>
        </p:grpSpPr>
        <p:grpSp>
          <p:nvGrpSpPr>
            <p:cNvPr id="1344" name="组合 75"/>
            <p:cNvGrpSpPr/>
            <p:nvPr/>
          </p:nvGrpSpPr>
          <p:grpSpPr>
            <a:xfrm>
              <a:off x="3727440" y="3440160"/>
              <a:ext cx="1620720" cy="1620720"/>
              <a:chOff x="3727440" y="3440160"/>
              <a:chExt cx="1620720" cy="1620720"/>
            </a:xfrm>
          </p:grpSpPr>
          <p:sp>
            <p:nvSpPr>
              <p:cNvPr id="1345" name="Oval 93"/>
              <p:cNvSpPr/>
              <p:nvPr/>
            </p:nvSpPr>
            <p:spPr>
              <a:xfrm>
                <a:off x="3727440" y="3440160"/>
                <a:ext cx="1620720" cy="1620720"/>
              </a:xfrm>
              <a:prstGeom prst="ellipse">
                <a:avLst/>
              </a:prstGeom>
              <a:solidFill>
                <a:srgbClr val="39a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6" name="Oval 94"/>
              <p:cNvGrpSpPr/>
              <p:nvPr/>
            </p:nvGrpSpPr>
            <p:grpSpPr>
              <a:xfrm>
                <a:off x="3773160" y="3476160"/>
                <a:ext cx="1438560" cy="1438560"/>
                <a:chOff x="3773160" y="3476160"/>
                <a:chExt cx="1438560" cy="1438560"/>
              </a:xfrm>
            </p:grpSpPr>
            <p:pic>
              <p:nvPicPr>
                <p:cNvPr id="1347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73160" y="3476160"/>
                  <a:ext cx="1438560" cy="143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8" name="Text Box 38"/>
                <p:cNvSpPr/>
                <p:nvPr/>
              </p:nvSpPr>
              <p:spPr>
                <a:xfrm>
                  <a:off x="3996720" y="3697200"/>
                  <a:ext cx="987480" cy="98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9" name="Text Box 18"/>
            <p:cNvSpPr/>
            <p:nvPr/>
          </p:nvSpPr>
          <p:spPr>
            <a:xfrm>
              <a:off x="3859200" y="3789000"/>
              <a:ext cx="12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六型新后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组合 58"/>
          <p:cNvGrpSpPr/>
          <p:nvPr/>
        </p:nvGrpSpPr>
        <p:grpSpPr>
          <a:xfrm>
            <a:off x="2446200" y="3871800"/>
            <a:ext cx="4181760" cy="757440"/>
            <a:chOff x="2446200" y="3871800"/>
            <a:chExt cx="4181760" cy="757440"/>
          </a:xfrm>
        </p:grpSpPr>
        <p:grpSp>
          <p:nvGrpSpPr>
            <p:cNvPr id="1351" name="组合 24"/>
            <p:cNvGrpSpPr/>
            <p:nvPr/>
          </p:nvGrpSpPr>
          <p:grpSpPr>
            <a:xfrm>
              <a:off x="2446200" y="3872160"/>
              <a:ext cx="756720" cy="757080"/>
              <a:chOff x="2446200" y="3872160"/>
              <a:chExt cx="756720" cy="757080"/>
            </a:xfrm>
          </p:grpSpPr>
          <p:sp>
            <p:nvSpPr>
              <p:cNvPr id="1352" name="椭圆 78"/>
              <p:cNvSpPr/>
              <p:nvPr/>
            </p:nvSpPr>
            <p:spPr>
              <a:xfrm>
                <a:off x="2446200" y="3872160"/>
                <a:ext cx="75672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椭圆 117"/>
              <p:cNvSpPr/>
              <p:nvPr/>
            </p:nvSpPr>
            <p:spPr>
              <a:xfrm>
                <a:off x="2469240" y="3894120"/>
                <a:ext cx="647640" cy="64836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4" name="组合 41"/>
            <p:cNvGrpSpPr/>
            <p:nvPr/>
          </p:nvGrpSpPr>
          <p:grpSpPr>
            <a:xfrm>
              <a:off x="5870880" y="3871800"/>
              <a:ext cx="757080" cy="756720"/>
              <a:chOff x="5870880" y="3871800"/>
              <a:chExt cx="757080" cy="756720"/>
            </a:xfrm>
          </p:grpSpPr>
          <p:sp>
            <p:nvSpPr>
              <p:cNvPr id="1355" name="椭圆 34"/>
              <p:cNvSpPr/>
              <p:nvPr/>
            </p:nvSpPr>
            <p:spPr>
              <a:xfrm>
                <a:off x="5870880" y="3871800"/>
                <a:ext cx="757080" cy="756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椭圆 117"/>
              <p:cNvSpPr/>
              <p:nvPr/>
            </p:nvSpPr>
            <p:spPr>
              <a:xfrm>
                <a:off x="5894280" y="3893400"/>
                <a:ext cx="648360" cy="64944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7" name="Rectangle 26"/>
            <p:cNvSpPr/>
            <p:nvPr/>
          </p:nvSpPr>
          <p:spPr>
            <a:xfrm>
              <a:off x="6042240" y="40050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26"/>
            <p:cNvSpPr/>
            <p:nvPr/>
          </p:nvSpPr>
          <p:spPr>
            <a:xfrm>
              <a:off x="2616480" y="40608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微软雅黑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组合 60"/>
          <p:cNvGrpSpPr/>
          <p:nvPr/>
        </p:nvGrpSpPr>
        <p:grpSpPr>
          <a:xfrm>
            <a:off x="3186000" y="2471760"/>
            <a:ext cx="2678400" cy="3533760"/>
            <a:chOff x="3186000" y="2471760"/>
            <a:chExt cx="2678400" cy="3533760"/>
          </a:xfrm>
        </p:grpSpPr>
        <p:grpSp>
          <p:nvGrpSpPr>
            <p:cNvPr id="1360" name="组合 35"/>
            <p:cNvGrpSpPr/>
            <p:nvPr/>
          </p:nvGrpSpPr>
          <p:grpSpPr>
            <a:xfrm>
              <a:off x="3186000" y="5249160"/>
              <a:ext cx="757080" cy="756360"/>
              <a:chOff x="3186000" y="5249160"/>
              <a:chExt cx="757080" cy="756360"/>
            </a:xfrm>
          </p:grpSpPr>
          <p:sp>
            <p:nvSpPr>
              <p:cNvPr id="1361" name="椭圆 20"/>
              <p:cNvSpPr/>
              <p:nvPr/>
            </p:nvSpPr>
            <p:spPr>
              <a:xfrm>
                <a:off x="3186000" y="5249160"/>
                <a:ext cx="757080" cy="756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椭圆 117"/>
              <p:cNvSpPr/>
              <p:nvPr/>
            </p:nvSpPr>
            <p:spPr>
              <a:xfrm>
                <a:off x="3209040" y="5270040"/>
                <a:ext cx="648360" cy="64908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3" name="组合 44"/>
            <p:cNvGrpSpPr/>
            <p:nvPr/>
          </p:nvGrpSpPr>
          <p:grpSpPr>
            <a:xfrm>
              <a:off x="5107320" y="2471760"/>
              <a:ext cx="757080" cy="756000"/>
              <a:chOff x="5107320" y="2471760"/>
              <a:chExt cx="757080" cy="756000"/>
            </a:xfrm>
          </p:grpSpPr>
          <p:sp>
            <p:nvSpPr>
              <p:cNvPr id="1364" name="椭圆 85"/>
              <p:cNvSpPr/>
              <p:nvPr/>
            </p:nvSpPr>
            <p:spPr>
              <a:xfrm>
                <a:off x="5107320" y="2471760"/>
                <a:ext cx="757080" cy="75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椭圆 117"/>
              <p:cNvSpPr/>
              <p:nvPr/>
            </p:nvSpPr>
            <p:spPr>
              <a:xfrm>
                <a:off x="5130720" y="2493000"/>
                <a:ext cx="648360" cy="64836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Calibri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6" name="Rectangle 26"/>
            <p:cNvSpPr/>
            <p:nvPr/>
          </p:nvSpPr>
          <p:spPr>
            <a:xfrm>
              <a:off x="5365080" y="2671560"/>
              <a:ext cx="184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26"/>
            <p:cNvSpPr/>
            <p:nvPr/>
          </p:nvSpPr>
          <p:spPr>
            <a:xfrm>
              <a:off x="3356280" y="54388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组合 59"/>
          <p:cNvGrpSpPr/>
          <p:nvPr/>
        </p:nvGrpSpPr>
        <p:grpSpPr>
          <a:xfrm>
            <a:off x="3186000" y="2471760"/>
            <a:ext cx="2678400" cy="3533760"/>
            <a:chOff x="3186000" y="2471760"/>
            <a:chExt cx="2678400" cy="3533760"/>
          </a:xfrm>
        </p:grpSpPr>
        <p:grpSp>
          <p:nvGrpSpPr>
            <p:cNvPr id="1369" name="组合 28"/>
            <p:cNvGrpSpPr/>
            <p:nvPr/>
          </p:nvGrpSpPr>
          <p:grpSpPr>
            <a:xfrm>
              <a:off x="3186000" y="2471760"/>
              <a:ext cx="757080" cy="755640"/>
              <a:chOff x="3186000" y="2471760"/>
              <a:chExt cx="757080" cy="755640"/>
            </a:xfrm>
          </p:grpSpPr>
          <p:sp>
            <p:nvSpPr>
              <p:cNvPr id="1370" name="椭圆 6"/>
              <p:cNvSpPr/>
              <p:nvPr/>
            </p:nvSpPr>
            <p:spPr>
              <a:xfrm>
                <a:off x="3186000" y="24717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椭圆 117"/>
              <p:cNvSpPr/>
              <p:nvPr/>
            </p:nvSpPr>
            <p:spPr>
              <a:xfrm>
                <a:off x="3209040" y="2493000"/>
                <a:ext cx="648000" cy="64764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组合 38"/>
            <p:cNvGrpSpPr/>
            <p:nvPr/>
          </p:nvGrpSpPr>
          <p:grpSpPr>
            <a:xfrm>
              <a:off x="5107680" y="5250240"/>
              <a:ext cx="756720" cy="755280"/>
              <a:chOff x="5107680" y="5250240"/>
              <a:chExt cx="756720" cy="755280"/>
            </a:xfrm>
          </p:grpSpPr>
          <p:sp>
            <p:nvSpPr>
              <p:cNvPr id="1373" name="椭圆 94"/>
              <p:cNvSpPr/>
              <p:nvPr/>
            </p:nvSpPr>
            <p:spPr>
              <a:xfrm>
                <a:off x="5107680" y="5250240"/>
                <a:ext cx="756720" cy="75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椭圆 117"/>
              <p:cNvSpPr/>
              <p:nvPr/>
            </p:nvSpPr>
            <p:spPr>
              <a:xfrm>
                <a:off x="5131440" y="5271840"/>
                <a:ext cx="647640" cy="64728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Calibri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5" name="Rectangle 26"/>
            <p:cNvSpPr/>
            <p:nvPr/>
          </p:nvSpPr>
          <p:spPr>
            <a:xfrm>
              <a:off x="3368520" y="267156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alibri"/>
                  <a:ea typeface="微软雅黑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26"/>
            <p:cNvSpPr/>
            <p:nvPr/>
          </p:nvSpPr>
          <p:spPr>
            <a:xfrm>
              <a:off x="5353200" y="5438880"/>
              <a:ext cx="184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Rectangle 2"/>
          <p:cNvSpPr/>
          <p:nvPr/>
        </p:nvSpPr>
        <p:spPr>
          <a:xfrm>
            <a:off x="611280" y="765000"/>
            <a:ext cx="5386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s2" descr=""/>
          <p:cNvPicPr/>
          <p:nvPr/>
        </p:nvPicPr>
        <p:blipFill>
          <a:blip r:embed="rId3"/>
          <a:stretch/>
        </p:blipFill>
        <p:spPr>
          <a:xfrm>
            <a:off x="3672000" y="4149720"/>
            <a:ext cx="1836720" cy="4892760"/>
          </a:xfrm>
          <a:prstGeom prst="rect">
            <a:avLst/>
          </a:prstGeom>
          <a:ln w="0">
            <a:noFill/>
          </a:ln>
        </p:spPr>
      </p:pic>
      <p:sp>
        <p:nvSpPr>
          <p:cNvPr id="1379" name=""/>
          <p:cNvSpPr/>
          <p:nvPr/>
        </p:nvSpPr>
        <p:spPr>
          <a:xfrm>
            <a:off x="900000" y="1874880"/>
            <a:ext cx="7850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5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5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96296E-006 L -0.33871 0.4757 E">
                                      <p:cBhvr>
                                        <p:cTn id="795" dur="500" fill="hold"/>
                                        <p:tgtEl>
                                          <p:spTgt spid="1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7" dur="500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1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500"/>
                            </p:stCondLst>
                            <p:childTnLst>
                              <p:par>
                                <p:cTn id="81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6000"/>
                            </p:stCondLst>
                            <p:childTnLst>
                              <p:par>
                                <p:cTn id="81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18" dur="14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20" dur="14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22" dur="14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7400"/>
                            </p:stCondLst>
                            <p:childTnLst>
                              <p:par>
                                <p:cTn id="824" dur="indefinite" nodeType="afterEffect" fill="hold" presetClass="entr" presetID="23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2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7700"/>
                            </p:stCondLst>
                            <p:childTnLst>
                              <p:par>
                                <p:cTn id="829" dur="indefinite" nodeType="after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8100"/>
                            </p:stCondLst>
                            <p:childTnLst>
                              <p:par>
                                <p:cTn id="834" dur="indefinite" nodeType="after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2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图片 21" descr=""/>
          <p:cNvPicPr/>
          <p:nvPr/>
        </p:nvPicPr>
        <p:blipFill>
          <a:blip r:embed="rId1"/>
          <a:stretch/>
        </p:blipFill>
        <p:spPr>
          <a:xfrm>
            <a:off x="144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381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382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3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384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388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2" name="矩形 3"/>
          <p:cNvSpPr/>
          <p:nvPr/>
        </p:nvSpPr>
        <p:spPr>
          <a:xfrm>
            <a:off x="-9360" y="946080"/>
            <a:ext cx="561636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"/>
          <p:cNvSpPr/>
          <p:nvPr/>
        </p:nvSpPr>
        <p:spPr>
          <a:xfrm>
            <a:off x="611280" y="10429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36"/>
          <p:cNvSpPr/>
          <p:nvPr/>
        </p:nvSpPr>
        <p:spPr>
          <a:xfrm>
            <a:off x="2195640" y="105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矩形 22"/>
          <p:cNvSpPr/>
          <p:nvPr/>
        </p:nvSpPr>
        <p:spPr>
          <a:xfrm>
            <a:off x="0" y="6478560"/>
            <a:ext cx="914400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41"/>
          <p:cNvSpPr/>
          <p:nvPr/>
        </p:nvSpPr>
        <p:spPr>
          <a:xfrm>
            <a:off x="2050920" y="404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43"/>
          <p:cNvSpPr/>
          <p:nvPr/>
        </p:nvSpPr>
        <p:spPr>
          <a:xfrm>
            <a:off x="2050920" y="1052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45"/>
          <p:cNvSpPr/>
          <p:nvPr/>
        </p:nvSpPr>
        <p:spPr>
          <a:xfrm>
            <a:off x="2301840" y="2349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网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矩形 46"/>
          <p:cNvSpPr/>
          <p:nvPr/>
        </p:nvSpPr>
        <p:spPr>
          <a:xfrm>
            <a:off x="2266920" y="299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简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47"/>
          <p:cNvSpPr/>
          <p:nvPr/>
        </p:nvSpPr>
        <p:spPr>
          <a:xfrm>
            <a:off x="2106720" y="382752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座谈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49"/>
          <p:cNvSpPr/>
          <p:nvPr/>
        </p:nvSpPr>
        <p:spPr>
          <a:xfrm>
            <a:off x="1619280" y="530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台晚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50"/>
          <p:cNvSpPr/>
          <p:nvPr/>
        </p:nvSpPr>
        <p:spPr>
          <a:xfrm>
            <a:off x="2050920" y="10540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55"/>
          <p:cNvSpPr/>
          <p:nvPr/>
        </p:nvSpPr>
        <p:spPr>
          <a:xfrm>
            <a:off x="2050920" y="1052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56"/>
          <p:cNvSpPr/>
          <p:nvPr/>
        </p:nvSpPr>
        <p:spPr>
          <a:xfrm>
            <a:off x="2038320" y="10317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5" name="Picture 2" descr="C:\Documents and Settings\Administrator\桌面\新建文件夹 (2)\DSC07868.JPG"/>
          <p:cNvPicPr/>
          <p:nvPr/>
        </p:nvPicPr>
        <p:blipFill>
          <a:blip r:embed="rId2"/>
          <a:stretch/>
        </p:blipFill>
        <p:spPr>
          <a:xfrm>
            <a:off x="8532720" y="5445000"/>
            <a:ext cx="3745080" cy="3676680"/>
          </a:xfrm>
          <a:prstGeom prst="rect">
            <a:avLst/>
          </a:prstGeom>
          <a:ln w="0">
            <a:noFill/>
          </a:ln>
        </p:spPr>
      </p:pic>
      <p:sp>
        <p:nvSpPr>
          <p:cNvPr id="1406" name="矩形 59"/>
          <p:cNvSpPr/>
          <p:nvPr/>
        </p:nvSpPr>
        <p:spPr>
          <a:xfrm>
            <a:off x="1940040" y="4508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场职业技能大比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矩形 60"/>
          <p:cNvSpPr/>
          <p:nvPr/>
        </p:nvSpPr>
        <p:spPr>
          <a:xfrm>
            <a:off x="2203560" y="1204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矩形 62"/>
          <p:cNvSpPr/>
          <p:nvPr/>
        </p:nvSpPr>
        <p:spPr>
          <a:xfrm>
            <a:off x="2355840" y="1357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L -0.00782 0.0581 E">
                                      <p:cBhvr>
                                        <p:cTn id="848" dur="1000" fill="hold"/>
                                        <p:tgtEl>
                                          <p:spTgt spid="1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0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4 0.03588 L -0.00504 0.08819 E">
                                      <p:cBhvr>
                                        <p:cTn id="853" dur="1000" fill="hold"/>
                                        <p:tgtEl>
                                          <p:spTgt spid="1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0486 L 0.0474 -2.96296E-006 E">
                                      <p:cBhvr>
                                        <p:cTn id="855" dur="1000" fill="hold"/>
                                        <p:tgtEl>
                                          <p:spTgt spid="1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-0.04722 0.18889 E">
                                      <p:cBhvr>
                                        <p:cTn id="864" dur="1000" fill="hold"/>
                                        <p:tgtEl>
                                          <p:spTgt spid="1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-0.04722 0.18889 E">
                                      <p:cBhvr>
                                        <p:cTn id="869" dur="1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-0.04722 0.29398 E">
                                      <p:cBhvr>
                                        <p:cTn id="878" dur="1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96296E-006 L -0.0566 0.41157 E">
                                      <p:cBhvr>
                                        <p:cTn id="887" dur="1000" fill="hold"/>
                                        <p:tgtEl>
                                          <p:spTgt spid="1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5857 L -0.13472 0.47083 E">
                                      <p:cBhvr>
                                        <p:cTn id="896" dur="1000" fill="hold"/>
                                        <p:tgtEl>
                                          <p:spTgt spid="1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11111E-006 L -0.55902 -0.09977 E">
                                      <p:cBhvr>
                                        <p:cTn id="907" dur="2000" fill="hold"/>
                                        <p:tgtEl>
                                          <p:spTgt spid="1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6719 0.57616 E">
                                      <p:cBhvr>
                                        <p:cTn id="919" dur="1000" fill="hold"/>
                                        <p:tgtEl>
                                          <p:spTgt spid="1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9" name="图片 21" descr=""/>
          <p:cNvPicPr/>
          <p:nvPr/>
        </p:nvPicPr>
        <p:blipFill>
          <a:blip r:embed="rId1"/>
          <a:stretch/>
        </p:blipFill>
        <p:spPr>
          <a:xfrm>
            <a:off x="1440" y="-3168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410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411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413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6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417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1" name="矩形 22"/>
          <p:cNvSpPr/>
          <p:nvPr/>
        </p:nvSpPr>
        <p:spPr>
          <a:xfrm>
            <a:off x="0" y="6478560"/>
            <a:ext cx="914400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Box 14"/>
          <p:cNvSpPr/>
          <p:nvPr/>
        </p:nvSpPr>
        <p:spPr>
          <a:xfrm>
            <a:off x="1332000" y="62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研发</a:t>
            </a: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学生住宿管理系统</a:t>
            </a: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424" name="s2" descr=""/>
          <p:cNvPicPr/>
          <p:nvPr/>
        </p:nvPicPr>
        <p:blipFill>
          <a:blip r:embed="rId2"/>
          <a:stretch/>
        </p:blipFill>
        <p:spPr>
          <a:xfrm>
            <a:off x="9612360" y="4005360"/>
            <a:ext cx="1836720" cy="4894200"/>
          </a:xfrm>
          <a:prstGeom prst="rect">
            <a:avLst/>
          </a:prstGeom>
          <a:ln w="0">
            <a:noFill/>
          </a:ln>
        </p:spPr>
      </p:pic>
      <p:sp>
        <p:nvSpPr>
          <p:cNvPr id="1425" name="TextBox 20"/>
          <p:cNvSpPr/>
          <p:nvPr/>
        </p:nvSpPr>
        <p:spPr>
          <a:xfrm>
            <a:off x="6588000" y="1568520"/>
            <a:ext cx="24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**********************************************************************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33333E-006 L -0.83993 -0.01041 E">
                                      <p:cBhvr>
                                        <p:cTn id="936" dur="1000" fill="hold"/>
                                        <p:tgtEl>
                                          <p:spTgt spid="1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8" dur="500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82 -0.13542 L -0.80903 -0.14676 E">
                                      <p:cBhvr>
                                        <p:cTn id="947" dur="1000" fill="hold"/>
                                        <p:tgtEl>
                                          <p:spTgt spid="1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27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9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31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432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4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5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1436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8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1439" name="图片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0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2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1443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6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1447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1" name="矩形 58"/>
          <p:cNvSpPr/>
          <p:nvPr/>
        </p:nvSpPr>
        <p:spPr>
          <a:xfrm>
            <a:off x="2241720" y="2141640"/>
            <a:ext cx="6003720" cy="568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准工作着力点，提高业务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59"/>
          <p:cNvSpPr/>
          <p:nvPr/>
        </p:nvSpPr>
        <p:spPr>
          <a:xfrm>
            <a:off x="2386080" y="2933640"/>
            <a:ext cx="5570640" cy="600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握工作重点，锤炼岗位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60"/>
          <p:cNvSpPr/>
          <p:nvPr/>
        </p:nvSpPr>
        <p:spPr>
          <a:xfrm>
            <a:off x="2340000" y="3797280"/>
            <a:ext cx="5545080" cy="60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破工作难点，创新岗位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61"/>
          <p:cNvSpPr/>
          <p:nvPr/>
        </p:nvSpPr>
        <p:spPr>
          <a:xfrm>
            <a:off x="2386080" y="4589640"/>
            <a:ext cx="2808360" cy="601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几点工作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62"/>
          <p:cNvSpPr/>
          <p:nvPr/>
        </p:nvSpPr>
        <p:spPr>
          <a:xfrm>
            <a:off x="1306440" y="2212920"/>
            <a:ext cx="70020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63"/>
          <p:cNvSpPr/>
          <p:nvPr/>
        </p:nvSpPr>
        <p:spPr>
          <a:xfrm>
            <a:off x="1306440" y="3005280"/>
            <a:ext cx="700200" cy="583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68"/>
          <p:cNvSpPr/>
          <p:nvPr/>
        </p:nvSpPr>
        <p:spPr>
          <a:xfrm>
            <a:off x="1260360" y="3797280"/>
            <a:ext cx="70020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69"/>
          <p:cNvSpPr/>
          <p:nvPr/>
        </p:nvSpPr>
        <p:spPr>
          <a:xfrm>
            <a:off x="1306440" y="4589640"/>
            <a:ext cx="700200" cy="583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70"/>
          <p:cNvSpPr/>
          <p:nvPr/>
        </p:nvSpPr>
        <p:spPr>
          <a:xfrm>
            <a:off x="2241720" y="1284120"/>
            <a:ext cx="5499000" cy="568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清发展形势，强化岗位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71"/>
          <p:cNvSpPr/>
          <p:nvPr/>
        </p:nvSpPr>
        <p:spPr>
          <a:xfrm>
            <a:off x="1306440" y="1268280"/>
            <a:ext cx="700200" cy="58428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1" name="图片 72" descr=""/>
          <p:cNvPicPr/>
          <p:nvPr/>
        </p:nvPicPr>
        <p:blipFill>
          <a:blip r:embed="rId5"/>
          <a:stretch/>
        </p:blipFill>
        <p:spPr>
          <a:xfrm>
            <a:off x="2916360" y="4797360"/>
            <a:ext cx="1834920" cy="48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1" dur="750" fill="hold"/>
                                        <p:tgtEl>
                                          <p:spTgt spid="1430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96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750"/>
                            </p:stCondLst>
                            <p:childTnLst>
                              <p:par>
                                <p:cTn id="9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5" dur="1000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0" dur="250" autoRev="1" fill="hold"/>
                                        <p:tgtEl>
                                          <p:spTgt spid="14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3" dur="250" autoRev="1" fill="hold"/>
                                        <p:tgtEl>
                                          <p:spTgt spid="14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21" descr=""/>
          <p:cNvPicPr/>
          <p:nvPr/>
        </p:nvPicPr>
        <p:blipFill>
          <a:blip r:embed="rId1"/>
          <a:stretch/>
        </p:blipFill>
        <p:spPr>
          <a:xfrm>
            <a:off x="1440" y="-3168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463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464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5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466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470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4" name="矩形 22"/>
          <p:cNvSpPr/>
          <p:nvPr/>
        </p:nvSpPr>
        <p:spPr>
          <a:xfrm>
            <a:off x="0" y="6478560"/>
            <a:ext cx="914400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组合 73"/>
          <p:cNvGrpSpPr/>
          <p:nvPr/>
        </p:nvGrpSpPr>
        <p:grpSpPr>
          <a:xfrm>
            <a:off x="-55440" y="4832280"/>
            <a:ext cx="9199440" cy="347760"/>
            <a:chOff x="-55440" y="4832280"/>
            <a:chExt cx="9199440" cy="347760"/>
          </a:xfrm>
        </p:grpSpPr>
        <p:sp>
          <p:nvSpPr>
            <p:cNvPr id="1476" name="直接连接符 61"/>
            <p:cNvSpPr/>
            <p:nvPr/>
          </p:nvSpPr>
          <p:spPr>
            <a:xfrm>
              <a:off x="-45720" y="4832280"/>
              <a:ext cx="9172440" cy="0"/>
            </a:xfrm>
            <a:prstGeom prst="line">
              <a:avLst/>
            </a:prstGeom>
            <a:ln w="324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矩形 62"/>
            <p:cNvSpPr/>
            <p:nvPr/>
          </p:nvSpPr>
          <p:spPr>
            <a:xfrm>
              <a:off x="-55440" y="5012280"/>
              <a:ext cx="9199440" cy="1677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TextBox 63"/>
          <p:cNvSpPr/>
          <p:nvPr/>
        </p:nvSpPr>
        <p:spPr>
          <a:xfrm>
            <a:off x="4716360" y="1797120"/>
            <a:ext cx="32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Box 64"/>
          <p:cNvSpPr/>
          <p:nvPr/>
        </p:nvSpPr>
        <p:spPr>
          <a:xfrm>
            <a:off x="466560" y="3813120"/>
            <a:ext cx="324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Box 67"/>
          <p:cNvSpPr/>
          <p:nvPr/>
        </p:nvSpPr>
        <p:spPr>
          <a:xfrm>
            <a:off x="216000" y="544500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坚持自己办后勤是后勤发展的生命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1" name="组合 33"/>
          <p:cNvGrpSpPr/>
          <p:nvPr/>
        </p:nvGrpSpPr>
        <p:grpSpPr>
          <a:xfrm>
            <a:off x="3060720" y="1179360"/>
            <a:ext cx="65160" cy="5729400"/>
            <a:chOff x="3060720" y="1179360"/>
            <a:chExt cx="65160" cy="5729400"/>
          </a:xfrm>
        </p:grpSpPr>
        <p:sp>
          <p:nvSpPr>
            <p:cNvPr id="1482" name="直接连接符 75"/>
            <p:cNvSpPr/>
            <p:nvPr/>
          </p:nvSpPr>
          <p:spPr>
            <a:xfrm>
              <a:off x="3060720" y="1179360"/>
              <a:ext cx="0" cy="5729400"/>
            </a:xfrm>
            <a:prstGeom prst="line">
              <a:avLst/>
            </a:prstGeom>
            <a:ln w="381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直接连接符 76"/>
            <p:cNvSpPr/>
            <p:nvPr/>
          </p:nvSpPr>
          <p:spPr>
            <a:xfrm>
              <a:off x="3125880" y="1179360"/>
              <a:ext cx="0" cy="5709600"/>
            </a:xfrm>
            <a:prstGeom prst="line">
              <a:avLst/>
            </a:prstGeom>
            <a:ln w="32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4" name="组合 36"/>
          <p:cNvGrpSpPr/>
          <p:nvPr/>
        </p:nvGrpSpPr>
        <p:grpSpPr>
          <a:xfrm>
            <a:off x="3062160" y="1143000"/>
            <a:ext cx="63720" cy="2403360"/>
            <a:chOff x="3062160" y="1143000"/>
            <a:chExt cx="63720" cy="2403360"/>
          </a:xfrm>
        </p:grpSpPr>
        <p:sp>
          <p:nvSpPr>
            <p:cNvPr id="1485" name="直接连接符 78"/>
            <p:cNvSpPr/>
            <p:nvPr/>
          </p:nvSpPr>
          <p:spPr>
            <a:xfrm>
              <a:off x="3062160" y="1143000"/>
              <a:ext cx="0" cy="2403360"/>
            </a:xfrm>
            <a:prstGeom prst="line">
              <a:avLst/>
            </a:prstGeom>
            <a:ln w="381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直接连接符 79"/>
            <p:cNvSpPr/>
            <p:nvPr/>
          </p:nvSpPr>
          <p:spPr>
            <a:xfrm>
              <a:off x="3125880" y="1143000"/>
              <a:ext cx="0" cy="2394000"/>
            </a:xfrm>
            <a:prstGeom prst="line">
              <a:avLst/>
            </a:prstGeom>
            <a:ln w="32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7" name="组合 39"/>
          <p:cNvGrpSpPr/>
          <p:nvPr/>
        </p:nvGrpSpPr>
        <p:grpSpPr>
          <a:xfrm>
            <a:off x="6375240" y="1168560"/>
            <a:ext cx="65160" cy="5730840"/>
            <a:chOff x="6375240" y="1168560"/>
            <a:chExt cx="65160" cy="5730840"/>
          </a:xfrm>
        </p:grpSpPr>
        <p:sp>
          <p:nvSpPr>
            <p:cNvPr id="1488" name="直接连接符 81"/>
            <p:cNvSpPr/>
            <p:nvPr/>
          </p:nvSpPr>
          <p:spPr>
            <a:xfrm>
              <a:off x="6375240" y="1168560"/>
              <a:ext cx="0" cy="5730840"/>
            </a:xfrm>
            <a:prstGeom prst="line">
              <a:avLst/>
            </a:prstGeom>
            <a:ln w="381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直接连接符 82"/>
            <p:cNvSpPr/>
            <p:nvPr/>
          </p:nvSpPr>
          <p:spPr>
            <a:xfrm>
              <a:off x="6440400" y="1168560"/>
              <a:ext cx="0" cy="5711040"/>
            </a:xfrm>
            <a:prstGeom prst="line">
              <a:avLst/>
            </a:prstGeom>
            <a:ln w="32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0" name="组合 42"/>
          <p:cNvGrpSpPr/>
          <p:nvPr/>
        </p:nvGrpSpPr>
        <p:grpSpPr>
          <a:xfrm>
            <a:off x="6377040" y="1133640"/>
            <a:ext cx="63360" cy="2403360"/>
            <a:chOff x="6377040" y="1133640"/>
            <a:chExt cx="63360" cy="2403360"/>
          </a:xfrm>
        </p:grpSpPr>
        <p:sp>
          <p:nvSpPr>
            <p:cNvPr id="1491" name="直接连接符 84"/>
            <p:cNvSpPr/>
            <p:nvPr/>
          </p:nvSpPr>
          <p:spPr>
            <a:xfrm>
              <a:off x="6377040" y="1133640"/>
              <a:ext cx="0" cy="2403360"/>
            </a:xfrm>
            <a:prstGeom prst="line">
              <a:avLst/>
            </a:prstGeom>
            <a:ln w="381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直接连接符 85"/>
            <p:cNvSpPr/>
            <p:nvPr/>
          </p:nvSpPr>
          <p:spPr>
            <a:xfrm>
              <a:off x="6440400" y="1133640"/>
              <a:ext cx="0" cy="2394000"/>
            </a:xfrm>
            <a:prstGeom prst="line">
              <a:avLst/>
            </a:prstGeom>
            <a:ln w="32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3" name="TextBox 86"/>
          <p:cNvSpPr/>
          <p:nvPr/>
        </p:nvSpPr>
        <p:spPr>
          <a:xfrm>
            <a:off x="3419640" y="5373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坚持公益性原则是后勤的发展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Box 87"/>
          <p:cNvSpPr/>
          <p:nvPr/>
        </p:nvSpPr>
        <p:spPr>
          <a:xfrm>
            <a:off x="6588000" y="515772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领导理解，部门支持、后勤的主动沟通是生长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Box 88"/>
          <p:cNvSpPr/>
          <p:nvPr/>
        </p:nvSpPr>
        <p:spPr>
          <a:xfrm>
            <a:off x="-3060720" y="1628640"/>
            <a:ext cx="266544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有学校自己办后勤才能掌握后勤的主动权、才能将解决问题的机制掌握在自己的手中。在关键时刻，才能能冲得上，能为学校分忧解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Box 89"/>
          <p:cNvSpPr/>
          <p:nvPr/>
        </p:nvSpPr>
        <p:spPr>
          <a:xfrm>
            <a:off x="-3564000" y="1628640"/>
            <a:ext cx="30956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益性原则是办好后勤的前提，是社会赋予我们的责任，是以人为本的具体体现，是维护学校稳定的根本要求。在现阶段，要勤俭办后勤，奉献搞服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90"/>
          <p:cNvSpPr/>
          <p:nvPr/>
        </p:nvSpPr>
        <p:spPr>
          <a:xfrm>
            <a:off x="9683640" y="1268280"/>
            <a:ext cx="2435400" cy="360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得不好的地方，后勤主动沟通，及时纠正，将矛盾化解在萌芽状态，争取领导的理解、部门的支持是后勤集团不懈努力的无限动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图片 91" descr=""/>
          <p:cNvPicPr/>
          <p:nvPr/>
        </p:nvPicPr>
        <p:blipFill>
          <a:blip r:embed="rId2"/>
          <a:stretch/>
        </p:blipFill>
        <p:spPr>
          <a:xfrm>
            <a:off x="-2484360" y="3500280"/>
            <a:ext cx="1836720" cy="4894560"/>
          </a:xfrm>
          <a:prstGeom prst="rect">
            <a:avLst/>
          </a:prstGeom>
          <a:ln w="0">
            <a:noFill/>
          </a:ln>
        </p:spPr>
      </p:pic>
      <p:pic>
        <p:nvPicPr>
          <p:cNvPr id="1499" name="图片 92" descr=""/>
          <p:cNvPicPr/>
          <p:nvPr/>
        </p:nvPicPr>
        <p:blipFill>
          <a:blip r:embed="rId3"/>
          <a:stretch/>
        </p:blipFill>
        <p:spPr>
          <a:xfrm>
            <a:off x="-2484360" y="3357720"/>
            <a:ext cx="1836720" cy="4894200"/>
          </a:xfrm>
          <a:prstGeom prst="rect">
            <a:avLst/>
          </a:prstGeom>
          <a:ln w="0">
            <a:noFill/>
          </a:ln>
        </p:spPr>
      </p:pic>
      <p:pic>
        <p:nvPicPr>
          <p:cNvPr id="1500" name="图片 93" descr=""/>
          <p:cNvPicPr/>
          <p:nvPr/>
        </p:nvPicPr>
        <p:blipFill>
          <a:blip r:embed="rId4"/>
          <a:stretch/>
        </p:blipFill>
        <p:spPr>
          <a:xfrm>
            <a:off x="9396360" y="3789360"/>
            <a:ext cx="1836720" cy="48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75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4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4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400"/>
                            </p:stCondLst>
                            <p:childTnLst>
                              <p:par>
                                <p:cTn id="10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exit" presetID="2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5" dur="2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48" dur="1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5E-006 4.62428E-007 L 0.36614 -0.09595 E">
                                      <p:cBhvr>
                                        <p:cTn id="1050" dur="1000" fill="hold"/>
                                        <p:tgtEl>
                                          <p:spTgt spid="1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1" dur="indefinite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800"/>
                            </p:stCondLst>
                            <p:childTnLst>
                              <p:par>
                                <p:cTn id="105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8" dur="100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4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xit" presetID="2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8" dur="2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600"/>
                            </p:stCondLst>
                            <p:childTnLst>
                              <p:par>
                                <p:cTn id="10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4.16667E-006 2.08092E-006 L 0.60052 -0.02081 E">
                                      <p:cBhvr>
                                        <p:cTn id="1078" dur="1000" fill="hold"/>
                                        <p:tgtEl>
                                          <p:spTgt spid="1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4.62428E-007 L 0.7441 -0.10636 E">
                                      <p:cBhvr>
                                        <p:cTn id="1080" dur="1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8" dur="10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16667E-006 4.04624E-007 L -0.21458 4.04624E-007 E">
                                      <p:cBhvr>
                                        <p:cTn id="1098" dur="1000" fill="hold"/>
                                        <p:tgtEl>
                                          <p:spTgt spid="1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path" presetID="35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5E-006 3.58382E-006 L -0.34566 -0.05249 E">
                                      <p:cBhvr>
                                        <p:cTn id="1100" dur="1000" fill="hold"/>
                                        <p:tgtEl>
                                          <p:spTgt spid="1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400"/>
                            </p:stCondLst>
                            <p:childTnLst>
                              <p:par>
                                <p:cTn id="110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8" dur="1000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27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组合 69"/>
          <p:cNvGrpSpPr/>
          <p:nvPr/>
        </p:nvGrpSpPr>
        <p:grpSpPr>
          <a:xfrm>
            <a:off x="220320" y="3092760"/>
            <a:ext cx="672120" cy="672120"/>
            <a:chOff x="220320" y="3092760"/>
            <a:chExt cx="672120" cy="672120"/>
          </a:xfrm>
        </p:grpSpPr>
        <p:sp>
          <p:nvSpPr>
            <p:cNvPr id="931" name="椭圆 8"/>
            <p:cNvSpPr/>
            <p:nvPr/>
          </p:nvSpPr>
          <p:spPr>
            <a:xfrm rot="18950400">
              <a:off x="318960" y="3190680"/>
              <a:ext cx="474840" cy="4759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圆角矩形 9"/>
            <p:cNvSpPr/>
            <p:nvPr/>
          </p:nvSpPr>
          <p:spPr>
            <a:xfrm rot="5400000">
              <a:off x="477000" y="3355560"/>
              <a:ext cx="158400" cy="146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34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935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939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1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942" name="图片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3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5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946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9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950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4" name="TextBox 34"/>
          <p:cNvSpPr/>
          <p:nvPr/>
        </p:nvSpPr>
        <p:spPr>
          <a:xfrm>
            <a:off x="1619280" y="234936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五说”后勤集团总经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Box 35"/>
          <p:cNvSpPr/>
          <p:nvPr/>
        </p:nvSpPr>
        <p:spPr>
          <a:xfrm>
            <a:off x="2771640" y="37926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****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**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*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750" fill="hold"/>
                                        <p:tgtEl>
                                          <p:spTgt spid="93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1" name="组合 2"/>
          <p:cNvGrpSpPr/>
          <p:nvPr/>
        </p:nvGrpSpPr>
        <p:grpSpPr>
          <a:xfrm>
            <a:off x="-1060920" y="-768240"/>
            <a:ext cx="10998360" cy="8445240"/>
            <a:chOff x="-1060920" y="-768240"/>
            <a:chExt cx="10998360" cy="8445240"/>
          </a:xfrm>
        </p:grpSpPr>
        <p:grpSp>
          <p:nvGrpSpPr>
            <p:cNvPr id="1502" name="组合 44"/>
            <p:cNvGrpSpPr/>
            <p:nvPr/>
          </p:nvGrpSpPr>
          <p:grpSpPr>
            <a:xfrm>
              <a:off x="-1060920" y="-768240"/>
              <a:ext cx="10998360" cy="8445240"/>
              <a:chOff x="-1060920" y="-768240"/>
              <a:chExt cx="10998360" cy="8445240"/>
            </a:xfrm>
          </p:grpSpPr>
          <p:sp>
            <p:nvSpPr>
              <p:cNvPr id="1503" name="圆角矩形 3"/>
              <p:cNvSpPr/>
              <p:nvPr/>
            </p:nvSpPr>
            <p:spPr>
              <a:xfrm rot="5400000">
                <a:off x="215640" y="-2044800"/>
                <a:ext cx="8445240" cy="10998360"/>
              </a:xfrm>
              <a:custGeom>
                <a:avLst/>
                <a:gdLst>
                  <a:gd name="textAreaLeft" fmla="*/ 87840 w 8445240"/>
                  <a:gd name="textAreaRight" fmla="*/ 8357400 w 8445240"/>
                  <a:gd name="textAreaTop" fmla="*/ 87840 h 10998360"/>
                  <a:gd name="textAreaBottom" fmla="*/ 10910520 h 10998360"/>
                </a:gdLst>
                <a:ahLst/>
                <a:rect l="textAreaLeft" t="textAreaTop" r="textAreaRight" b="textAreaBottom"/>
                <a:pathLst>
                  <a:path w="21600" h="28130">
                    <a:moveTo>
                      <a:pt x="768" y="0"/>
                    </a:moveTo>
                    <a:arcTo wR="768" hR="768" stAng="16200000" swAng="-5400000"/>
                    <a:lnTo>
                      <a:pt x="0" y="27362"/>
                    </a:lnTo>
                    <a:arcTo wR="768" hR="768" stAng="10800000" swAng="-5400000"/>
                    <a:lnTo>
                      <a:pt x="20832" y="2813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圆角矩形 7"/>
              <p:cNvSpPr/>
              <p:nvPr/>
            </p:nvSpPr>
            <p:spPr>
              <a:xfrm rot="5400000">
                <a:off x="282240" y="-2000160"/>
                <a:ext cx="8334720" cy="10911960"/>
              </a:xfrm>
              <a:custGeom>
                <a:avLst/>
                <a:gdLst>
                  <a:gd name="textAreaLeft" fmla="*/ 71640 w 8334720"/>
                  <a:gd name="textAreaRight" fmla="*/ 8263080 w 8334720"/>
                  <a:gd name="textAreaTop" fmla="*/ 71640 h 10911960"/>
                  <a:gd name="textAreaBottom" fmla="*/ 10840320 h 10911960"/>
                </a:gdLst>
                <a:ahLst/>
                <a:rect l="textAreaLeft" t="textAreaTop" r="textAreaRight" b="textAreaBottom"/>
                <a:pathLst>
                  <a:path w="21600" h="28279">
                    <a:moveTo>
                      <a:pt x="634" y="0"/>
                    </a:moveTo>
                    <a:arcTo wR="634" hR="634" stAng="16200000" swAng="-5400000"/>
                    <a:lnTo>
                      <a:pt x="0" y="27645"/>
                    </a:lnTo>
                    <a:arcTo wR="634" hR="634" stAng="10800000" swAng="-5400000"/>
                    <a:lnTo>
                      <a:pt x="20966" y="28279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5" name="圆角矩形 7"/>
            <p:cNvSpPr/>
            <p:nvPr/>
          </p:nvSpPr>
          <p:spPr>
            <a:xfrm rot="5400000">
              <a:off x="270360" y="-2000520"/>
              <a:ext cx="8334720" cy="1091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组合 69"/>
            <p:cNvGrpSpPr/>
            <p:nvPr/>
          </p:nvGrpSpPr>
          <p:grpSpPr>
            <a:xfrm>
              <a:off x="-800280" y="3045960"/>
              <a:ext cx="817200" cy="817560"/>
              <a:chOff x="-800280" y="3045960"/>
              <a:chExt cx="817200" cy="817560"/>
            </a:xfrm>
          </p:grpSpPr>
          <p:sp>
            <p:nvSpPr>
              <p:cNvPr id="1507" name="椭圆 8"/>
              <p:cNvSpPr/>
              <p:nvPr/>
            </p:nvSpPr>
            <p:spPr>
              <a:xfrm rot="18950400">
                <a:off x="-677160" y="3161880"/>
                <a:ext cx="570960" cy="5850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圆角矩形 9"/>
              <p:cNvSpPr/>
              <p:nvPr/>
            </p:nvSpPr>
            <p:spPr>
              <a:xfrm rot="5400000">
                <a:off x="-488880" y="3366000"/>
                <a:ext cx="194760" cy="17676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组合 1"/>
            <p:cNvGrpSpPr/>
            <p:nvPr/>
          </p:nvGrpSpPr>
          <p:grpSpPr>
            <a:xfrm>
              <a:off x="164520" y="84600"/>
              <a:ext cx="9037800" cy="7232400"/>
              <a:chOff x="164520" y="84600"/>
              <a:chExt cx="9037800" cy="7232400"/>
            </a:xfrm>
          </p:grpSpPr>
          <p:pic>
            <p:nvPicPr>
              <p:cNvPr id="1510" name="图片 43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680" y="84600"/>
                <a:ext cx="9035640" cy="67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矩形 49"/>
              <p:cNvSpPr/>
              <p:nvPr/>
            </p:nvSpPr>
            <p:spPr>
              <a:xfrm>
                <a:off x="164520" y="6426000"/>
                <a:ext cx="9037800" cy="891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矩形 47"/>
              <p:cNvSpPr/>
              <p:nvPr/>
            </p:nvSpPr>
            <p:spPr>
              <a:xfrm>
                <a:off x="168120" y="84600"/>
                <a:ext cx="9034200" cy="39888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3" name="组合 25"/>
              <p:cNvGrpSpPr/>
              <p:nvPr/>
            </p:nvGrpSpPr>
            <p:grpSpPr>
              <a:xfrm>
                <a:off x="8509680" y="187200"/>
                <a:ext cx="486000" cy="206640"/>
                <a:chOff x="8509680" y="187200"/>
                <a:chExt cx="486000" cy="206640"/>
              </a:xfrm>
            </p:grpSpPr>
            <p:sp>
              <p:nvSpPr>
                <p:cNvPr id="1514" name="矩形 61"/>
                <p:cNvSpPr/>
                <p:nvPr/>
              </p:nvSpPr>
              <p:spPr>
                <a:xfrm>
                  <a:off x="8509680" y="187200"/>
                  <a:ext cx="452160" cy="20664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矩形 62"/>
                <p:cNvSpPr/>
                <p:nvPr/>
              </p:nvSpPr>
              <p:spPr>
                <a:xfrm>
                  <a:off x="8547840" y="221400"/>
                  <a:ext cx="226080" cy="1342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矩形 63"/>
                <p:cNvSpPr/>
                <p:nvPr/>
              </p:nvSpPr>
              <p:spPr>
                <a:xfrm flipH="1">
                  <a:off x="8961840" y="228240"/>
                  <a:ext cx="33840" cy="10332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7" name="组合 31"/>
              <p:cNvGrpSpPr/>
              <p:nvPr/>
            </p:nvGrpSpPr>
            <p:grpSpPr>
              <a:xfrm>
                <a:off x="454320" y="187200"/>
                <a:ext cx="365760" cy="265680"/>
                <a:chOff x="454320" y="187200"/>
                <a:chExt cx="365760" cy="265680"/>
              </a:xfrm>
            </p:grpSpPr>
            <p:sp>
              <p:nvSpPr>
                <p:cNvPr id="1518" name="矩形 32"/>
                <p:cNvSpPr/>
                <p:nvPr/>
              </p:nvSpPr>
              <p:spPr>
                <a:xfrm>
                  <a:off x="454320" y="187200"/>
                  <a:ext cx="77040" cy="2656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矩形 33"/>
                <p:cNvSpPr/>
                <p:nvPr/>
              </p:nvSpPr>
              <p:spPr>
                <a:xfrm>
                  <a:off x="547560" y="231480"/>
                  <a:ext cx="77040" cy="2214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矩形 34"/>
                <p:cNvSpPr/>
                <p:nvPr/>
              </p:nvSpPr>
              <p:spPr>
                <a:xfrm>
                  <a:off x="649440" y="275760"/>
                  <a:ext cx="77040" cy="17712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矩形 35"/>
                <p:cNvSpPr/>
                <p:nvPr/>
              </p:nvSpPr>
              <p:spPr>
                <a:xfrm>
                  <a:off x="743040" y="320040"/>
                  <a:ext cx="77040" cy="13284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22" name="组合 2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23" name="圆角矩形 24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圆角矩形 25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5" name="图片 29" descr=""/>
          <p:cNvPicPr/>
          <p:nvPr/>
        </p:nvPicPr>
        <p:blipFill>
          <a:blip r:embed="rId5"/>
          <a:stretch/>
        </p:blipFill>
        <p:spPr>
          <a:xfrm>
            <a:off x="1020600" y="692280"/>
            <a:ext cx="7512120" cy="5472000"/>
          </a:xfrm>
          <a:prstGeom prst="rect">
            <a:avLst/>
          </a:prstGeom>
          <a:ln w="0">
            <a:noFill/>
          </a:ln>
        </p:spPr>
      </p:pic>
      <p:sp>
        <p:nvSpPr>
          <p:cNvPr id="1526" name="矩形 30"/>
          <p:cNvSpPr/>
          <p:nvPr/>
        </p:nvSpPr>
        <p:spPr>
          <a:xfrm>
            <a:off x="1019160" y="5805360"/>
            <a:ext cx="7513560" cy="72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矩形 37"/>
          <p:cNvSpPr/>
          <p:nvPr/>
        </p:nvSpPr>
        <p:spPr>
          <a:xfrm>
            <a:off x="1022400" y="692280"/>
            <a:ext cx="7510320" cy="3236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8" name="组合 25"/>
          <p:cNvGrpSpPr/>
          <p:nvPr/>
        </p:nvGrpSpPr>
        <p:grpSpPr>
          <a:xfrm>
            <a:off x="7956720" y="776160"/>
            <a:ext cx="404640" cy="166680"/>
            <a:chOff x="7956720" y="776160"/>
            <a:chExt cx="404640" cy="166680"/>
          </a:xfrm>
        </p:grpSpPr>
        <p:sp>
          <p:nvSpPr>
            <p:cNvPr id="1529" name="矩形 39"/>
            <p:cNvSpPr/>
            <p:nvPr/>
          </p:nvSpPr>
          <p:spPr>
            <a:xfrm>
              <a:off x="7956720" y="776160"/>
              <a:ext cx="376560" cy="16668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矩形 40"/>
            <p:cNvSpPr/>
            <p:nvPr/>
          </p:nvSpPr>
          <p:spPr>
            <a:xfrm>
              <a:off x="7988400" y="803880"/>
              <a:ext cx="188280" cy="1083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矩形 41"/>
            <p:cNvSpPr/>
            <p:nvPr/>
          </p:nvSpPr>
          <p:spPr>
            <a:xfrm flipH="1">
              <a:off x="8333280" y="809280"/>
              <a:ext cx="28080" cy="8316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组合 42"/>
          <p:cNvGrpSpPr/>
          <p:nvPr/>
        </p:nvGrpSpPr>
        <p:grpSpPr>
          <a:xfrm>
            <a:off x="1260360" y="776160"/>
            <a:ext cx="303480" cy="216000"/>
            <a:chOff x="1260360" y="776160"/>
            <a:chExt cx="303480" cy="216000"/>
          </a:xfrm>
        </p:grpSpPr>
        <p:sp>
          <p:nvSpPr>
            <p:cNvPr id="1533" name="矩形 45"/>
            <p:cNvSpPr/>
            <p:nvPr/>
          </p:nvSpPr>
          <p:spPr>
            <a:xfrm>
              <a:off x="1260360" y="776160"/>
              <a:ext cx="64080" cy="216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矩形 46"/>
            <p:cNvSpPr/>
            <p:nvPr/>
          </p:nvSpPr>
          <p:spPr>
            <a:xfrm>
              <a:off x="1337760" y="812160"/>
              <a:ext cx="64080" cy="180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矩形 48"/>
            <p:cNvSpPr/>
            <p:nvPr/>
          </p:nvSpPr>
          <p:spPr>
            <a:xfrm>
              <a:off x="1422360" y="848160"/>
              <a:ext cx="64080" cy="14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矩形 50"/>
            <p:cNvSpPr/>
            <p:nvPr/>
          </p:nvSpPr>
          <p:spPr>
            <a:xfrm>
              <a:off x="1499760" y="884160"/>
              <a:ext cx="64080" cy="108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TextBox 4"/>
          <p:cNvSpPr/>
          <p:nvPr/>
        </p:nvSpPr>
        <p:spPr>
          <a:xfrm>
            <a:off x="8504280" y="2109960"/>
            <a:ext cx="305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圆角矩形 7"/>
          <p:cNvSpPr/>
          <p:nvPr/>
        </p:nvSpPr>
        <p:spPr>
          <a:xfrm rot="5400000">
            <a:off x="118872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矩形 5"/>
          <p:cNvSpPr/>
          <p:nvPr/>
        </p:nvSpPr>
        <p:spPr>
          <a:xfrm>
            <a:off x="1022400" y="692280"/>
            <a:ext cx="7486560" cy="547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组合 26"/>
          <p:cNvGrpSpPr/>
          <p:nvPr/>
        </p:nvGrpSpPr>
        <p:grpSpPr>
          <a:xfrm>
            <a:off x="220320" y="3219480"/>
            <a:ext cx="672480" cy="672480"/>
            <a:chOff x="220320" y="3219480"/>
            <a:chExt cx="672480" cy="672480"/>
          </a:xfrm>
        </p:grpSpPr>
        <p:sp>
          <p:nvSpPr>
            <p:cNvPr id="1541" name="椭圆 27"/>
            <p:cNvSpPr/>
            <p:nvPr/>
          </p:nvSpPr>
          <p:spPr>
            <a:xfrm rot="18950400">
              <a:off x="318960" y="3317400"/>
              <a:ext cx="474840" cy="4762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圆角矩形 28"/>
            <p:cNvSpPr/>
            <p:nvPr/>
          </p:nvSpPr>
          <p:spPr>
            <a:xfrm rot="5400000">
              <a:off x="476640" y="3482280"/>
              <a:ext cx="158760" cy="146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组合 54"/>
          <p:cNvGrpSpPr/>
          <p:nvPr/>
        </p:nvGrpSpPr>
        <p:grpSpPr>
          <a:xfrm>
            <a:off x="36360" y="44280"/>
            <a:ext cx="9288720" cy="6813720"/>
            <a:chOff x="36360" y="44280"/>
            <a:chExt cx="9288720" cy="6813720"/>
          </a:xfrm>
        </p:grpSpPr>
        <p:sp>
          <p:nvSpPr>
            <p:cNvPr id="1544" name="圆角矩形 7"/>
            <p:cNvSpPr/>
            <p:nvPr/>
          </p:nvSpPr>
          <p:spPr>
            <a:xfrm rot="5400000">
              <a:off x="1273680" y="-1193040"/>
              <a:ext cx="6813720" cy="9288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矩形 56"/>
            <p:cNvSpPr/>
            <p:nvPr/>
          </p:nvSpPr>
          <p:spPr>
            <a:xfrm>
              <a:off x="1045080" y="695880"/>
              <a:ext cx="7665840" cy="5508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6" name="组合 57"/>
            <p:cNvGrpSpPr/>
            <p:nvPr/>
          </p:nvGrpSpPr>
          <p:grpSpPr>
            <a:xfrm>
              <a:off x="227160" y="3237840"/>
              <a:ext cx="681840" cy="681480"/>
              <a:chOff x="227160" y="3237840"/>
              <a:chExt cx="681840" cy="681480"/>
            </a:xfrm>
          </p:grpSpPr>
          <p:sp>
            <p:nvSpPr>
              <p:cNvPr id="1547" name="椭圆 58"/>
              <p:cNvSpPr/>
              <p:nvPr/>
            </p:nvSpPr>
            <p:spPr>
              <a:xfrm rot="18950400">
                <a:off x="324720" y="3339360"/>
                <a:ext cx="486000" cy="4780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圆角矩形 59"/>
              <p:cNvSpPr/>
              <p:nvPr/>
            </p:nvSpPr>
            <p:spPr>
              <a:xfrm rot="5400000">
                <a:off x="488520" y="3503160"/>
                <a:ext cx="159120" cy="1504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49" name="s2" descr=""/>
          <p:cNvPicPr/>
          <p:nvPr/>
        </p:nvPicPr>
        <p:blipFill>
          <a:blip r:embed="rId8"/>
          <a:stretch/>
        </p:blipFill>
        <p:spPr>
          <a:xfrm>
            <a:off x="4684680" y="3325680"/>
            <a:ext cx="1836720" cy="489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6" dur="750" fill="hold"/>
                                        <p:tgtEl>
                                          <p:spTgt spid="1501"/>
                                        </p:tgtEl>
                                      </p:cBhvr>
                                      <p:to x="82000" y="82000"/>
                                    </p:animScale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84 -3.7037E-006 L 0.01232 -3.7037E-006 E">
                                      <p:cBhvr>
                                        <p:cTn id="1118" dur="750" fill="hold"/>
                                        <p:tgtEl>
                                          <p:spTgt spid="1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750"/>
                            </p:stCondLst>
                            <p:childTnLst>
                              <p:par>
                                <p:cTn id="11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751"/>
                            </p:stCondLst>
                            <p:childTnLst>
                              <p:par>
                                <p:cTn id="11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752"/>
                            </p:stCondLst>
                            <p:childTnLst>
                              <p:par>
                                <p:cTn id="11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3"/>
                            </p:stCondLst>
                            <p:childTnLst>
                              <p:par>
                                <p:cTn id="11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754"/>
                            </p:stCondLst>
                            <p:childTnLst>
                              <p:par>
                                <p:cTn id="11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755"/>
                            </p:stCondLst>
                            <p:childTnLst>
                              <p:par>
                                <p:cTn id="11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756"/>
                            </p:stCondLst>
                            <p:childTnLst>
                              <p:par>
                                <p:cTn id="1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757"/>
                            </p:stCondLst>
                            <p:childTnLst>
                              <p:par>
                                <p:cTn id="114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257"/>
                            </p:stCondLst>
                            <p:childTnLst>
                              <p:par>
                                <p:cTn id="1152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86374E-006 L 0.3283 -0.04757 E">
                                      <p:cBhvr>
                                        <p:cTn id="1153" dur="1000" fill="hold"/>
                                        <p:tgtEl>
                                          <p:spTgt spid="1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257"/>
                            </p:stCondLst>
                            <p:childTnLst>
                              <p:par>
                                <p:cTn id="1155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83 -0.04769 L -0.17569 -0.05811 E">
                                      <p:cBhvr>
                                        <p:cTn id="1156" dur="1000" fill="hold"/>
                                        <p:tgtEl>
                                          <p:spTgt spid="1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-0.56546 -0.00394 E">
                                      <p:cBhvr>
                                        <p:cTn id="1158" dur="1000" fill="hold"/>
                                        <p:tgtEl>
                                          <p:spTgt spid="1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dur="indefinite" autoRev="1" nodeType="withEffect" fill="hold" presetClass="emph" presetID="8" repeatCount="10000">
                                  <p:stCondLst>
                                    <p:cond delay="0"/>
                                  </p:stCondLst>
                                  <p:childTnLst>
                                    <p:animRot by="180000">
                                      <p:cBhvr>
                                        <p:cTn id="1160" dur="1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4257"/>
                            </p:stCondLst>
                            <p:childTnLst>
                              <p:par>
                                <p:cTn id="1162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569 -0.05805 L -0.53784 0.01526 E">
                                      <p:cBhvr>
                                        <p:cTn id="1163" dur="750" fill="hold"/>
                                        <p:tgtEl>
                                          <p:spTgt spid="1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7"/>
                            </p:stCondLst>
                            <p:childTnLst>
                              <p:par>
                                <p:cTn id="1165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6" dur="250" fill="hold"/>
                                        <p:tgtEl>
                                          <p:spTgt spid="154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507"/>
                            </p:stCondLst>
                            <p:childTnLst>
                              <p:par>
                                <p:cTn id="1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6007"/>
                            </p:stCondLst>
                            <p:childTnLst>
                              <p:par>
                                <p:cTn id="11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6008"/>
                            </p:stCondLst>
                            <p:childTnLst>
                              <p:par>
                                <p:cTn id="119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6508"/>
                            </p:stCondLst>
                            <p:childTnLst>
                              <p:par>
                                <p:cTn id="120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1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3" dur="1000" fill="hold"/>
                                        <p:tgtEl>
                                          <p:spTgt spid="154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5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0.0037 L 0.58055 -0.2167 E">
                                      <p:cBhvr>
                                        <p:cTn id="1208" dur="750" fill="hold"/>
                                        <p:tgtEl>
                                          <p:spTgt spid="1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组合 69"/>
          <p:cNvGrpSpPr/>
          <p:nvPr/>
        </p:nvGrpSpPr>
        <p:grpSpPr>
          <a:xfrm>
            <a:off x="220680" y="2741400"/>
            <a:ext cx="671400" cy="671400"/>
            <a:chOff x="220680" y="2741400"/>
            <a:chExt cx="671400" cy="671400"/>
          </a:xfrm>
        </p:grpSpPr>
        <p:sp>
          <p:nvSpPr>
            <p:cNvPr id="961" name="椭圆 8"/>
            <p:cNvSpPr/>
            <p:nvPr/>
          </p:nvSpPr>
          <p:spPr>
            <a:xfrm rot="18950400">
              <a:off x="318960" y="2839680"/>
              <a:ext cx="474840" cy="4748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圆角矩形 9"/>
            <p:cNvSpPr/>
            <p:nvPr/>
          </p:nvSpPr>
          <p:spPr>
            <a:xfrm rot="5400000">
              <a:off x="477000" y="3003840"/>
              <a:ext cx="158040" cy="146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64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965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7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8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969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972" name="图片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5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976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9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980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84" name="矩形 32"/>
          <p:cNvSpPr/>
          <p:nvPr/>
        </p:nvSpPr>
        <p:spPr>
          <a:xfrm>
            <a:off x="2386080" y="2212920"/>
            <a:ext cx="6002280" cy="568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准工作着力点，提高业务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矩形 38"/>
          <p:cNvSpPr/>
          <p:nvPr/>
        </p:nvSpPr>
        <p:spPr>
          <a:xfrm>
            <a:off x="2386080" y="3005280"/>
            <a:ext cx="5616360" cy="60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握工作重点，锤炼岗位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39"/>
          <p:cNvSpPr/>
          <p:nvPr/>
        </p:nvSpPr>
        <p:spPr>
          <a:xfrm>
            <a:off x="2314440" y="3868560"/>
            <a:ext cx="5543640" cy="60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破工作难点，创新岗位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43"/>
          <p:cNvSpPr/>
          <p:nvPr/>
        </p:nvSpPr>
        <p:spPr>
          <a:xfrm>
            <a:off x="2530440" y="4660920"/>
            <a:ext cx="2808360" cy="601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几点工作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44"/>
          <p:cNvSpPr/>
          <p:nvPr/>
        </p:nvSpPr>
        <p:spPr>
          <a:xfrm>
            <a:off x="1449360" y="2286000"/>
            <a:ext cx="70164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45"/>
          <p:cNvSpPr/>
          <p:nvPr/>
        </p:nvSpPr>
        <p:spPr>
          <a:xfrm>
            <a:off x="1306440" y="3076560"/>
            <a:ext cx="700200" cy="58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矩形 46"/>
          <p:cNvSpPr/>
          <p:nvPr/>
        </p:nvSpPr>
        <p:spPr>
          <a:xfrm>
            <a:off x="1233360" y="3868560"/>
            <a:ext cx="70164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矩形 47"/>
          <p:cNvSpPr/>
          <p:nvPr/>
        </p:nvSpPr>
        <p:spPr>
          <a:xfrm>
            <a:off x="1449360" y="4660920"/>
            <a:ext cx="701640" cy="58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矩形 48"/>
          <p:cNvSpPr/>
          <p:nvPr/>
        </p:nvSpPr>
        <p:spPr>
          <a:xfrm>
            <a:off x="2386080" y="1355760"/>
            <a:ext cx="5832360" cy="568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清发展形势，强化岗位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49"/>
          <p:cNvSpPr/>
          <p:nvPr/>
        </p:nvSpPr>
        <p:spPr>
          <a:xfrm>
            <a:off x="1449360" y="1339920"/>
            <a:ext cx="701640" cy="58428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图片 57" descr=""/>
          <p:cNvPicPr/>
          <p:nvPr/>
        </p:nvPicPr>
        <p:blipFill>
          <a:blip r:embed="rId6"/>
          <a:stretch/>
        </p:blipFill>
        <p:spPr>
          <a:xfrm>
            <a:off x="3970440" y="1487520"/>
            <a:ext cx="1834920" cy="48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750" fill="hold"/>
                                        <p:tgtEl>
                                          <p:spTgt spid="96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9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9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图片 21" descr=""/>
          <p:cNvPicPr/>
          <p:nvPr/>
        </p:nvPicPr>
        <p:blipFill>
          <a:blip r:embed="rId1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996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997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8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999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003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7" name="矩形 22"/>
          <p:cNvSpPr/>
          <p:nvPr/>
        </p:nvSpPr>
        <p:spPr>
          <a:xfrm>
            <a:off x="7920" y="8639280"/>
            <a:ext cx="9144000" cy="911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45"/>
          <p:cNvSpPr/>
          <p:nvPr/>
        </p:nvSpPr>
        <p:spPr>
          <a:xfrm>
            <a:off x="682560" y="981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后勤社会化改革总体目标、总体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组合 53"/>
          <p:cNvGrpSpPr/>
          <p:nvPr/>
        </p:nvGrpSpPr>
        <p:grpSpPr>
          <a:xfrm>
            <a:off x="2771640" y="1917720"/>
            <a:ext cx="3492720" cy="4390920"/>
            <a:chOff x="2771640" y="1917720"/>
            <a:chExt cx="3492720" cy="4390920"/>
          </a:xfrm>
        </p:grpSpPr>
        <p:sp>
          <p:nvSpPr>
            <p:cNvPr id="1010" name="AutoShape 4"/>
            <p:cNvSpPr/>
            <p:nvPr/>
          </p:nvSpPr>
          <p:spPr>
            <a:xfrm>
              <a:off x="2771640" y="2421720"/>
              <a:ext cx="3492720" cy="3886920"/>
            </a:xfrm>
            <a:custGeom>
              <a:avLst/>
              <a:gdLst>
                <a:gd name="textAreaLeft" fmla="*/ 54000 w 3492720"/>
                <a:gd name="textAreaRight" fmla="*/ 3438720 w 3492720"/>
                <a:gd name="textAreaTop" fmla="*/ 54000 h 3886920"/>
                <a:gd name="textAreaBottom" fmla="*/ 3832920 h 3886920"/>
              </a:gdLst>
              <a:ahLst/>
              <a:rect l="textAreaLeft" t="textAreaTop" r="textAreaRight" b="textAreaBottom"/>
              <a:pathLst>
                <a:path w="21600" h="24038">
                  <a:moveTo>
                    <a:pt x="1145" y="0"/>
                  </a:moveTo>
                  <a:arcTo wR="1145" hR="1145" stAng="16200000" swAng="-5400000"/>
                  <a:lnTo>
                    <a:pt x="0" y="22893"/>
                  </a:lnTo>
                  <a:arcTo wR="1145" hR="1145" stAng="10800000" swAng="-5400000"/>
                  <a:lnTo>
                    <a:pt x="20455" y="24038"/>
                  </a:lnTo>
                  <a:arcTo wR="1145" hR="1145" stAng="5400000" swAng="-5400000"/>
                  <a:lnTo>
                    <a:pt x="21600" y="1145"/>
                  </a:lnTo>
                  <a:arcTo wR="1145" hR="1145" stAng="0" swAng="-5400000"/>
                  <a:close/>
                </a:path>
              </a:pathLst>
            </a:custGeom>
            <a:solidFill>
              <a:srgbClr val="002060">
                <a:alpha val="60000"/>
              </a:srgbClr>
            </a:solidFill>
            <a:ln w="3816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建立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“市场提供服务、学校自主选择、政府宏观调控、行业自律管理、部门依法监督”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新型后勤保障体系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实现高校后勤服务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社会化、市场化、专业化、现代化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AutoShape 3"/>
            <p:cNvSpPr/>
            <p:nvPr/>
          </p:nvSpPr>
          <p:spPr>
            <a:xfrm>
              <a:off x="3383280" y="1917720"/>
              <a:ext cx="2160720" cy="93564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总体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组合 20"/>
          <p:cNvGrpSpPr/>
          <p:nvPr/>
        </p:nvGrpSpPr>
        <p:grpSpPr>
          <a:xfrm>
            <a:off x="9683640" y="1917720"/>
            <a:ext cx="3241800" cy="4390920"/>
            <a:chOff x="9683640" y="1917720"/>
            <a:chExt cx="3241800" cy="4390920"/>
          </a:xfrm>
        </p:grpSpPr>
        <p:sp>
          <p:nvSpPr>
            <p:cNvPr id="1013" name="AutoShape 4"/>
            <p:cNvSpPr/>
            <p:nvPr/>
          </p:nvSpPr>
          <p:spPr>
            <a:xfrm>
              <a:off x="9683640" y="2421360"/>
              <a:ext cx="3241800" cy="3887280"/>
            </a:xfrm>
            <a:custGeom>
              <a:avLst/>
              <a:gdLst>
                <a:gd name="textAreaLeft" fmla="*/ 45360 w 3241800"/>
                <a:gd name="textAreaRight" fmla="*/ 3196440 w 3241800"/>
                <a:gd name="textAreaTop" fmla="*/ 45360 h 3887280"/>
                <a:gd name="textAreaBottom" fmla="*/ 3841920 h 3887280"/>
              </a:gdLst>
              <a:ahLst/>
              <a:rect l="textAreaLeft" t="textAreaTop" r="textAreaRight" b="textAreaBottom"/>
              <a:pathLst>
                <a:path w="21600" h="25900">
                  <a:moveTo>
                    <a:pt x="1033" y="0"/>
                  </a:moveTo>
                  <a:arcTo wR="1033" hR="1033" stAng="16200000" swAng="-5400000"/>
                  <a:lnTo>
                    <a:pt x="0" y="24867"/>
                  </a:lnTo>
                  <a:arcTo wR="1033" hR="1033" stAng="10800000" swAng="-5400000"/>
                  <a:lnTo>
                    <a:pt x="20567" y="25900"/>
                  </a:lnTo>
                  <a:arcTo wR="1033" hR="1033" stAng="5400000" swAng="-5400000"/>
                  <a:lnTo>
                    <a:pt x="21600" y="1033"/>
                  </a:lnTo>
                  <a:arcTo wR="1033" hR="1033" stAng="0" swAng="-5400000"/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38160">
              <a:solidFill>
                <a:srgbClr val="c0504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大胆探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求是创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稳步推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3"/>
            <p:cNvSpPr/>
            <p:nvPr/>
          </p:nvSpPr>
          <p:spPr>
            <a:xfrm>
              <a:off x="10176840" y="1917720"/>
              <a:ext cx="2244240" cy="93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总体要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5" name="图片 23" descr=""/>
          <p:cNvPicPr/>
          <p:nvPr/>
        </p:nvPicPr>
        <p:blipFill>
          <a:blip r:embed="rId2"/>
          <a:stretch/>
        </p:blipFill>
        <p:spPr>
          <a:xfrm>
            <a:off x="4032360" y="4222800"/>
            <a:ext cx="1834920" cy="4894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0.07314 L -0.81302 0.05231 E">
                                      <p:cBhvr>
                                        <p:cTn id="193" dur="1000" fill="hold"/>
                                        <p:tgtEl>
                                          <p:spTgt spid="10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-0.72048 -0.03658 E">
                                      <p:cBhvr>
                                        <p:cTn id="195" dur="1000" fill="hold"/>
                                        <p:tgtEl>
                                          <p:spTgt spid="10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1 -0.03843 L -0.73646 -0.02593 E">
                                      <p:cBhvr>
                                        <p:cTn id="197" dur="1000" fill="hold"/>
                                        <p:tgtEl>
                                          <p:spTgt spid="10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21" descr=""/>
          <p:cNvPicPr/>
          <p:nvPr/>
        </p:nvPicPr>
        <p:blipFill>
          <a:blip r:embed="rId1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017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018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020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024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8" name="矩形 22"/>
          <p:cNvSpPr/>
          <p:nvPr/>
        </p:nvSpPr>
        <p:spPr>
          <a:xfrm>
            <a:off x="7920" y="8639280"/>
            <a:ext cx="9144000" cy="911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45"/>
          <p:cNvSpPr/>
          <p:nvPr/>
        </p:nvSpPr>
        <p:spPr>
          <a:xfrm>
            <a:off x="611280" y="69228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改革纲领文件与指导政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Freeform 7" descr=""/>
          <p:cNvPicPr/>
          <p:nvPr/>
        </p:nvPicPr>
        <p:blipFill>
          <a:blip r:embed="rId2"/>
          <a:stretch/>
        </p:blipFill>
        <p:spPr>
          <a:xfrm>
            <a:off x="682560" y="1197000"/>
            <a:ext cx="6732720" cy="5373720"/>
          </a:xfrm>
          <a:prstGeom prst="rect">
            <a:avLst/>
          </a:prstGeom>
          <a:ln w="0">
            <a:noFill/>
          </a:ln>
        </p:spPr>
      </p:pic>
      <p:sp>
        <p:nvSpPr>
          <p:cNvPr id="1031" name="TextBox 20"/>
          <p:cNvSpPr/>
          <p:nvPr/>
        </p:nvSpPr>
        <p:spPr>
          <a:xfrm>
            <a:off x="1116000" y="5300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7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23"/>
          <p:cNvSpPr/>
          <p:nvPr/>
        </p:nvSpPr>
        <p:spPr>
          <a:xfrm>
            <a:off x="2195640" y="4149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25"/>
          <p:cNvSpPr/>
          <p:nvPr/>
        </p:nvSpPr>
        <p:spPr>
          <a:xfrm>
            <a:off x="3276720" y="3068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26"/>
          <p:cNvSpPr/>
          <p:nvPr/>
        </p:nvSpPr>
        <p:spPr>
          <a:xfrm>
            <a:off x="4643280" y="21337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Box 34"/>
          <p:cNvSpPr/>
          <p:nvPr/>
        </p:nvSpPr>
        <p:spPr>
          <a:xfrm>
            <a:off x="2916360" y="5300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●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教育部提出“严格控制办学成本，坚持不允许高校学费上涨”，提出五年内学费、住宿费不能再调整的政策规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35"/>
          <p:cNvSpPr/>
          <p:nvPr/>
        </p:nvSpPr>
        <p:spPr>
          <a:xfrm>
            <a:off x="3995640" y="423396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●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教育部等五部委联合下发《关于严禁高校收费项目擅自涨价的意见》，明确了高校对学生收费项目不得擅自涨价的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38"/>
          <p:cNvSpPr/>
          <p:nvPr/>
        </p:nvSpPr>
        <p:spPr>
          <a:xfrm>
            <a:off x="5076720" y="28526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●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湖北省教育厅印发了《关于加强社会餐饮企业经营高校食堂管理的指导意见》文件，规定高校食堂涨价必须报学校批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Box 39"/>
          <p:cNvSpPr/>
          <p:nvPr/>
        </p:nvSpPr>
        <p:spPr>
          <a:xfrm>
            <a:off x="1187280" y="133992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●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教育部等五部门印发了《关于进一步加强高等学校学生食堂工作的意见》文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21" descr=""/>
          <p:cNvPicPr/>
          <p:nvPr/>
        </p:nvPicPr>
        <p:blipFill>
          <a:blip r:embed="rId1"/>
          <a:stretch/>
        </p:blipFill>
        <p:spPr>
          <a:xfrm>
            <a:off x="1440" y="-3168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040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041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043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047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矩形 22"/>
          <p:cNvSpPr/>
          <p:nvPr/>
        </p:nvSpPr>
        <p:spPr>
          <a:xfrm>
            <a:off x="0" y="6478560"/>
            <a:ext cx="914400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39"/>
          <p:cNvSpPr/>
          <p:nvPr/>
        </p:nvSpPr>
        <p:spPr>
          <a:xfrm>
            <a:off x="539640" y="950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二）我校后勤改革和发展在学校建设中的地位和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42"/>
          <p:cNvSpPr/>
          <p:nvPr/>
        </p:nvSpPr>
        <p:spPr>
          <a:xfrm>
            <a:off x="1476360" y="1989000"/>
            <a:ext cx="30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16"/>
          <p:cNvSpPr/>
          <p:nvPr/>
        </p:nvSpPr>
        <p:spPr>
          <a:xfrm>
            <a:off x="6156360" y="4179960"/>
            <a:ext cx="2808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基本建立了符合我校后勤管理的模式（学生宿舍全部腾空、经费目标管理），形成了较为完善的管理体系（一室五中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19"/>
          <p:cNvSpPr/>
          <p:nvPr/>
        </p:nvSpPr>
        <p:spPr>
          <a:xfrm>
            <a:off x="5038560" y="4005360"/>
            <a:ext cx="41054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学校资金和建设极为困难的情况下，利用其他学校和单位的闲置资源，破解了我校校舍面积不足的“瓶颈”，保障了师生的吃、住条件等，为学校的生存与发展奠定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20"/>
          <p:cNvSpPr/>
          <p:nvPr/>
        </p:nvSpPr>
        <p:spPr>
          <a:xfrm>
            <a:off x="5940360" y="4076640"/>
            <a:ext cx="2700360" cy="45972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转变了人力用工观念，降低了学校的用工成本，基本形成了“小机关、大服务”的良好局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图片 17" descr=""/>
          <p:cNvPicPr/>
          <p:nvPr/>
        </p:nvPicPr>
        <p:blipFill>
          <a:blip r:embed="rId2"/>
          <a:stretch/>
        </p:blipFill>
        <p:spPr>
          <a:xfrm>
            <a:off x="6948360" y="602136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1000" fill="hold"/>
                                        <p:tgtEl>
                                          <p:spTgt spid="1054"/>
                                        </p:tgtEl>
                                      </p:cBhvr>
                                      <p:to x="90800.0030517578" y="90800.0030517578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7086E-006 L -0.47639 -0.3358 E">
                                      <p:cBhvr>
                                        <p:cTn id="253" dur="1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-0.13668 L -0.58073 -0.45074 E">
                                      <p:cBhvr>
                                        <p:cTn id="255" dur="1000" fill="hold"/>
                                        <p:tgtEl>
                                          <p:spTgt spid="10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4" dur="1000" fill="hold"/>
                                        <p:tgtEl>
                                          <p:spTgt spid="1055"/>
                                        </p:tgtEl>
                                      </p:cBhvr>
                                      <p:to x="90800.0030517578" y="90800.0030517578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014E-008 L -0.58854 -0.45074 E">
                                      <p:cBhvr>
                                        <p:cTn id="277" dur="1000" fill="hold"/>
                                        <p:tgtEl>
                                          <p:spTgt spid="10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11656E-006 L -0.41719 -0.25787 E">
                                      <p:cBhvr>
                                        <p:cTn id="279" dur="1000" fill="hold"/>
                                        <p:tgtEl>
                                          <p:spTgt spid="10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1000" fill="hold"/>
                                        <p:tgtEl>
                                          <p:spTgt spid="1056"/>
                                        </p:tgtEl>
                                      </p:cBhvr>
                                      <p:to x="90800.0030517578" y="90800.0030517578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014E-008 L -0.58854 -0.45074 E">
                                      <p:cBhvr>
                                        <p:cTn id="303" dur="1000" fill="hold"/>
                                        <p:tgtEl>
                                          <p:spTgt spid="10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9806E-006 L -0.50989 -0.2729 E">
                                      <p:cBhvr>
                                        <p:cTn id="305" dur="1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21" descr=""/>
          <p:cNvPicPr/>
          <p:nvPr/>
        </p:nvPicPr>
        <p:blipFill>
          <a:blip r:embed="rId1"/>
          <a:stretch/>
        </p:blipFill>
        <p:spPr>
          <a:xfrm>
            <a:off x="1440" y="-3168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059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060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1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062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066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0" name="矩形 22"/>
          <p:cNvSpPr/>
          <p:nvPr/>
        </p:nvSpPr>
        <p:spPr>
          <a:xfrm>
            <a:off x="0" y="6478560"/>
            <a:ext cx="914400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39"/>
          <p:cNvSpPr/>
          <p:nvPr/>
        </p:nvSpPr>
        <p:spPr>
          <a:xfrm>
            <a:off x="324000" y="549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二）我校后勤改革和发展在学校建设中的地位和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42"/>
          <p:cNvSpPr/>
          <p:nvPr/>
        </p:nvSpPr>
        <p:spPr>
          <a:xfrm>
            <a:off x="1476360" y="1989000"/>
            <a:ext cx="30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23"/>
          <p:cNvSpPr/>
          <p:nvPr/>
        </p:nvSpPr>
        <p:spPr>
          <a:xfrm>
            <a:off x="-8317080" y="1052640"/>
            <a:ext cx="7993080" cy="11912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84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**********************************************************************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“租借挤压”为主体的后勤硬件保障体系，勉强缓解了学生食宿难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图片 34" descr=""/>
          <p:cNvPicPr/>
          <p:nvPr/>
        </p:nvPicPr>
        <p:blipFill>
          <a:blip r:embed="rId2"/>
          <a:stretch/>
        </p:blipFill>
        <p:spPr>
          <a:xfrm>
            <a:off x="-2124000" y="3287880"/>
            <a:ext cx="1834920" cy="4894200"/>
          </a:xfrm>
          <a:prstGeom prst="rect">
            <a:avLst/>
          </a:prstGeom>
          <a:ln w="0">
            <a:noFill/>
          </a:ln>
        </p:spPr>
      </p:pic>
      <p:grpSp>
        <p:nvGrpSpPr>
          <p:cNvPr id="1075" name="组合 36"/>
          <p:cNvGrpSpPr/>
          <p:nvPr/>
        </p:nvGrpSpPr>
        <p:grpSpPr>
          <a:xfrm>
            <a:off x="9252000" y="3789360"/>
            <a:ext cx="8353440" cy="2735280"/>
            <a:chOff x="9252000" y="3789360"/>
            <a:chExt cx="8353440" cy="2735280"/>
          </a:xfrm>
        </p:grpSpPr>
        <p:pic>
          <p:nvPicPr>
            <p:cNvPr id="1076" name="Picture 3" descr="C:\Documents and Settings\Administrator\桌面\说岗位2013\DSCF7436.JPG"/>
            <p:cNvPicPr/>
            <p:nvPr/>
          </p:nvPicPr>
          <p:blipFill>
            <a:blip r:embed="rId3"/>
            <a:stretch/>
          </p:blipFill>
          <p:spPr>
            <a:xfrm>
              <a:off x="13428720" y="3789360"/>
              <a:ext cx="345672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矩形 25"/>
            <p:cNvSpPr/>
            <p:nvPr/>
          </p:nvSpPr>
          <p:spPr>
            <a:xfrm>
              <a:off x="17173440" y="3861000"/>
              <a:ext cx="432000" cy="2663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每年学生搬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8" name="Picture 5" descr="C:\Program Files\Tencent\QQ\Users\1009069819\FileRecv\学生搬家1.JPG"/>
            <p:cNvPicPr/>
            <p:nvPr/>
          </p:nvPicPr>
          <p:blipFill>
            <a:blip r:embed="rId4"/>
            <a:stretch/>
          </p:blipFill>
          <p:spPr>
            <a:xfrm>
              <a:off x="9252000" y="3807000"/>
              <a:ext cx="4068360" cy="271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9" name="图片 17" descr=""/>
          <p:cNvPicPr/>
          <p:nvPr/>
        </p:nvPicPr>
        <p:blipFill>
          <a:blip r:embed="rId5"/>
          <a:stretch/>
        </p:blipFill>
        <p:spPr>
          <a:xfrm>
            <a:off x="9325080" y="5445000"/>
            <a:ext cx="1834920" cy="4894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-0.13665 L 0.65556 -0.14659 E">
                                      <p:cBhvr>
                                        <p:cTn id="320" dur="1000" fill="hold"/>
                                        <p:tgtEl>
                                          <p:spTgt spid="1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90751E-006 L 0.96459 -0.00601 E">
                                      <p:cBhvr>
                                        <p:cTn id="322" dur="1000" fill="hold"/>
                                        <p:tgtEl>
                                          <p:spTgt spid="10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-0.13664 L -0.69896 -0.12555 E">
                                      <p:cBhvr>
                                        <p:cTn id="335" dur="1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65896E-006 L -0.94496 -0.0104 E">
                                      <p:cBhvr>
                                        <p:cTn id="337" dur="1000" fill="hold"/>
                                        <p:tgtEl>
                                          <p:spTgt spid="10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1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85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86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1090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1093" name="图片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4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6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1097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0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1101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05" name="矩形 58"/>
          <p:cNvSpPr/>
          <p:nvPr/>
        </p:nvSpPr>
        <p:spPr>
          <a:xfrm>
            <a:off x="2241720" y="2141640"/>
            <a:ext cx="6003720" cy="568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准工作着力点，提高业务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矩形 59"/>
          <p:cNvSpPr/>
          <p:nvPr/>
        </p:nvSpPr>
        <p:spPr>
          <a:xfrm>
            <a:off x="2386080" y="2933640"/>
            <a:ext cx="5570640" cy="600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握工作重点，锤炼岗位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60"/>
          <p:cNvSpPr/>
          <p:nvPr/>
        </p:nvSpPr>
        <p:spPr>
          <a:xfrm>
            <a:off x="2340000" y="3797280"/>
            <a:ext cx="5545080" cy="60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破工作难点，创新岗位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61"/>
          <p:cNvSpPr/>
          <p:nvPr/>
        </p:nvSpPr>
        <p:spPr>
          <a:xfrm>
            <a:off x="2386080" y="4589640"/>
            <a:ext cx="2808360" cy="601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几点工作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62"/>
          <p:cNvSpPr/>
          <p:nvPr/>
        </p:nvSpPr>
        <p:spPr>
          <a:xfrm>
            <a:off x="1306440" y="2212920"/>
            <a:ext cx="70020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63"/>
          <p:cNvSpPr/>
          <p:nvPr/>
        </p:nvSpPr>
        <p:spPr>
          <a:xfrm>
            <a:off x="1306440" y="3005280"/>
            <a:ext cx="700200" cy="583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68"/>
          <p:cNvSpPr/>
          <p:nvPr/>
        </p:nvSpPr>
        <p:spPr>
          <a:xfrm>
            <a:off x="1260360" y="3797280"/>
            <a:ext cx="70020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69"/>
          <p:cNvSpPr/>
          <p:nvPr/>
        </p:nvSpPr>
        <p:spPr>
          <a:xfrm>
            <a:off x="1306440" y="4589640"/>
            <a:ext cx="700200" cy="583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70"/>
          <p:cNvSpPr/>
          <p:nvPr/>
        </p:nvSpPr>
        <p:spPr>
          <a:xfrm>
            <a:off x="2241720" y="1284120"/>
            <a:ext cx="5499000" cy="568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清发展形势，强化岗位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71"/>
          <p:cNvSpPr/>
          <p:nvPr/>
        </p:nvSpPr>
        <p:spPr>
          <a:xfrm>
            <a:off x="1306440" y="1268280"/>
            <a:ext cx="700200" cy="58428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图片 72" descr=""/>
          <p:cNvPicPr/>
          <p:nvPr/>
        </p:nvPicPr>
        <p:blipFill>
          <a:blip r:embed="rId5"/>
          <a:stretch/>
        </p:blipFill>
        <p:spPr>
          <a:xfrm>
            <a:off x="3825720" y="2432160"/>
            <a:ext cx="1835280" cy="48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750" fill="hold"/>
                                        <p:tgtEl>
                                          <p:spTgt spid="1084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250"/>
                            </p:stCondLst>
                            <p:childTnLst>
                              <p:par>
                                <p:cTn id="3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250"/>
                            </p:stCondLst>
                            <p:childTnLst>
                              <p:par>
                                <p:cTn id="40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250" autoRev="1" fill="hold"/>
                                        <p:tgtEl>
                                          <p:spTgt spid="1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250" autoRev="1" fill="hold"/>
                                        <p:tgtEl>
                                          <p:spTgt spid="1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750"/>
                            </p:stCondLst>
                            <p:childTnLst>
                              <p:par>
                                <p:cTn id="40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20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21" descr=""/>
          <p:cNvPicPr/>
          <p:nvPr/>
        </p:nvPicPr>
        <p:blipFill>
          <a:blip r:embed="rId1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117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118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9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120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3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124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8" name="矩形 22"/>
          <p:cNvSpPr/>
          <p:nvPr/>
        </p:nvSpPr>
        <p:spPr>
          <a:xfrm>
            <a:off x="7920" y="8639280"/>
            <a:ext cx="9144000" cy="911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45"/>
          <p:cNvSpPr/>
          <p:nvPr/>
        </p:nvSpPr>
        <p:spPr>
          <a:xfrm>
            <a:off x="682560" y="674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后勤工作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图表 17" descr=""/>
          <p:cNvPicPr/>
          <p:nvPr/>
        </p:nvPicPr>
        <p:blipFill>
          <a:blip r:embed="rId2"/>
          <a:stretch/>
        </p:blipFill>
        <p:spPr>
          <a:xfrm>
            <a:off x="4500720" y="692280"/>
            <a:ext cx="4464000" cy="4105080"/>
          </a:xfrm>
          <a:prstGeom prst="rect">
            <a:avLst/>
          </a:prstGeom>
          <a:ln w="0">
            <a:noFill/>
          </a:ln>
        </p:spPr>
      </p:pic>
      <p:pic>
        <p:nvPicPr>
          <p:cNvPr id="1131" name="图表 18" descr=""/>
          <p:cNvPicPr/>
          <p:nvPr/>
        </p:nvPicPr>
        <p:blipFill>
          <a:blip r:embed="rId3"/>
          <a:stretch/>
        </p:blipFill>
        <p:spPr>
          <a:xfrm>
            <a:off x="4500720" y="692280"/>
            <a:ext cx="4392360" cy="4105080"/>
          </a:xfrm>
          <a:prstGeom prst="rect">
            <a:avLst/>
          </a:prstGeom>
          <a:ln w="0">
            <a:noFill/>
          </a:ln>
        </p:spPr>
      </p:pic>
      <p:sp>
        <p:nvSpPr>
          <p:cNvPr id="1132" name="TextBox 20"/>
          <p:cNvSpPr/>
          <p:nvPr/>
        </p:nvSpPr>
        <p:spPr>
          <a:xfrm>
            <a:off x="900000" y="133992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人员基本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34"/>
          <p:cNvSpPr/>
          <p:nvPr/>
        </p:nvSpPr>
        <p:spPr>
          <a:xfrm>
            <a:off x="4500720" y="692280"/>
            <a:ext cx="4392360" cy="40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经过社会化改革，后勤集团减轻了用人压力和负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文化素质普遍偏低的现象依然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1"/>
          <p:cNvSpPr/>
          <p:nvPr/>
        </p:nvSpPr>
        <p:spPr>
          <a:xfrm>
            <a:off x="0" y="44280"/>
            <a:ext cx="665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s2" descr=""/>
          <p:cNvPicPr/>
          <p:nvPr/>
        </p:nvPicPr>
        <p:blipFill>
          <a:blip r:embed="rId4"/>
          <a:stretch/>
        </p:blipFill>
        <p:spPr>
          <a:xfrm>
            <a:off x="6680160" y="2400480"/>
            <a:ext cx="1836720" cy="489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"/>
                            </p:stCondLst>
                            <p:childTnLst>
                              <p:par>
                                <p:cTn id="420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9556E-007 L -0.47257 0.33904 E">
                                      <p:cBhvr>
                                        <p:cTn id="421" dur="1000" fill="hold"/>
                                        <p:tgtEl>
                                          <p:spTgt spid="1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23959E-006 L -0.33072 0.19403 E">
                                      <p:cBhvr>
                                        <p:cTn id="423" dur="1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250"/>
                            </p:stCondLst>
                            <p:childTnLst>
                              <p:par>
                                <p:cTn id="42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9556E-007 L -0.46475 0.3284 E">
                                      <p:cBhvr>
                                        <p:cTn id="445" dur="1000" fill="hold"/>
                                        <p:tgtEl>
                                          <p:spTgt spid="1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23959E-006 L -0.32673 0.19403 E">
                                      <p:cBhvr>
                                        <p:cTn id="447" dur="1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9556E-007 L -0.45694 0.31799 E">
                                      <p:cBhvr>
                                        <p:cTn id="468" dur="1000" fill="hold"/>
                                        <p:tgtEl>
                                          <p:spTgt spid="1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09066E-006 L -0.31892 0.19935 E">
                                      <p:cBhvr>
                                        <p:cTn id="470" dur="1000" fill="hold"/>
                                        <p:tgtEl>
                                          <p:spTgt spid="1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00:46:00Z</dcterms:created>
  <dc:creator>hp</dc:creator>
  <dc:description/>
  <dc:language>en-US</dc:language>
  <cp:lastModifiedBy>a</cp:lastModifiedBy>
  <dcterms:modified xsi:type="dcterms:W3CDTF">2015-05-20T06:51:57Z</dcterms:modified>
  <cp:revision>59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_TemplateID">
    <vt:lpwstr>TC018814309991</vt:lpwstr>
  </property>
</Properties>
</file>