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9577-8F51-4D61-946E-E460BBEB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471-37C2-4147-AA83-66B33483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FB11-F665-4500-9294-098D7D02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548-BB33-4584-BFFB-B304F3A9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7B0D-1266-496B-B200-C6B33B1F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67C8-22DC-4D50-AD70-F739B456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78DF-C52C-483E-B98E-4EDC24C2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7B17-EC45-480A-9BF7-F011995A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5344-76ED-4E11-AC1E-09E31805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EE4F-991C-402B-A3BB-A02B43D6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FF26-EDEB-45F0-87DE-6938AAFC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FB1-B29B-4128-91EC-3FE06502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7AB4-4CFA-49BE-859A-86001923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A637-6499-4803-8D45-B7100706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0D45-8860-43CE-A1E1-ACA25FA0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8D14-0680-418F-A0CA-3F193DBF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0682-E2B5-4620-BABA-8FEE64DB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F88-AE79-4813-B0EC-D2C82012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0DA7-E812-46A2-8056-76B1494F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58E-DCBD-4CD0-A863-287F7EE9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5E3-B21A-43D1-886B-04264859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0BA-D44E-4F47-B5AF-AAEE267E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E12B-C1D3-48D8-9716-3D014D66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E98B-AAB0-4056-A913-419918D8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4018-5D98-46AA-A659-6E94043E6C3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71EA-BF9D-49E2-8A0E-5A4ABB7AF68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A3BF-CD91-4EA9-95DD-AE0C9D0512B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18EF-D59E-467B-B7B7-A8D8CC0BA9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jingpin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1728720" y="1285920"/>
            <a:ext cx="12002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1131840" y="4516560"/>
            <a:ext cx="249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500200" y="1357200"/>
            <a:ext cx="770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9"/>
          <p:cNvSpPr/>
          <p:nvPr/>
        </p:nvSpPr>
        <p:spPr>
          <a:xfrm>
            <a:off x="415512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9"/>
          <p:cNvSpPr/>
          <p:nvPr/>
        </p:nvSpPr>
        <p:spPr>
          <a:xfrm>
            <a:off x="179784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165492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486972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-335880" y="0"/>
            <a:ext cx="8802000" cy="6858000"/>
            <a:chOff x="-335880" y="0"/>
            <a:chExt cx="8802000" cy="6858000"/>
          </a:xfrm>
        </p:grpSpPr>
        <p:sp>
          <p:nvSpPr>
            <p:cNvPr id="132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279792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279792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294084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"/>
          <p:cNvSpPr/>
          <p:nvPr/>
        </p:nvSpPr>
        <p:spPr>
          <a:xfrm>
            <a:off x="-6912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322668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479808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108360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3226680" y="5143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/>
          <p:cNvSpPr/>
          <p:nvPr/>
        </p:nvSpPr>
        <p:spPr>
          <a:xfrm>
            <a:off x="2643120" y="4929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215496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4583880" y="4929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465516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8"/>
          <p:cNvSpPr/>
          <p:nvPr/>
        </p:nvSpPr>
        <p:spPr>
          <a:xfrm>
            <a:off x="-6912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/>
          <p:cNvSpPr/>
          <p:nvPr/>
        </p:nvSpPr>
        <p:spPr>
          <a:xfrm>
            <a:off x="2286000" y="2857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401220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458388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244080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8"/>
          <p:cNvSpPr/>
          <p:nvPr/>
        </p:nvSpPr>
        <p:spPr>
          <a:xfrm>
            <a:off x="342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1940760" y="3857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3583800" y="4857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236916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458388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329796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165492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508392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344088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329796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494100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172620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336960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508392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215496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179784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329796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479808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6237360"/>
            <a:ext cx="7302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好看的ppt模板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a</cp:lastModifiedBy>
  <dcterms:modified xsi:type="dcterms:W3CDTF">2015-05-20T06:55:08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