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%E9%92%A2%E7%90%B4.wav" ContentType="audio/x-wav"/>
  <Override PartName="/ppt/media/image2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18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3.png" ContentType="image/png"/>
  <Override PartName="/ppt/media/image6.gif" ContentType="image/gif"/>
  <Override PartName="/ppt/media/image29.jpeg" ContentType="image/jpeg"/>
  <Override PartName="/ppt/media/Failed.WAV" ContentType="audio/x-wav"/>
  <Override PartName="/ppt/media/image16.png" ContentType="image/png"/>
  <Override PartName="/ppt/media/image12.png" ContentType="image/png"/>
  <Override PartName="/ppt/media/image3.gif" ContentType="image/gif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Down.WAV" ContentType="audio/x-wav"/>
  <Override PartName="/ppt/media/image2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CB1-E7BB-4425-A98A-F694E6D9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FCD-EE63-46B7-890A-7D3ABC4D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EF8-DDB8-4FB8-B3FD-EC4AE0FC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A50-C4FF-4654-B605-A28E8397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6E1A-A40F-4CE4-8F89-00CF9375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B9FD-D4B1-4717-BA6C-8B633DE4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1BFF-3648-446D-B7DD-7E52711D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C9EC-27E9-41E7-9508-34AA844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2150-414C-411C-843F-14FBC730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A60D-327B-42D8-94A3-DA04F268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ACF5-319E-418F-8678-94ABBF7A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860-229F-49C9-BB02-B23DCE81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D2B9-1257-44C1-BBD7-E11BBC8B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99BE-5E34-494E-8B49-0711ADA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0FBF-89DD-42A3-9317-2B367617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D249-8403-4651-A885-46729AF4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9873-A6BF-40C7-A66B-87A6C181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29F5-7E6F-4BE3-966C-176BC2B9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3B71-A679-4075-8267-BB60D6F0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AE873-7E59-41C5-A406-91838BEA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DF07-221C-4532-86F5-22A18DB1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DBCD-A9AD-485B-83E6-8A191B4B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016-ED6F-4CFF-9F2E-0D3D15A3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C9DA-FE98-4C74-BCD3-7E06797F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FA3F-9A08-4C12-ADC6-079A9EE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D497-3C64-48E1-A503-709FA335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206C-A422-4EB8-8504-F75B999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48E1-9B52-44F7-BB6D-D6D4F116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C845A-3680-49BC-8A88-34D489E8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D245-A69B-49F0-B8D2-E881FC12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C902-D1F7-4CEC-887C-47BF1D5F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1D84-8426-44C1-AD1D-A91B2F38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908C-99F2-4FA2-8C75-A0DF8F99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9ED-7AE6-46D7-846B-F9A63AB7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CFF4-7B48-4B40-BF03-70EF6030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57F02-442D-457A-B9B8-A8392C2E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0ACCA-D3B0-4278-932C-0A35EB25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5D6E-BFC6-4D6F-B6B6-FA62CF33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CD6FF-FF90-42EB-B940-6F97A9BF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E83E-FA54-4CB0-ADAD-AB10AA0D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D01E-431E-4CB2-B210-2D93EF3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7617F-1B40-452B-BC63-FBF0C5E7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C0779-A9C8-46A4-ACF7-A47D9069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C475-1104-43D5-B991-2E5D1787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415-CC67-4D2B-BF85-6CDD448A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7C37-4FD2-44C3-955E-4BD0CA14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2B364-18F8-4F94-A9E8-56522202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A093C-3D42-49F5-8D11-D0C4A639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9E5C8-DAAB-42C2-9ED4-41866083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1A5DB-65B0-479B-9CC0-0385C693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D9A60-CFFE-4F60-8FFB-686894F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58EE4-F3B7-4CD1-90FD-5E36F2FF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3B1B1-52CC-4DEA-B1EC-AD23308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6FE9F-1E85-4D58-AA10-3B8ACAE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834C2-8C88-47FE-89C2-60CA7A06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6F7-DC41-49C5-A85B-E65F8350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F7DF-B4ED-41C2-A9D9-49575386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D41-E58C-4E13-AD1F-21E09135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48B-10D7-42F8-8CD9-5B4CA5B4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F6F-EA3D-400A-99F9-72ABE26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AB96-FCD2-4E64-8A0D-20BDC46479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72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3497-D13D-46B5-AA8D-639C08EEBE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29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4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5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7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0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2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4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75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8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89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2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03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6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17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0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31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44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45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58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559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60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561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A92E-91DB-4CE6-A289-3C3339BF0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616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7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8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9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4F89-E904-4606-83DC-7C6DA0633A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63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5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6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9EB0-5BFC-497B-996E-A3412F0164E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own.WAV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&#38050;&#29748;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../media/Failed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audio" Target="../media/&#38050;&#29748;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5.png"/><Relationship Id="rId15" Type="http://schemas.openxmlformats.org/officeDocument/2006/relationships/hyperlink" Target="http://www.eeppt.com/moban/jiaoyu/" TargetMode="External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矩形 1" descr=""/>
          <p:cNvPicPr/>
          <p:nvPr/>
        </p:nvPicPr>
        <p:blipFill>
          <a:blip r:embed="rId1"/>
          <a:stretch/>
        </p:blipFill>
        <p:spPr>
          <a:xfrm>
            <a:off x="828720" y="2206800"/>
            <a:ext cx="777240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41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3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44" name="WordArt 6"/>
          <p:cNvSpPr txBox="1"/>
          <p:nvPr/>
        </p:nvSpPr>
        <p:spPr>
          <a:xfrm>
            <a:off x="611280" y="26028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英语成绩优秀的学生：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1979640" y="1700280"/>
          <a:ext cx="4681440" cy="4114800"/>
        </p:xfrm>
        <a:graphic>
          <a:graphicData uri="http://schemas.openxmlformats.org/drawingml/2006/table">
            <a:tbl>
              <a:tblPr/>
              <a:tblGrid>
                <a:gridCol w="2341440"/>
                <a:gridCol w="2340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9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赵阳阳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1600_047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1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2050920" y="476280"/>
          <a:ext cx="4824360" cy="5727600"/>
        </p:xfrm>
        <a:graphic>
          <a:graphicData uri="http://schemas.openxmlformats.org/drawingml/2006/table">
            <a:tbl>
              <a:tblPr/>
              <a:tblGrid>
                <a:gridCol w="2343240"/>
                <a:gridCol w="248112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何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戴梓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  楠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爽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子鸣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  斌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WordArt 41"/>
          <p:cNvSpPr txBox="1"/>
          <p:nvPr/>
        </p:nvSpPr>
        <p:spPr>
          <a:xfrm rot="5400000">
            <a:off x="-1866240" y="2666160"/>
            <a:ext cx="58197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期中物理成绩优秀的学生</a:t>
            </a:r>
            <a:endParaRPr b="1" lang="en-US" sz="72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82440" y="-504720"/>
            <a:ext cx="9367560" cy="7022880"/>
          </a:xfrm>
          <a:prstGeom prst="rect">
            <a:avLst/>
          </a:prstGeom>
          <a:ln w="0">
            <a:noFill/>
          </a:ln>
        </p:spPr>
      </p:pic>
      <p:sp>
        <p:nvSpPr>
          <p:cNvPr id="750" name="WordArt 3"/>
          <p:cNvSpPr txBox="1"/>
          <p:nvPr/>
        </p:nvSpPr>
        <p:spPr>
          <a:xfrm>
            <a:off x="395280" y="-14616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化学成绩优秀的学生：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763640" y="1341360"/>
          <a:ext cx="5472000" cy="520236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  宰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崔  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董  迪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gifmb034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3" name=""/>
          <p:cNvGraphicFramePr/>
          <p:nvPr/>
        </p:nvGraphicFramePr>
        <p:xfrm>
          <a:off x="2771640" y="981000"/>
          <a:ext cx="4753080" cy="4686480"/>
        </p:xfrm>
        <a:graphic>
          <a:graphicData uri="http://schemas.openxmlformats.org/drawingml/2006/table">
            <a:tbl>
              <a:tblPr/>
              <a:tblGrid>
                <a:gridCol w="2378160"/>
                <a:gridCol w="237492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袁婉玲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董  迪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4" name="WordArt 35"/>
          <p:cNvSpPr txBox="1"/>
          <p:nvPr/>
        </p:nvSpPr>
        <p:spPr>
          <a:xfrm rot="5400000">
            <a:off x="-1103040" y="3126600"/>
            <a:ext cx="5326200" cy="74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期中政治成绩优秀的学生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11"/>
          <p:cNvPicPr/>
          <p:nvPr/>
        </p:nvPicPr>
        <p:blipFill>
          <a:blip r:embed="rId1"/>
          <a:stretch/>
        </p:blipFill>
        <p:spPr>
          <a:xfrm>
            <a:off x="396720" y="-444600"/>
            <a:ext cx="9753840" cy="7290000"/>
          </a:xfrm>
          <a:prstGeom prst="rect">
            <a:avLst/>
          </a:prstGeom>
          <a:ln w="0">
            <a:noFill/>
          </a:ln>
        </p:spPr>
      </p:pic>
      <p:sp>
        <p:nvSpPr>
          <p:cNvPr id="756" name="WordArt 3"/>
          <p:cNvSpPr txBox="1"/>
          <p:nvPr/>
        </p:nvSpPr>
        <p:spPr>
          <a:xfrm>
            <a:off x="324000" y="-21744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历史成绩优秀的学生：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700360" y="1052640"/>
          <a:ext cx="5400720" cy="532908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戴梓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莹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赵阳阳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18"/>
          <p:cNvPicPr/>
          <p:nvPr/>
        </p:nvPicPr>
        <p:blipFill>
          <a:blip r:embed="rId1"/>
          <a:stretch/>
        </p:blipFill>
        <p:spPr>
          <a:xfrm>
            <a:off x="0" y="-228600"/>
            <a:ext cx="9312120" cy="696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9" name=""/>
          <p:cNvGraphicFramePr/>
          <p:nvPr/>
        </p:nvGraphicFramePr>
        <p:xfrm>
          <a:off x="2197080" y="-84240"/>
          <a:ext cx="5543640" cy="6683400"/>
        </p:xfrm>
        <a:graphic>
          <a:graphicData uri="http://schemas.openxmlformats.org/drawingml/2006/table">
            <a:tbl>
              <a:tblPr/>
              <a:tblGrid>
                <a:gridCol w="3022560"/>
                <a:gridCol w="25210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袁婉玲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  宰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郭  珍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0" name="WordArt 47"/>
          <p:cNvSpPr txBox="1"/>
          <p:nvPr/>
        </p:nvSpPr>
        <p:spPr>
          <a:xfrm rot="5400000">
            <a:off x="-1728000" y="2743920"/>
            <a:ext cx="59738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初二地生成绩优秀的学生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08000" y="117000"/>
            <a:ext cx="9036000" cy="662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存在的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部分学生存在偏科现象，影响整体成绩的提高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伟 倪百川 张昆 顾子椿 朱昭昭  阮小娜（数）王爽 徐斌  李俊龙  朱昭昭  王腾（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曹璇（理化）王莹莹（政治）等同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部分学生学习不积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信心不足，不能吃苦，没有毕业班学生应有的紧迫感和强烈的竞争意识，导致学习成绩只退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466200" y="9806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部分学生知识基础薄弱，有厌学并弃学的做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不少学生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独立能力较差，倚赖思想严重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能独立作业，抄作业现象严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时间的占有与利用率较低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2"/>
          <p:cNvSpPr/>
          <p:nvPr/>
        </p:nvSpPr>
        <p:spPr>
          <a:xfrm>
            <a:off x="250920" y="18900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努力的目标和方向：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狠抓班级纪律，培养学生的良好学             习、行为习惯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保持并强化良好的班风和学风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帮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生树立信心，激发学生学习热情，学会自主学习，力争明年中考取得理想成绩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进一步做好培优、补差工作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7" descr="FR_033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6"/>
          <p:cNvSpPr/>
          <p:nvPr/>
        </p:nvSpPr>
        <p:spPr>
          <a:xfrm>
            <a:off x="2824200" y="1916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中考形势分析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家长会程序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班主任谈班级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家长与任课老师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34920" y="117000"/>
            <a:ext cx="90043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中考考试科目、分数、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各科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数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物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政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地理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生物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语听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机属于过关考试，不过关不能上重点高中。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七门文化科考试时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17.18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总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上一届南睢中正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北睢中正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最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才能取得上普通高中资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324000" y="1484280"/>
            <a:ext cx="8497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份    徐州一中      睢中南         睢中北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5             633              633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3       65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0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3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1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8       64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5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48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2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250920" y="11736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重点中学录取分数线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107640" y="117360"/>
            <a:ext cx="8785080" cy="64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睢中招生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、北两校单独招生，互不兼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睢中录取人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轨生、指标生，即免费生；择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，缴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3360--193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近三年我校录取睢中免费生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0--7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上择校生总共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0---1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录取方法：并轨、指标、择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252360" y="2279520"/>
            <a:ext cx="8763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0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   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前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名我校有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（我校学生包揽前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名）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9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   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8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24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（另：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79.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）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初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现初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地生中考满分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7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再过千人（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9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）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中考总均分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7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，我校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87.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注：以上分数不含政策性加分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71" name="WordArt 3" descr=""/>
          <p:cNvPicPr/>
          <p:nvPr/>
        </p:nvPicPr>
        <p:blipFill>
          <a:blip r:embed="rId1"/>
          <a:stretch/>
        </p:blipFill>
        <p:spPr>
          <a:xfrm>
            <a:off x="907920" y="0"/>
            <a:ext cx="6529680" cy="2182680"/>
          </a:xfrm>
          <a:prstGeom prst="rect">
            <a:avLst/>
          </a:prstGeom>
          <a:ln w="0">
            <a:noFill/>
          </a:ln>
        </p:spPr>
      </p:pic>
      <p:sp>
        <p:nvSpPr>
          <p:cNvPr id="772" name="WordArt 4"/>
          <p:cNvSpPr txBox="1"/>
          <p:nvPr/>
        </p:nvSpPr>
        <p:spPr>
          <a:xfrm rot="340800">
            <a:off x="4114440" y="6248160"/>
            <a:ext cx="472428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d9d8ec"/>
                  </a:solidFill>
                  <a:miter/>
                </a:ln>
                <a:solidFill>
                  <a:srgbClr val="d9d8ec"/>
                </a:solidFill>
                <a:latin typeface="宋体"/>
              </a:rPr>
              <a:t>只要努力，你的名字就会出现在这里。</a:t>
            </a:r>
            <a:endParaRPr b="1" lang="en-US" sz="7200" spc="-1" strike="noStrike">
              <a:ln w="9360">
                <a:solidFill>
                  <a:srgbClr val="d9d8ec"/>
                </a:solidFill>
                <a:miter/>
              </a:ln>
              <a:solidFill>
                <a:srgbClr val="d9d8ec"/>
              </a:solidFill>
              <a:latin typeface="宋体"/>
              <a:ea typeface="宋体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612720" y="-23760"/>
            <a:ext cx="669600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1-110521010381-1胡璐"/>
          <p:cNvPicPr/>
          <p:nvPr/>
        </p:nvPicPr>
        <p:blipFill>
          <a:blip r:embed="rId1"/>
          <a:stretch/>
        </p:blipFill>
        <p:spPr>
          <a:xfrm>
            <a:off x="352440" y="1735200"/>
            <a:ext cx="1324080" cy="174312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3"/>
          <p:cNvSpPr/>
          <p:nvPr/>
        </p:nvSpPr>
        <p:spPr>
          <a:xfrm>
            <a:off x="190440" y="3551400"/>
            <a:ext cx="1828800" cy="69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准考证号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11052101038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姓名：胡璐 中考总分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71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一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Text Box 4"/>
          <p:cNvSpPr/>
          <p:nvPr/>
        </p:nvSpPr>
        <p:spPr>
          <a:xfrm>
            <a:off x="2514600" y="3581280"/>
            <a:ext cx="1828800" cy="69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110521011369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卢欢 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710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全县第二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5086440" y="3551400"/>
            <a:ext cx="200016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110521011189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胡桂铭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707.5   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三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7257960" y="3551400"/>
            <a:ext cx="18288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11052101079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滕瑶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706.5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四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228600" y="6070680"/>
            <a:ext cx="2057400" cy="55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110521011708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倪浩伦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706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五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Text Box 8"/>
          <p:cNvSpPr/>
          <p:nvPr/>
        </p:nvSpPr>
        <p:spPr>
          <a:xfrm>
            <a:off x="251460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11052101006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徐晓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491508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110521010665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姚若愚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Text Box 10"/>
          <p:cNvSpPr/>
          <p:nvPr/>
        </p:nvSpPr>
        <p:spPr>
          <a:xfrm>
            <a:off x="708660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110521011273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吴雨晨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83" name="Picture 11" descr="2-卢欢110521011369"/>
          <p:cNvPicPr/>
          <p:nvPr/>
        </p:nvPicPr>
        <p:blipFill>
          <a:blip r:embed="rId2"/>
          <a:stretch/>
        </p:blipFill>
        <p:spPr>
          <a:xfrm>
            <a:off x="267480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2" descr="3-110521011189-3胡桂铭"/>
          <p:cNvPicPr/>
          <p:nvPr/>
        </p:nvPicPr>
        <p:blipFill>
          <a:blip r:embed="rId3"/>
          <a:stretch/>
        </p:blipFill>
        <p:spPr>
          <a:xfrm>
            <a:off x="517212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3" descr="4-110521010792-4滕瑶"/>
          <p:cNvPicPr/>
          <p:nvPr/>
        </p:nvPicPr>
        <p:blipFill>
          <a:blip r:embed="rId4"/>
          <a:stretch/>
        </p:blipFill>
        <p:spPr>
          <a:xfrm>
            <a:off x="748656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4" descr="110521011708"/>
          <p:cNvPicPr/>
          <p:nvPr/>
        </p:nvPicPr>
        <p:blipFill>
          <a:blip r:embed="rId5"/>
          <a:stretch/>
        </p:blipFill>
        <p:spPr>
          <a:xfrm>
            <a:off x="439560" y="4411800"/>
            <a:ext cx="1236960" cy="16160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5" descr="7-姚若愚110521010665"/>
          <p:cNvPicPr/>
          <p:nvPr/>
        </p:nvPicPr>
        <p:blipFill>
          <a:blip r:embed="rId6"/>
          <a:stretch/>
        </p:blipFill>
        <p:spPr>
          <a:xfrm>
            <a:off x="5315040" y="4429080"/>
            <a:ext cx="1236600" cy="16160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6" descr="6-徐晓110521010061"/>
          <p:cNvPicPr/>
          <p:nvPr/>
        </p:nvPicPr>
        <p:blipFill>
          <a:blip r:embed="rId7"/>
          <a:stretch/>
        </p:blipFill>
        <p:spPr>
          <a:xfrm>
            <a:off x="2800440" y="4429080"/>
            <a:ext cx="1236600" cy="16160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7" descr="8-吴雨晨110521011273"/>
          <p:cNvPicPr/>
          <p:nvPr/>
        </p:nvPicPr>
        <p:blipFill>
          <a:blip r:embed="rId8"/>
          <a:stretch/>
        </p:blipFill>
        <p:spPr>
          <a:xfrm>
            <a:off x="7486560" y="4467240"/>
            <a:ext cx="1236600" cy="1616040"/>
          </a:xfrm>
          <a:prstGeom prst="rect">
            <a:avLst/>
          </a:prstGeom>
          <a:ln w="0">
            <a:noFill/>
          </a:ln>
        </p:spPr>
      </p:pic>
      <p:sp>
        <p:nvSpPr>
          <p:cNvPr id="790" name="Rectangle 18"/>
          <p:cNvSpPr/>
          <p:nvPr/>
        </p:nvSpPr>
        <p:spPr>
          <a:xfrm>
            <a:off x="57240" y="13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1" name="Rectangle 19"/>
          <p:cNvSpPr/>
          <p:nvPr/>
        </p:nvSpPr>
        <p:spPr>
          <a:xfrm>
            <a:off x="-68400" y="25095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92" name="WordArt 20" descr=""/>
          <p:cNvPicPr/>
          <p:nvPr/>
        </p:nvPicPr>
        <p:blipFill>
          <a:blip r:embed="rId9"/>
          <a:stretch/>
        </p:blipFill>
        <p:spPr>
          <a:xfrm>
            <a:off x="1195560" y="-420840"/>
            <a:ext cx="6527520" cy="2170440"/>
          </a:xfrm>
          <a:prstGeom prst="rect">
            <a:avLst/>
          </a:prstGeom>
          <a:ln w="0">
            <a:noFill/>
          </a:ln>
        </p:spPr>
      </p:pic>
      <p:sp>
        <p:nvSpPr>
          <p:cNvPr id="793" name="WordArt 21"/>
          <p:cNvSpPr txBox="1"/>
          <p:nvPr/>
        </p:nvSpPr>
        <p:spPr>
          <a:xfrm>
            <a:off x="612720" y="-23760"/>
            <a:ext cx="720108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-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WordArt 2" descr=""/>
          <p:cNvPicPr/>
          <p:nvPr/>
        </p:nvPicPr>
        <p:blipFill>
          <a:blip r:embed="rId1"/>
          <a:stretch/>
        </p:blipFill>
        <p:spPr>
          <a:xfrm>
            <a:off x="1457280" y="433440"/>
            <a:ext cx="6534360" cy="218124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3" descr="1-110521010381-1胡璐"/>
          <p:cNvPicPr/>
          <p:nvPr/>
        </p:nvPicPr>
        <p:blipFill>
          <a:blip r:embed="rId2"/>
          <a:stretch/>
        </p:blipFill>
        <p:spPr>
          <a:xfrm>
            <a:off x="457200" y="1981080"/>
            <a:ext cx="2193840" cy="28861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4"/>
          <p:cNvSpPr/>
          <p:nvPr/>
        </p:nvSpPr>
        <p:spPr>
          <a:xfrm>
            <a:off x="3048120" y="2286000"/>
            <a:ext cx="5495760" cy="1765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准考证号：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1052101038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姓名：胡璐 中考总分：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1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全县第一名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7" name="WordArt 5"/>
          <p:cNvSpPr txBox="1"/>
          <p:nvPr/>
        </p:nvSpPr>
        <p:spPr>
          <a:xfrm rot="340800">
            <a:off x="4114440" y="6248160"/>
            <a:ext cx="472428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d9d8ec"/>
                  </a:solidFill>
                  <a:miter/>
                </a:ln>
                <a:solidFill>
                  <a:srgbClr val="d9d8ec"/>
                </a:solidFill>
                <a:latin typeface="宋体"/>
              </a:rPr>
              <a:t>只要努力，你的名字就会出现在这里。</a:t>
            </a:r>
            <a:endParaRPr b="1" lang="en-US" sz="7200" spc="-1" strike="noStrike">
              <a:ln w="9360">
                <a:solidFill>
                  <a:srgbClr val="d9d8ec"/>
                </a:solidFill>
                <a:miter/>
              </a:ln>
              <a:solidFill>
                <a:srgbClr val="d9d8ec"/>
              </a:solidFill>
              <a:latin typeface="宋体"/>
              <a:ea typeface="宋体"/>
            </a:endParaRPr>
          </a:p>
        </p:txBody>
      </p:sp>
      <p:sp>
        <p:nvSpPr>
          <p:cNvPr id="798" name="WordArt 6"/>
          <p:cNvSpPr txBox="1"/>
          <p:nvPr/>
        </p:nvSpPr>
        <p:spPr>
          <a:xfrm>
            <a:off x="3203640" y="4508640"/>
            <a:ext cx="53308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180720" y="259920"/>
            <a:ext cx="85820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前全年级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，比上届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6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，在班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左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-----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--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5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--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9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108000" y="4581360"/>
            <a:ext cx="85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3---5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学生尤其需要努力。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WordArt 2"/>
          <p:cNvSpPr txBox="1"/>
          <p:nvPr/>
        </p:nvSpPr>
        <p:spPr>
          <a:xfrm>
            <a:off x="1116000" y="177336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流与建议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2" descr="1600_047"/>
          <p:cNvPicPr/>
          <p:nvPr/>
        </p:nvPicPr>
        <p:blipFill>
          <a:blip r:embed="rId1"/>
          <a:stretch/>
        </p:blipFill>
        <p:spPr>
          <a:xfrm>
            <a:off x="179280" y="-95400"/>
            <a:ext cx="9142560" cy="68248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3"/>
          <p:cNvSpPr/>
          <p:nvPr/>
        </p:nvSpPr>
        <p:spPr>
          <a:xfrm>
            <a:off x="5219640" y="2852640"/>
            <a:ext cx="39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828720" y="2421000"/>
            <a:ext cx="781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466560" y="1052640"/>
            <a:ext cx="8280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在外留宿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带同学回家住宿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回家很迟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受伤回家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打电话时间长，次数多，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超常消费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超出友谊的交往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成绩突然下降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穿奇装异服，爱好打扮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说话、做事和平时明显不同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WordArt 6"/>
          <p:cNvSpPr txBox="1"/>
          <p:nvPr/>
        </p:nvSpPr>
        <p:spPr>
          <a:xfrm>
            <a:off x="684360" y="189000"/>
            <a:ext cx="345600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关注孩子的变化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Dow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2" descr="JKS15_100"/>
          <p:cNvPicPr/>
          <p:nvPr/>
        </p:nvPicPr>
        <p:blipFill>
          <a:blip r:embed="rId1"/>
          <a:stretch/>
        </p:blipFill>
        <p:spPr>
          <a:xfrm>
            <a:off x="108000" y="-9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3"/>
          <p:cNvSpPr/>
          <p:nvPr/>
        </p:nvSpPr>
        <p:spPr>
          <a:xfrm>
            <a:off x="61128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要尽量控制孩子的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零用钱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和上学、回家的时间，时刻了解学生的动向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539640" y="44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中宋"/>
              </a:rPr>
              <a:t>这样会更好！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1403280" y="2781360"/>
            <a:ext cx="7345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早    晨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6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3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中午放学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1: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3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午休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2:5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（在家午休的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:5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）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晚上放学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2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5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周六下午放学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:16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468360" y="198900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中宋"/>
              </a:rPr>
              <a:t>作息时间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%E9%92%A2%E7%90%B4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250920" y="117360"/>
            <a:ext cx="595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班级基本情况：</a:t>
            </a:r>
            <a:endParaRPr b="1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250920" y="1123920"/>
            <a:ext cx="858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全班共有学生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7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其中男生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女生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 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由原初二年级学生平均分配组成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250920" y="2708280"/>
            <a:ext cx="8232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班级管理总体原则</a:t>
            </a:r>
            <a:r>
              <a:rPr b="1" lang="en-US" sz="36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培养好习惯、做文明人、树信心、学会学习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目前班级已形成良好的班风、学风、正沿着健康的轨道向前发展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16" name="Picture 5" descr="图片22"/>
          <p:cNvPicPr/>
          <p:nvPr/>
        </p:nvPicPr>
        <p:blipFill>
          <a:blip r:embed="rId1"/>
          <a:stretch/>
        </p:blipFill>
        <p:spPr>
          <a:xfrm>
            <a:off x="108000" y="508464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JKS15_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3"/>
          <p:cNvSpPr/>
          <p:nvPr/>
        </p:nvSpPr>
        <p:spPr>
          <a:xfrm>
            <a:off x="612720" y="69228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2 </a:t>
            </a:r>
            <a:r>
              <a:rPr b="1" lang="zh-CN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在假期、周六、周日这段时间内督促孩子多看书，少看电视，尽量不要上网打游戏</a:t>
            </a:r>
            <a:r>
              <a:rPr b="0" lang="zh-CN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684360" y="1917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3 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不要把手机、</a:t>
            </a: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MP3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等通讯工具给子女使用，甚至带到学校（学校有明确的处罚规定）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755640" y="350208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4 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关心学生每一天的学习情况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督促学生晚上在家独立完成各科家庭作业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作业签字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并进行适当的复习和预习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对于学有余力的学生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安排适当的课外习题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16" name="Picture 6" descr="27_4200_578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45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Failed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8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0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21" name="Text Box 6"/>
          <p:cNvSpPr/>
          <p:nvPr/>
        </p:nvSpPr>
        <p:spPr>
          <a:xfrm>
            <a:off x="252360" y="54936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5 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每天给孩子创造良好的学习环境，多鼓励孩子，多与孩子一同学习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多注意孩子的书包，看一看里面装的是啥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体育训练马上要开始了，注意早饭的营养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ahoma"/>
                <a:ea typeface="华文中宋"/>
              </a:rPr>
              <a:t>工作再忙也要抽点时间来多了解孩子在校的表现和学习成绩情况。</a:t>
            </a:r>
            <a:r>
              <a:rPr b="1" lang="zh-CN" sz="4800" spc="-1" strike="noStrike">
                <a:solidFill>
                  <a:srgbClr val="ff00ff"/>
                </a:solidFill>
                <a:latin typeface="新宋体"/>
                <a:ea typeface="华文中宋"/>
              </a:rPr>
              <a:t>他们的自制能力是很差的</a:t>
            </a:r>
            <a:r>
              <a:rPr b="1" lang="zh-CN" sz="4800" spc="-1" strike="noStrike">
                <a:solidFill>
                  <a:srgbClr val="ff00ff"/>
                </a:solidFill>
                <a:latin typeface="Tahoma"/>
                <a:ea typeface="华文中宋"/>
              </a:rPr>
              <a:t>，需要我们的监督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2"/>
          <p:cNvGrpSpPr/>
          <p:nvPr/>
        </p:nvGrpSpPr>
        <p:grpSpPr>
          <a:xfrm>
            <a:off x="-33480" y="-95400"/>
            <a:ext cx="9141120" cy="6855120"/>
            <a:chOff x="-33480" y="-95400"/>
            <a:chExt cx="9141120" cy="6855120"/>
          </a:xfrm>
        </p:grpSpPr>
        <p:pic>
          <p:nvPicPr>
            <p:cNvPr id="824" name="Picture 3" descr="未命名"/>
            <p:cNvPicPr/>
            <p:nvPr/>
          </p:nvPicPr>
          <p:blipFill>
            <a:blip r:embed="rId2"/>
            <a:stretch/>
          </p:blipFill>
          <p:spPr>
            <a:xfrm>
              <a:off x="-33480" y="-95400"/>
              <a:ext cx="9141120" cy="68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Rectangle 4"/>
            <p:cNvSpPr/>
            <p:nvPr/>
          </p:nvSpPr>
          <p:spPr>
            <a:xfrm>
              <a:off x="-33480" y="-95400"/>
              <a:ext cx="2513520" cy="25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6" name="Rectangle 5"/>
            <p:cNvSpPr/>
            <p:nvPr/>
          </p:nvSpPr>
          <p:spPr>
            <a:xfrm>
              <a:off x="5146200" y="3789000"/>
              <a:ext cx="3123360" cy="243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27" name="WordArt 6"/>
          <p:cNvSpPr txBox="1"/>
          <p:nvPr/>
        </p:nvSpPr>
        <p:spPr>
          <a:xfrm>
            <a:off x="1476360" y="3240"/>
            <a:ext cx="54720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谢谢光临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36360" y="1557360"/>
            <a:ext cx="89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让我们一起帮助孩子走好人生的十字路口！</a:t>
            </a:r>
            <a:endParaRPr b="1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WordArt 8"/>
          <p:cNvSpPr txBox="1"/>
          <p:nvPr/>
        </p:nvSpPr>
        <p:spPr>
          <a:xfrm>
            <a:off x="4211640" y="56610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常过来看看！</a:t>
            </a:r>
            <a:endParaRPr b="1" lang="en-US" sz="5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5" name="%E9%92%A2%E7%90%B4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7" descr="FR_033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6"/>
          <p:cNvSpPr/>
          <p:nvPr/>
        </p:nvSpPr>
        <p:spPr>
          <a:xfrm>
            <a:off x="1549440" y="2349360"/>
            <a:ext cx="56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期中考试分析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　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WordArt 2"/>
          <p:cNvSpPr txBox="1"/>
          <p:nvPr/>
        </p:nvSpPr>
        <p:spPr>
          <a:xfrm>
            <a:off x="324000" y="-3240"/>
            <a:ext cx="5400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优秀的学生：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-22320" y="838080"/>
          <a:ext cx="8879040" cy="5904000"/>
        </p:xfrm>
        <a:graphic>
          <a:graphicData uri="http://schemas.openxmlformats.org/drawingml/2006/table">
            <a:tbl>
              <a:tblPr/>
              <a:tblGrid>
                <a:gridCol w="1114560"/>
                <a:gridCol w="855360"/>
                <a:gridCol w="690840"/>
                <a:gridCol w="761760"/>
                <a:gridCol w="644760"/>
                <a:gridCol w="884160"/>
                <a:gridCol w="692280"/>
                <a:gridCol w="649080"/>
                <a:gridCol w="647640"/>
                <a:gridCol w="887400"/>
                <a:gridCol w="441360"/>
                <a:gridCol w="60984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姓名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语文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学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物理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化学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政治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历史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地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总分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次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变化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4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0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4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WordArt 2"/>
          <p:cNvSpPr txBox="1"/>
          <p:nvPr/>
        </p:nvSpPr>
        <p:spPr>
          <a:xfrm>
            <a:off x="468360" y="-7308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进步的学生：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1042920" y="2349360"/>
            <a:ext cx="756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900000" y="1989000"/>
            <a:ext cx="751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仝梦莹    王中源     刘思秀      陈欣宇    潘    婷     何   伟      朱子彧    徐    也     张佳钰      王子鸣    倪百川     吴    琪      朱柳青    吴    祥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WordArt 2"/>
          <p:cNvSpPr txBox="1"/>
          <p:nvPr/>
        </p:nvSpPr>
        <p:spPr>
          <a:xfrm>
            <a:off x="324000" y="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退步的学生：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1144440" y="1962000"/>
            <a:ext cx="7317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尹腾川      顾子春    徐   斌  陈思宇      王莹莹    祁润东胡   宝       戴梓升    主   宰 张   坤       纪松凯    袁婉玲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矩形 5"/>
          <p:cNvSpPr/>
          <p:nvPr/>
        </p:nvSpPr>
        <p:spPr>
          <a:xfrm>
            <a:off x="179280" y="63039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www.1ppt.com/sucai/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11"/>
              </a:rPr>
              <a:t>www.1ppt.com/ziliao/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1" lang="en-US" sz="400" spc="-1" strike="noStrike" u="sng">
                <a:solidFill>
                  <a:srgbClr val="0066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1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27" name="Picture 2" descr="gifmb034"/>
          <p:cNvPicPr/>
          <p:nvPr/>
        </p:nvPicPr>
        <p:blipFill>
          <a:blip r:embed="rId14"/>
          <a:stretch/>
        </p:blipFill>
        <p:spPr>
          <a:xfrm>
            <a:off x="-22320" y="-12600"/>
            <a:ext cx="9526680" cy="68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8" name=""/>
          <p:cNvGraphicFramePr/>
          <p:nvPr/>
        </p:nvGraphicFramePr>
        <p:xfrm>
          <a:off x="2771640" y="620640"/>
          <a:ext cx="4319640" cy="5729040"/>
        </p:xfrm>
        <a:graphic>
          <a:graphicData uri="http://schemas.openxmlformats.org/drawingml/2006/table">
            <a:tbl>
              <a:tblPr/>
              <a:tblGrid>
                <a:gridCol w="2136600"/>
                <a:gridCol w="21830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吴  祥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郭  珍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邢丽娜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WordArt 41"/>
          <p:cNvSpPr txBox="1"/>
          <p:nvPr/>
        </p:nvSpPr>
        <p:spPr>
          <a:xfrm rot="5400000">
            <a:off x="-438840" y="2676960"/>
            <a:ext cx="44751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语文成绩优秀的学生</a:t>
            </a:r>
            <a:endParaRPr b="1" i="1" lang="en-US" sz="7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0" name=""/>
          <p:cNvSpPr/>
          <p:nvPr/>
        </p:nvSpPr>
        <p:spPr>
          <a:xfrm>
            <a:off x="755640" y="6526080"/>
            <a:ext cx="71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教育教学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模板 </a:t>
            </a:r>
            <a:r>
              <a:rPr b="1" lang="zh-CN" sz="16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http://www.eeppt.com/moban/jiaoyu/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826920" y="6093000"/>
            <a:ext cx="7624800" cy="525240"/>
            <a:chOff x="826920" y="6093000"/>
            <a:chExt cx="7624800" cy="525240"/>
          </a:xfrm>
        </p:grpSpPr>
        <p:pic>
          <p:nvPicPr>
            <p:cNvPr id="732" name="Picture 3" descr="2"/>
            <p:cNvPicPr/>
            <p:nvPr/>
          </p:nvPicPr>
          <p:blipFill>
            <a:blip r:embed="rId1"/>
            <a:stretch/>
          </p:blipFill>
          <p:spPr>
            <a:xfrm>
              <a:off x="69991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4" descr="2"/>
            <p:cNvPicPr/>
            <p:nvPr/>
          </p:nvPicPr>
          <p:blipFill>
            <a:blip r:embed="rId2"/>
            <a:stretch/>
          </p:blipFill>
          <p:spPr>
            <a:xfrm>
              <a:off x="555120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5" descr="2"/>
            <p:cNvPicPr/>
            <p:nvPr/>
          </p:nvPicPr>
          <p:blipFill>
            <a:blip r:embed="rId3"/>
            <a:stretch/>
          </p:blipFill>
          <p:spPr>
            <a:xfrm>
              <a:off x="395100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6" descr="2"/>
            <p:cNvPicPr/>
            <p:nvPr/>
          </p:nvPicPr>
          <p:blipFill>
            <a:blip r:embed="rId4"/>
            <a:stretch/>
          </p:blipFill>
          <p:spPr>
            <a:xfrm>
              <a:off x="24271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7" descr="2"/>
            <p:cNvPicPr/>
            <p:nvPr/>
          </p:nvPicPr>
          <p:blipFill>
            <a:blip r:embed="rId5"/>
            <a:stretch/>
          </p:blipFill>
          <p:spPr>
            <a:xfrm>
              <a:off x="8269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7" name="Text Box 8"/>
          <p:cNvSpPr/>
          <p:nvPr/>
        </p:nvSpPr>
        <p:spPr>
          <a:xfrm>
            <a:off x="1187280" y="1844640"/>
            <a:ext cx="71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2627280" y="549360"/>
          <a:ext cx="4464000" cy="52038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崔  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思秀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9" name="WordArt 44"/>
          <p:cNvSpPr txBox="1"/>
          <p:nvPr/>
        </p:nvSpPr>
        <p:spPr>
          <a:xfrm rot="5400000">
            <a:off x="-1368360" y="2816280"/>
            <a:ext cx="52545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期中数学成绩优秀的学生</a:t>
            </a:r>
            <a:endParaRPr b="1" i="1" lang="en-US" sz="7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3:30:4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57:33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0802000000000001024120</vt:lpwstr>
  </property>
</Properties>
</file>