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C2F-87A3-4B8C-A2DD-40F7B9E0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173-D17A-468A-ACFD-504759AE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BD0-D904-47FF-8DB6-29034E25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E46-7FA4-4226-B50B-1D92BEB1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C0E-4038-4F98-B16B-500D8215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CBF-1A0D-497B-AA52-5E343D69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76EA-2981-491F-A9C1-29087CC3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E9F-6803-4B7A-9172-492CC32D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168-3DC3-4969-A6BF-F69FC546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424-2848-49D5-9499-9C6D936B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AE9-A92A-4B3C-A77E-49AB9D32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3F7-DD4F-4F50-8887-ABEAAE9C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918C-331A-411A-9005-2550642F96BC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00"/>
                </a:solidFill>
                <a:latin typeface="华文隶书"/>
                <a:ea typeface="华文隶书"/>
              </a:rPr>
              <a:t>精美插画幻灯片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s-E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4:28:12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41:16Z</dcterms:modified>
  <cp:revision>6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