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980-CC0B-402A-AF85-86E2D986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857-DC08-4BDD-84B7-26F95B5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5BF-C18E-47C4-9453-9E3E1C4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DB3-B4C3-45C3-A559-9D0E5B29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504-D4D9-4539-BB6D-543851D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330-BE91-4850-B6F2-1A0ACAF7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635-A671-40AE-B89B-AECE6B15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F26-1F6F-4549-ABAA-18CB75A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AA0-9821-4059-A8B2-CA49401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3A4-B4A4-4FCB-9F13-5E8E8ADC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68B-A431-440D-A98F-87377179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2A3-413E-4F6F-A057-E9E55202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7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8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15.png"/>
          <p:cNvPicPr/>
          <p:nvPr/>
        </p:nvPicPr>
        <p:blipFill>
          <a:blip r:embed="rId4"/>
          <a:srcRect l="0" t="0" r="0" b="59452"/>
          <a:stretch/>
        </p:blipFill>
        <p:spPr>
          <a:xfrm>
            <a:off x="0" y="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41" name="图片 20" descr="16.png"/>
          <p:cNvPicPr/>
          <p:nvPr/>
        </p:nvPicPr>
        <p:blipFill>
          <a:blip r:embed="rId5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1" descr="5.png"/>
          <p:cNvPicPr/>
          <p:nvPr/>
        </p:nvPicPr>
        <p:blipFill>
          <a:blip r:embed="rId6"/>
          <a:srcRect l="0" t="0" r="78128" b="43752"/>
          <a:stretch/>
        </p:blipFill>
        <p:spPr>
          <a:xfrm rot="21292800">
            <a:off x="-250920" y="-160200"/>
            <a:ext cx="1998720" cy="3855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2" descr="16.png"/>
          <p:cNvPicPr/>
          <p:nvPr/>
        </p:nvPicPr>
        <p:blipFill>
          <a:blip r:embed="rId7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3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4" descr="16.png"/>
          <p:cNvPicPr/>
          <p:nvPr/>
        </p:nvPicPr>
        <p:blipFill>
          <a:blip r:embed="rId9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5" descr="16.png"/>
          <p:cNvPicPr/>
          <p:nvPr/>
        </p:nvPicPr>
        <p:blipFill>
          <a:blip r:embed="rId10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6" descr="16.png"/>
          <p:cNvPicPr/>
          <p:nvPr/>
        </p:nvPicPr>
        <p:blipFill>
          <a:blip r:embed="rId11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7" descr="16.png"/>
          <p:cNvPicPr/>
          <p:nvPr/>
        </p:nvPicPr>
        <p:blipFill>
          <a:blip r:embed="rId12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8" descr="5.png"/>
          <p:cNvPicPr/>
          <p:nvPr/>
        </p:nvPicPr>
        <p:blipFill>
          <a:blip r:embed="rId13"/>
          <a:srcRect l="0" t="0" r="78128" b="43752"/>
          <a:stretch/>
        </p:blipFill>
        <p:spPr>
          <a:xfrm>
            <a:off x="-179280" y="-601560"/>
            <a:ext cx="1492200" cy="287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409-FC6F-4632-B953-07EF9888BB9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3.png"/><Relationship Id="rId16" Type="http://schemas.openxmlformats.org/officeDocument/2006/relationships/image" Target="../media/image13.png"/><Relationship Id="rId17" Type="http://schemas.openxmlformats.org/officeDocument/2006/relationships/image" Target="../media/image3.png"/><Relationship Id="rId18" Type="http://schemas.openxmlformats.org/officeDocument/2006/relationships/image" Target="../media/image1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3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4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3.png"/><Relationship Id="rId16" Type="http://schemas.openxmlformats.org/officeDocument/2006/relationships/image" Target="../media/image13.png"/><Relationship Id="rId17" Type="http://schemas.openxmlformats.org/officeDocument/2006/relationships/image" Target="../media/image3.png"/><Relationship Id="rId18" Type="http://schemas.openxmlformats.org/officeDocument/2006/relationships/image" Target="../media/image1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17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1.png"/>
          <p:cNvPicPr/>
          <p:nvPr/>
        </p:nvPicPr>
        <p:blipFill>
          <a:blip r:embed="rId1"/>
          <a:stretch/>
        </p:blipFill>
        <p:spPr>
          <a:xfrm>
            <a:off x="-6480" y="420840"/>
            <a:ext cx="9172800" cy="6468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4.png"/>
          <p:cNvPicPr/>
          <p:nvPr/>
        </p:nvPicPr>
        <p:blipFill>
          <a:blip r:embed="rId4"/>
          <a:stretch/>
        </p:blipFill>
        <p:spPr>
          <a:xfrm>
            <a:off x="-3780000" y="260280"/>
            <a:ext cx="1675080" cy="665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10.png"/>
          <p:cNvPicPr/>
          <p:nvPr/>
        </p:nvPicPr>
        <p:blipFill>
          <a:blip r:embed="rId5"/>
          <a:srcRect l="0" t="58164" r="0" b="0"/>
          <a:stretch/>
        </p:blipFill>
        <p:spPr>
          <a:xfrm>
            <a:off x="0" y="3989520"/>
            <a:ext cx="9144000" cy="2868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9.png"/>
          <p:cNvPicPr/>
          <p:nvPr/>
        </p:nvPicPr>
        <p:blipFill>
          <a:blip r:embed="rId6"/>
          <a:srcRect l="72053" t="66211" r="12074" b="16095"/>
          <a:stretch/>
        </p:blipFill>
        <p:spPr>
          <a:xfrm>
            <a:off x="6588000" y="4540320"/>
            <a:ext cx="1452600" cy="1214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" descr="4.png"/>
          <p:cNvPicPr/>
          <p:nvPr/>
        </p:nvPicPr>
        <p:blipFill>
          <a:blip r:embed="rId7"/>
          <a:srcRect l="2345" t="10418" r="56253" b="67710"/>
          <a:stretch/>
        </p:blipFill>
        <p:spPr>
          <a:xfrm>
            <a:off x="-3274920" y="836640"/>
            <a:ext cx="378468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17.png"/>
          <p:cNvPicPr/>
          <p:nvPr/>
        </p:nvPicPr>
        <p:blipFill>
          <a:blip r:embed="rId9"/>
          <a:srcRect l="0" t="87504" r="89847" b="3127"/>
          <a:stretch/>
        </p:blipFill>
        <p:spPr>
          <a:xfrm>
            <a:off x="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6.png"/>
          <p:cNvPicPr/>
          <p:nvPr/>
        </p:nvPicPr>
        <p:blipFill>
          <a:blip r:embed="rId10"/>
          <a:srcRect l="19533" t="82295" r="61721" b="9373"/>
          <a:stretch/>
        </p:blipFill>
        <p:spPr>
          <a:xfrm>
            <a:off x="1071720" y="57578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5.png"/>
          <p:cNvPicPr/>
          <p:nvPr/>
        </p:nvPicPr>
        <p:blipFill>
          <a:blip r:embed="rId11"/>
          <a:srcRect l="0" t="59379" r="88285" b="3126"/>
          <a:stretch/>
        </p:blipFill>
        <p:spPr>
          <a:xfrm>
            <a:off x="0" y="5373720"/>
            <a:ext cx="1071720" cy="1942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" descr="5.png"/>
          <p:cNvPicPr/>
          <p:nvPr/>
        </p:nvPicPr>
        <p:blipFill>
          <a:blip r:embed="rId12"/>
          <a:srcRect l="0" t="0" r="78128" b="43752"/>
          <a:stretch/>
        </p:blipFill>
        <p:spPr>
          <a:xfrm rot="21292800">
            <a:off x="-250920" y="-160200"/>
            <a:ext cx="1998720" cy="3855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6.png"/>
          <p:cNvPicPr/>
          <p:nvPr/>
        </p:nvPicPr>
        <p:blipFill>
          <a:blip r:embed="rId13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6.png"/>
          <p:cNvPicPr/>
          <p:nvPr/>
        </p:nvPicPr>
        <p:blipFill>
          <a:blip r:embed="rId14"/>
          <a:srcRect l="19533" t="82295" r="61721" b="9373"/>
          <a:stretch/>
        </p:blipFill>
        <p:spPr>
          <a:xfrm>
            <a:off x="1357200" y="4786200"/>
            <a:ext cx="10000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16.png"/>
          <p:cNvPicPr/>
          <p:nvPr/>
        </p:nvPicPr>
        <p:blipFill>
          <a:blip r:embed="rId15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7" descr="6.png"/>
          <p:cNvPicPr/>
          <p:nvPr/>
        </p:nvPicPr>
        <p:blipFill>
          <a:blip r:embed="rId16"/>
          <a:srcRect l="19533" t="82295" r="61721" b="9373"/>
          <a:stretch/>
        </p:blipFill>
        <p:spPr>
          <a:xfrm>
            <a:off x="3000240" y="5929200"/>
            <a:ext cx="185760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8" descr="16.png"/>
          <p:cNvPicPr/>
          <p:nvPr/>
        </p:nvPicPr>
        <p:blipFill>
          <a:blip r:embed="rId17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9" descr="6.png"/>
          <p:cNvPicPr/>
          <p:nvPr/>
        </p:nvPicPr>
        <p:blipFill>
          <a:blip r:embed="rId18"/>
          <a:srcRect l="19533" t="82295" r="61721" b="9373"/>
          <a:stretch/>
        </p:blipFill>
        <p:spPr>
          <a:xfrm>
            <a:off x="2214720" y="5214960"/>
            <a:ext cx="117000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0" descr="16.png"/>
          <p:cNvPicPr/>
          <p:nvPr/>
        </p:nvPicPr>
        <p:blipFill>
          <a:blip r:embed="rId19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1" descr="16.png"/>
          <p:cNvPicPr/>
          <p:nvPr/>
        </p:nvPicPr>
        <p:blipFill>
          <a:blip r:embed="rId20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2" descr="17.png"/>
          <p:cNvPicPr/>
          <p:nvPr/>
        </p:nvPicPr>
        <p:blipFill>
          <a:blip r:embed="rId21"/>
          <a:srcRect l="0" t="87504" r="89847" b="3127"/>
          <a:stretch/>
        </p:blipFill>
        <p:spPr>
          <a:xfrm>
            <a:off x="71280" y="4786200"/>
            <a:ext cx="57168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3" descr="6.png"/>
          <p:cNvPicPr/>
          <p:nvPr/>
        </p:nvPicPr>
        <p:blipFill>
          <a:blip r:embed="rId22"/>
          <a:srcRect l="19533" t="82295" r="61721" b="9373"/>
          <a:stretch/>
        </p:blipFill>
        <p:spPr>
          <a:xfrm>
            <a:off x="4857840" y="5143680"/>
            <a:ext cx="121428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4" descr="16.png"/>
          <p:cNvPicPr/>
          <p:nvPr/>
        </p:nvPicPr>
        <p:blipFill>
          <a:blip r:embed="rId23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:\201011月\石景山\1_0003_gull.png"/>
          <p:cNvPicPr/>
          <p:nvPr/>
        </p:nvPicPr>
        <p:blipFill>
          <a:blip r:embed="rId24"/>
          <a:srcRect l="0" t="0" r="0" b="-7667"/>
          <a:stretch/>
        </p:blipFill>
        <p:spPr>
          <a:xfrm>
            <a:off x="10644120" y="2346480"/>
            <a:ext cx="795240" cy="87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istrator\桌面\569.png"/>
          <p:cNvPicPr/>
          <p:nvPr/>
        </p:nvPicPr>
        <p:blipFill>
          <a:blip r:embed="rId25"/>
          <a:stretch/>
        </p:blipFill>
        <p:spPr>
          <a:xfrm>
            <a:off x="-2266920" y="1989000"/>
            <a:ext cx="1414440" cy="779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1" descr="5.png"/>
          <p:cNvPicPr/>
          <p:nvPr/>
        </p:nvPicPr>
        <p:blipFill>
          <a:blip r:embed="rId26"/>
          <a:srcRect l="0" t="0" r="78128" b="43752"/>
          <a:stretch/>
        </p:blipFill>
        <p:spPr>
          <a:xfrm>
            <a:off x="-179280" y="-601560"/>
            <a:ext cx="1492200" cy="287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"/>
          <p:cNvPicPr/>
          <p:nvPr/>
        </p:nvPicPr>
        <p:blipFill>
          <a:blip r:embed="rId27"/>
          <a:srcRect l="27302" t="21929" r="26790" b="21848"/>
          <a:stretch/>
        </p:blipFill>
        <p:spPr>
          <a:xfrm>
            <a:off x="2124000" y="692280"/>
            <a:ext cx="19749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3724200" y="18763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光潋滟晴方好，山色空蒙雨亦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4.72222E-006 -2.94798E-006 L 1.32066 -2.94798E-006 E">
                                      <p:cBhvr>
                                        <p:cTn id="30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C 0.05625 0.00555 0.22066 0.02268 0.33715 0.03333 C 0.45382 0.04398 0.58889 0.07755 0.69861 0.06435 C 0.80868 0.05116 0.90781 0.00255 0.99653 -0.0456 C 1.08524 -0.09375 1.18229 -0.1875 1.23108 -0.225 E">
                                      <p:cBhvr>
                                        <p:cTn id="56" dur="8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4.72222E-006 1.48148E-006 C -0.03282 -0.03125 -0.05261 -0.07871 -0.1349 -0.04398 C -0.21737 -0.00926 -0.38143 0.18171 -0.49532 0.20787 C -0.60938 0.23403 -0.68594 0.17083 -0.81789 0.11342 C -0.95018 0.05602 -1.19046 -0.08472 -1.28855 -0.13704 E">
                                      <p:cBhvr>
                                        <p:cTn id="58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1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6763E-006 C 0.00174 0.02428 0.02066 0.09133 0.01094 0.1452 C 0.00122 0.19908 -0.0467 0.26359 -0.05885 0.32278 C -0.07101 0.38197 -0.06128 0.46335 -0.06198 0.50035 E">
                                      <p:cBhvr>
                                        <p:cTn id="61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5E-006 -3.69942E-006 L 1.53073 -3.69942E-006 E">
                                      <p:cBhvr>
                                        <p:cTn id="66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4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7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4000" y="104000"/>
                                    </p:animScale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99820">
                                      <p:cBhvr>
                                        <p:cTn id="7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2.77556E-017 -3.93064E-006 C 0.00868 0.02197 0.04601 0.07792 0.05226 0.13156 C 0.05851 0.18521 0.0349 0.27006 0.03802 0.32185 C 0.04115 0.37365 0.05816 0.40856 0.07135 0.44232 C 0.08455 0.47607 0.10781 0.50706 0.11736 0.52417 E">
                                      <p:cBhvr>
                                        <p:cTn id="8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122 -0.00069 C 0.00695 0.0178 0.029 0.06613 0.03612 0.11075 C 0.04323 0.15538 0.03091 0.22035 0.04358 0.26705 C 0.05625 0.31376 0.09775 0.36509 0.11198 0.39075 E">
                                      <p:cBhvr>
                                        <p:cTn id="10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700"/>
                                  </p:stCondLst>
                                  <p:childTnLst>
                                    <p:animRot by="21600000">
                                      <p:cBhvr>
                                        <p:cTn id="10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02049 0.01226 C 0.03229 0.03977 0.07049 0.10197 0.09167 0.17757 C 0.11285 0.25318 0.10608 0.3852 0.14757 0.46567 C 0.18907 0.54613 0.30052 0.61966 0.3408 0.66012 E">
                                      <p:cBhvr>
                                        <p:cTn id="11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11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2049 0.01227 C 0.0408 0.04861 0.12379 0.15625 0.14271 0.23009 C 0.16164 0.30394 0.12066 0.38773 0.13403 0.45532 C 0.1474 0.52292 0.20469 0.59792 0.22327 0.63542 E">
                                      <p:cBhvr>
                                        <p:cTn id="132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13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017 8.09249E-007 C 0.00417 0.02405 0.03003 0.09087 0.02743 0.14405 C 0.02483 0.19722 -0.01094 0.25757 -0.01545 0.31954 C -0.01997 0.3815 -0.00278 0.47514 0.00052 0.51607 E">
                                      <p:cBhvr>
                                        <p:cTn id="14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21600000">
                                      <p:cBhvr>
                                        <p:cTn id="14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049 0.01226 C 0.0375 0.05202 0.07639 0.17202 0.12222 0.25064 C 0.16806 0.32925 0.23542 0.42081 0.29601 0.48393 C 0.3566 0.54705 0.44601 0.59861 0.48559 0.6289 E">
                                      <p:cBhvr>
                                        <p:cTn id="16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3900"/>
                                  </p:stCondLst>
                                  <p:childTnLst>
                                    <p:animRot by="21600000">
                                      <p:cBhvr>
                                        <p:cTn id="16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9"/>
          <p:cNvSpPr/>
          <p:nvPr/>
        </p:nvSpPr>
        <p:spPr>
          <a:xfrm>
            <a:off x="285840" y="2849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" descr="1.png"/>
          <p:cNvPicPr/>
          <p:nvPr/>
        </p:nvPicPr>
        <p:blipFill>
          <a:blip r:embed="rId1"/>
          <a:stretch/>
        </p:blipFill>
        <p:spPr>
          <a:xfrm>
            <a:off x="-6480" y="420840"/>
            <a:ext cx="9172800" cy="64688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4.png"/>
          <p:cNvPicPr/>
          <p:nvPr/>
        </p:nvPicPr>
        <p:blipFill>
          <a:blip r:embed="rId4"/>
          <a:stretch/>
        </p:blipFill>
        <p:spPr>
          <a:xfrm>
            <a:off x="-3780000" y="260280"/>
            <a:ext cx="1675080" cy="665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" descr="10.png"/>
          <p:cNvPicPr/>
          <p:nvPr/>
        </p:nvPicPr>
        <p:blipFill>
          <a:blip r:embed="rId5"/>
          <a:srcRect l="0" t="58164" r="0" b="0"/>
          <a:stretch/>
        </p:blipFill>
        <p:spPr>
          <a:xfrm>
            <a:off x="0" y="3989520"/>
            <a:ext cx="9144000" cy="28684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6" descr="9.png"/>
          <p:cNvPicPr/>
          <p:nvPr/>
        </p:nvPicPr>
        <p:blipFill>
          <a:blip r:embed="rId6"/>
          <a:srcRect l="72053" t="66211" r="12074" b="16095"/>
          <a:stretch/>
        </p:blipFill>
        <p:spPr>
          <a:xfrm>
            <a:off x="6588000" y="4540320"/>
            <a:ext cx="1452600" cy="1214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4.png"/>
          <p:cNvPicPr/>
          <p:nvPr/>
        </p:nvPicPr>
        <p:blipFill>
          <a:blip r:embed="rId7"/>
          <a:srcRect l="2345" t="10418" r="56253" b="67710"/>
          <a:stretch/>
        </p:blipFill>
        <p:spPr>
          <a:xfrm>
            <a:off x="-3274920" y="836640"/>
            <a:ext cx="3784680" cy="936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17.png"/>
          <p:cNvPicPr/>
          <p:nvPr/>
        </p:nvPicPr>
        <p:blipFill>
          <a:blip r:embed="rId9"/>
          <a:srcRect l="0" t="87504" r="89847" b="3127"/>
          <a:stretch/>
        </p:blipFill>
        <p:spPr>
          <a:xfrm>
            <a:off x="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" descr="6.png"/>
          <p:cNvPicPr/>
          <p:nvPr/>
        </p:nvPicPr>
        <p:blipFill>
          <a:blip r:embed="rId10"/>
          <a:srcRect l="19533" t="82295" r="61721" b="9373"/>
          <a:stretch/>
        </p:blipFill>
        <p:spPr>
          <a:xfrm>
            <a:off x="1071720" y="57578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1" descr="5.png"/>
          <p:cNvPicPr/>
          <p:nvPr/>
        </p:nvPicPr>
        <p:blipFill>
          <a:blip r:embed="rId11"/>
          <a:srcRect l="0" t="59379" r="88285" b="3126"/>
          <a:stretch/>
        </p:blipFill>
        <p:spPr>
          <a:xfrm>
            <a:off x="0" y="5373720"/>
            <a:ext cx="107172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2" descr="5.png"/>
          <p:cNvPicPr/>
          <p:nvPr/>
        </p:nvPicPr>
        <p:blipFill>
          <a:blip r:embed="rId12"/>
          <a:srcRect l="0" t="0" r="78128" b="43752"/>
          <a:stretch/>
        </p:blipFill>
        <p:spPr>
          <a:xfrm rot="21292800">
            <a:off x="-250920" y="-160200"/>
            <a:ext cx="1998720" cy="38559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16.png"/>
          <p:cNvPicPr/>
          <p:nvPr/>
        </p:nvPicPr>
        <p:blipFill>
          <a:blip r:embed="rId13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" descr="6.png"/>
          <p:cNvPicPr/>
          <p:nvPr/>
        </p:nvPicPr>
        <p:blipFill>
          <a:blip r:embed="rId14"/>
          <a:srcRect l="19533" t="82295" r="61721" b="9373"/>
          <a:stretch/>
        </p:blipFill>
        <p:spPr>
          <a:xfrm>
            <a:off x="1357200" y="4786200"/>
            <a:ext cx="1000080" cy="333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6" descr="16.png"/>
          <p:cNvPicPr/>
          <p:nvPr/>
        </p:nvPicPr>
        <p:blipFill>
          <a:blip r:embed="rId15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7" descr="6.png"/>
          <p:cNvPicPr/>
          <p:nvPr/>
        </p:nvPicPr>
        <p:blipFill>
          <a:blip r:embed="rId16"/>
          <a:srcRect l="19533" t="82295" r="61721" b="9373"/>
          <a:stretch/>
        </p:blipFill>
        <p:spPr>
          <a:xfrm>
            <a:off x="3000240" y="5929200"/>
            <a:ext cx="1857600" cy="6192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8" descr="16.png"/>
          <p:cNvPicPr/>
          <p:nvPr/>
        </p:nvPicPr>
        <p:blipFill>
          <a:blip r:embed="rId17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9" descr="6.png"/>
          <p:cNvPicPr/>
          <p:nvPr/>
        </p:nvPicPr>
        <p:blipFill>
          <a:blip r:embed="rId18"/>
          <a:srcRect l="19533" t="82295" r="61721" b="9373"/>
          <a:stretch/>
        </p:blipFill>
        <p:spPr>
          <a:xfrm>
            <a:off x="2214720" y="5214960"/>
            <a:ext cx="117000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0" descr="16.png"/>
          <p:cNvPicPr/>
          <p:nvPr/>
        </p:nvPicPr>
        <p:blipFill>
          <a:blip r:embed="rId19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1" descr="16.png"/>
          <p:cNvPicPr/>
          <p:nvPr/>
        </p:nvPicPr>
        <p:blipFill>
          <a:blip r:embed="rId20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2" descr="17.png"/>
          <p:cNvPicPr/>
          <p:nvPr/>
        </p:nvPicPr>
        <p:blipFill>
          <a:blip r:embed="rId21"/>
          <a:srcRect l="0" t="87504" r="89847" b="3127"/>
          <a:stretch/>
        </p:blipFill>
        <p:spPr>
          <a:xfrm>
            <a:off x="71280" y="4786200"/>
            <a:ext cx="571680" cy="3952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3" descr="6.png"/>
          <p:cNvPicPr/>
          <p:nvPr/>
        </p:nvPicPr>
        <p:blipFill>
          <a:blip r:embed="rId22"/>
          <a:srcRect l="19533" t="82295" r="61721" b="9373"/>
          <a:stretch/>
        </p:blipFill>
        <p:spPr>
          <a:xfrm>
            <a:off x="4857840" y="5143680"/>
            <a:ext cx="1214280" cy="404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" descr="16.png"/>
          <p:cNvPicPr/>
          <p:nvPr/>
        </p:nvPicPr>
        <p:blipFill>
          <a:blip r:embed="rId23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5.png"/>
          <p:cNvPicPr/>
          <p:nvPr/>
        </p:nvPicPr>
        <p:blipFill>
          <a:blip r:embed="rId24"/>
          <a:srcRect l="0" t="0" r="78128" b="43752"/>
          <a:stretch/>
        </p:blipFill>
        <p:spPr>
          <a:xfrm>
            <a:off x="-179280" y="-601560"/>
            <a:ext cx="1492200" cy="2878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1" descr=""/>
          <p:cNvPicPr/>
          <p:nvPr/>
        </p:nvPicPr>
        <p:blipFill>
          <a:blip r:embed="rId25"/>
          <a:srcRect l="25046" t="19758" r="24876" b="27680"/>
          <a:stretch/>
        </p:blipFill>
        <p:spPr>
          <a:xfrm>
            <a:off x="1908000" y="765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5"/>
          <p:cNvSpPr/>
          <p:nvPr/>
        </p:nvSpPr>
        <p:spPr>
          <a:xfrm>
            <a:off x="3724200" y="18763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经典舒同体简"/>
                <a:ea typeface="经典舒同体简"/>
              </a:rPr>
              <a:t>水光潋滟晴方好，山色空蒙雨亦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3"/>
          <p:cNvSpPr/>
          <p:nvPr/>
        </p:nvSpPr>
        <p:spPr>
          <a:xfrm>
            <a:off x="2843280" y="4606920"/>
            <a:ext cx="34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6763E-006 C 0.00174 0.02428 0.02066 0.09133 0.01094 0.1452 C 0.00122 0.19908 -0.0467 0.26359 -0.05885 0.32278 C -0.07101 0.38197 -0.06128 0.46335 -0.06198 0.50035 E">
                                      <p:cBhvr>
                                        <p:cTn id="187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5E-006 -3.69942E-006 L 1.53073 -3.69942E-006 E">
                                      <p:cBhvr>
                                        <p:cTn id="192" dur="10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2.77556E-017 -3.93064E-006 C 0.00868 0.02197 0.04601 0.07792 0.05226 0.13156 C 0.05851 0.18521 0.0349 0.27006 0.03802 0.32185 C 0.04115 0.37365 0.05816 0.40856 0.07135 0.44232 C 0.08455 0.47607 0.10781 0.50706 0.11736 0.52417 E">
                                      <p:cBhvr>
                                        <p:cTn id="206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20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122 -0.00069 C 0.00695 0.0178 0.02813 0.06566 0.03612 0.11075 C 0.0441 0.15584 0.03664 0.22197 0.04879 0.26936 C 0.06094 0.31676 0.09601 0.36902 0.10851 0.39538 E">
                                      <p:cBhvr>
                                        <p:cTn id="220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8700"/>
                                  </p:stCondLst>
                                  <p:childTnLst>
                                    <p:animRot by="21600000">
                                      <p:cBhvr>
                                        <p:cTn id="22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02049 0.01226 C 0.03229 0.03977 0.07049 0.10197 0.09167 0.17757 C 0.11285 0.25318 0.10903 0.38497 0.14757 0.46567 C 0.18611 0.54636 0.28664 0.62151 0.32327 0.66243 E">
                                      <p:cBhvr>
                                        <p:cTn id="235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23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2049 0.01227 C 0.0408 0.04861 0.12379 0.15625 0.14271 0.23009 C 0.16164 0.30394 0.12066 0.38773 0.13403 0.45532 C 0.1474 0.52292 0.20469 0.59792 0.22327 0.63542 E">
                                      <p:cBhvr>
                                        <p:cTn id="250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25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017 8.09249E-007 C 0.00417 0.02405 0.03003 0.09087 0.02743 0.14405 C 0.02483 0.19722 -0.01094 0.25757 -0.01545 0.31954 C -0.01997 0.3815 -0.00278 0.47514 0.00052 0.51607 E">
                                      <p:cBhvr>
                                        <p:cTn id="265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21600000">
                                      <p:cBhvr>
                                        <p:cTn id="26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049 0.01226 C 0.0375 0.05202 0.07639 0.17202 0.12222 0.25064 C 0.16806 0.32925 0.23542 0.42081 0.29601 0.48393 C 0.3566 0.54705 0.44601 0.59861 0.48559 0.6289 E">
                                      <p:cBhvr>
                                        <p:cTn id="280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3900"/>
                                  </p:stCondLst>
                                  <p:childTnLst>
                                    <p:animRot by="21600000">
                                      <p:cBhvr>
                                        <p:cTn id="28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2:51:4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4:27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