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05B-E7C2-43C3-9A47-DC492EBE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5BB1-CEE5-45A9-834D-F8681C55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7CA-C5FC-45AF-8999-0DE811A9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F34-5BC6-49F8-A13E-6AE6E4B5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7FEA-EF62-4CCC-995F-018EFEB3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F7E0-E535-443C-B541-0BE71E78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876D-FBCD-4F7D-828E-D4F0F503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2EAE-EB73-4CEF-B1D4-C573A213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7A5E-45BA-4CCE-BD18-2767F9FB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658C-2E4B-4AD5-A1CF-5C92AD82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EDC9-7CAB-41A4-92F5-69DF96E1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B68-9733-496D-951C-C4BA422D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17D5-F19B-44F2-91CF-8115C319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D641-8FDA-4F67-8DC7-7D603590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CB12-E37D-4B13-A97D-71E1363A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66C0-F22E-402D-A421-8D2A7FA8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AE1E-D0C9-45E9-AE71-A7BFDAF4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26BA6-1BB9-42BA-844B-EED3CC0F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C63AE-FB62-4C1D-8A80-2778F44A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D7C6B-44DD-4897-B871-13B166EF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C4ACD-344E-47FB-BA6C-B41D8F57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349A8-A1E2-49E1-B4B3-DD3BFDB0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D3AB-1369-42AD-B158-3303A6D4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0B919-5E42-49D9-86DC-D9045746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BFDCE-CCE7-45B9-B0BF-CC422E46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D965E-1B6C-4E2C-B104-4E384B65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3715F-19E9-4C42-AFF1-D8C1047C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431D7-B9AE-4EE6-9F42-7B970D6D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5B2F-FCB5-481D-8D85-F91B48EC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95CAA-FCA6-4575-8136-3583F82D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270-3B59-4AE4-9D09-74EC614F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4E8-8BE7-4568-B3FF-023B8860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5C4-1E30-4AE5-8229-464DE89F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975-E56F-44D0-8C53-72B343AD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529-9033-41E4-B725-E9E0AFEC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91B-3EEC-4965-B15C-2F90CC1D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该资料由书利华教育网【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huLiHua.n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2142-112D-4B3A-9953-43438294C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该资料由书利华教育网【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huLiHua.n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588A-2C03-4CF5-870D-54B6C3C75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6670-91CC-4808-9067-569063D1C5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DF12-EA36-410B-85F1-E09FB4D205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2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pptbz.com/" TargetMode="External"/><Relationship Id="rId3" Type="http://schemas.openxmlformats.org/officeDocument/2006/relationships/hyperlink" Target="http://www.pptbz.com/" TargetMode="External"/><Relationship Id="rId4" Type="http://schemas.openxmlformats.org/officeDocument/2006/relationships/hyperlink" Target="http://www.pptbz.com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jiaoy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6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1165320" cy="494172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7"/>
          <p:cNvGrpSpPr/>
          <p:nvPr/>
        </p:nvGrpSpPr>
        <p:grpSpPr>
          <a:xfrm>
            <a:off x="0" y="-27000"/>
            <a:ext cx="9199440" cy="622440"/>
            <a:chOff x="0" y="-27000"/>
            <a:chExt cx="9199440" cy="622440"/>
          </a:xfrm>
        </p:grpSpPr>
        <p:pic>
          <p:nvPicPr>
            <p:cNvPr id="546" name="Picture 8" descr="背景"/>
            <p:cNvPicPr/>
            <p:nvPr/>
          </p:nvPicPr>
          <p:blipFill>
            <a:blip r:embed="rId3"/>
            <a:stretch/>
          </p:blipFill>
          <p:spPr>
            <a:xfrm>
              <a:off x="0" y="-27000"/>
              <a:ext cx="157464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9" descr="背景"/>
            <p:cNvPicPr/>
            <p:nvPr/>
          </p:nvPicPr>
          <p:blipFill>
            <a:blip r:embed="rId4"/>
            <a:stretch/>
          </p:blipFill>
          <p:spPr>
            <a:xfrm>
              <a:off x="1512720" y="-27000"/>
              <a:ext cx="157500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0" descr="背景"/>
            <p:cNvPicPr/>
            <p:nvPr/>
          </p:nvPicPr>
          <p:blipFill>
            <a:blip r:embed="rId5"/>
            <a:stretch/>
          </p:blipFill>
          <p:spPr>
            <a:xfrm>
              <a:off x="3024360" y="-27000"/>
              <a:ext cx="157464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11" descr="背景"/>
            <p:cNvPicPr/>
            <p:nvPr/>
          </p:nvPicPr>
          <p:blipFill>
            <a:blip r:embed="rId6"/>
            <a:stretch/>
          </p:blipFill>
          <p:spPr>
            <a:xfrm>
              <a:off x="4537080" y="-27000"/>
              <a:ext cx="157464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12" descr="背景"/>
            <p:cNvPicPr/>
            <p:nvPr/>
          </p:nvPicPr>
          <p:blipFill>
            <a:blip r:embed="rId7"/>
            <a:stretch/>
          </p:blipFill>
          <p:spPr>
            <a:xfrm>
              <a:off x="6049800" y="-27000"/>
              <a:ext cx="157500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13" descr="背景"/>
            <p:cNvPicPr/>
            <p:nvPr/>
          </p:nvPicPr>
          <p:blipFill>
            <a:blip r:embed="rId8"/>
            <a:stretch/>
          </p:blipFill>
          <p:spPr>
            <a:xfrm>
              <a:off x="7624800" y="-27000"/>
              <a:ext cx="1574640" cy="62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2" name="Picture 14" descr="pao"/>
          <p:cNvPicPr/>
          <p:nvPr/>
        </p:nvPicPr>
        <p:blipFill>
          <a:blip r:embed="rId9"/>
          <a:stretch/>
        </p:blipFill>
        <p:spPr>
          <a:xfrm>
            <a:off x="179280" y="260280"/>
            <a:ext cx="959040" cy="13669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5" descr="pao"/>
          <p:cNvPicPr/>
          <p:nvPr/>
        </p:nvPicPr>
        <p:blipFill>
          <a:blip r:embed="rId10"/>
          <a:stretch/>
        </p:blipFill>
        <p:spPr>
          <a:xfrm>
            <a:off x="7740720" y="260280"/>
            <a:ext cx="958680" cy="1366920"/>
          </a:xfrm>
          <a:prstGeom prst="rect">
            <a:avLst/>
          </a:prstGeom>
          <a:ln w="0">
            <a:noFill/>
          </a:ln>
        </p:spPr>
      </p:pic>
      <p:pic>
        <p:nvPicPr>
          <p:cNvPr id="554" name="Object 16" descr=""/>
          <p:cNvPicPr/>
          <p:nvPr/>
        </p:nvPicPr>
        <p:blipFill>
          <a:blip r:embed="rId11"/>
          <a:stretch/>
        </p:blipFill>
        <p:spPr>
          <a:xfrm>
            <a:off x="7740720" y="1844640"/>
            <a:ext cx="1174680" cy="5013360"/>
          </a:xfrm>
          <a:prstGeom prst="rect">
            <a:avLst/>
          </a:prstGeom>
          <a:ln w="0">
            <a:noFill/>
          </a:ln>
        </p:spPr>
      </p:pic>
      <p:sp>
        <p:nvSpPr>
          <p:cNvPr id="555" name="WordArt 17"/>
          <p:cNvSpPr txBox="1"/>
          <p:nvPr/>
        </p:nvSpPr>
        <p:spPr>
          <a:xfrm rot="5400000">
            <a:off x="6478920" y="389808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华文行楷"/>
              </a:rPr>
              <a:t>齐心协力同育孩子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56" name="WordArt 18"/>
          <p:cNvSpPr txBox="1"/>
          <p:nvPr/>
        </p:nvSpPr>
        <p:spPr>
          <a:xfrm rot="5400000">
            <a:off x="-1117800" y="3933720"/>
            <a:ext cx="3673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华文行楷"/>
              </a:rPr>
              <a:t>与时俱进共创明天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57" name="WordArt 24"/>
          <p:cNvSpPr txBox="1"/>
          <p:nvPr/>
        </p:nvSpPr>
        <p:spPr>
          <a:xfrm>
            <a:off x="1116000" y="549360"/>
            <a:ext cx="669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家校携手 共创明天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558" name="WordArt 25"/>
          <p:cNvSpPr txBox="1"/>
          <p:nvPr/>
        </p:nvSpPr>
        <p:spPr>
          <a:xfrm>
            <a:off x="1547640" y="3716280"/>
            <a:ext cx="576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欢迎您的到来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59" name="明天会更好.mp3" descr=""/>
          <p:cNvPicPr/>
          <p:nvPr/>
        </p:nvPicPr>
        <p:blipFill>
          <a:blip r:embed="rId12"/>
          <a:stretch/>
        </p:blipFill>
        <p:spPr>
          <a:xfrm>
            <a:off x="687708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0110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3"/>
          <p:cNvSpPr/>
          <p:nvPr/>
        </p:nvSpPr>
        <p:spPr>
          <a:xfrm>
            <a:off x="1547640" y="206064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肯定所有学生的努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1547640" y="29242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保持和提高名次不容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1547640" y="378936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进步和退步是暂时的、相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547640" y="479736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不以成绩论英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WordArt 7"/>
          <p:cNvSpPr txBox="1"/>
          <p:nvPr/>
        </p:nvSpPr>
        <p:spPr>
          <a:xfrm>
            <a:off x="684360" y="260280"/>
            <a:ext cx="432108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成绩的背后</a:t>
            </a:r>
            <a:endParaRPr b="1" lang="en-US" sz="4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89" name="TextBox 22"/>
          <p:cNvSpPr/>
          <p:nvPr/>
        </p:nvSpPr>
        <p:spPr>
          <a:xfrm>
            <a:off x="1541520" y="5934240"/>
            <a:ext cx="563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更多精美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下载请点击：</a:t>
            </a:r>
            <a:r>
              <a:rPr b="0" lang="en-US" sz="2400" spc="-1" strike="noStrike" u="sng">
                <a:solidFill>
                  <a:srgbClr val="0066cc"/>
                </a:solidFill>
                <a:uFillTx/>
                <a:latin typeface="Calibri"/>
                <a:hlinkClick r:id="rId2"/>
              </a:rPr>
              <a:t>ppt</a:t>
            </a:r>
            <a:r>
              <a:rPr b="0" lang="zh-CN" sz="2400" spc="-1" strike="noStrike" u="sng">
                <a:solidFill>
                  <a:srgbClr val="0066cc"/>
                </a:solidFill>
                <a:uFillTx/>
                <a:latin typeface="Calibri"/>
                <a:hlinkClick r:id="rId3"/>
              </a:rPr>
              <a:t>宝藏</a:t>
            </a:r>
            <a:r>
              <a:rPr b="0" lang="en-US" sz="2400" spc="-1" strike="noStrike" u="sng">
                <a:solidFill>
                  <a:srgbClr val="0066cc"/>
                </a:solidFill>
                <a:uFillTx/>
                <a:latin typeface="Calibri"/>
                <a:hlinkClick r:id="rId4"/>
              </a:rPr>
              <a:t>_www.pptbz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45840" y="240840"/>
            <a:ext cx="78469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黑体"/>
              </a:rPr>
              <a:t>成绩背后的问题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偏科严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部分同学上课自以为是，不够专心，甚至出现开小差。有些学生作业马虎，作业差错多，选择题乱猜，计算题只写一个答案；老师讲评过的练习部分学生始终没有养成及时订正的习惯，导致已做过的练习屡做屡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放松学习，临考试才匆忙复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10108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考试心理承受能力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能合理安排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基础薄弱，却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少问老师或同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部分同学有抄袭作业的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早恋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生自觉性不足，老师在与不在教室不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黑体"/>
              </a:rPr>
              <a:t>成绩背后的问题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WordArt 2"/>
          <p:cNvSpPr txBox="1"/>
          <p:nvPr/>
        </p:nvSpPr>
        <p:spPr>
          <a:xfrm>
            <a:off x="900000" y="404640"/>
            <a:ext cx="755964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学生现状之忧虑点</a:t>
            </a:r>
            <a:endParaRPr b="1" lang="en-US" sz="1800" spc="-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250920" y="148428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1</a:t>
            </a:r>
            <a:r>
              <a:rPr b="1" lang="zh-CN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、压力过大，心态调整不好，影响了考试成绩，甚至是平时的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2</a:t>
            </a:r>
            <a:r>
              <a:rPr b="1" lang="zh-CN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、存在瘸腿科目，影响整体成绩的提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3</a:t>
            </a:r>
            <a:r>
              <a:rPr b="1" lang="zh-CN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、处于生理危险期而焦躁不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4</a:t>
            </a:r>
            <a:r>
              <a:rPr b="1" lang="zh-CN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、学习态度好，但效率不高，不会合理利用时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5</a:t>
            </a:r>
            <a:r>
              <a:rPr b="1" lang="zh-CN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、成绩相比较稍后的学生自信心不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6</a:t>
            </a:r>
            <a:r>
              <a:rPr b="1" lang="zh-CN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、个别学生缺乏学习动力，学习习惯懒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108000" y="189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透过成绩找问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WordArt 3"/>
          <p:cNvSpPr txBox="1"/>
          <p:nvPr/>
        </p:nvSpPr>
        <p:spPr>
          <a:xfrm>
            <a:off x="1908000" y="1773360"/>
            <a:ext cx="53215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一、上课质量决定成绩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611280" y="31417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有些学生学习没有预习，上课注意力不集中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做小动作、讲闲话睡觉，玩手机，看窗外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不愿意做笔记，课堂效率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WordArt 2"/>
          <p:cNvSpPr txBox="1"/>
          <p:nvPr/>
        </p:nvSpPr>
        <p:spPr>
          <a:xfrm>
            <a:off x="1835280" y="930240"/>
            <a:ext cx="5321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二、效率产生差距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755640" y="1700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学校里，有些学生自觉性比较差，没有充分利用午休时间和自习课时间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755640" y="2997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放学之后，没有及时回家，在外玩，很晚才进入学习状态。做完作业后没有复习预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971640" y="4797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周末、假期时间过于放松。先玩再学习。只玩不学习。前松后紧，不松不紧，效果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108000" y="18900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透过成绩找问题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2"/>
          <p:cNvSpPr txBox="1"/>
          <p:nvPr/>
        </p:nvSpPr>
        <p:spPr>
          <a:xfrm>
            <a:off x="1835280" y="1052640"/>
            <a:ext cx="5321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三、作业质量值得重视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611280" y="1844640"/>
            <a:ext cx="81374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些学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业马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业差错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选择题乱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计算题只有答案没有过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老师讲评过的练习始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没有及时订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习惯，导致已做过的练习屡做屡错。到考试时遇到难题不是去思考，而是乱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业时，懒得翻书，再看一眼，只求任务完成。如果有同学已经完成时，要么拿起来就抄，否则就随便乱写搪塞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0" y="189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透过成绩找问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WordArt 2"/>
          <p:cNvSpPr txBox="1"/>
          <p:nvPr/>
        </p:nvSpPr>
        <p:spPr>
          <a:xfrm>
            <a:off x="1763640" y="1125360"/>
            <a:ext cx="53215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四、家庭配合很关键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684360" y="184464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900000" y="2060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学校教育离不开正确家庭教育的配合，一分耕耘，一分收获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倘若没有良好，正确合理的家庭教育配合，再好的师资和学校都不可能产生好的教育效果。 希望家长主动监督其学习的时间和学习的自觉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1042920" y="465300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教育是双向的，必须家庭和学校积极配合才可能取得成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108000" y="189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透过成绩找问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WordArt 4"/>
          <p:cNvSpPr txBox="1"/>
          <p:nvPr/>
        </p:nvSpPr>
        <p:spPr>
          <a:xfrm>
            <a:off x="1116000" y="404640"/>
            <a:ext cx="6810480" cy="18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四、需要家长配合的工作</a:t>
            </a:r>
            <a:endParaRPr b="1" lang="en-US" sz="4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1692360" y="2781360"/>
            <a:ext cx="6480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校政教处学生管理制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页脚占位符 4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该资料由书利华教育网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820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违反校规校纪，受学校通报批评者每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；受学校警告处分者，每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；受学校记过处分者，每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；受学校记大过处分，每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；受学校留校查看处分者，每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。如果与下面情况发生冲突，不重复扣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学生在校期间，抽查班级内学生上课人数，无故缺一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学生迟到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；早退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，无故旷课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天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（在校期间有事外出需持班主任正规请假条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学生服装、仪表、发型不符合要求的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带零食入校者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学生中有随地吐痰、乱扔废弃物、污言秽语等不文明行为的发现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学生禁止携带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P3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手机、各种球类等与学习无关的用品，发现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，并予以收存，由家长亲自领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1849320" y="299880"/>
            <a:ext cx="639144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  <a:ea typeface="汉仪雪峰体简"/>
            </a:endParaRPr>
          </a:p>
        </p:txBody>
      </p:sp>
      <p:pic>
        <p:nvPicPr>
          <p:cNvPr id="617" name="Picture 4" descr="c5c973515a310ca2d9fbb8f60c_560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页脚占位符 2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该资料由书利华教育网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Shenwu_Huayu_007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3"/>
          <p:cNvSpPr/>
          <p:nvPr/>
        </p:nvSpPr>
        <p:spPr>
          <a:xfrm>
            <a:off x="468360" y="19890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9fbf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首先感谢您在百忙之中抽空来参加此次家长会，关心、帮助、督促贵子女是我们共同的心愿！您的孩子能取得进步，获得全面发展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539640" y="692280"/>
            <a:ext cx="61214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Times New Roman"/>
                <a:ea typeface="黑体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页脚占位符 4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该资料由书利华教育网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5406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684360" y="260280"/>
            <a:ext cx="82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课堂纪律、自习课纪律不好的，发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次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课间或课外活动在班级内、楼道内打闹、喧哗、踢毽、打球等，发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在校内或校外发生打架事件，视情节严重，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—2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学生吸烟、酗酒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；学生放学后不得进入营业性舞厅、网吧，发现一人次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学生不服从学校管理，顶撞教师和学校其他管理人员的，每发现一次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在墙、门、桌椅上乱写乱画，损坏公物，破坏花草树木者，除赔偿经济损失外，每人次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禁止携带棍、棒、管制刀具入校，违者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，并受到校级处分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3375698_094247007326_2"/>
          <p:cNvPicPr/>
          <p:nvPr/>
        </p:nvPicPr>
        <p:blipFill>
          <a:blip r:embed="rId1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468360" y="476280"/>
            <a:ext cx="85345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孩子不愿意家长来参加家长会的原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某些家长在会后控制不住自己的情绪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参加家长会后的紧张、忧郁、愤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时间就不折不扣的倾倒给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家长对孩子的期望太大，看到小孩成绩退步就发火或者长嘘短叹，给懂事的他们带来更沉重的心理负担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让他们更不知所措，更没有信心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304920" y="152280"/>
            <a:ext cx="883908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, Arial, 宋体"/>
              </a:rPr>
              <a:t>                    </a:t>
            </a:r>
            <a:r>
              <a:rPr b="1" lang="zh-CN" sz="4000" spc="-1" strike="noStrike">
                <a:solidFill>
                  <a:srgbClr val="ffe2c5"/>
                </a:solidFill>
                <a:latin typeface="Verdana, Arial, 宋体"/>
                <a:ea typeface="黑体"/>
              </a:rPr>
              <a:t>建议家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, Arial, 宋体"/>
              </a:rPr>
              <a:t>     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开完家长会后，面对孩子似乎和平常一样，但是他会找到一个合适的机会和方式和孩子聊一聊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面对孩子的好成绩不喜形于色，而是真诚地肯定孩子所做的努力，同时理性的评价，提出殷切的希望，给孩子以进步的新起点和动力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面对孩子的问题，需心平气和地与孩子探讨产生的原因，提出意见和方法。允许孩子有去尝试改进的时间，这样孩子就有被信任、被重视、被关爱的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家长心平气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孩子心情愉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这样孩子学习就会更专心，就会更加全力以赴。</a:t>
            </a:r>
            <a:r>
              <a:rPr b="1" lang="zh-CN" sz="2800" spc="-1" strike="noStrike">
                <a:solidFill>
                  <a:srgbClr val="000000"/>
                </a:solidFill>
                <a:latin typeface="Verdana, Arial, 宋体"/>
                <a:ea typeface="黑体"/>
              </a:rPr>
              <a:t>争取保持一种安详、自信的精神状态，就能培养孩子积极、进取的积极心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2268360" y="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请家长配合的事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0" y="765000"/>
            <a:ext cx="8891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协助学校落实学生行为规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（头发、首饰、手机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以身作则，在家庭中培养良好学习    氛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0" y="407664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经常和班主任和科任老师沟通，多了解孩子的在校情况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0" y="5589720"/>
            <a:ext cx="872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多关注孩子周末的生活和学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547640" y="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给家长的几点建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468360" y="98100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最好多关心子女的思想动态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多观察，少评价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;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多沟通，少批评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教做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道理，提高他们的道德修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最好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多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孩子一点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信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要学会欣赏孩子，要善于发现他们的闪光点，及时给予鼓励，以增强他们的自信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最好与班主任和科任老师多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坦诚相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不要偏袒孩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客观平等多沟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每天都要关照他们上学、放学路上的安全问题，节假日的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安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0" y="1111680"/>
            <a:ext cx="8748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不允许去网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歌厅、舞厅等不适宜学生去的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绝对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不允许带手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通讯工具来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不允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别人家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留宿。特别是周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坚决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杜绝抽烟喝酒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不良嗜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零用钱要适度，不宜一次多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周末要注意孩子活动的情况。如无特殊情况，不要请假。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1547640" y="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给家长的几点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76320" y="511812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至少每月和班主任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进行一次信息交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家庭教育和学校教育的和谐配合，会产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+1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≻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324000" y="115920"/>
            <a:ext cx="8820000" cy="59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                     </a:t>
            </a:r>
            <a:r>
              <a:rPr b="1" lang="zh-CN" sz="4400" spc="-1" strike="noStrike">
                <a:solidFill>
                  <a:srgbClr val="cc6600"/>
                </a:solidFill>
                <a:latin typeface="Arial"/>
              </a:rPr>
              <a:t>家长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十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外留宿要问。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回家很晚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带同学住宿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打电话时间长，次数多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受伤回家要问。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超消费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超出友谊要问。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成绩突然下降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穿奇装异服，爱好打扮，沉默寡言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上网的频率过高、时间过长及其上网内容要过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页脚占位符 2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该资料由书利华教育网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3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为了加强老师与家长、家长与家长、家长与学生之间的联系，相互交流一下学生在校及在家的情况，以便老师能够更有针对性地实施教育，能够更好教育自己的子女成人与成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en-US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6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7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8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0" y="574128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DownRibbonSharp"/>
          <p:cNvSpPr/>
          <p:nvPr/>
        </p:nvSpPr>
        <p:spPr>
          <a:xfrm>
            <a:off x="539640" y="260280"/>
            <a:ext cx="8317080" cy="12970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家长会议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395280" y="404640"/>
            <a:ext cx="874872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我们班级从组建至今已有一年多时间，在这期间，我们的同学和老师通过不断地探讨、交流、沟通、磨合，教学已经步入正轨。进入高二，我们加强了对学生的管理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  <a:ea typeface="华文新魏"/>
              </a:rPr>
              <a:t>在卫生常规工作方面：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我们完善了常规卫生工作分工职责，宿舍教室每天都有值日生，让每个成员都清楚地认识到，一个团队要进步，要发展，必须从自身做起，尽到自己的责任和义务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976320" y="2263680"/>
            <a:ext cx="71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育教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www.eeppt.com/moban/jiaoy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395280" y="404640"/>
            <a:ext cx="83534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  <a:ea typeface="华文新魏"/>
              </a:rPr>
              <a:t>        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华文新魏"/>
              </a:rPr>
              <a:t>在学习方面：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我们注重培养学生的自主学习能力，让每个人都能认真自觉地对待学习，以促成良好学习氛围的形成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800" spc="-1" strike="noStrike">
                <a:solidFill>
                  <a:srgbClr val="ff3300"/>
                </a:solidFill>
                <a:latin typeface="Arial"/>
              </a:rPr>
              <a:t>在纪律方面：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我们班每天都有值班干部，以保证同学们有良好的学习环境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9240" y="356760"/>
            <a:ext cx="83818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cc"/>
                </a:solidFill>
                <a:latin typeface="黑体"/>
                <a:ea typeface="黑体"/>
              </a:rPr>
              <a:t>开学以来学生的总体表现</a:t>
            </a:r>
            <a:r>
              <a:rPr b="1" lang="en-US" sz="57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57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04680" y="1771200"/>
            <a:ext cx="770724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优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生们的集体荣誉感较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同学之间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团结互助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较好地遵守校纪班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部分同学学习效率低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别学生</a:t>
            </a:r>
            <a:r>
              <a:rPr b="1" lang="zh-CN" sz="3600" spc="-1" strike="noStrike">
                <a:solidFill>
                  <a:srgbClr val="6f0dab"/>
                </a:solidFill>
                <a:latin typeface="黑体"/>
                <a:ea typeface="黑体"/>
              </a:rPr>
              <a:t>自控能力差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自身要求不高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能认真完成作业，上课迟到、睡觉，玩手机，并多次被发现玩手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WordArt 4"/>
          <p:cNvSpPr txBox="1"/>
          <p:nvPr/>
        </p:nvSpPr>
        <p:spPr>
          <a:xfrm>
            <a:off x="1692360" y="2565360"/>
            <a:ext cx="583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总结过去  展望未来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2340000" y="3933720"/>
            <a:ext cx="547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本学期期中成绩汇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本学期学生基本情况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WordArt 8"/>
          <p:cNvSpPr txBox="1"/>
          <p:nvPr/>
        </p:nvSpPr>
        <p:spPr>
          <a:xfrm>
            <a:off x="179280" y="333360"/>
            <a:ext cx="8713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二、开学以来我们所做的工作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539640" y="1341360"/>
          <a:ext cx="7128000" cy="5913000"/>
        </p:xfrm>
        <a:graphic>
          <a:graphicData uri="http://schemas.openxmlformats.org/drawingml/2006/table">
            <a:tbl>
              <a:tblPr/>
              <a:tblGrid>
                <a:gridCol w="2344680"/>
                <a:gridCol w="1766880"/>
                <a:gridCol w="1440000"/>
                <a:gridCol w="1576440"/>
              </a:tblGrid>
              <a:tr h="72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次期中考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月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级进步名次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3" name="WordArt 1773"/>
          <p:cNvSpPr txBox="1"/>
          <p:nvPr/>
        </p:nvSpPr>
        <p:spPr>
          <a:xfrm>
            <a:off x="755640" y="549360"/>
            <a:ext cx="30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总分进步之星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2:51:19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07:04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