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F77-94AF-4E43-A77D-3B4DE5A6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511-FEF3-4BBD-AFFF-FDC3894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7B8-180A-43BF-950C-67607B95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01C-53AC-4B36-A6C7-918CF39F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92BE-B3C7-49E9-8C88-CD7E521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D72-A052-4E96-9604-8204827A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6D5-84D6-48CD-9C3B-7576760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07F5-47BA-4394-A79F-0EAB544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68C9-FF35-4E6E-AA67-5824C5D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AE29-EEF4-4A53-B3C8-229B99E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B54C-4E5C-494A-A4F4-93CB9A2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CD5-475F-4FD6-9986-25FD1F54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3405-F1C4-4592-A9B1-DE330C9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D8A6-8D90-4ECF-AFBB-342DC4B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484-415B-4989-AC5D-56FD13B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9972-6590-4721-9371-522C68C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6BE-FC49-453A-BD14-828A4931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27152-A803-4BDF-B0C8-4729BBA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11C05-9621-4BF5-9752-AAFA7A4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E20C3-48D1-4EAC-8F66-3094B52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06A1B-7433-46E0-A667-209F837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1BCE8-F1D3-4BD1-9278-F8862B4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847-31E8-46ED-BF6B-804EE61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4681E-C138-4FDF-B575-68FC9435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A16A9-B611-4366-B631-4B3AD37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5667C-1973-4B92-A391-39C0513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C5F18-74A4-4338-998A-98F825A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8CE86-E4EB-4538-9E54-AA8BE613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BADC2-D7C5-4D9B-AE98-6B6776F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729BB-8598-4B78-B653-8AB2EC70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97282-8138-4592-8D1B-D7B2B02D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362DB-7A0F-4BB8-AB6C-62A23F8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822B6-854E-41C2-BFA7-BB602D9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1B1-24DC-40B0-B707-76F6EE92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227EA-71E7-4A2F-9A5F-B05F3163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A67AF-D96C-4F1B-826D-C1DC660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62374-C164-43B9-9AFF-AB18CC3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1FF40-FCFA-4BDA-A997-A17BD63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11F32-9727-42C2-9979-36ECB46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34290-F289-40E6-AF42-51D3E9A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ADCDB-D1D9-458D-B722-9B76982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F5C20-A54D-47D6-B4AE-963B701E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1C008-606C-419C-991C-EEF15BA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BFAA-83FD-4DAB-84D1-A8B85F83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33A-10DE-4DEF-AA24-3807CE94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3CAC-C148-4FEF-B99F-7F537AB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12FD-D1AB-4187-8319-EE6095B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3D18-6092-44B8-BD62-E4A914F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EFC6-B3D8-41EC-A787-49E9BE9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41E72-E630-4401-AF1F-C99276DE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40CF-6716-4656-BA27-27CEC16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8128-5335-43C8-8213-A32B329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8422-2569-4611-9628-5F6EC8A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1865-3948-4636-B9CB-DA05F62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E3CA-D784-47F2-85F6-D3609D20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66B-1051-4925-8FCA-B152AD40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EB60-6601-4660-81C3-7E4A6905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3ED0D-6229-4584-9D1A-B5C9A490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2E5A-6021-4E97-8071-44046CB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5FC9-25C8-403F-BDB9-0C8AF20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BC1B-2DFF-4A03-B0D8-7043C09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3779-B3F8-46B6-B6A4-E8347A5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6756-E6AC-49C0-9C82-9CF6F55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7F7D-B29F-4F47-AE98-AE549D0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6F978-AE7B-4729-9DD4-1D112DB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5EE1-1AF4-426A-9E22-50091F6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C14-3693-494F-AF11-DB0AC0E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CA2A6-009B-49FC-A669-60103E8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CBDF-F930-4F5D-A208-CCE7D461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9CAD-2E90-4B42-A765-FB4185B3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D25-BFD1-4F17-A920-6F68E82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0A-4684-4C4E-87F1-5F4745F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518-9F63-4BED-AD53-3AA0EDE89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AEF-5942-4D23-988F-85A2B3DFC192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3BC-F6C5-4E41-BE99-9E1BB78A59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39" name="Freeform 7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" name="Group 8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41" name="Freeform 9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21FF-A251-46DE-BC57-427B33AF5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7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1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06" name="Group 18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07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0" name="Group 22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11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1B9-0448-4529-9C3C-C84F5C65B0BC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260" name="Freeform 3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4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5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264" name="Freeform 7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8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11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12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4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5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6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7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8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9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7" name="Freeform 20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21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5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6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7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5BC-A9F3-4727-A148-76B08F757B7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94,3,&#24187;&#28783;&#29255; 3" TargetMode="External"/><Relationship Id="rId3" Type="http://schemas.openxmlformats.org/officeDocument/2006/relationships/hyperlink" Target="282,4,&#24187;&#28783;&#29255; 4" TargetMode="External"/><Relationship Id="rId4" Type="http://schemas.openxmlformats.org/officeDocument/2006/relationships/hyperlink" Target="293,2,&#24187;&#28783;&#29255; 2" TargetMode="External"/><Relationship Id="rId5" Type="http://schemas.openxmlformats.org/officeDocument/2006/relationships/hyperlink" Target="273,26,&#24187;&#28783;&#29255; 26" TargetMode="External"/><Relationship Id="rId6" Type="http://schemas.openxmlformats.org/officeDocument/2006/relationships/hyperlink" Target="287,30,1&#12289;&#35838;&#25991;&#20013;&#26377;&#35768;&#22810;&#29983;&#21160;&#20248;&#32654;&#30340;&#35821;&#21477;&#65292;&#36873;&#20960;&#20010;&#20320;&#21916;&#27426;&#30340;&#25220;&#19979;&#26469;&#65292;&#35835;&#19968;&#35835;  2&#12289;&#22312;&#20013;&#22269;&#30340;&#22320;&#22270;&#19978;&#25214;&#21040;&#21335;&#27801;&#32676;&#23707;&#65292;&#20877;&#26681;&#25454;&#35838;&#25991;&#20869;&#23481;&#21521;&#21035;..." TargetMode="External"/><Relationship Id="rId7" Type="http://schemas.openxmlformats.org/officeDocument/2006/relationships/hyperlink" Target="-1,30,&#24187;&#28783;&#29255; 30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69,14,&#24187;&#28783;&#29255; 14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89,28,&#24187;&#28783;&#29255; 28" TargetMode="External"/><Relationship Id="rId2" Type="http://schemas.openxmlformats.org/officeDocument/2006/relationships/hyperlink" Target="289,28,&#24187;&#28783;&#29255; 28" TargetMode="External"/><Relationship Id="rId3" Type="http://schemas.openxmlformats.org/officeDocument/2006/relationships/hyperlink" Target="289,28,&#24187;&#28783;&#29255; 28" TargetMode="External"/><Relationship Id="rId4" Type="http://schemas.openxmlformats.org/officeDocument/2006/relationships/hyperlink" Target="289,28,&#24187;&#28783;&#29255; 28" TargetMode="External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hyperlink" Target="265,18,&#24187;&#28783;&#29255; 18" TargetMode="External"/><Relationship Id="rId3" Type="http://schemas.openxmlformats.org/officeDocument/2006/relationships/hyperlink" Target="267,20,&#24187;&#28783;&#29255; 20" TargetMode="External"/><Relationship Id="rId4" Type="http://schemas.openxmlformats.org/officeDocument/2006/relationships/hyperlink" Target="268,21,&#24187;&#28783;&#29255; 21" TargetMode="External"/><Relationship Id="rId5" Type="http://schemas.openxmlformats.org/officeDocument/2006/relationships/hyperlink" Target="268,21,&#24187;&#28783;&#29255; 21" TargetMode="External"/><Relationship Id="rId6" Type="http://schemas.openxmlformats.org/officeDocument/2006/relationships/hyperlink" Target="268,21,&#24187;&#28783;&#29255; 21" TargetMode="External"/><Relationship Id="rId7" Type="http://schemas.openxmlformats.org/officeDocument/2006/relationships/hyperlink" Target="-1,23,&#24187;&#28783;&#29255; 23" TargetMode="External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68,13,&#24187;&#28783;&#29255; 13" TargetMode="Externa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5,10,&#24187;&#28783;&#29255; 10" TargetMode="External"/><Relationship Id="rId4" Type="http://schemas.openxmlformats.org/officeDocument/2006/relationships/hyperlink" Target="267,12,&#24187;&#28783;&#29255; 12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0" y="6187680"/>
            <a:ext cx="633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2"/>
              </a:rPr>
              <a:t>表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3"/>
              </a:rPr>
              <a:t>学法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4"/>
              </a:rPr>
              <a:t>视频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5"/>
              </a:rPr>
              <a:t>导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6"/>
              </a:rPr>
              <a:t>作业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7"/>
              </a:rPr>
              <a:t>再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2"/>
          <p:cNvPicPr/>
          <p:nvPr/>
        </p:nvPicPr>
        <p:blipFill>
          <a:blip r:embed="rId1"/>
          <a:stretch/>
        </p:blipFill>
        <p:spPr>
          <a:xfrm>
            <a:off x="0" y="-29844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1116000" y="404640"/>
            <a:ext cx="7273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南沙海域海底资源十分丰富，尤其是海底石油和天然气储量巨大。我国地质学家认为，南沙群岛的曾母暗沙盆地是南海石油和天然气开发最好的地区之一，蕴藏量约</a:t>
            </a: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200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亿吨，有</a:t>
            </a: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第二波斯湾</a:t>
            </a: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之称。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826920" y="105264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5" descr="2004106145129943"/>
          <p:cNvPicPr/>
          <p:nvPr/>
        </p:nvPicPr>
        <p:blipFill>
          <a:blip r:embed="rId1"/>
          <a:stretch/>
        </p:blipFill>
        <p:spPr>
          <a:xfrm>
            <a:off x="0" y="-2736720"/>
            <a:ext cx="9474120" cy="95947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8496360" y="6165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623736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eeppt.com/moban/kejian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11280" y="115920"/>
            <a:ext cx="792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海洋动力资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一、海洋热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建立的海洋温差发电站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二、潮汐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蕴藏的理论潮能为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1.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千瓦，年发电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2751.6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三、波浪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波能蕴藏量就有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1.5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千瓦，可利用的部分为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3,00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3,500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万千瓦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7596360" y="6021360"/>
            <a:ext cx="93636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826920" y="333360"/>
            <a:ext cx="7848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天是一片蓝玉，海是一块翡翠。远望水天相连，翡翠和蓝玉合璧，蔚为壮观。俯看清澈明亮的海水，龙虾、燕鱼、海龟五彩缤纷，令人心旷神怡。碧波浩渺的南沙海域，连浪涛都是美的，每一个浪头都托起洁白的浪花，一团团，一簇簇，仿佛是欢迎的人群在挥舞着花束。可以肯定，将来的南沙群岛会是一个充满魅力的旅游胜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7885080" y="6093000"/>
            <a:ext cx="71928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" descr="200548221819580"/>
          <p:cNvPicPr/>
          <p:nvPr/>
        </p:nvPicPr>
        <p:blipFill>
          <a:blip r:embed="rId1"/>
          <a:stretch/>
        </p:blipFill>
        <p:spPr>
          <a:xfrm>
            <a:off x="0" y="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60600" y="333360"/>
            <a:ext cx="13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蓝玉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合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0" name="Picture 6" descr="200548223314738"/>
          <p:cNvPicPr/>
          <p:nvPr/>
        </p:nvPicPr>
        <p:blipFill>
          <a:blip r:embed="rId1"/>
          <a:stretch/>
        </p:blipFill>
        <p:spPr>
          <a:xfrm>
            <a:off x="73080" y="26028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200548223314784"/>
          <p:cNvPicPr/>
          <p:nvPr/>
        </p:nvPicPr>
        <p:blipFill>
          <a:blip r:embed="rId2"/>
          <a:stretch/>
        </p:blipFill>
        <p:spPr>
          <a:xfrm>
            <a:off x="4653000" y="3587760"/>
            <a:ext cx="4167000" cy="3154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200548223314833"/>
          <p:cNvPicPr/>
          <p:nvPr/>
        </p:nvPicPr>
        <p:blipFill>
          <a:blip r:embed="rId3"/>
          <a:stretch/>
        </p:blipFill>
        <p:spPr>
          <a:xfrm>
            <a:off x="74520" y="3591000"/>
            <a:ext cx="4210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200548223315811"/>
          <p:cNvPicPr/>
          <p:nvPr/>
        </p:nvPicPr>
        <p:blipFill>
          <a:blip r:embed="rId4"/>
          <a:stretch/>
        </p:blipFill>
        <p:spPr>
          <a:xfrm>
            <a:off x="4605480" y="260280"/>
            <a:ext cx="4214520" cy="31543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1"/>
          <p:cNvSpPr/>
          <p:nvPr/>
        </p:nvSpPr>
        <p:spPr>
          <a:xfrm>
            <a:off x="8459640" y="6524640"/>
            <a:ext cx="57636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24000" y="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富饶的西沙群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祖国的西沙群岛，是南海上的一群岛屿，是我国的南海前哨。那里风景优美，物产丰富，是个可爱的地方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西沙群岛一带，海水显出种种色彩，有深蓝的，淡青的，绿的，淡绿的，一块块一条条地交错着，五光十色，异常美丽。因为海底有高耸的山崖，有低陷的峡谷，海水有深有浅，从海面看，色彩也就不同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海底的岩石上有各种各样的珊瑚，有的像绽放的花朵，有的像美丽的鹿角。海参到处都是，在海底懒洋洋地蠕动着。大龙虾全身披甲，划过来，划过去，样子挺威武。一群群的鱼在珊瑚丛中穿来穿去。有的身上长着彩色的条纹，有的头上长着一簇红缨。飞虎鱼的周身像插着好些扇子，游动的时候好看极了。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4000" y="18900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鼓鱼的眼睛圆溜溜的，身子上长满刺儿，它鼓起气来，像皮球一样圆。各种各样的鱼，多得数不清。正像人们所说的那样，西沙群岛的海里，一半是水，一半是鱼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海滩上有美丽的贝壳，大的，小的，颜色不一，形状多样，真是千奇百怪，无所不有。最有趣的要算海龟了。每年四五月间，庞大的海龟成群地爬到海滩上来产卵。渔业工人把海龟翻一个身，它就四脚朝天，寸步难移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西沙群岛也是鸟的天下。岛上有一片片茂密的树林，树林里栖息着各种海鸟。遍地都是海鸟蛋。树下堆积着一层厚厚的鸟粪，这是非常宝贵的肥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岛上的英雄儿女日夜守卫着祖国的南大门。随着社会主义建设事业的发展，可爱的西沙群岛，必将变得更加美丽富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101080" y="6453360"/>
            <a:ext cx="576360" cy="261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343640" cy="86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阅读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《</a:t>
            </a:r>
            <a:r>
              <a:rPr b="0" lang="zh-CN" sz="4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富饶的西沙群岛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》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60600" y="333360"/>
            <a:ext cx="13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蓝玉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合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4">
            <a:hlinkClick r:id="" action="ppaction://hlinkshowjump?jump=firstslide"/>
          </p:cNvPr>
          <p:cNvSpPr/>
          <p:nvPr/>
        </p:nvSpPr>
        <p:spPr>
          <a:xfrm>
            <a:off x="8569440" y="6597720"/>
            <a:ext cx="539640" cy="26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南沙群岛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3">
            <a:hlinkClick r:id="" action="ppaction://hlinkshowjump?jump=firstslide"/>
          </p:cNvPr>
          <p:cNvSpPr/>
          <p:nvPr/>
        </p:nvSpPr>
        <p:spPr>
          <a:xfrm>
            <a:off x="8459640" y="6453360"/>
            <a:ext cx="576360" cy="360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476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5280" y="765000"/>
          <a:ext cx="8353440" cy="545472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25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中心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27"/>
          <p:cNvSpPr/>
          <p:nvPr/>
        </p:nvSpPr>
        <p:spPr>
          <a:xfrm>
            <a:off x="2700360" y="0"/>
            <a:ext cx="32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仿宋"/>
              </a:rPr>
              <a:t>我的读书笔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68"/>
          <p:cNvSpPr/>
          <p:nvPr/>
        </p:nvSpPr>
        <p:spPr>
          <a:xfrm>
            <a:off x="4210200" y="712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具体说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6800760" y="692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喜欢的词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71"/>
          <p:cNvSpPr/>
          <p:nvPr/>
        </p:nvSpPr>
        <p:spPr>
          <a:xfrm>
            <a:off x="1028880" y="17924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南沙是祖国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大的蓝色宝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72"/>
          <p:cNvSpPr/>
          <p:nvPr/>
        </p:nvSpPr>
        <p:spPr>
          <a:xfrm>
            <a:off x="539640" y="4076640"/>
            <a:ext cx="2665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南沙也是迷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的世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73"/>
          <p:cNvSpPr/>
          <p:nvPr/>
        </p:nvSpPr>
        <p:spPr>
          <a:xfrm>
            <a:off x="3971880" y="1484280"/>
            <a:ext cx="14000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海洋生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矿产资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海洋动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6894360" y="1627200"/>
            <a:ext cx="1095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难以计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极为丰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用之不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75"/>
          <p:cNvSpPr/>
          <p:nvPr/>
        </p:nvSpPr>
        <p:spPr>
          <a:xfrm>
            <a:off x="4381560" y="4076640"/>
            <a:ext cx="78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天、海（海水、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浪涛、浪头）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77"/>
          <p:cNvSpPr/>
          <p:nvPr/>
        </p:nvSpPr>
        <p:spPr>
          <a:xfrm>
            <a:off x="6620040" y="3846600"/>
            <a:ext cx="170784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蓝玉和璧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水天相接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蔚为壮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五彩缤纷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826920" y="620640"/>
            <a:ext cx="78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6760" y="620640"/>
            <a:ext cx="8836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学法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找出中心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围绕中心句，文章是怎样具体说明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找出喜欢的词句，品读体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317080" y="6308640"/>
            <a:ext cx="576000" cy="360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934920" y="1341360"/>
            <a:ext cx="8209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南沙是巨大的蓝色宝库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143080" y="3684600"/>
            <a:ext cx="38383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3"/>
              </a:rPr>
              <a:t>南沙也是个迷人的世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7885080" y="6165720"/>
            <a:ext cx="647640" cy="358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1042920" y="1197000"/>
            <a:ext cx="720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难以计数的珍贵的海洋生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3"/>
              </a:rPr>
              <a:t>丰富的矿产资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4"/>
              </a:rPr>
              <a:t>用之不竭的海洋动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7885080" y="6165720"/>
            <a:ext cx="647640" cy="28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20041089523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2004108952157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200545215014947"/>
          <p:cNvPicPr/>
          <p:nvPr/>
        </p:nvPicPr>
        <p:blipFill>
          <a:blip r:embed="rId1"/>
          <a:stretch/>
        </p:blipFill>
        <p:spPr>
          <a:xfrm>
            <a:off x="-973080" y="0"/>
            <a:ext cx="10693440" cy="71294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1:59:4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10:54Z</dcterms:modified>
  <cp:revision>1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