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29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baogao/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泡沫材料的某某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龙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流逝逸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24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28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32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36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40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4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53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372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375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378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381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86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390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391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394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397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03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04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09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14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19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24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25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30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35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40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45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46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51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56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461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466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467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472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477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482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487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488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493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498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03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08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09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14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19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24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550800" y="6108840"/>
            <a:ext cx="799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工作报告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31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35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38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40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43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46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5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5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560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563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566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69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573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577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581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583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590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95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9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07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10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13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16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19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23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27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31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33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40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45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49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52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55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7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661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662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665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6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7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7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8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8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8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89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93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97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01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03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10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9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9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01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04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05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07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11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13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17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20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龙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6"/>
          <p:cNvSpPr/>
          <p:nvPr/>
        </p:nvSpPr>
        <p:spPr>
          <a:xfrm>
            <a:off x="662472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流逝逸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72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74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14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18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22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26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28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35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6240" y="6345360"/>
            <a:ext cx="79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工作报告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4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48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51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52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57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59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162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165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168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171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173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176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179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182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187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191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194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97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01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04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07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16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22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26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28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31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33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36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40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44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48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51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54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57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260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263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266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268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7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278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281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284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288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91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9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01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03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08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13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39:01Z</dcterms:modified>
  <cp:revision>2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