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7D-D490-4F48-B75E-C70BC404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CD6-91D4-4E8B-A038-CBFDADB2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DD9-BF16-4AD3-BCF3-F207211E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6AF-CB89-444C-BB20-EE410F2B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612C-E1CB-4D30-B90E-DAE31B8E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4443-214E-4154-91B3-F5B0252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50C6-3E00-497A-9CDF-E1709B05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EFCC-C17B-4871-AD9F-57DFA85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7A66-9D4D-4B34-8DE8-05A8B02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D7B-B425-41E7-9C72-79954F3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CD2-22CB-4D15-8F4F-0A7B4AC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394-25F2-4139-A655-A2FFE41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E415-76D1-4B64-B5C0-5B07EF2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87FE-7413-4C14-935C-3299774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783F-89DD-476D-A86A-380718D6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9F29-D207-4B0C-A12F-BBA177A2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E7D-7173-4F6C-9A2A-4BE53009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EE1-BA72-43CE-AA9B-ED319AF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CC2-3708-461C-82C7-5D2AC2D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B66-B433-47A7-9F3D-4857DF6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870-17DF-4CA9-84CB-5B007D18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7D8-0598-4C3F-9476-E4B97E6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091-8439-4FFA-873C-014A7BF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1A2-B041-4D2D-846D-51F229E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CA5-C9EB-42C0-B01B-1A4FDCABB3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118-B1B5-4A1E-BEF7-D1A070B5FA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C8DB-0B89-4BAC-9C0E-9FD15164A9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C9CF-39DA-4874-996D-E20E771D1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</a:t>
            </a:r>
            <a:r>
              <a:rPr b="0" lang="en-US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for_yang@qq.com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a</cp:lastModifiedBy>
  <dcterms:modified xsi:type="dcterms:W3CDTF">2015-05-20T07:39:17Z</dcterms:modified>
  <cp:revision>8</cp:revision>
  <dc:subject>Disney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