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4792-9A81-4854-AC71-6778B55F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8A0C-6502-4246-A50C-4FC5D278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5CBA-2F36-4E84-AAD3-E3F13AC6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E50-3ABE-48C3-866D-6F868178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2860-44A8-4501-8DD3-E9F97704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3241-1221-405C-A7B6-78359C8F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BE45-FFB7-4307-92BF-60973F16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DEBC-3A0F-41BB-9CD1-9ADD9BD9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EDA-6039-43E0-A375-50AA20C9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CBB8-1C68-4C71-85F5-0E6EABE9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0FF-658B-4223-AE82-7941F0CB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10B-1DF1-4933-9C72-124E0976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3EF2-924B-4918-946C-3512D64F0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鸟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3"/>
          <p:cNvSpPr txBox="1"/>
          <p:nvPr/>
        </p:nvSpPr>
        <p:spPr>
          <a:xfrm>
            <a:off x="2286000" y="1828800"/>
            <a:ext cx="4114800" cy="19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鸟岛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80880" y="6094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苏教版二年级语文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7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4648320"/>
            <a:ext cx="8839440" cy="19047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1430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2004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1814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9343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143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部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2004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建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51814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养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69343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密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1295280" y="22096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b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32004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h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53341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y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70866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m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1"/>
          <p:cNvSpPr/>
          <p:nvPr/>
        </p:nvSpPr>
        <p:spPr>
          <a:xfrm>
            <a:off x="1143000" y="30481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2"/>
          <p:cNvSpPr/>
          <p:nvPr/>
        </p:nvSpPr>
        <p:spPr>
          <a:xfrm>
            <a:off x="1143000" y="21337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3"/>
          <p:cNvSpPr/>
          <p:nvPr/>
        </p:nvSpPr>
        <p:spPr>
          <a:xfrm>
            <a:off x="1066680" y="42670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8" descr="26"/>
          <p:cNvPicPr/>
          <p:nvPr/>
        </p:nvPicPr>
        <p:blipFill>
          <a:blip r:embed="rId2"/>
          <a:stretch/>
        </p:blipFill>
        <p:spPr>
          <a:xfrm>
            <a:off x="1066680" y="685800"/>
            <a:ext cx="1096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4648320"/>
            <a:ext cx="8839440" cy="1904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11430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2004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1814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69343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143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玉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2004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拾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51814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人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69343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朋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1295280" y="22096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y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32004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sh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5257800" y="22096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lè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68580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pé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1143000" y="30481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7"/>
          <p:cNvSpPr/>
          <p:nvPr/>
        </p:nvSpPr>
        <p:spPr>
          <a:xfrm>
            <a:off x="1143000" y="21337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8"/>
          <p:cNvSpPr/>
          <p:nvPr/>
        </p:nvSpPr>
        <p:spPr>
          <a:xfrm>
            <a:off x="1066680" y="42670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1" descr="26"/>
          <p:cNvPicPr/>
          <p:nvPr/>
        </p:nvPicPr>
        <p:blipFill>
          <a:blip r:embed="rId2"/>
          <a:stretch/>
        </p:blipFill>
        <p:spPr>
          <a:xfrm>
            <a:off x="990720" y="762120"/>
            <a:ext cx="1096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5029200"/>
            <a:ext cx="8839440" cy="1523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457200" y="10666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这么美丽的鸟岛在哪儿？请哪位小导游来告诉我们？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80880" y="2438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青海湖西部有一个叫“海西皮”的小岛，那就是闻名中外的青海湖鸟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143000" y="3733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请同学们说说“闻名中外”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143000" y="44197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闻名中外：形容名声大。不仅中国人知道，而且外国人也知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4648320"/>
            <a:ext cx="8839440" cy="1904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533520" y="1143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华文中宋"/>
              </a:rPr>
              <a:t>那么多的小鸟飞到</a:t>
            </a:r>
            <a:r>
              <a:rPr b="0" lang="zh-CN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“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华文中宋"/>
              </a:rPr>
              <a:t>鸟岛</a:t>
            </a:r>
            <a:r>
              <a:rPr b="0" lang="zh-CN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”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华文中宋"/>
              </a:rPr>
              <a:t>上来做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066680" y="2590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每年春天，天气变暖，一群一群的鸟儿就陆续飞来这里筑巢安家，养育后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1295280" y="4267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82296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73152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6858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6324480" y="37339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5867280" y="37339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1752480" y="4267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3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8720" y="4510080"/>
            <a:ext cx="733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4648320"/>
            <a:ext cx="8839440" cy="19047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685800" y="1143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0" lang="zh-CN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春天过去了</a:t>
            </a:r>
            <a:r>
              <a:rPr b="0" lang="en-US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,</a:t>
            </a:r>
            <a:r>
              <a:rPr b="0" lang="zh-CN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夏天鸟岛又是怎样的一番景象呢</a:t>
            </a:r>
            <a:r>
              <a:rPr b="0" lang="en-US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?</a:t>
            </a:r>
            <a:r>
              <a:rPr b="0" lang="zh-CN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请同学们默读第三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828800" y="2743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六月是鸟岛最热闹的时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5238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黑体"/>
              </a:rPr>
              <a:t>从哪儿可以看出六月是鸟岛最热闹的时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7"/>
          <p:cNvSpPr txBox="1"/>
          <p:nvPr/>
        </p:nvSpPr>
        <p:spPr>
          <a:xfrm>
            <a:off x="457200" y="365760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隶书"/>
              </a:rPr>
              <a:t>想一想</a:t>
            </a:r>
            <a:endParaRPr b="1" i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4648320"/>
            <a:ext cx="8839440" cy="1904760"/>
          </a:xfrm>
          <a:prstGeom prst="rect">
            <a:avLst/>
          </a:prstGeom>
          <a:ln w="0">
            <a:noFill/>
          </a:ln>
        </p:spPr>
      </p:pic>
      <p:sp>
        <p:nvSpPr>
          <p:cNvPr id="124" name="WordArt 4"/>
          <p:cNvSpPr txBox="1"/>
          <p:nvPr/>
        </p:nvSpPr>
        <p:spPr>
          <a:xfrm>
            <a:off x="838080" y="9144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学生交流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5" name="Picture 5" descr="11"/>
          <p:cNvPicPr/>
          <p:nvPr/>
        </p:nvPicPr>
        <p:blipFill>
          <a:blip r:embed="rId2"/>
          <a:stretch/>
        </p:blipFill>
        <p:spPr>
          <a:xfrm>
            <a:off x="6629400" y="914400"/>
            <a:ext cx="2000160" cy="9428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685800" y="21337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隶书"/>
              </a:rPr>
              <a:t>鸟儿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429000" y="21337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隶书"/>
              </a:rPr>
              <a:t>鸟窝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6477120" y="213372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隶书"/>
              </a:rPr>
              <a:t>鸟蛋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838080" y="32004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楷体_GB2312"/>
              </a:rPr>
              <a:t>从哪些词语可以看出鸟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09480" y="40384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从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各种各样、聚、鸟的世界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这些词语可以看出鸟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4648320"/>
            <a:ext cx="8839440" cy="1904760"/>
          </a:xfrm>
          <a:prstGeom prst="rect">
            <a:avLst/>
          </a:prstGeom>
          <a:ln w="0">
            <a:noFill/>
          </a:ln>
        </p:spPr>
      </p:pic>
      <p:sp>
        <p:nvSpPr>
          <p:cNvPr id="133" name="WordArt 4"/>
          <p:cNvSpPr txBox="1"/>
          <p:nvPr/>
        </p:nvSpPr>
        <p:spPr>
          <a:xfrm>
            <a:off x="838080" y="9144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学生交流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34" name="Picture 5" descr="11"/>
          <p:cNvPicPr/>
          <p:nvPr/>
        </p:nvPicPr>
        <p:blipFill>
          <a:blip r:embed="rId2"/>
          <a:stretch/>
        </p:blipFill>
        <p:spPr>
          <a:xfrm>
            <a:off x="6629400" y="914400"/>
            <a:ext cx="2000160" cy="9428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685800" y="21337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隶书"/>
              </a:rPr>
              <a:t>鸟儿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429000" y="21337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隶书"/>
              </a:rPr>
              <a:t>鸟窝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477120" y="213372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隶书"/>
              </a:rPr>
              <a:t>鸟蛋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33520" y="30481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中宋"/>
              </a:rPr>
              <a:t>因为鸟多，因而鸟窝也多，从哪儿看出来的？找出文中相关的句子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609480" y="4419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眼望去，密密麻麻的鸟窝一个挨着一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4648320"/>
            <a:ext cx="8839440" cy="1904760"/>
          </a:xfrm>
          <a:prstGeom prst="rect">
            <a:avLst/>
          </a:prstGeom>
          <a:ln w="0">
            <a:noFill/>
          </a:ln>
        </p:spPr>
      </p:pic>
      <p:sp>
        <p:nvSpPr>
          <p:cNvPr id="142" name="WordArt 4"/>
          <p:cNvSpPr txBox="1"/>
          <p:nvPr/>
        </p:nvSpPr>
        <p:spPr>
          <a:xfrm>
            <a:off x="838080" y="9144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学生交流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43" name="Picture 5" descr="11"/>
          <p:cNvPicPr/>
          <p:nvPr/>
        </p:nvPicPr>
        <p:blipFill>
          <a:blip r:embed="rId2"/>
          <a:stretch/>
        </p:blipFill>
        <p:spPr>
          <a:xfrm>
            <a:off x="6629400" y="914400"/>
            <a:ext cx="2000160" cy="942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685800" y="21337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隶书"/>
              </a:rPr>
              <a:t>鸟儿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3429000" y="21337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隶书"/>
              </a:rPr>
              <a:t>鸟窝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477120" y="213372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隶书"/>
              </a:rPr>
              <a:t>鸟蛋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457200" y="2971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因为鸟多，自然鸟蛋也多，从哪儿可以看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990720" y="42670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从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窝里窝外、到处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这两个词语可以看出鸟蛋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5257800" y="5181480"/>
            <a:ext cx="3352680" cy="91440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读本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4648320"/>
            <a:ext cx="8839440" cy="19047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685800" y="1447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这么富有魅力而闻名中外的鸟岛，谁不想去亲眼看一看啊！所以来岛上游玩的人也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581280" y="2514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很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600200" y="3505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请同学们大声朗读第四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4648320"/>
            <a:ext cx="8839440" cy="19047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1"/>
          <p:cNvSpPr/>
          <p:nvPr/>
        </p:nvSpPr>
        <p:spPr>
          <a:xfrm>
            <a:off x="685800" y="1295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这么多来岛上游玩的人，为什么没有一个去碰一下这些幼鸟和鸟蛋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762120" y="2819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没有人去碰幼鸟和鸟蛋，因为大家都知道鸟是人类的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990720" y="40384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同学们用“因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这句话连起来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533520" y="91440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同学们，你们都游览过哪些风景区呢</a:t>
            </a:r>
            <a:r>
              <a:rPr b="1" lang="en-US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简单地说一说吧</a:t>
            </a:r>
            <a:r>
              <a:rPr b="1" lang="en-US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!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914400" y="2590920"/>
            <a:ext cx="7391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今天</a:t>
            </a:r>
            <a:r>
              <a:rPr b="0" lang="en-US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,</a:t>
            </a:r>
            <a:r>
              <a:rPr b="0" lang="zh-CN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老师想和大家一起去“鸟岛”看看</a:t>
            </a:r>
            <a:r>
              <a:rPr b="0" lang="en-US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,</a:t>
            </a:r>
            <a:r>
              <a:rPr b="0" lang="zh-CN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大家准备好了吗</a:t>
            </a:r>
            <a:r>
              <a:rPr b="0" lang="en-US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?</a:t>
            </a:r>
            <a:r>
              <a:rPr b="0" lang="zh-CN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让我们出发吧</a:t>
            </a:r>
            <a:r>
              <a:rPr b="0" lang="en-US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4648320"/>
            <a:ext cx="8839440" cy="1904760"/>
          </a:xfrm>
          <a:prstGeom prst="rect">
            <a:avLst/>
          </a:prstGeom>
          <a:ln w="0">
            <a:noFill/>
          </a:ln>
        </p:spPr>
      </p:pic>
      <p:sp>
        <p:nvSpPr>
          <p:cNvPr id="162" name="WordArt 4"/>
          <p:cNvSpPr txBox="1"/>
          <p:nvPr/>
        </p:nvSpPr>
        <p:spPr>
          <a:xfrm>
            <a:off x="2133720" y="1295280"/>
            <a:ext cx="22096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隶书"/>
              </a:rPr>
              <a:t>课文小结</a:t>
            </a:r>
            <a:endParaRPr b="1" i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63" name="Picture 5" descr="29"/>
          <p:cNvPicPr/>
          <p:nvPr/>
        </p:nvPicPr>
        <p:blipFill>
          <a:blip r:embed="rId2"/>
          <a:stretch/>
        </p:blipFill>
        <p:spPr>
          <a:xfrm>
            <a:off x="762120" y="685800"/>
            <a:ext cx="1309680" cy="12762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762120" y="2286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华文中宋"/>
              </a:rPr>
              <a:t>是啊，鸟岛之所以闻名中外，不仅因为气候适宜，食物资源丰富，还因为来这儿的人们都十分爱护鸟儿。同学们，如果今后有机会去青海湖，一定要去鸟岛看一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4648320"/>
            <a:ext cx="8839440" cy="1904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37"/>
          <p:cNvPicPr/>
          <p:nvPr/>
        </p:nvPicPr>
        <p:blipFill>
          <a:blip r:embed="rId2"/>
          <a:stretch/>
        </p:blipFill>
        <p:spPr>
          <a:xfrm>
            <a:off x="7162920" y="685800"/>
            <a:ext cx="1458720" cy="1600200"/>
          </a:xfrm>
          <a:prstGeom prst="rect">
            <a:avLst/>
          </a:prstGeom>
          <a:ln w="0">
            <a:noFill/>
          </a:ln>
        </p:spPr>
      </p:pic>
      <p:sp>
        <p:nvSpPr>
          <p:cNvPr id="168" name="WordArt 5"/>
          <p:cNvSpPr txBox="1"/>
          <p:nvPr/>
        </p:nvSpPr>
        <p:spPr>
          <a:xfrm>
            <a:off x="762120" y="1143000"/>
            <a:ext cx="1981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4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78000"/>
                    </a:srgbClr>
                  </a:outerShdw>
                </a:effectLst>
                <a:latin typeface="隶书"/>
              </a:rPr>
              <a:t>说一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914400" y="24382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00"/>
                </a:solidFill>
                <a:latin typeface="华文中宋"/>
                <a:ea typeface="华文中宋"/>
              </a:rPr>
              <a:t>今天我们观光考察鸟岛，你想说些什么或做些什么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20061205_aa8371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171" name="WordArt 3"/>
          <p:cNvSpPr txBox="1"/>
          <p:nvPr/>
        </p:nvSpPr>
        <p:spPr>
          <a:xfrm>
            <a:off x="1600200" y="2666880"/>
            <a:ext cx="3733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谢谢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7" descr="鸟5"/>
          <p:cNvPicPr/>
          <p:nvPr/>
        </p:nvPicPr>
        <p:blipFill>
          <a:blip r:embed="rId1"/>
          <a:srcRect l="0" t="11528" r="0" b="0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鸟4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鸟2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鸟3"/>
          <p:cNvPicPr/>
          <p:nvPr/>
        </p:nvPicPr>
        <p:blipFill>
          <a:blip r:embed="rId1"/>
          <a:srcRect l="0" t="0" r="0" b="6352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鸟8"/>
          <p:cNvPicPr/>
          <p:nvPr/>
        </p:nvPicPr>
        <p:blipFill>
          <a:blip r:embed="rId1"/>
          <a:srcRect l="0" t="0" r="0" b="5086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鸟10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鸟11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9:39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0:17Z</dcterms:modified>
  <cp:revision>7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