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279E-B5D1-4658-8FC0-E1E66E3B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39B4-1237-4282-9D5A-EF55478F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4550-E8CF-426B-9CAC-B533F0FD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41A5-BD71-40BC-8F27-F27772B6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FC60-569E-4D83-B994-D296A686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D6C5-4B0E-4AB9-B4CF-D8F8297F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0C3F-6CED-4125-A09E-5F81D309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2A78-1D84-45F1-A38E-AA9852AB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6043-3C3C-415B-86C6-B1245B91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2C7A-94A2-4BC9-9357-624BA591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1E26-98B0-4AD2-BFB1-F6B8A148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1F8D-CCCF-4DF1-9467-82D7454E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AC6A-A457-47EE-94B0-233BD7C3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76BC-ACA1-47EA-BD3B-D7D5CC6F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45C6-3DF4-4E12-8D97-68059AB7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17A3-F707-4C85-ACA9-0E42950F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CC38-68AF-41E2-BD91-AA89BAFA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0900-3CDD-43FD-8369-F958EFE3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758B-6777-459E-84D6-A1A3985B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97A6-7AC1-4496-B4D7-EDD5762A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7DD3-8A70-4A47-B102-A534ADD6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B070-C11A-4511-A498-CF773CDE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A0E9-1176-4DB5-BF65-CB1D471C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08F4-4CDD-4386-B948-82650E9C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4572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4572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9144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4921-139D-4E73-870C-658E416AD7DF}" type="datetime">
              <a:rPr b="0" lang="zh-CN" sz="1200" spc="-1" strike="noStrike">
                <a:solidFill>
                  <a:srgbClr val="59595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小田 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@ www.ilovepp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695B-4382-4DF5-A64B-C6547DCC078C}" type="slidenum">
              <a:rPr b="0" lang="zh-CN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C:\Users\Administrator\Desktop\新建文件夹\1291350070509.jpg"/>
          <p:cNvPicPr/>
          <p:nvPr/>
        </p:nvPicPr>
        <p:blipFill>
          <a:blip r:embed="rId3"/>
          <a:srcRect l="0" t="0" r="0" b="97335"/>
          <a:stretch/>
        </p:blipFill>
        <p:spPr>
          <a:xfrm>
            <a:off x="0" y="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ED46-9646-4199-90C1-A1741708EFF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66D8-B99A-45DD-8903-FE914482DB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www.eeppt.com/beijing/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Administrator\Desktop\新建文件夹\129135007050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4" name="矩形 6"/>
          <p:cNvSpPr/>
          <p:nvPr/>
        </p:nvSpPr>
        <p:spPr>
          <a:xfrm>
            <a:off x="-36360" y="5734080"/>
            <a:ext cx="9144000" cy="90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3804840"/>
            <a:ext cx="83534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点击此处添加标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3840" y="5028840"/>
            <a:ext cx="83563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点击此处添加副标题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52360" y="6381720"/>
            <a:ext cx="566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00Z</dcterms:created>
  <dc:creator>ilovePPT.ORG</dc:creator>
  <dc:description/>
  <cp:keywords>ppt ppt模版 ppt设计</cp:keywords>
  <dc:language>en-US</dc:language>
  <cp:lastModifiedBy>a</cp:lastModifiedBy>
  <dcterms:modified xsi:type="dcterms:W3CDTF">2015-05-20T04:30:00Z</dcterms:modified>
  <cp:revision>2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