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1AA1-4AD0-476A-94DE-DB2609729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2D9F-08F7-4973-AE5A-3A8AA300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DF37-7AE2-4BFB-A4C6-515AABEA6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DACC-E14A-443D-B57E-91DA546C9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0FC2-E01E-4030-8F18-96AC0EE5C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B036E-9935-4F66-A6B0-9119A340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0369-BC72-4AEA-BD78-E77BFA6F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5D50-90C5-4E90-9AD5-6E5DD35E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97B7-971F-435F-8E97-7C614617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D85FD-4D71-491B-B5A2-05317439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FEDC-5C51-4885-82A2-E33E39BF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E8C5-960B-4B66-9F25-DAD2C303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8C8E-C79E-402A-B1F4-855FAA53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16832-8D15-49F1-8FE5-44CE06A7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6FBA-B94C-4300-928A-BDC24E9A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5C54-7BF7-48D8-89F6-61F356ACE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F6C5-3167-4D6C-A25E-7BD7CAFEE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12DB-E879-4EF0-A116-550F80F0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7A7D-0001-4A57-8406-E697B421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4DEA-460A-4FDB-A3AF-D6119B02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FD13-DC16-4CD6-93AE-C0F73233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5AAD-D786-4ECB-B4FC-4CA37C84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D562-72B1-4FF2-8B02-C736952E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8BE6-C561-405A-A591-A6198E4B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7480" y="1676520"/>
            <a:ext cx="2822400" cy="2822400"/>
            <a:chOff x="6297480" y="1676520"/>
            <a:chExt cx="2822400" cy="282240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440"/>
              <a:ext cx="1994040" cy="19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7480" y="6095880"/>
            <a:ext cx="993600" cy="993600"/>
            <a:chOff x="6297480" y="6095880"/>
            <a:chExt cx="993600" cy="99360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60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24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44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1320" y="2895480"/>
            <a:ext cx="2365200" cy="2365200"/>
            <a:chOff x="-841320" y="2895480"/>
            <a:chExt cx="2365200" cy="236520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44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1BF3-BA62-494E-8F1D-148241860ED4}" type="slidenum">
              <a:rPr b="0" lang="zh-CN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8921-C6D0-4A25-8B33-9BDAD0B2D6A4}" type="datetime">
              <a:rPr b="0" lang="zh-CN" sz="1400" spc="-1" strike="noStrike">
                <a:solidFill>
                  <a:srgbClr val="000000"/>
                </a:solidFill>
                <a:latin typeface="Century Gothic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8CEF-46CF-49FD-88C9-542C241A553C}" type="slidenum">
              <a:rPr b="0" lang="zh-CN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85760" y="406440"/>
            <a:ext cx="62928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0" spc="-1" strike="noStrike">
                <a:solidFill>
                  <a:srgbClr val="ebebeb"/>
                </a:solidFill>
                <a:latin typeface="华文隶书"/>
                <a:ea typeface="华文隶书"/>
              </a:rPr>
              <a:t>终极大奖抽奖</a:t>
            </a:r>
            <a:endParaRPr b="0" lang="en-US" sz="60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99" name="图片 2" descr=""/>
          <p:cNvPicPr/>
          <p:nvPr/>
        </p:nvPicPr>
        <p:blipFill>
          <a:blip r:embed="rId2"/>
          <a:stretch/>
        </p:blipFill>
        <p:spPr>
          <a:xfrm>
            <a:off x="1900080" y="3224160"/>
            <a:ext cx="5050080" cy="402120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8" descr=""/>
          <p:cNvPicPr/>
          <p:nvPr/>
        </p:nvPicPr>
        <p:blipFill>
          <a:blip r:embed="rId3"/>
          <a:stretch/>
        </p:blipFill>
        <p:spPr>
          <a:xfrm>
            <a:off x="1479600" y="1324080"/>
            <a:ext cx="525312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 repeatCount="2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1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7037E-006 L 0.00244 -0.29143 E">
                                      <p:cBhvr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200" spc="-1" strike="noStrike">
                <a:solidFill>
                  <a:srgbClr val="ebebeb"/>
                </a:solidFill>
                <a:latin typeface="Century Gothic"/>
              </a:rPr>
              <a:t>使用规范说明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entury Gothic"/>
              </a:rPr>
              <a:t>站点介绍：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entury Gothic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entury Gothic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entury Gothic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entury Gothic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entury Gothic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entury Gothic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entury Gothic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58c1b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58c1b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entury Gothic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entury Gothic"/>
              </a:rPr>
              <a:t>栏目推荐：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 u="sng">
                <a:solidFill>
                  <a:srgbClr val="58c1ba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58c1ba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58c1ba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 u="sng">
                <a:solidFill>
                  <a:srgbClr val="58c1ba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58c1ba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58c1ba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 u="sng">
                <a:solidFill>
                  <a:srgbClr val="58c1ba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58c1ba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58c1ba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 u="sng">
                <a:solidFill>
                  <a:srgbClr val="58c1ba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58c1ba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 u="sng">
                <a:solidFill>
                  <a:srgbClr val="58c1ba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 u="sng">
                <a:solidFill>
                  <a:srgbClr val="58c1ba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entury Gothic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0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pic>
          <p:nvPicPr>
            <p:cNvPr id="10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07:13:18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4:15:27Z</dcterms:modified>
  <cp:revision>15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