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50F-76A8-4293-B464-3A8ED435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1D6-85E5-4A1F-B0B6-5D299DA7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6AB-E89C-4212-BEF8-D1AF7EAA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ACA-5792-485A-BF66-20885D8F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8E32-04A6-4913-BDA7-35BC682A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A576-6947-4AC5-B617-1E90A6EF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09DF-2CDC-4133-B06F-77AE6800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0F90-DACC-4346-B6CE-834BA7C2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5317-A16A-43F7-BBB4-1099C5E0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BB9-6322-46BC-A225-4A3B99C6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DDA3-50FA-4F78-B15C-529CCD58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EEB-F1DE-4AA2-92EA-B17D17F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8639-2D2C-4F95-A0C9-C119F98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7FFB-49AC-4EEE-92C8-86F9B411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5E6-7B93-4B0A-8958-2206038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06B-91C8-4847-829C-E81C3FF0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1845-AAAA-49A4-8FB2-4F26AB8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269-3155-48B9-9FA6-4F08FCEA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C1C-43AB-487E-9499-33E20F28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15E-191C-4772-A77D-0E8EF6A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6AC-302A-49DD-A7B0-592C1C6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CEB-A7F8-41EB-BEFA-DCA4C6E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532-5A3A-434E-881D-0D21C32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A64-09E8-4244-8BAA-43C7054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3AC4-FAC1-4762-B5D3-05259FDBC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24F-7F7F-4B56-979B-E25FF54274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03E-C7DD-4494-A522-F144A2C27F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2"/>
          <p:cNvSpPr/>
          <p:nvPr/>
        </p:nvSpPr>
        <p:spPr>
          <a:xfrm>
            <a:off x="152280" y="1828800"/>
            <a:ext cx="609840" cy="304920"/>
          </a:xfrm>
          <a:prstGeom prst="pentagon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flipV="1">
            <a:off x="152280" y="2133720"/>
            <a:ext cx="609840" cy="304560"/>
          </a:xfrm>
          <a:prstGeom prst="pentagon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7"/>
          <p:cNvGrpSpPr/>
          <p:nvPr/>
        </p:nvGrpSpPr>
        <p:grpSpPr>
          <a:xfrm>
            <a:off x="2438280" y="838080"/>
            <a:ext cx="5715000" cy="5330520"/>
            <a:chOff x="2438280" y="838080"/>
            <a:chExt cx="5715000" cy="5330520"/>
          </a:xfrm>
        </p:grpSpPr>
        <p:sp>
          <p:nvSpPr>
            <p:cNvPr id="85" name="Rectangle 28"/>
            <p:cNvSpPr/>
            <p:nvPr/>
          </p:nvSpPr>
          <p:spPr>
            <a:xfrm rot="13770000">
              <a:off x="5769360" y="342180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ebebe"/>
                </a:gs>
                <a:gs pos="100000">
                  <a:srgbClr val="80808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 rot="20856000">
              <a:off x="3746160" y="2943000"/>
              <a:ext cx="1036800" cy="182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1c1c1"/>
                </a:gs>
                <a:gs pos="100000">
                  <a:srgbClr val="80808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0"/>
            <p:cNvSpPr/>
            <p:nvPr/>
          </p:nvSpPr>
          <p:spPr>
            <a:xfrm rot="18394200">
              <a:off x="5902920" y="178272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9d9d9"/>
                </a:gs>
                <a:gs pos="100000">
                  <a:srgbClr val="80808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1"/>
            <p:cNvGrpSpPr/>
            <p:nvPr/>
          </p:nvGrpSpPr>
          <p:grpSpPr>
            <a:xfrm>
              <a:off x="4710240" y="1820160"/>
              <a:ext cx="1652400" cy="1684080"/>
              <a:chOff x="4710240" y="1820160"/>
              <a:chExt cx="1652400" cy="168408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4710240" y="1820160"/>
                <a:ext cx="1652400" cy="1684080"/>
                <a:chOff x="4710240" y="1820160"/>
                <a:chExt cx="1652400" cy="1684080"/>
              </a:xfrm>
            </p:grpSpPr>
            <p:sp>
              <p:nvSpPr>
                <p:cNvPr id="90" name="Oval 33"/>
                <p:cNvSpPr/>
                <p:nvPr/>
              </p:nvSpPr>
              <p:spPr>
                <a:xfrm>
                  <a:off x="4710240" y="182016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253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4"/>
                <p:cNvSpPr/>
                <p:nvPr/>
              </p:nvSpPr>
              <p:spPr>
                <a:xfrm>
                  <a:off x="4899960" y="1847880"/>
                  <a:ext cx="1274760" cy="635400"/>
                </a:xfrm>
                <a:custGeom>
                  <a:avLst/>
                  <a:gdLst>
                    <a:gd name="textAreaLeft" fmla="*/ 0 w 1274760"/>
                    <a:gd name="textAreaRight" fmla="*/ 1275120 w 1274760"/>
                    <a:gd name="textAreaTop" fmla="*/ 0 h 635400"/>
                    <a:gd name="textAreaBottom" fmla="*/ 635400 h 635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Text Box 35"/>
              <p:cNvSpPr/>
              <p:nvPr/>
            </p:nvSpPr>
            <p:spPr>
              <a:xfrm>
                <a:off x="4816800" y="2552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36"/>
            <p:cNvGrpSpPr/>
            <p:nvPr/>
          </p:nvGrpSpPr>
          <p:grpSpPr>
            <a:xfrm>
              <a:off x="6156000" y="838080"/>
              <a:ext cx="925200" cy="912240"/>
              <a:chOff x="6156000" y="838080"/>
              <a:chExt cx="925200" cy="912240"/>
            </a:xfrm>
          </p:grpSpPr>
          <p:grpSp>
            <p:nvGrpSpPr>
              <p:cNvPr id="94" name="Group 37"/>
              <p:cNvGrpSpPr/>
              <p:nvPr/>
            </p:nvGrpSpPr>
            <p:grpSpPr>
              <a:xfrm>
                <a:off x="6156000" y="838080"/>
                <a:ext cx="896400" cy="912240"/>
                <a:chOff x="6156000" y="838080"/>
                <a:chExt cx="896400" cy="912240"/>
              </a:xfrm>
            </p:grpSpPr>
            <p:sp>
              <p:nvSpPr>
                <p:cNvPr id="95" name="Oval 38"/>
                <p:cNvSpPr/>
                <p:nvPr/>
              </p:nvSpPr>
              <p:spPr>
                <a:xfrm>
                  <a:off x="6156000" y="838080"/>
                  <a:ext cx="89640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2d36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9"/>
                <p:cNvSpPr/>
                <p:nvPr/>
              </p:nvSpPr>
              <p:spPr>
                <a:xfrm>
                  <a:off x="6258960" y="853200"/>
                  <a:ext cx="691560" cy="344160"/>
                </a:xfrm>
                <a:custGeom>
                  <a:avLst/>
                  <a:gdLst>
                    <a:gd name="textAreaLeft" fmla="*/ 0 w 691560"/>
                    <a:gd name="textAreaRight" fmla="*/ 691920 w 691560"/>
                    <a:gd name="textAreaTop" fmla="*/ 0 h 344160"/>
                    <a:gd name="textAreaBottom" fmla="*/ 344520 h 3441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Text Box 40"/>
              <p:cNvSpPr/>
              <p:nvPr/>
            </p:nvSpPr>
            <p:spPr>
              <a:xfrm>
                <a:off x="6171840" y="11887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2438280" y="2171520"/>
              <a:ext cx="1789920" cy="1894680"/>
              <a:chOff x="2438280" y="2171520"/>
              <a:chExt cx="1789920" cy="189468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2438280" y="2171520"/>
                <a:ext cx="1789920" cy="1894680"/>
                <a:chOff x="2438280" y="2171520"/>
                <a:chExt cx="1789920" cy="1894680"/>
              </a:xfrm>
            </p:grpSpPr>
            <p:sp>
              <p:nvSpPr>
                <p:cNvPr id="100" name="Oval 43"/>
                <p:cNvSpPr/>
                <p:nvPr/>
              </p:nvSpPr>
              <p:spPr>
                <a:xfrm>
                  <a:off x="2438280" y="217152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2020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44"/>
                <p:cNvSpPr/>
                <p:nvPr/>
              </p:nvSpPr>
              <p:spPr>
                <a:xfrm>
                  <a:off x="2642760" y="2202840"/>
                  <a:ext cx="1380600" cy="714600"/>
                </a:xfrm>
                <a:custGeom>
                  <a:avLst/>
                  <a:gdLst>
                    <a:gd name="textAreaLeft" fmla="*/ 0 w 1380600"/>
                    <a:gd name="textAreaRight" fmla="*/ 1380960 w 1380600"/>
                    <a:gd name="textAreaTop" fmla="*/ 0 h 714600"/>
                    <a:gd name="textAreaBottom" fmla="*/ 714960 h 7146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Text Box 45"/>
              <p:cNvSpPr/>
              <p:nvPr/>
            </p:nvSpPr>
            <p:spPr>
              <a:xfrm>
                <a:off x="2554920" y="30146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6087600" y="3574800"/>
              <a:ext cx="2065680" cy="2105280"/>
              <a:chOff x="6087600" y="3574800"/>
              <a:chExt cx="2065680" cy="2105280"/>
            </a:xfrm>
          </p:grpSpPr>
          <p:grpSp>
            <p:nvGrpSpPr>
              <p:cNvPr id="104" name="Group 47"/>
              <p:cNvGrpSpPr/>
              <p:nvPr/>
            </p:nvGrpSpPr>
            <p:grpSpPr>
              <a:xfrm>
                <a:off x="6087600" y="3574800"/>
                <a:ext cx="2065680" cy="2105280"/>
                <a:chOff x="6087600" y="3574800"/>
                <a:chExt cx="2065680" cy="2105280"/>
              </a:xfrm>
            </p:grpSpPr>
            <p:sp>
              <p:nvSpPr>
                <p:cNvPr id="105" name="Oval 48"/>
                <p:cNvSpPr/>
                <p:nvPr/>
              </p:nvSpPr>
              <p:spPr>
                <a:xfrm>
                  <a:off x="6087600" y="357480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f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9"/>
                <p:cNvSpPr/>
                <p:nvPr/>
              </p:nvSpPr>
              <p:spPr>
                <a:xfrm>
                  <a:off x="6324840" y="3609720"/>
                  <a:ext cx="1592280" cy="795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Text Box 50"/>
              <p:cNvSpPr/>
              <p:nvPr/>
            </p:nvSpPr>
            <p:spPr>
              <a:xfrm>
                <a:off x="6402960" y="4487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Oval 51"/>
            <p:cNvSpPr/>
            <p:nvPr/>
          </p:nvSpPr>
          <p:spPr>
            <a:xfrm>
              <a:off x="2644560" y="413640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2"/>
            <p:cNvSpPr/>
            <p:nvPr/>
          </p:nvSpPr>
          <p:spPr>
            <a:xfrm>
              <a:off x="4848120" y="350784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53"/>
            <p:cNvSpPr/>
            <p:nvPr/>
          </p:nvSpPr>
          <p:spPr>
            <a:xfrm>
              <a:off x="6431760" y="5680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54"/>
            <p:cNvSpPr/>
            <p:nvPr/>
          </p:nvSpPr>
          <p:spPr>
            <a:xfrm>
              <a:off x="6293880" y="182016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4"/>
          <p:cNvSpPr/>
          <p:nvPr/>
        </p:nvSpPr>
        <p:spPr>
          <a:xfrm>
            <a:off x="2629080" y="2165400"/>
            <a:ext cx="5991120" cy="863640"/>
          </a:xfrm>
          <a:prstGeom prst="rect">
            <a:avLst/>
          </a:prstGeom>
          <a:gradFill rotWithShape="0">
            <a:gsLst>
              <a:gs pos="0">
                <a:srgbClr val="762f00">
                  <a:alpha val="0"/>
                </a:srgbClr>
              </a:gs>
              <a:gs pos="100000">
                <a:srgbClr val="ff6600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5"/>
          <p:cNvSpPr/>
          <p:nvPr/>
        </p:nvSpPr>
        <p:spPr>
          <a:xfrm>
            <a:off x="4468680" y="4863960"/>
            <a:ext cx="4151520" cy="1206720"/>
          </a:xfrm>
          <a:prstGeom prst="rect">
            <a:avLst/>
          </a:prstGeom>
          <a:gradFill rotWithShape="0">
            <a:gsLst>
              <a:gs pos="0">
                <a:srgbClr val="004747">
                  <a:alpha val="0"/>
                </a:srgbClr>
              </a:gs>
              <a:gs pos="100000">
                <a:srgbClr val="009999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6"/>
          <p:cNvSpPr/>
          <p:nvPr/>
        </p:nvSpPr>
        <p:spPr>
          <a:xfrm>
            <a:off x="3127320" y="3029040"/>
            <a:ext cx="5492880" cy="931680"/>
          </a:xfrm>
          <a:prstGeom prst="rect">
            <a:avLst/>
          </a:prstGeom>
          <a:gradFill rotWithShape="0">
            <a:gsLst>
              <a:gs pos="0">
                <a:srgbClr val="5e4700">
                  <a:alpha val="0"/>
                </a:srgbClr>
              </a:gs>
              <a:gs pos="100000">
                <a:srgbClr val="cc9900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7"/>
          <p:cNvSpPr/>
          <p:nvPr/>
        </p:nvSpPr>
        <p:spPr>
          <a:xfrm>
            <a:off x="3728880" y="3960720"/>
            <a:ext cx="4891320" cy="905040"/>
          </a:xfrm>
          <a:prstGeom prst="rect">
            <a:avLst/>
          </a:prstGeom>
          <a:gradFill rotWithShape="0">
            <a:gsLst>
              <a:gs pos="0">
                <a:srgbClr val="5e7618">
                  <a:alpha val="0"/>
                </a:srgbClr>
              </a:gs>
              <a:gs pos="100000">
                <a:srgbClr val="ccff33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8"/>
          <p:cNvSpPr/>
          <p:nvPr/>
        </p:nvSpPr>
        <p:spPr>
          <a:xfrm>
            <a:off x="2960640" y="3029040"/>
            <a:ext cx="56595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9"/>
          <p:cNvSpPr/>
          <p:nvPr/>
        </p:nvSpPr>
        <p:spPr>
          <a:xfrm>
            <a:off x="3728880" y="3960720"/>
            <a:ext cx="489132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0"/>
          <p:cNvSpPr/>
          <p:nvPr/>
        </p:nvSpPr>
        <p:spPr>
          <a:xfrm>
            <a:off x="4317840" y="4865760"/>
            <a:ext cx="43023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1"/>
          <p:cNvSpPr/>
          <p:nvPr/>
        </p:nvSpPr>
        <p:spPr>
          <a:xfrm>
            <a:off x="541440" y="607068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5190840" y="5221440"/>
            <a:ext cx="32806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4607640" y="4167360"/>
            <a:ext cx="314352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4074120" y="3333600"/>
            <a:ext cx="3359880" cy="276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3410280" y="2367000"/>
            <a:ext cx="32788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6"/>
          <p:cNvGrpSpPr/>
          <p:nvPr/>
        </p:nvGrpSpPr>
        <p:grpSpPr>
          <a:xfrm>
            <a:off x="541440" y="1598760"/>
            <a:ext cx="4677840" cy="4475880"/>
            <a:chOff x="541440" y="1598760"/>
            <a:chExt cx="4677840" cy="4475880"/>
          </a:xfrm>
        </p:grpSpPr>
        <p:grpSp>
          <p:nvGrpSpPr>
            <p:cNvPr id="394" name="Group 47"/>
            <p:cNvGrpSpPr/>
            <p:nvPr/>
          </p:nvGrpSpPr>
          <p:grpSpPr>
            <a:xfrm>
              <a:off x="541440" y="4569840"/>
              <a:ext cx="4677840" cy="1504800"/>
              <a:chOff x="541440" y="4569840"/>
              <a:chExt cx="4677840" cy="1504800"/>
            </a:xfrm>
          </p:grpSpPr>
          <p:sp>
            <p:nvSpPr>
              <p:cNvPr id="395" name="Freeform 48"/>
              <p:cNvSpPr/>
              <p:nvPr/>
            </p:nvSpPr>
            <p:spPr>
              <a:xfrm>
                <a:off x="1007280" y="4569840"/>
                <a:ext cx="3601440" cy="540720"/>
              </a:xfrm>
              <a:custGeom>
                <a:avLst/>
                <a:gdLst>
                  <a:gd name="textAreaLeft" fmla="*/ 0 w 3601440"/>
                  <a:gd name="textAreaRight" fmla="*/ 3601800 w 360144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3555f"/>
                  </a:gs>
                  <a:gs pos="50000">
                    <a:srgbClr val="05808f"/>
                  </a:gs>
                  <a:gs pos="100000">
                    <a:srgbClr val="03555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9"/>
              <p:cNvSpPr/>
              <p:nvPr/>
            </p:nvSpPr>
            <p:spPr>
              <a:xfrm>
                <a:off x="541440" y="5105880"/>
                <a:ext cx="4172040" cy="963720"/>
              </a:xfrm>
              <a:custGeom>
                <a:avLst/>
                <a:gdLst>
                  <a:gd name="textAreaLeft" fmla="*/ 0 w 4172040"/>
                  <a:gd name="textAreaRight" fmla="*/ 4172400 w 417204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c5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0"/>
              <p:cNvSpPr/>
              <p:nvPr/>
            </p:nvSpPr>
            <p:spPr>
              <a:xfrm>
                <a:off x="4222080" y="4578840"/>
                <a:ext cx="997200" cy="1495800"/>
              </a:xfrm>
              <a:custGeom>
                <a:avLst/>
                <a:gdLst>
                  <a:gd name="textAreaLeft" fmla="*/ 0 w 997200"/>
                  <a:gd name="textAreaRight" fmla="*/ 997560 w 99720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51"/>
            <p:cNvGrpSpPr/>
            <p:nvPr/>
          </p:nvGrpSpPr>
          <p:grpSpPr>
            <a:xfrm>
              <a:off x="1043280" y="3770640"/>
              <a:ext cx="3480840" cy="1194840"/>
              <a:chOff x="1043280" y="3770640"/>
              <a:chExt cx="3480840" cy="1194840"/>
            </a:xfrm>
          </p:grpSpPr>
          <p:sp>
            <p:nvSpPr>
              <p:cNvPr id="399" name="Freeform 52"/>
              <p:cNvSpPr/>
              <p:nvPr/>
            </p:nvSpPr>
            <p:spPr>
              <a:xfrm>
                <a:off x="1389960" y="3770640"/>
                <a:ext cx="2679840" cy="429120"/>
              </a:xfrm>
              <a:custGeom>
                <a:avLst/>
                <a:gdLst>
                  <a:gd name="textAreaLeft" fmla="*/ 0 w 2679840"/>
                  <a:gd name="textAreaRight" fmla="*/ 2680200 w 267984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385500"/>
                  </a:gs>
                  <a:gs pos="50000">
                    <a:srgbClr val="558000"/>
                  </a:gs>
                  <a:gs pos="100000">
                    <a:srgbClr val="3855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3"/>
              <p:cNvSpPr/>
              <p:nvPr/>
            </p:nvSpPr>
            <p:spPr>
              <a:xfrm>
                <a:off x="1043280" y="4196160"/>
                <a:ext cx="3104640" cy="765360"/>
              </a:xfrm>
              <a:custGeom>
                <a:avLst/>
                <a:gdLst>
                  <a:gd name="textAreaLeft" fmla="*/ 0 w 3104640"/>
                  <a:gd name="textAreaRight" fmla="*/ 3105000 w 310464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416100"/>
                  </a:gs>
                  <a:gs pos="100000">
                    <a:srgbClr val="8cd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4"/>
              <p:cNvSpPr/>
              <p:nvPr/>
            </p:nvSpPr>
            <p:spPr>
              <a:xfrm>
                <a:off x="3782160" y="3777840"/>
                <a:ext cx="741960" cy="11876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1187640"/>
                  <a:gd name="textAreaBottom" fmla="*/ 1188000 h 118764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55"/>
            <p:cNvGrpSpPr/>
            <p:nvPr/>
          </p:nvGrpSpPr>
          <p:grpSpPr>
            <a:xfrm>
              <a:off x="1437840" y="3053160"/>
              <a:ext cx="2570040" cy="1040040"/>
              <a:chOff x="1437840" y="3053160"/>
              <a:chExt cx="2570040" cy="1040040"/>
            </a:xfrm>
          </p:grpSpPr>
          <p:sp>
            <p:nvSpPr>
              <p:cNvPr id="403" name="Freeform 56"/>
              <p:cNvSpPr/>
              <p:nvPr/>
            </p:nvSpPr>
            <p:spPr>
              <a:xfrm>
                <a:off x="3381480" y="305316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7"/>
              <p:cNvSpPr/>
              <p:nvPr/>
            </p:nvSpPr>
            <p:spPr>
              <a:xfrm>
                <a:off x="1772640" y="3053160"/>
                <a:ext cx="1797840" cy="28044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696600"/>
                  </a:gs>
                  <a:gs pos="50000">
                    <a:srgbClr val="9e9a00"/>
                  </a:gs>
                  <a:gs pos="100000">
                    <a:srgbClr val="69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8"/>
              <p:cNvSpPr/>
              <p:nvPr/>
            </p:nvSpPr>
            <p:spPr>
              <a:xfrm>
                <a:off x="1437840" y="3333600"/>
                <a:ext cx="2313360" cy="75312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59"/>
            <p:cNvGrpSpPr/>
            <p:nvPr/>
          </p:nvGrpSpPr>
          <p:grpSpPr>
            <a:xfrm>
              <a:off x="1820520" y="2319480"/>
              <a:ext cx="1678320" cy="914040"/>
              <a:chOff x="1820520" y="2319480"/>
              <a:chExt cx="1678320" cy="914040"/>
            </a:xfrm>
          </p:grpSpPr>
          <p:sp>
            <p:nvSpPr>
              <p:cNvPr id="407" name="Freeform 60"/>
              <p:cNvSpPr/>
              <p:nvPr/>
            </p:nvSpPr>
            <p:spPr>
              <a:xfrm>
                <a:off x="2172960" y="23256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a94323"/>
                  </a:gs>
                  <a:gs pos="50000">
                    <a:srgbClr val="ff6535"/>
                  </a:gs>
                  <a:gs pos="100000">
                    <a:srgbClr val="a9432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1"/>
              <p:cNvSpPr/>
              <p:nvPr/>
            </p:nvSpPr>
            <p:spPr>
              <a:xfrm>
                <a:off x="1820520" y="2468160"/>
                <a:ext cx="1504080" cy="76536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64718"/>
                  </a:gs>
                  <a:gs pos="100000">
                    <a:srgbClr val="ff99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2"/>
              <p:cNvSpPr/>
              <p:nvPr/>
            </p:nvSpPr>
            <p:spPr>
              <a:xfrm>
                <a:off x="2967120" y="2319480"/>
                <a:ext cx="531720" cy="9082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63"/>
            <p:cNvGrpSpPr/>
            <p:nvPr/>
          </p:nvGrpSpPr>
          <p:grpSpPr>
            <a:xfrm>
              <a:off x="2214000" y="1598760"/>
              <a:ext cx="780840" cy="764280"/>
              <a:chOff x="2214000" y="1598760"/>
              <a:chExt cx="780840" cy="764280"/>
            </a:xfrm>
          </p:grpSpPr>
          <p:sp>
            <p:nvSpPr>
              <p:cNvPr id="411" name="Freeform 64"/>
              <p:cNvSpPr/>
              <p:nvPr/>
            </p:nvSpPr>
            <p:spPr>
              <a:xfrm>
                <a:off x="2214000" y="159876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800"/>
                  </a:gs>
                  <a:gs pos="100000">
                    <a:srgbClr val="cc33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5"/>
              <p:cNvSpPr/>
              <p:nvPr/>
            </p:nvSpPr>
            <p:spPr>
              <a:xfrm>
                <a:off x="2553480" y="1598760"/>
                <a:ext cx="441360" cy="76068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760680"/>
                  <a:gd name="textAreaBottom" fmla="*/ 761040 h 76068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Text Box 66"/>
          <p:cNvSpPr/>
          <p:nvPr/>
        </p:nvSpPr>
        <p:spPr>
          <a:xfrm>
            <a:off x="1823400" y="354348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7"/>
          <p:cNvSpPr/>
          <p:nvPr/>
        </p:nvSpPr>
        <p:spPr>
          <a:xfrm>
            <a:off x="2058120" y="256392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8"/>
          <p:cNvSpPr/>
          <p:nvPr/>
        </p:nvSpPr>
        <p:spPr>
          <a:xfrm>
            <a:off x="1276200" y="545004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9"/>
          <p:cNvSpPr/>
          <p:nvPr/>
        </p:nvSpPr>
        <p:spPr>
          <a:xfrm>
            <a:off x="1276200" y="44258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0"/>
          <p:cNvSpPr/>
          <p:nvPr/>
        </p:nvSpPr>
        <p:spPr>
          <a:xfrm>
            <a:off x="491760" y="60753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Gulim"/>
              </a:rPr>
              <a:t>Source : Arthur D.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p_12_1"/>
          <p:cNvPicPr/>
          <p:nvPr/>
        </p:nvPicPr>
        <p:blipFill>
          <a:blip r:embed="rId1"/>
          <a:stretch/>
        </p:blipFill>
        <p:spPr>
          <a:xfrm>
            <a:off x="878040" y="2637000"/>
            <a:ext cx="1618920" cy="161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p_12_1"/>
          <p:cNvPicPr/>
          <p:nvPr/>
        </p:nvPicPr>
        <p:blipFill>
          <a:blip r:embed="rId2"/>
          <a:stretch/>
        </p:blipFill>
        <p:spPr>
          <a:xfrm>
            <a:off x="1295280" y="685800"/>
            <a:ext cx="1619280" cy="161136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6"/>
          <p:cNvSpPr/>
          <p:nvPr/>
        </p:nvSpPr>
        <p:spPr>
          <a:xfrm rot="10800000">
            <a:off x="2789280" y="2974680"/>
            <a:ext cx="2736720" cy="647640"/>
          </a:xfrm>
          <a:custGeom>
            <a:avLst/>
            <a:gdLst>
              <a:gd name="textAreaLeft" fmla="*/ 464400 w 2736720"/>
              <a:gd name="textAreaRight" fmla="*/ 2272320 w 2736720"/>
              <a:gd name="textAreaTop" fmla="*/ 109800 h 647640"/>
              <a:gd name="textAreaBottom" fmla="*/ 5378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3" y="21600"/>
                </a:lnTo>
                <a:lnTo>
                  <a:pt x="1786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6699ff"/>
              </a:gs>
            </a:gsLst>
            <a:lin ang="162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8" descr="하얀"/>
          <p:cNvPicPr/>
          <p:nvPr/>
        </p:nvPicPr>
        <p:blipFill>
          <a:blip r:embed="rId3"/>
          <a:stretch/>
        </p:blipFill>
        <p:spPr>
          <a:xfrm>
            <a:off x="5791320" y="2133720"/>
            <a:ext cx="1800000" cy="188424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</p:pic>
      <p:sp>
        <p:nvSpPr>
          <p:cNvPr id="422" name="Freeform 9"/>
          <p:cNvSpPr/>
          <p:nvPr/>
        </p:nvSpPr>
        <p:spPr>
          <a:xfrm>
            <a:off x="5334120" y="114300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0"/>
          <p:cNvGrpSpPr/>
          <p:nvPr/>
        </p:nvGrpSpPr>
        <p:grpSpPr>
          <a:xfrm>
            <a:off x="4952880" y="4876920"/>
            <a:ext cx="2998440" cy="1601280"/>
            <a:chOff x="4952880" y="4876920"/>
            <a:chExt cx="2998440" cy="1601280"/>
          </a:xfrm>
        </p:grpSpPr>
        <p:grpSp>
          <p:nvGrpSpPr>
            <p:cNvPr id="424" name="Group 11"/>
            <p:cNvGrpSpPr/>
            <p:nvPr/>
          </p:nvGrpSpPr>
          <p:grpSpPr>
            <a:xfrm>
              <a:off x="4952880" y="4876920"/>
              <a:ext cx="2998440" cy="1601280"/>
              <a:chOff x="4952880" y="4876920"/>
              <a:chExt cx="2998440" cy="1601280"/>
            </a:xfrm>
          </p:grpSpPr>
          <p:grpSp>
            <p:nvGrpSpPr>
              <p:cNvPr id="425" name="Group 12"/>
              <p:cNvGrpSpPr/>
              <p:nvPr/>
            </p:nvGrpSpPr>
            <p:grpSpPr>
              <a:xfrm>
                <a:off x="4952880" y="5019840"/>
                <a:ext cx="2998440" cy="1458360"/>
                <a:chOff x="4952880" y="5019840"/>
                <a:chExt cx="2998440" cy="1458360"/>
              </a:xfrm>
            </p:grpSpPr>
            <p:sp>
              <p:nvSpPr>
                <p:cNvPr id="426" name="Oval 13"/>
                <p:cNvSpPr/>
                <p:nvPr/>
              </p:nvSpPr>
              <p:spPr>
                <a:xfrm>
                  <a:off x="4985640" y="5066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a4a"/>
                    </a:gs>
                    <a:gs pos="100000">
                      <a:srgbClr val="0099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14"/>
                <p:cNvSpPr/>
                <p:nvPr/>
              </p:nvSpPr>
              <p:spPr>
                <a:xfrm>
                  <a:off x="4952880" y="5019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8ed2d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Oval 15"/>
              <p:cNvSpPr/>
              <p:nvPr/>
            </p:nvSpPr>
            <p:spPr>
              <a:xfrm>
                <a:off x="5094000" y="4876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16"/>
              <p:cNvSpPr/>
              <p:nvPr/>
            </p:nvSpPr>
            <p:spPr>
              <a:xfrm>
                <a:off x="5128920" y="4884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7f4f5"/>
                  </a:gs>
                  <a:gs pos="100000">
                    <a:srgbClr val="bbe0e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17"/>
              <p:cNvSpPr/>
              <p:nvPr/>
            </p:nvSpPr>
            <p:spPr>
              <a:xfrm>
                <a:off x="5155920" y="4897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48235"/>
                    </a:srgbClr>
                  </a:gs>
                  <a:gs pos="100000">
                    <a:srgbClr val="94b1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18"/>
              <p:cNvSpPr/>
              <p:nvPr/>
            </p:nvSpPr>
            <p:spPr>
              <a:xfrm>
                <a:off x="5287680" y="4924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19"/>
            <p:cNvSpPr/>
            <p:nvPr/>
          </p:nvSpPr>
          <p:spPr>
            <a:xfrm>
              <a:off x="5787720" y="5077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434" name="Freeform 5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7e7e7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6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7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b46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212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9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0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7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AutoShape 18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48" name="Text Box 19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4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450" name="Freeform 5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7e7e7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6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b46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212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1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2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4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5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6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3" name="AutoShape 18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64" name="Text Box 19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4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466" name="AutoShape 5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6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7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999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006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1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2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cc0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4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536e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618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6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7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479" name="Oval 18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9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20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21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Oval 22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3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65797b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5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778e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27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489" name="Oval 28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29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30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31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32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494" name="Oval 33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34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35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36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AutoShape 37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38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39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0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1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42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4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"/>
          <p:cNvGrpSpPr/>
          <p:nvPr/>
        </p:nvGrpSpPr>
        <p:grpSpPr>
          <a:xfrm>
            <a:off x="298440" y="1325160"/>
            <a:ext cx="8595000" cy="4827600"/>
            <a:chOff x="298440" y="1325160"/>
            <a:chExt cx="8595000" cy="4827600"/>
          </a:xfrm>
        </p:grpSpPr>
        <p:sp>
          <p:nvSpPr>
            <p:cNvPr id="511" name="Rectangle 5"/>
            <p:cNvSpPr/>
            <p:nvPr/>
          </p:nvSpPr>
          <p:spPr>
            <a:xfrm rot="3418800">
              <a:off x="1410840" y="21920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1507680" y="25509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7"/>
            <p:cNvSpPr/>
            <p:nvPr/>
          </p:nvSpPr>
          <p:spPr>
            <a:xfrm rot="3418800">
              <a:off x="2846160" y="409716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2943000" y="44560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9"/>
            <p:cNvSpPr/>
            <p:nvPr/>
          </p:nvSpPr>
          <p:spPr>
            <a:xfrm rot="3418800">
              <a:off x="4916160" y="29444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5013000" y="3303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"/>
            <p:cNvSpPr/>
            <p:nvPr/>
          </p:nvSpPr>
          <p:spPr>
            <a:xfrm rot="3418800">
              <a:off x="7265520" y="148392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7362360" y="184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3"/>
            <p:cNvSpPr/>
            <p:nvPr/>
          </p:nvSpPr>
          <p:spPr>
            <a:xfrm>
              <a:off x="2210040" y="3146400"/>
              <a:ext cx="761760" cy="10666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 flipV="1">
              <a:off x="3810240" y="3679560"/>
              <a:ext cx="1066680" cy="609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V="1">
              <a:off x="5943600" y="2295360"/>
              <a:ext cx="129564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2514600" y="17301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7"/>
            <p:cNvSpPr/>
            <p:nvPr/>
          </p:nvSpPr>
          <p:spPr>
            <a:xfrm>
              <a:off x="2432160" y="541944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8"/>
            <p:cNvSpPr/>
            <p:nvPr/>
          </p:nvSpPr>
          <p:spPr>
            <a:xfrm>
              <a:off x="4718160" y="435276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9"/>
            <p:cNvSpPr/>
            <p:nvPr/>
          </p:nvSpPr>
          <p:spPr>
            <a:xfrm>
              <a:off x="6775560" y="2828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0"/>
            <p:cNvSpPr/>
            <p:nvPr/>
          </p:nvSpPr>
          <p:spPr>
            <a:xfrm>
              <a:off x="298440" y="35146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33520" y="63244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表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4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34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1"/>
            <p:cNvSpPr/>
            <p:nvPr/>
          </p:nvSpPr>
          <p:spPr>
            <a:xfrm>
              <a:off x="2363760" y="1723320"/>
              <a:ext cx="673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304128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40" name="Oval 16"/>
            <p:cNvSpPr/>
            <p:nvPr/>
          </p:nvSpPr>
          <p:spPr>
            <a:xfrm>
              <a:off x="4008600" y="1722600"/>
              <a:ext cx="13644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7"/>
            <p:cNvSpPr/>
            <p:nvPr/>
          </p:nvSpPr>
          <p:spPr>
            <a:xfrm>
              <a:off x="4086360" y="1723320"/>
              <a:ext cx="6721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476208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46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3"/>
            <p:cNvSpPr/>
            <p:nvPr/>
          </p:nvSpPr>
          <p:spPr>
            <a:xfrm>
              <a:off x="5830920" y="1723320"/>
              <a:ext cx="88020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671580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38"/>
          <p:cNvGrpSpPr/>
          <p:nvPr/>
        </p:nvGrpSpPr>
        <p:grpSpPr>
          <a:xfrm>
            <a:off x="457200" y="2438280"/>
            <a:ext cx="8457840" cy="1971360"/>
            <a:chOff x="457200" y="2438280"/>
            <a:chExt cx="8457840" cy="1971360"/>
          </a:xfrm>
        </p:grpSpPr>
        <p:pic>
          <p:nvPicPr>
            <p:cNvPr id="561" name="Picture 36" descr="white arrow double headed"/>
            <p:cNvPicPr/>
            <p:nvPr/>
          </p:nvPicPr>
          <p:blipFill>
            <a:blip r:embed="rId2"/>
            <a:stretch/>
          </p:blipFill>
          <p:spPr>
            <a:xfrm flipH="1" rot="10800000">
              <a:off x="457200" y="2437920"/>
              <a:ext cx="8457840" cy="19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37" descr="white arrow double headed"/>
            <p:cNvPicPr/>
            <p:nvPr/>
          </p:nvPicPr>
          <p:blipFill>
            <a:blip r:embed="rId3"/>
            <a:stretch/>
          </p:blipFill>
          <p:spPr>
            <a:xfrm flipH="1" rot="10800000">
              <a:off x="457200" y="2437920"/>
              <a:ext cx="8457840" cy="19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3" name="Picture 27" descr="SharedTask.png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47840" y="1463760"/>
            <a:ext cx="884160" cy="88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564" name="Picture 28" descr="grow_chang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572000" y="1447920"/>
            <a:ext cx="831960" cy="812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565" name="Picture 29" descr="Search Documents.png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5943600" y="1447920"/>
            <a:ext cx="866880" cy="86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566" name="Picture 37" descr="crc-inner-blueDk"/>
          <p:cNvPicPr/>
          <p:nvPr/>
        </p:nvPicPr>
        <p:blipFill>
          <a:blip r:embed="rId7"/>
          <a:stretch/>
        </p:blipFill>
        <p:spPr>
          <a:xfrm>
            <a:off x="5410080" y="4267080"/>
            <a:ext cx="2324160" cy="1649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p_12_1"/>
          <p:cNvPicPr/>
          <p:nvPr/>
        </p:nvPicPr>
        <p:blipFill>
          <a:blip r:embed="rId8"/>
          <a:stretch/>
        </p:blipFill>
        <p:spPr>
          <a:xfrm>
            <a:off x="2209680" y="4114800"/>
            <a:ext cx="16192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reeform 13"/>
          <p:cNvSpPr/>
          <p:nvPr/>
        </p:nvSpPr>
        <p:spPr>
          <a:xfrm>
            <a:off x="576360" y="3751200"/>
            <a:ext cx="4305240" cy="852480"/>
          </a:xfrm>
          <a:custGeom>
            <a:avLst/>
            <a:gdLst>
              <a:gd name="textAreaLeft" fmla="*/ 0 w 4305240"/>
              <a:gd name="textAreaRight" fmla="*/ 4305600 w 43052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1821" h="348">
                <a:moveTo>
                  <a:pt x="0" y="348"/>
                </a:moveTo>
                <a:lnTo>
                  <a:pt x="164" y="0"/>
                </a:lnTo>
                <a:lnTo>
                  <a:pt x="348" y="4"/>
                </a:lnTo>
                <a:lnTo>
                  <a:pt x="508" y="80"/>
                </a:lnTo>
                <a:lnTo>
                  <a:pt x="720" y="92"/>
                </a:lnTo>
                <a:lnTo>
                  <a:pt x="896" y="124"/>
                </a:lnTo>
                <a:lnTo>
                  <a:pt x="1212" y="216"/>
                </a:lnTo>
                <a:lnTo>
                  <a:pt x="1348" y="236"/>
                </a:lnTo>
                <a:cubicBezTo>
                  <a:pt x="1421" y="223"/>
                  <a:pt x="1573" y="142"/>
                  <a:pt x="1652" y="136"/>
                </a:cubicBezTo>
                <a:cubicBezTo>
                  <a:pt x="1731" y="130"/>
                  <a:pt x="1786" y="186"/>
                  <a:pt x="1821" y="199"/>
                </a:cubicBezTo>
              </a:path>
            </a:pathLst>
          </a:custGeom>
          <a:noFill/>
          <a:ln w="381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4"/>
          <p:cNvSpPr/>
          <p:nvPr/>
        </p:nvSpPr>
        <p:spPr>
          <a:xfrm>
            <a:off x="576360" y="3863880"/>
            <a:ext cx="4286160" cy="711360"/>
          </a:xfrm>
          <a:custGeom>
            <a:avLst/>
            <a:gdLst>
              <a:gd name="textAreaLeft" fmla="*/ 0 w 4286160"/>
              <a:gd name="textAreaRight" fmla="*/ 4286520 w 428616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813" h="290">
                <a:moveTo>
                  <a:pt x="0" y="290"/>
                </a:moveTo>
                <a:lnTo>
                  <a:pt x="150" y="0"/>
                </a:lnTo>
                <a:lnTo>
                  <a:pt x="338" y="0"/>
                </a:lnTo>
                <a:lnTo>
                  <a:pt x="508" y="22"/>
                </a:lnTo>
                <a:lnTo>
                  <a:pt x="720" y="34"/>
                </a:lnTo>
                <a:lnTo>
                  <a:pt x="890" y="100"/>
                </a:lnTo>
                <a:lnTo>
                  <a:pt x="998" y="124"/>
                </a:lnTo>
                <a:lnTo>
                  <a:pt x="1221" y="201"/>
                </a:lnTo>
                <a:lnTo>
                  <a:pt x="1365" y="213"/>
                </a:lnTo>
                <a:cubicBezTo>
                  <a:pt x="1435" y="209"/>
                  <a:pt x="1566" y="174"/>
                  <a:pt x="1641" y="177"/>
                </a:cubicBezTo>
                <a:cubicBezTo>
                  <a:pt x="1720" y="171"/>
                  <a:pt x="1777" y="221"/>
                  <a:pt x="1813" y="233"/>
                </a:cubicBezTo>
              </a:path>
            </a:pathLst>
          </a:custGeom>
          <a:noFill/>
          <a:ln w="38160">
            <a:solidFill>
              <a:srgbClr val="c18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576360" y="3957480"/>
            <a:ext cx="4306680" cy="684360"/>
          </a:xfrm>
          <a:custGeom>
            <a:avLst/>
            <a:gdLst>
              <a:gd name="textAreaLeft" fmla="*/ 0 w 4306680"/>
              <a:gd name="textAreaRight" fmla="*/ 4307040 w 4306680"/>
              <a:gd name="textAreaTop" fmla="*/ 0 h 684360"/>
              <a:gd name="textAreaBottom" fmla="*/ 684720 h 684360"/>
            </a:gdLst>
            <a:ahLst/>
            <a:rect l="textAreaLeft" t="textAreaTop" r="textAreaRight" b="textAreaBottom"/>
            <a:pathLst>
              <a:path w="1822" h="279">
                <a:moveTo>
                  <a:pt x="0" y="279"/>
                </a:moveTo>
                <a:lnTo>
                  <a:pt x="178" y="72"/>
                </a:lnTo>
                <a:lnTo>
                  <a:pt x="366" y="28"/>
                </a:lnTo>
                <a:lnTo>
                  <a:pt x="582" y="32"/>
                </a:lnTo>
                <a:lnTo>
                  <a:pt x="742" y="12"/>
                </a:lnTo>
                <a:lnTo>
                  <a:pt x="966" y="76"/>
                </a:lnTo>
                <a:lnTo>
                  <a:pt x="932" y="67"/>
                </a:lnTo>
                <a:lnTo>
                  <a:pt x="1154" y="92"/>
                </a:lnTo>
                <a:lnTo>
                  <a:pt x="1342" y="60"/>
                </a:lnTo>
                <a:lnTo>
                  <a:pt x="1476" y="39"/>
                </a:lnTo>
                <a:cubicBezTo>
                  <a:pt x="1556" y="29"/>
                  <a:pt x="1750" y="8"/>
                  <a:pt x="1822" y="0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52360" y="4754520"/>
            <a:ext cx="5040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7"/>
          <p:cNvSpPr/>
          <p:nvPr/>
        </p:nvSpPr>
        <p:spPr>
          <a:xfrm>
            <a:off x="576360" y="3975120"/>
            <a:ext cx="4325760" cy="1028520"/>
          </a:xfrm>
          <a:custGeom>
            <a:avLst/>
            <a:gdLst>
              <a:gd name="textAreaLeft" fmla="*/ 0 w 4325760"/>
              <a:gd name="textAreaRight" fmla="*/ 4326120 w 432576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830" h="420">
                <a:moveTo>
                  <a:pt x="0" y="268"/>
                </a:moveTo>
                <a:lnTo>
                  <a:pt x="164" y="0"/>
                </a:lnTo>
                <a:lnTo>
                  <a:pt x="384" y="40"/>
                </a:lnTo>
                <a:lnTo>
                  <a:pt x="564" y="92"/>
                </a:lnTo>
                <a:lnTo>
                  <a:pt x="736" y="124"/>
                </a:lnTo>
                <a:cubicBezTo>
                  <a:pt x="823" y="146"/>
                  <a:pt x="994" y="193"/>
                  <a:pt x="1086" y="224"/>
                </a:cubicBezTo>
                <a:lnTo>
                  <a:pt x="1290" y="308"/>
                </a:lnTo>
                <a:lnTo>
                  <a:pt x="1486" y="312"/>
                </a:lnTo>
                <a:lnTo>
                  <a:pt x="1646" y="352"/>
                </a:lnTo>
                <a:lnTo>
                  <a:pt x="1830" y="420"/>
                </a:lnTo>
              </a:path>
            </a:pathLst>
          </a:custGeom>
          <a:noFill/>
          <a:ln w="38160">
            <a:solidFill>
              <a:srgbClr val="bcc4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608040" y="3419640"/>
            <a:ext cx="4255920" cy="1201680"/>
          </a:xfrm>
          <a:custGeom>
            <a:avLst/>
            <a:gdLst>
              <a:gd name="textAreaLeft" fmla="*/ 0 w 4255920"/>
              <a:gd name="textAreaRight" fmla="*/ 4256280 w 425592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1801" h="491">
                <a:moveTo>
                  <a:pt x="0" y="491"/>
                </a:moveTo>
                <a:lnTo>
                  <a:pt x="169" y="173"/>
                </a:lnTo>
                <a:lnTo>
                  <a:pt x="349" y="169"/>
                </a:lnTo>
                <a:lnTo>
                  <a:pt x="501" y="129"/>
                </a:lnTo>
                <a:lnTo>
                  <a:pt x="665" y="117"/>
                </a:lnTo>
                <a:lnTo>
                  <a:pt x="885" y="73"/>
                </a:lnTo>
                <a:lnTo>
                  <a:pt x="1073" y="93"/>
                </a:lnTo>
                <a:lnTo>
                  <a:pt x="1421" y="57"/>
                </a:lnTo>
                <a:lnTo>
                  <a:pt x="1617" y="9"/>
                </a:lnTo>
                <a:cubicBezTo>
                  <a:pt x="1680" y="0"/>
                  <a:pt x="1763" y="3"/>
                  <a:pt x="1801" y="1"/>
                </a:cubicBezTo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9"/>
          <p:cNvSpPr/>
          <p:nvPr/>
        </p:nvSpPr>
        <p:spPr>
          <a:xfrm>
            <a:off x="576360" y="3198960"/>
            <a:ext cx="4306680" cy="1393560"/>
          </a:xfrm>
          <a:custGeom>
            <a:avLst/>
            <a:gdLst>
              <a:gd name="textAreaLeft" fmla="*/ 0 w 4306680"/>
              <a:gd name="textAreaRight" fmla="*/ 4307040 w 4306680"/>
              <a:gd name="textAreaTop" fmla="*/ 0 h 1393560"/>
              <a:gd name="textAreaBottom" fmla="*/ 1393920 h 1393560"/>
            </a:gdLst>
            <a:ahLst/>
            <a:rect l="textAreaLeft" t="textAreaTop" r="textAreaRight" b="textAreaBottom"/>
            <a:pathLst>
              <a:path w="1822" h="569">
                <a:moveTo>
                  <a:pt x="0" y="569"/>
                </a:moveTo>
                <a:lnTo>
                  <a:pt x="109" y="318"/>
                </a:lnTo>
                <a:lnTo>
                  <a:pt x="165" y="201"/>
                </a:lnTo>
                <a:lnTo>
                  <a:pt x="341" y="169"/>
                </a:lnTo>
                <a:lnTo>
                  <a:pt x="497" y="89"/>
                </a:lnTo>
                <a:lnTo>
                  <a:pt x="721" y="24"/>
                </a:lnTo>
                <a:lnTo>
                  <a:pt x="1093" y="0"/>
                </a:lnTo>
                <a:lnTo>
                  <a:pt x="1353" y="48"/>
                </a:lnTo>
                <a:lnTo>
                  <a:pt x="1822" y="41"/>
                </a:lnTo>
              </a:path>
            </a:pathLst>
          </a:custGeom>
          <a:noFill/>
          <a:ln w="38160">
            <a:solidFill>
              <a:srgbClr val="9d9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576360" y="2641680"/>
            <a:ext cx="4305240" cy="2060640"/>
          </a:xfrm>
          <a:custGeom>
            <a:avLst/>
            <a:gdLst>
              <a:gd name="textAreaLeft" fmla="*/ 0 w 4305240"/>
              <a:gd name="textAreaRight" fmla="*/ 4305600 w 430524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1821" h="841">
                <a:moveTo>
                  <a:pt x="0" y="841"/>
                </a:moveTo>
                <a:lnTo>
                  <a:pt x="244" y="637"/>
                </a:lnTo>
                <a:lnTo>
                  <a:pt x="540" y="433"/>
                </a:lnTo>
                <a:lnTo>
                  <a:pt x="716" y="365"/>
                </a:lnTo>
                <a:lnTo>
                  <a:pt x="904" y="421"/>
                </a:lnTo>
                <a:lnTo>
                  <a:pt x="1100" y="393"/>
                </a:lnTo>
                <a:lnTo>
                  <a:pt x="1272" y="301"/>
                </a:lnTo>
                <a:lnTo>
                  <a:pt x="1464" y="281"/>
                </a:lnTo>
                <a:lnTo>
                  <a:pt x="1821" y="0"/>
                </a:ln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251640" y="5307120"/>
            <a:ext cx="5143320" cy="385200"/>
            <a:chOff x="251640" y="5307120"/>
            <a:chExt cx="5143320" cy="385200"/>
          </a:xfrm>
        </p:grpSpPr>
        <p:grpSp>
          <p:nvGrpSpPr>
            <p:cNvPr id="121" name="Group 22"/>
            <p:cNvGrpSpPr/>
            <p:nvPr/>
          </p:nvGrpSpPr>
          <p:grpSpPr>
            <a:xfrm>
              <a:off x="356760" y="5307120"/>
              <a:ext cx="5038200" cy="112320"/>
              <a:chOff x="356760" y="5307120"/>
              <a:chExt cx="5038200" cy="112320"/>
            </a:xfrm>
          </p:grpSpPr>
          <p:sp>
            <p:nvSpPr>
              <p:cNvPr id="122" name="Line 23"/>
              <p:cNvSpPr/>
              <p:nvPr/>
            </p:nvSpPr>
            <p:spPr>
              <a:xfrm>
                <a:off x="356760" y="5419440"/>
                <a:ext cx="503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67824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110772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6"/>
              <p:cNvSpPr/>
              <p:nvPr/>
            </p:nvSpPr>
            <p:spPr>
              <a:xfrm>
                <a:off x="153540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7"/>
              <p:cNvSpPr/>
              <p:nvPr/>
            </p:nvSpPr>
            <p:spPr>
              <a:xfrm>
                <a:off x="196596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>
                <a:off x="239364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9"/>
              <p:cNvSpPr/>
              <p:nvPr/>
            </p:nvSpPr>
            <p:spPr>
              <a:xfrm>
                <a:off x="282384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0"/>
              <p:cNvSpPr/>
              <p:nvPr/>
            </p:nvSpPr>
            <p:spPr>
              <a:xfrm>
                <a:off x="325152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>
                <a:off x="368136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2"/>
              <p:cNvSpPr/>
              <p:nvPr/>
            </p:nvSpPr>
            <p:spPr>
              <a:xfrm>
                <a:off x="410940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3"/>
              <p:cNvSpPr/>
              <p:nvPr/>
            </p:nvSpPr>
            <p:spPr>
              <a:xfrm>
                <a:off x="453708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>
                <a:off x="4966920" y="5307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35"/>
            <p:cNvSpPr/>
            <p:nvPr/>
          </p:nvSpPr>
          <p:spPr>
            <a:xfrm>
              <a:off x="251640" y="53852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6"/>
            <p:cNvSpPr/>
            <p:nvPr/>
          </p:nvSpPr>
          <p:spPr>
            <a:xfrm>
              <a:off x="1334160" y="5385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2191680" y="5385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8"/>
            <p:cNvSpPr/>
            <p:nvPr/>
          </p:nvSpPr>
          <p:spPr>
            <a:xfrm>
              <a:off x="3037680" y="5385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895920" y="5385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0"/>
            <p:cNvSpPr/>
            <p:nvPr/>
          </p:nvSpPr>
          <p:spPr>
            <a:xfrm>
              <a:off x="4646160" y="538524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41"/>
          <p:cNvSpPr/>
          <p:nvPr/>
        </p:nvSpPr>
        <p:spPr>
          <a:xfrm>
            <a:off x="5294520" y="5197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5186880" y="4530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5186880" y="3863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4"/>
          <p:cNvSpPr/>
          <p:nvPr/>
        </p:nvSpPr>
        <p:spPr>
          <a:xfrm>
            <a:off x="5186880" y="31989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5186880" y="252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5186880" y="1863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5186880" y="1197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8"/>
          <p:cNvSpPr/>
          <p:nvPr/>
        </p:nvSpPr>
        <p:spPr>
          <a:xfrm>
            <a:off x="576360" y="3975120"/>
            <a:ext cx="4389480" cy="138096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1857" h="564">
                <a:moveTo>
                  <a:pt x="0" y="268"/>
                </a:moveTo>
                <a:lnTo>
                  <a:pt x="164" y="0"/>
                </a:lnTo>
                <a:lnTo>
                  <a:pt x="384" y="40"/>
                </a:lnTo>
                <a:lnTo>
                  <a:pt x="564" y="92"/>
                </a:lnTo>
                <a:lnTo>
                  <a:pt x="736" y="124"/>
                </a:lnTo>
                <a:cubicBezTo>
                  <a:pt x="819" y="151"/>
                  <a:pt x="971" y="211"/>
                  <a:pt x="1064" y="252"/>
                </a:cubicBezTo>
                <a:lnTo>
                  <a:pt x="1292" y="372"/>
                </a:lnTo>
                <a:lnTo>
                  <a:pt x="1476" y="420"/>
                </a:lnTo>
                <a:lnTo>
                  <a:pt x="1648" y="420"/>
                </a:lnTo>
                <a:lnTo>
                  <a:pt x="1857" y="564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49"/>
          <p:cNvSpPr/>
          <p:nvPr/>
        </p:nvSpPr>
        <p:spPr>
          <a:xfrm>
            <a:off x="576360" y="1530360"/>
            <a:ext cx="4282920" cy="318456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3184560"/>
              <a:gd name="textAreaBottom" fmla="*/ 3184920 h 3184560"/>
            </a:gdLst>
            <a:ahLst/>
            <a:rect l="textAreaLeft" t="textAreaTop" r="textAreaRight" b="textAreaBottom"/>
            <a:pathLst>
              <a:path w="1812" h="1300">
                <a:moveTo>
                  <a:pt x="0" y="1300"/>
                </a:moveTo>
                <a:lnTo>
                  <a:pt x="236" y="1204"/>
                </a:lnTo>
                <a:lnTo>
                  <a:pt x="516" y="1024"/>
                </a:lnTo>
                <a:lnTo>
                  <a:pt x="804" y="864"/>
                </a:lnTo>
                <a:lnTo>
                  <a:pt x="912" y="820"/>
                </a:lnTo>
                <a:lnTo>
                  <a:pt x="1048" y="660"/>
                </a:lnTo>
                <a:lnTo>
                  <a:pt x="1264" y="404"/>
                </a:lnTo>
                <a:cubicBezTo>
                  <a:pt x="1264" y="404"/>
                  <a:pt x="1812" y="0"/>
                  <a:pt x="1812" y="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0"/>
          <p:cNvSpPr/>
          <p:nvPr/>
        </p:nvSpPr>
        <p:spPr>
          <a:xfrm>
            <a:off x="576360" y="3863880"/>
            <a:ext cx="4333680" cy="825480"/>
          </a:xfrm>
          <a:custGeom>
            <a:avLst/>
            <a:gdLst>
              <a:gd name="textAreaLeft" fmla="*/ 0 w 4333680"/>
              <a:gd name="textAreaRight" fmla="*/ 4334040 w 433368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833" h="337">
                <a:moveTo>
                  <a:pt x="0" y="337"/>
                </a:moveTo>
                <a:lnTo>
                  <a:pt x="184" y="161"/>
                </a:lnTo>
                <a:lnTo>
                  <a:pt x="372" y="113"/>
                </a:lnTo>
                <a:lnTo>
                  <a:pt x="556" y="141"/>
                </a:lnTo>
                <a:lnTo>
                  <a:pt x="744" y="89"/>
                </a:lnTo>
                <a:lnTo>
                  <a:pt x="932" y="125"/>
                </a:lnTo>
                <a:lnTo>
                  <a:pt x="1132" y="81"/>
                </a:lnTo>
                <a:lnTo>
                  <a:pt x="1340" y="77"/>
                </a:lnTo>
                <a:lnTo>
                  <a:pt x="1476" y="97"/>
                </a:lnTo>
                <a:cubicBezTo>
                  <a:pt x="1558" y="84"/>
                  <a:pt x="1759" y="20"/>
                  <a:pt x="1833" y="0"/>
                </a:cubicBezTo>
              </a:path>
            </a:pathLst>
          </a:custGeom>
          <a:noFill/>
          <a:ln w="3816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1"/>
          <p:cNvSpPr/>
          <p:nvPr/>
        </p:nvSpPr>
        <p:spPr>
          <a:xfrm>
            <a:off x="576360" y="2529000"/>
            <a:ext cx="4314600" cy="2154240"/>
          </a:xfrm>
          <a:custGeom>
            <a:avLst/>
            <a:gdLst>
              <a:gd name="textAreaLeft" fmla="*/ 0 w 4314600"/>
              <a:gd name="textAreaRight" fmla="*/ 4314960 w 4314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1825" h="879">
                <a:moveTo>
                  <a:pt x="0" y="879"/>
                </a:moveTo>
                <a:lnTo>
                  <a:pt x="224" y="699"/>
                </a:lnTo>
                <a:lnTo>
                  <a:pt x="396" y="595"/>
                </a:lnTo>
                <a:lnTo>
                  <a:pt x="544" y="479"/>
                </a:lnTo>
                <a:lnTo>
                  <a:pt x="924" y="471"/>
                </a:lnTo>
                <a:lnTo>
                  <a:pt x="1112" y="383"/>
                </a:lnTo>
                <a:lnTo>
                  <a:pt x="1272" y="255"/>
                </a:lnTo>
                <a:lnTo>
                  <a:pt x="1464" y="155"/>
                </a:lnTo>
                <a:cubicBezTo>
                  <a:pt x="1529" y="132"/>
                  <a:pt x="1600" y="141"/>
                  <a:pt x="1660" y="115"/>
                </a:cubicBezTo>
                <a:cubicBezTo>
                  <a:pt x="1720" y="89"/>
                  <a:pt x="1791" y="24"/>
                  <a:pt x="182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2"/>
          <p:cNvSpPr/>
          <p:nvPr/>
        </p:nvSpPr>
        <p:spPr>
          <a:xfrm>
            <a:off x="468360" y="4530600"/>
            <a:ext cx="214200" cy="2239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93"/>
          <p:cNvGrpSpPr/>
          <p:nvPr/>
        </p:nvGrpSpPr>
        <p:grpSpPr>
          <a:xfrm>
            <a:off x="5727600" y="2565360"/>
            <a:ext cx="3416400" cy="1616760"/>
            <a:chOff x="5727600" y="2565360"/>
            <a:chExt cx="3416400" cy="1616760"/>
          </a:xfrm>
        </p:grpSpPr>
        <p:sp>
          <p:nvSpPr>
            <p:cNvPr id="153" name="Text Box 94"/>
            <p:cNvSpPr/>
            <p:nvPr/>
          </p:nvSpPr>
          <p:spPr>
            <a:xfrm>
              <a:off x="5727600" y="2565360"/>
              <a:ext cx="341640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hones, not be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ousehold spending in OECD countries*, 1990-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munications              Restaura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ealth                                 and hot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ducation                          Alcohol, tobac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ater, electricity               and narco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nd gas                              Household equi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creation and                  Clothing and footw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ulture                                F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>
              <a:off x="5792760" y="2971800"/>
              <a:ext cx="3603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6"/>
            <p:cNvSpPr/>
            <p:nvPr/>
          </p:nvSpPr>
          <p:spPr>
            <a:xfrm>
              <a:off x="5792760" y="3116160"/>
              <a:ext cx="360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7"/>
            <p:cNvSpPr/>
            <p:nvPr/>
          </p:nvSpPr>
          <p:spPr>
            <a:xfrm>
              <a:off x="5792760" y="3332160"/>
              <a:ext cx="36036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98"/>
            <p:cNvSpPr/>
            <p:nvPr/>
          </p:nvSpPr>
          <p:spPr>
            <a:xfrm>
              <a:off x="5792760" y="4051440"/>
              <a:ext cx="360360" cy="0"/>
            </a:xfrm>
            <a:prstGeom prst="line">
              <a:avLst/>
            </a:prstGeom>
            <a:ln w="381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99"/>
            <p:cNvSpPr/>
            <p:nvPr/>
          </p:nvSpPr>
          <p:spPr>
            <a:xfrm>
              <a:off x="7304040" y="3259080"/>
              <a:ext cx="360360" cy="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0"/>
            <p:cNvSpPr/>
            <p:nvPr/>
          </p:nvSpPr>
          <p:spPr>
            <a:xfrm>
              <a:off x="7304040" y="3906720"/>
              <a:ext cx="36036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1"/>
            <p:cNvSpPr/>
            <p:nvPr/>
          </p:nvSpPr>
          <p:spPr>
            <a:xfrm>
              <a:off x="5792760" y="3475080"/>
              <a:ext cx="360360" cy="0"/>
            </a:xfrm>
            <a:prstGeom prst="line">
              <a:avLst/>
            </a:prstGeom>
            <a:ln w="38160">
              <a:solidFill>
                <a:srgbClr val="9d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2"/>
            <p:cNvSpPr/>
            <p:nvPr/>
          </p:nvSpPr>
          <p:spPr>
            <a:xfrm>
              <a:off x="5792760" y="3763800"/>
              <a:ext cx="360360" cy="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03"/>
            <p:cNvSpPr/>
            <p:nvPr/>
          </p:nvSpPr>
          <p:spPr>
            <a:xfrm>
              <a:off x="7304040" y="3763800"/>
              <a:ext cx="360360" cy="0"/>
            </a:xfrm>
            <a:prstGeom prst="line">
              <a:avLst/>
            </a:prstGeom>
            <a:ln w="38160">
              <a:solidFill>
                <a:srgbClr val="bcc4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4"/>
            <p:cNvSpPr/>
            <p:nvPr/>
          </p:nvSpPr>
          <p:spPr>
            <a:xfrm>
              <a:off x="7304040" y="2971800"/>
              <a:ext cx="36036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05"/>
            <p:cNvSpPr/>
            <p:nvPr/>
          </p:nvSpPr>
          <p:spPr>
            <a:xfrm>
              <a:off x="7304040" y="3548160"/>
              <a:ext cx="360360" cy="0"/>
            </a:xfrm>
            <a:prstGeom prst="line">
              <a:avLst/>
            </a:prstGeom>
            <a:ln w="38160">
              <a:solidFill>
                <a:srgbClr val="c18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4"/>
          <p:cNvSpPr/>
          <p:nvPr/>
        </p:nvSpPr>
        <p:spPr>
          <a:xfrm>
            <a:off x="965160" y="784080"/>
            <a:ext cx="7658280" cy="4606920"/>
          </a:xfrm>
          <a:prstGeom prst="ellipse">
            <a:avLst/>
          </a:prstGeom>
          <a:gradFill rotWithShape="0">
            <a:gsLst>
              <a:gs pos="0">
                <a:srgbClr val="6c6c6c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4575200">
            <a:off x="2366640" y="618840"/>
            <a:ext cx="5003640" cy="5003640"/>
          </a:xfrm>
          <a:custGeom>
            <a:avLst/>
            <a:gdLst>
              <a:gd name="textAreaLeft" fmla="*/ 1206720 w 5003640"/>
              <a:gd name="textAreaRight" fmla="*/ 3796920 w 5003640"/>
              <a:gd name="textAreaTop" fmla="*/ 0 h 5003640"/>
              <a:gd name="textAreaBottom" fmla="*/ 1821240 h 5003640"/>
            </a:gdLst>
            <a:ahLst/>
            <a:rect l="textAreaLeft" t="textAreaTop" r="textAreaRight" b="textAreaBottom"/>
            <a:pathLst>
              <a:path w="14659" h="7594">
                <a:moveTo>
                  <a:pt x="9573" y="7593"/>
                </a:moveTo>
                <a:cubicBezTo>
                  <a:pt x="9964" y="7443"/>
                  <a:pt x="10380" y="7366"/>
                  <a:pt x="10800" y="7367"/>
                </a:cubicBezTo>
                <a:cubicBezTo>
                  <a:pt x="11219" y="7367"/>
                  <a:pt x="11635" y="7443"/>
                  <a:pt x="12026" y="7593"/>
                </a:cubicBezTo>
                <a:lnTo>
                  <a:pt x="14659" y="713"/>
                </a:lnTo>
                <a:cubicBezTo>
                  <a:pt x="13427" y="241"/>
                  <a:pt x="12119" y="-1"/>
                  <a:pt x="10799" y="0"/>
                </a:cubicBezTo>
                <a:cubicBezTo>
                  <a:pt x="9480" y="0"/>
                  <a:pt x="8172" y="241"/>
                  <a:pt x="6940" y="713"/>
                </a:cubicBezTo>
                <a:lnTo>
                  <a:pt x="9573" y="7593"/>
                </a:lnTo>
                <a:close/>
              </a:path>
            </a:pathLst>
          </a:custGeom>
          <a:solidFill>
            <a:srgbClr val="e81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11907000">
            <a:off x="2201760" y="618480"/>
            <a:ext cx="5004000" cy="5003640"/>
          </a:xfrm>
          <a:custGeom>
            <a:avLst/>
            <a:gdLst>
              <a:gd name="textAreaLeft" fmla="*/ 1109160 w 5004000"/>
              <a:gd name="textAreaRight" fmla="*/ 3894840 w 5004000"/>
              <a:gd name="textAreaTop" fmla="*/ 0 h 5003640"/>
              <a:gd name="textAreaBottom" fmla="*/ 1882080 h 5003640"/>
            </a:gdLst>
            <a:ahLst/>
            <a:rect l="textAreaLeft" t="textAreaTop" r="textAreaRight" b="textAreaBottom"/>
            <a:pathLst>
              <a:path w="15083" h="7845">
                <a:moveTo>
                  <a:pt x="9523" y="7844"/>
                </a:moveTo>
                <a:cubicBezTo>
                  <a:pt x="9926" y="7669"/>
                  <a:pt x="10360" y="7579"/>
                  <a:pt x="10800" y="7580"/>
                </a:cubicBezTo>
                <a:cubicBezTo>
                  <a:pt x="11239" y="7580"/>
                  <a:pt x="11673" y="7669"/>
                  <a:pt x="12076" y="7844"/>
                </a:cubicBezTo>
                <a:lnTo>
                  <a:pt x="15083" y="885"/>
                </a:lnTo>
                <a:cubicBezTo>
                  <a:pt x="13730" y="301"/>
                  <a:pt x="12273" y="-1"/>
                  <a:pt x="10799" y="0"/>
                </a:cubicBezTo>
                <a:cubicBezTo>
                  <a:pt x="9326" y="0"/>
                  <a:pt x="7869" y="301"/>
                  <a:pt x="6516" y="885"/>
                </a:cubicBezTo>
                <a:lnTo>
                  <a:pt x="9523" y="7844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 rot="17889000">
            <a:off x="2364120" y="691200"/>
            <a:ext cx="5005440" cy="5004000"/>
          </a:xfrm>
          <a:custGeom>
            <a:avLst/>
            <a:gdLst>
              <a:gd name="textAreaLeft" fmla="*/ 1073520 w 5005440"/>
              <a:gd name="textAreaRight" fmla="*/ 3931920 w 5005440"/>
              <a:gd name="textAreaTop" fmla="*/ 0 h 5004000"/>
              <a:gd name="textAreaBottom" fmla="*/ 1974240 h 5004000"/>
            </a:gdLst>
            <a:ahLst/>
            <a:rect l="textAreaLeft" t="textAreaTop" r="textAreaRight" b="textAreaBottom"/>
            <a:pathLst>
              <a:path w="15240" h="8271">
                <a:moveTo>
                  <a:pt x="9659" y="8270"/>
                </a:moveTo>
                <a:cubicBezTo>
                  <a:pt x="10017" y="8108"/>
                  <a:pt x="10406" y="8024"/>
                  <a:pt x="10800" y="8025"/>
                </a:cubicBezTo>
                <a:cubicBezTo>
                  <a:pt x="11193" y="8025"/>
                  <a:pt x="11582" y="8108"/>
                  <a:pt x="11940" y="8270"/>
                </a:cubicBezTo>
                <a:lnTo>
                  <a:pt x="15240" y="954"/>
                </a:lnTo>
                <a:cubicBezTo>
                  <a:pt x="13844" y="325"/>
                  <a:pt x="12330" y="-1"/>
                  <a:pt x="10799" y="0"/>
                </a:cubicBezTo>
                <a:cubicBezTo>
                  <a:pt x="9269" y="0"/>
                  <a:pt x="7755" y="325"/>
                  <a:pt x="6359" y="954"/>
                </a:cubicBezTo>
                <a:lnTo>
                  <a:pt x="9659" y="8270"/>
                </a:lnTo>
                <a:close/>
              </a:path>
            </a:pathLst>
          </a:custGeom>
          <a:gradFill rotWithShape="0">
            <a:gsLst>
              <a:gs pos="0">
                <a:srgbClr val="c0cfb0"/>
              </a:gs>
              <a:gs pos="100000">
                <a:srgbClr val="def0cc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 rot="6951600">
            <a:off x="2201760" y="618840"/>
            <a:ext cx="5003640" cy="5004000"/>
          </a:xfrm>
          <a:custGeom>
            <a:avLst/>
            <a:gdLst>
              <a:gd name="textAreaLeft" fmla="*/ 225720 w 5003640"/>
              <a:gd name="textAreaRight" fmla="*/ 4777920 w 5003640"/>
              <a:gd name="textAreaTop" fmla="*/ 0 h 5004000"/>
              <a:gd name="textAreaBottom" fmla="*/ 2243520 h 5004000"/>
            </a:gdLst>
            <a:ahLst/>
            <a:rect l="textAreaLeft" t="textAreaTop" r="textAreaRight" b="textAreaBottom"/>
            <a:pathLst>
              <a:path w="19348" h="9158">
                <a:moveTo>
                  <a:pt x="8672" y="9157"/>
                </a:moveTo>
                <a:cubicBezTo>
                  <a:pt x="9181" y="8498"/>
                  <a:pt x="9967" y="8111"/>
                  <a:pt x="10800" y="8112"/>
                </a:cubicBezTo>
                <a:cubicBezTo>
                  <a:pt x="11632" y="8112"/>
                  <a:pt x="12418" y="8498"/>
                  <a:pt x="12927" y="9157"/>
                </a:cubicBezTo>
                <a:lnTo>
                  <a:pt x="19348" y="4199"/>
                </a:lnTo>
                <a:cubicBezTo>
                  <a:pt x="17303" y="1551"/>
                  <a:pt x="14146" y="-1"/>
                  <a:pt x="10799" y="0"/>
                </a:cubicBezTo>
                <a:cubicBezTo>
                  <a:pt x="7453" y="0"/>
                  <a:pt x="4296" y="1551"/>
                  <a:pt x="2251" y="4199"/>
                </a:cubicBezTo>
                <a:lnTo>
                  <a:pt x="8672" y="9157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 rot="471000">
            <a:off x="2329920" y="700200"/>
            <a:ext cx="5004000" cy="5003640"/>
          </a:xfrm>
          <a:custGeom>
            <a:avLst/>
            <a:gdLst>
              <a:gd name="textAreaLeft" fmla="*/ 557280 w 5004000"/>
              <a:gd name="textAreaRight" fmla="*/ 4446720 w 5004000"/>
              <a:gd name="textAreaTop" fmla="*/ 0 h 5003640"/>
              <a:gd name="textAreaBottom" fmla="*/ 2008080 h 5003640"/>
            </a:gdLst>
            <a:ahLst/>
            <a:rect l="textAreaLeft" t="textAreaTop" r="textAreaRight" b="textAreaBottom"/>
            <a:pathLst>
              <a:path w="17610" h="8172">
                <a:moveTo>
                  <a:pt x="8664" y="8171"/>
                </a:moveTo>
                <a:cubicBezTo>
                  <a:pt x="9267" y="7680"/>
                  <a:pt x="10022" y="7412"/>
                  <a:pt x="10800" y="7413"/>
                </a:cubicBezTo>
                <a:cubicBezTo>
                  <a:pt x="11577" y="7413"/>
                  <a:pt x="12332" y="7680"/>
                  <a:pt x="12935" y="8171"/>
                </a:cubicBezTo>
                <a:lnTo>
                  <a:pt x="17610" y="2417"/>
                </a:lnTo>
                <a:cubicBezTo>
                  <a:pt x="15685" y="853"/>
                  <a:pt x="13280" y="-1"/>
                  <a:pt x="10799" y="0"/>
                </a:cubicBezTo>
                <a:cubicBezTo>
                  <a:pt x="8319" y="0"/>
                  <a:pt x="5914" y="853"/>
                  <a:pt x="3989" y="2417"/>
                </a:cubicBezTo>
                <a:lnTo>
                  <a:pt x="8664" y="8171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b0ccd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2697120" y="1087560"/>
            <a:ext cx="696960" cy="699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2070000" y="2413080"/>
            <a:ext cx="701640" cy="698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2262240" y="1712880"/>
            <a:ext cx="700200" cy="700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3855960" y="469800"/>
            <a:ext cx="700200" cy="698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Fla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5511960" y="552600"/>
            <a:ext cx="699840" cy="698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2843280" y="4730760"/>
            <a:ext cx="595080" cy="596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C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2451240" y="4133880"/>
            <a:ext cx="595080" cy="5968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U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2154240" y="3537000"/>
            <a:ext cx="595440" cy="596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Mai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476520" y="5111640"/>
            <a:ext cx="598680" cy="592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176720" y="5230800"/>
            <a:ext cx="598320" cy="5968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ulim"/>
                <a:ea typeface="Gulim"/>
              </a:rPr>
              <a:t>D/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4516200" y="12938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Cre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2746080" y="36655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b6cd"/>
                </a:solidFill>
                <a:latin typeface="Gulim"/>
                <a:ea typeface="Gulim"/>
              </a:rPr>
              <a:t>Inte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3832200" y="44258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3"/>
          <p:cNvSpPr/>
          <p:nvPr/>
        </p:nvSpPr>
        <p:spPr>
          <a:xfrm rot="17889000">
            <a:off x="3429000" y="1752480"/>
            <a:ext cx="2897280" cy="2897280"/>
          </a:xfrm>
          <a:custGeom>
            <a:avLst/>
            <a:gdLst>
              <a:gd name="textAreaLeft" fmla="*/ 462240 w 2897280"/>
              <a:gd name="textAreaRight" fmla="*/ 2435040 w 2897280"/>
              <a:gd name="textAreaTop" fmla="*/ 0 h 2897280"/>
              <a:gd name="textAreaBottom" fmla="*/ 1117440 h 2897280"/>
            </a:gdLst>
            <a:ahLst/>
            <a:rect l="textAreaLeft" t="textAreaTop" r="textAreaRight" b="textAreaBottom"/>
            <a:pathLst>
              <a:path w="16472" h="7930">
                <a:moveTo>
                  <a:pt x="9028" y="7929"/>
                </a:moveTo>
                <a:cubicBezTo>
                  <a:pt x="9560" y="7601"/>
                  <a:pt x="10174" y="7426"/>
                  <a:pt x="10800" y="7427"/>
                </a:cubicBezTo>
                <a:cubicBezTo>
                  <a:pt x="11425" y="7427"/>
                  <a:pt x="12039" y="7601"/>
                  <a:pt x="12571" y="7929"/>
                </a:cubicBezTo>
                <a:lnTo>
                  <a:pt x="16472" y="1609"/>
                </a:lnTo>
                <a:cubicBezTo>
                  <a:pt x="14767" y="557"/>
                  <a:pt x="12803" y="-1"/>
                  <a:pt x="10799" y="0"/>
                </a:cubicBezTo>
                <a:cubicBezTo>
                  <a:pt x="8796" y="0"/>
                  <a:pt x="6832" y="557"/>
                  <a:pt x="5127" y="1609"/>
                </a:cubicBezTo>
                <a:lnTo>
                  <a:pt x="9028" y="792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4"/>
          <p:cNvSpPr/>
          <p:nvPr/>
        </p:nvSpPr>
        <p:spPr>
          <a:xfrm rot="471000">
            <a:off x="3394080" y="1774440"/>
            <a:ext cx="2890800" cy="2890800"/>
          </a:xfrm>
          <a:custGeom>
            <a:avLst/>
            <a:gdLst>
              <a:gd name="textAreaLeft" fmla="*/ 330480 w 2890800"/>
              <a:gd name="textAreaRight" fmla="*/ 2560320 w 2890800"/>
              <a:gd name="textAreaTop" fmla="*/ 0 h 2890800"/>
              <a:gd name="textAreaBottom" fmla="*/ 1142640 h 2890800"/>
            </a:gdLst>
            <a:ahLst/>
            <a:rect l="textAreaLeft" t="textAreaTop" r="textAreaRight" b="textAreaBottom"/>
            <a:pathLst>
              <a:path w="17538" h="8023">
                <a:moveTo>
                  <a:pt x="8582" y="8022"/>
                </a:moveTo>
                <a:cubicBezTo>
                  <a:pt x="9212" y="7519"/>
                  <a:pt x="9994" y="7245"/>
                  <a:pt x="10800" y="7246"/>
                </a:cubicBezTo>
                <a:cubicBezTo>
                  <a:pt x="11605" y="7246"/>
                  <a:pt x="12387" y="7519"/>
                  <a:pt x="13017" y="8022"/>
                </a:cubicBezTo>
                <a:lnTo>
                  <a:pt x="17538" y="2360"/>
                </a:lnTo>
                <a:cubicBezTo>
                  <a:pt x="15624" y="832"/>
                  <a:pt x="13248" y="-1"/>
                  <a:pt x="10799" y="0"/>
                </a:cubicBezTo>
                <a:cubicBezTo>
                  <a:pt x="8351" y="0"/>
                  <a:pt x="5975" y="832"/>
                  <a:pt x="4061" y="2360"/>
                </a:cubicBezTo>
                <a:lnTo>
                  <a:pt x="8582" y="8022"/>
                </a:lnTo>
                <a:close/>
              </a:path>
            </a:pathLst>
          </a:custGeom>
          <a:solidFill>
            <a:srgbClr val="eb97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5"/>
          <p:cNvSpPr/>
          <p:nvPr/>
        </p:nvSpPr>
        <p:spPr>
          <a:xfrm>
            <a:off x="3938760" y="2286000"/>
            <a:ext cx="1942920" cy="1944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각헤드라인M"/>
              </a:rPr>
              <a:t>ebi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각헤드라인M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2706120" y="22906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7"/>
          <p:cNvSpPr/>
          <p:nvPr/>
        </p:nvSpPr>
        <p:spPr>
          <a:xfrm>
            <a:off x="6881760" y="2290680"/>
            <a:ext cx="646200" cy="6462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Sop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8"/>
          <p:cNvSpPr/>
          <p:nvPr/>
        </p:nvSpPr>
        <p:spPr>
          <a:xfrm>
            <a:off x="6904080" y="3011400"/>
            <a:ext cx="644400" cy="6447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eC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6727680" y="3765600"/>
            <a:ext cx="642960" cy="6429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I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6261120" y="4408560"/>
            <a:ext cx="642960" cy="64440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VO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1"/>
          <p:cNvSpPr/>
          <p:nvPr/>
        </p:nvSpPr>
        <p:spPr>
          <a:xfrm>
            <a:off x="5684760" y="4906800"/>
            <a:ext cx="641520" cy="64620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  <a:ea typeface="Gulim"/>
              </a:rPr>
              <a:t>Learn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32"/>
          <p:cNvSpPr/>
          <p:nvPr/>
        </p:nvSpPr>
        <p:spPr>
          <a:xfrm rot="12600000">
            <a:off x="3846240" y="2101320"/>
            <a:ext cx="2319120" cy="2494080"/>
          </a:xfrm>
          <a:custGeom>
            <a:avLst/>
            <a:gdLst>
              <a:gd name="textAreaLeft" fmla="*/ 0 w 2319120"/>
              <a:gd name="textAreaRight" fmla="*/ 2319480 w 2319120"/>
              <a:gd name="textAreaTop" fmla="*/ 0 h 2494080"/>
              <a:gd name="textAreaBottom" fmla="*/ 2494440 h 2494080"/>
            </a:gdLst>
            <a:ahLst/>
            <a:rect l="textAreaLeft" t="textAreaTop" r="textAreaRight" b="textAreaBottom"/>
            <a:pathLst>
              <a:path fill="none" w="40225" h="43200">
                <a:moveTo>
                  <a:pt x="40224" y="32539"/>
                </a:moveTo>
                <a:cubicBezTo>
                  <a:pt x="36345" y="39143"/>
                  <a:pt x="29259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061" y="-1"/>
                  <a:pt x="26504" y="420"/>
                  <a:pt x="28824" y="1243"/>
                </a:cubicBezTo>
              </a:path>
              <a:path stroke="0" w="40225" h="43200">
                <a:moveTo>
                  <a:pt x="40224" y="32539"/>
                </a:moveTo>
                <a:cubicBezTo>
                  <a:pt x="36345" y="39143"/>
                  <a:pt x="29259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061" y="-1"/>
                  <a:pt x="26504" y="420"/>
                  <a:pt x="28824" y="1243"/>
                </a:cubicBezTo>
                <a:lnTo>
                  <a:pt x="21600" y="21600"/>
                </a:lnTo>
                <a:lnTo>
                  <a:pt x="40224" y="32539"/>
                </a:lnTo>
                <a:close/>
              </a:path>
            </a:pathLst>
          </a:custGeom>
          <a:noFill/>
          <a:ln w="19080">
            <a:solidFill>
              <a:srgbClr val="ddddd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5899680" y="33498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4"/>
          <p:cNvGraphicFramePr/>
          <p:nvPr/>
        </p:nvGraphicFramePr>
        <p:xfrm>
          <a:off x="731880" y="3657600"/>
          <a:ext cx="1766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3657600"/>
                    <a:ext cx="1766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7"/>
          <p:cNvGrpSpPr/>
          <p:nvPr/>
        </p:nvGrpSpPr>
        <p:grpSpPr>
          <a:xfrm>
            <a:off x="2705400" y="4342680"/>
            <a:ext cx="1808640" cy="1805400"/>
            <a:chOff x="2705400" y="4342680"/>
            <a:chExt cx="1808640" cy="1805400"/>
          </a:xfrm>
        </p:grpSpPr>
        <p:sp>
          <p:nvSpPr>
            <p:cNvPr id="198" name="Arc 8"/>
            <p:cNvSpPr/>
            <p:nvPr/>
          </p:nvSpPr>
          <p:spPr>
            <a:xfrm flipH="1" rot="1969800">
              <a:off x="3002760" y="4419720"/>
              <a:ext cx="665280" cy="1293120"/>
            </a:xfrm>
            <a:custGeom>
              <a:avLst/>
              <a:gdLst>
                <a:gd name="textAreaLeft" fmla="*/ 0 w 665280"/>
                <a:gd name="textAreaRight" fmla="*/ 665280 w 665280"/>
                <a:gd name="textAreaTop" fmla="*/ 0 h 1293120"/>
                <a:gd name="textAreaBottom" fmla="*/ 1293480 h 1293120"/>
              </a:gdLst>
              <a:ahLst/>
              <a:rect l="textAreaLeft" t="textAreaTop" r="textAreaRight" b="textAreaBottom"/>
              <a:pathLst>
                <a:path fill="none" w="21600" h="4273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809"/>
                    <a:pt x="14451" y="40625"/>
                    <a:pt x="4462" y="42734"/>
                  </a:cubicBezTo>
                </a:path>
                <a:path stroke="0" w="21600" h="4273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809"/>
                    <a:pt x="14451" y="40625"/>
                    <a:pt x="4462" y="4273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7520">
              <a:solidFill>
                <a:srgbClr val="51a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rc 9"/>
            <p:cNvSpPr/>
            <p:nvPr/>
          </p:nvSpPr>
          <p:spPr>
            <a:xfrm flipV="1" rot="1969800">
              <a:off x="3470400" y="4741920"/>
              <a:ext cx="748800" cy="130752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360 h 1307520"/>
                <a:gd name="textAreaBottom" fmla="*/ 1308240 h 1307520"/>
              </a:gdLst>
              <a:ahLst/>
              <a:rect l="textAreaLeft" t="textAreaTop" r="textAreaRight" b="textAreaBottom"/>
              <a:pathLst>
                <a:path fill="none" w="24284" h="43180">
                  <a:moveTo>
                    <a:pt x="0" y="167"/>
                  </a:moveTo>
                  <a:cubicBezTo>
                    <a:pt x="890" y="55"/>
                    <a:pt x="1786" y="-1"/>
                    <a:pt x="2684" y="0"/>
                  </a:cubicBezTo>
                  <a:cubicBezTo>
                    <a:pt x="14613" y="0"/>
                    <a:pt x="24284" y="9670"/>
                    <a:pt x="24284" y="21600"/>
                  </a:cubicBezTo>
                  <a:cubicBezTo>
                    <a:pt x="24284" y="33164"/>
                    <a:pt x="15175" y="42677"/>
                    <a:pt x="3621" y="43179"/>
                  </a:cubicBezTo>
                </a:path>
                <a:path stroke="0" w="24284" h="43180">
                  <a:moveTo>
                    <a:pt x="0" y="167"/>
                  </a:moveTo>
                  <a:cubicBezTo>
                    <a:pt x="890" y="55"/>
                    <a:pt x="1786" y="-1"/>
                    <a:pt x="2684" y="0"/>
                  </a:cubicBezTo>
                  <a:cubicBezTo>
                    <a:pt x="14613" y="0"/>
                    <a:pt x="24284" y="9670"/>
                    <a:pt x="24284" y="21600"/>
                  </a:cubicBezTo>
                  <a:cubicBezTo>
                    <a:pt x="24284" y="33164"/>
                    <a:pt x="15175" y="42677"/>
                    <a:pt x="3621" y="43179"/>
                  </a:cubicBezTo>
                  <a:lnTo>
                    <a:pt x="2684" y="21600"/>
                  </a:lnTo>
                  <a:lnTo>
                    <a:pt x="0" y="167"/>
                  </a:lnTo>
                  <a:close/>
                </a:path>
              </a:pathLst>
            </a:custGeom>
            <a:noFill/>
            <a:ln w="317520">
              <a:solidFill>
                <a:srgbClr val="b5e2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 flipH="1" flipV="1" rot="2133600">
              <a:off x="2971800" y="5459400"/>
              <a:ext cx="235440" cy="464400"/>
            </a:xfrm>
            <a:custGeom>
              <a:avLst/>
              <a:gdLst>
                <a:gd name="textAreaLeft" fmla="*/ 360 w 235440"/>
                <a:gd name="textAreaRight" fmla="*/ 236160 w 235440"/>
                <a:gd name="textAreaTop" fmla="*/ 360 h 464400"/>
                <a:gd name="textAreaBottom" fmla="*/ 465120 h 464400"/>
              </a:gdLst>
              <a:ahLst/>
              <a:rect l="textAreaLeft" t="textAreaTop" r="textAreaRight" b="textAreaBottom"/>
              <a:pathLst>
                <a:path w="576" h="1152">
                  <a:moveTo>
                    <a:pt x="0" y="0"/>
                  </a:moveTo>
                  <a:lnTo>
                    <a:pt x="528" y="528"/>
                  </a:lnTo>
                  <a:lnTo>
                    <a:pt x="576" y="576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e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 rot="2133600">
              <a:off x="3928320" y="4519080"/>
              <a:ext cx="235440" cy="46404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576" h="1152">
                  <a:moveTo>
                    <a:pt x="0" y="0"/>
                  </a:moveTo>
                  <a:lnTo>
                    <a:pt x="528" y="528"/>
                  </a:lnTo>
                  <a:lnTo>
                    <a:pt x="576" y="576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a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Freeform 12"/>
          <p:cNvSpPr/>
          <p:nvPr/>
        </p:nvSpPr>
        <p:spPr>
          <a:xfrm>
            <a:off x="3924360" y="1066680"/>
            <a:ext cx="1257120" cy="19195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912" h="1776">
                <a:moveTo>
                  <a:pt x="912" y="0"/>
                </a:moveTo>
                <a:lnTo>
                  <a:pt x="912" y="1776"/>
                </a:lnTo>
                <a:lnTo>
                  <a:pt x="0" y="1296"/>
                </a:lnTo>
                <a:lnTo>
                  <a:pt x="912" y="0"/>
                </a:lnTo>
                <a:close/>
              </a:path>
            </a:pathLst>
          </a:custGeom>
          <a:solidFill>
            <a:srgbClr val="6283a3">
              <a:alpha val="50000"/>
            </a:srgbClr>
          </a:solidFill>
          <a:ln w="25560">
            <a:solidFill>
              <a:srgbClr val="6597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"/>
          <p:cNvSpPr/>
          <p:nvPr/>
        </p:nvSpPr>
        <p:spPr>
          <a:xfrm flipH="1">
            <a:off x="5180760" y="1066680"/>
            <a:ext cx="1257480" cy="191952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912" h="1776">
                <a:moveTo>
                  <a:pt x="912" y="0"/>
                </a:moveTo>
                <a:lnTo>
                  <a:pt x="912" y="1776"/>
                </a:lnTo>
                <a:lnTo>
                  <a:pt x="0" y="1296"/>
                </a:lnTo>
                <a:lnTo>
                  <a:pt x="912" y="0"/>
                </a:lnTo>
                <a:close/>
              </a:path>
            </a:pathLst>
          </a:custGeom>
          <a:solidFill>
            <a:srgbClr val="88b6e3">
              <a:alpha val="50000"/>
            </a:srgbClr>
          </a:solidFill>
          <a:ln w="25560">
            <a:solidFill>
              <a:srgbClr val="6597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089680" y="955800"/>
            <a:ext cx="182520" cy="182520"/>
          </a:xfrm>
          <a:prstGeom prst="ellipse">
            <a:avLst/>
          </a:prstGeom>
          <a:solidFill>
            <a:srgbClr val="93c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3924360" y="2467080"/>
            <a:ext cx="2514600" cy="5191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1824" h="480">
                <a:moveTo>
                  <a:pt x="0" y="0"/>
                </a:moveTo>
                <a:lnTo>
                  <a:pt x="1824" y="0"/>
                </a:lnTo>
                <a:lnTo>
                  <a:pt x="912" y="480"/>
                </a:lnTo>
                <a:lnTo>
                  <a:pt x="0" y="0"/>
                </a:lnTo>
                <a:close/>
              </a:path>
            </a:pathLst>
          </a:custGeom>
          <a:solidFill>
            <a:srgbClr val="93c4f5">
              <a:alpha val="50000"/>
            </a:srgbClr>
          </a:solidFill>
          <a:ln w="25560">
            <a:solidFill>
              <a:srgbClr val="6597ca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6362640" y="2374920"/>
            <a:ext cx="182520" cy="182520"/>
          </a:xfrm>
          <a:prstGeom prst="ellipse">
            <a:avLst/>
          </a:prstGeom>
          <a:solidFill>
            <a:srgbClr val="93c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3841920" y="2374920"/>
            <a:ext cx="182520" cy="182520"/>
          </a:xfrm>
          <a:prstGeom prst="ellipse">
            <a:avLst/>
          </a:prstGeom>
          <a:solidFill>
            <a:srgbClr val="93c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5089680" y="2906640"/>
            <a:ext cx="182520" cy="182520"/>
          </a:xfrm>
          <a:prstGeom prst="ellipse">
            <a:avLst/>
          </a:prstGeom>
          <a:solidFill>
            <a:srgbClr val="93c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5089680" y="955800"/>
            <a:ext cx="182520" cy="182520"/>
          </a:xfrm>
          <a:prstGeom prst="ellipse">
            <a:avLst/>
          </a:prstGeom>
          <a:solidFill>
            <a:srgbClr val="93c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816360" y="2352600"/>
            <a:ext cx="228600" cy="2286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5067360" y="2886120"/>
            <a:ext cx="228600" cy="2286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6337440" y="2352600"/>
            <a:ext cx="228600" cy="2286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5067360" y="933480"/>
            <a:ext cx="228600" cy="2286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4"/>
          <p:cNvGrpSpPr/>
          <p:nvPr/>
        </p:nvGrpSpPr>
        <p:grpSpPr>
          <a:xfrm>
            <a:off x="981000" y="2452680"/>
            <a:ext cx="3242520" cy="1085760"/>
            <a:chOff x="981000" y="2452680"/>
            <a:chExt cx="3242520" cy="1085760"/>
          </a:xfrm>
        </p:grpSpPr>
        <p:sp>
          <p:nvSpPr>
            <p:cNvPr id="215" name="Text Box 25"/>
            <p:cNvSpPr/>
            <p:nvPr/>
          </p:nvSpPr>
          <p:spPr>
            <a:xfrm>
              <a:off x="981000" y="2463840"/>
              <a:ext cx="24998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rmAutofit/>
            </a:bodyPr>
            <a:p>
              <a:pPr marL="117360" indent="-11736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仿宋_GB2312"/>
                  <a:ea typeface="仿宋_GB2312"/>
                </a:rPr>
                <a:t>管理成本</a:t>
              </a:r>
              <a:r>
                <a:rPr b="1" lang="en-US" sz="2400" spc="-1" strike="noStrike">
                  <a:solidFill>
                    <a:srgbClr val="009999"/>
                  </a:solidFill>
                  <a:latin typeface="仿宋_GB2312"/>
                  <a:ea typeface="仿宋_GB2312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17360" indent="-117360">
                <a:lnSpc>
                  <a:spcPct val="80000"/>
                </a:lnSpc>
                <a:spcBef>
                  <a:spcPts val="876"/>
                </a:spcBef>
                <a:buClr>
                  <a:srgbClr val="000000"/>
                </a:buClr>
                <a:buFont typeface="仿宋_GB2312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降低的运营和购置成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7360" indent="-117360">
                <a:lnSpc>
                  <a:spcPct val="80000"/>
                </a:lnSpc>
                <a:spcBef>
                  <a:spcPts val="876"/>
                </a:spcBef>
                <a:buClr>
                  <a:srgbClr val="000000"/>
                </a:buClr>
                <a:buFont typeface="仿宋_GB2312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管理固定成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1139400" y="2452680"/>
              <a:ext cx="3084120" cy="0"/>
            </a:xfrm>
            <a:prstGeom prst="line">
              <a:avLst/>
            </a:prstGeom>
            <a:ln w="12600">
              <a:solidFill>
                <a:srgbClr val="93c4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7"/>
          <p:cNvGrpSpPr/>
          <p:nvPr/>
        </p:nvGrpSpPr>
        <p:grpSpPr>
          <a:xfrm>
            <a:off x="6481800" y="2519280"/>
            <a:ext cx="3133800" cy="992160"/>
            <a:chOff x="6481800" y="2519280"/>
            <a:chExt cx="3133800" cy="992160"/>
          </a:xfrm>
        </p:grpSpPr>
        <p:sp>
          <p:nvSpPr>
            <p:cNvPr id="218" name="Text Box 28"/>
            <p:cNvSpPr/>
            <p:nvPr/>
          </p:nvSpPr>
          <p:spPr>
            <a:xfrm>
              <a:off x="7645320" y="2530440"/>
              <a:ext cx="19702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rmAutofit/>
            </a:bodyPr>
            <a:p>
              <a:pPr marL="117360" indent="-11736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仿宋_GB2312"/>
                  <a:ea typeface="仿宋_GB2312"/>
                </a:rPr>
                <a:t>降低风险</a:t>
              </a:r>
              <a:r>
                <a:rPr b="1" lang="en-US" sz="2400" spc="-1" strike="noStrike">
                  <a:solidFill>
                    <a:srgbClr val="009999"/>
                  </a:solidFill>
                  <a:latin typeface="仿宋_GB2312"/>
                  <a:ea typeface="仿宋_GB2312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17360" indent="-117360">
                <a:lnSpc>
                  <a:spcPct val="80000"/>
                </a:lnSpc>
                <a:spcBef>
                  <a:spcPts val="876"/>
                </a:spcBef>
                <a:buClr>
                  <a:srgbClr val="000000"/>
                </a:buClr>
                <a:buFont typeface="仿宋_GB2312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确保业务运营的安全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7360" indent="-11736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与连续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6481800" y="2519280"/>
              <a:ext cx="2400480" cy="0"/>
            </a:xfrm>
            <a:prstGeom prst="line">
              <a:avLst/>
            </a:prstGeom>
            <a:ln w="12600">
              <a:solidFill>
                <a:srgbClr val="93c4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30"/>
          <p:cNvSpPr/>
          <p:nvPr/>
        </p:nvSpPr>
        <p:spPr>
          <a:xfrm>
            <a:off x="5181480" y="0"/>
            <a:ext cx="0" cy="1055520"/>
          </a:xfrm>
          <a:prstGeom prst="line">
            <a:avLst/>
          </a:prstGeom>
          <a:ln w="12600">
            <a:solidFill>
              <a:srgbClr val="93c4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4"/>
          <p:cNvGrpSpPr/>
          <p:nvPr/>
        </p:nvGrpSpPr>
        <p:grpSpPr>
          <a:xfrm>
            <a:off x="5567400" y="3305160"/>
            <a:ext cx="2211480" cy="787320"/>
            <a:chOff x="5567400" y="3305160"/>
            <a:chExt cx="2211480" cy="787320"/>
          </a:xfrm>
        </p:grpSpPr>
        <p:sp>
          <p:nvSpPr>
            <p:cNvPr id="222" name="Rectangle 5"/>
            <p:cNvSpPr/>
            <p:nvPr/>
          </p:nvSpPr>
          <p:spPr>
            <a:xfrm>
              <a:off x="5567400" y="3311640"/>
              <a:ext cx="2211480" cy="780840"/>
            </a:xfrm>
            <a:prstGeom prst="rect">
              <a:avLst/>
            </a:prstGeom>
            <a:solidFill>
              <a:srgbClr val="ff8939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5567400" y="3305160"/>
              <a:ext cx="2211480" cy="781200"/>
            </a:xfrm>
            <a:prstGeom prst="rect">
              <a:avLst/>
            </a:prstGeom>
            <a:solidFill>
              <a:srgbClr val="fe9376"/>
            </a:solidFill>
            <a:ln w="7632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7"/>
          <p:cNvSpPr/>
          <p:nvPr/>
        </p:nvSpPr>
        <p:spPr>
          <a:xfrm>
            <a:off x="5543640" y="4591080"/>
            <a:ext cx="2251080" cy="738000"/>
          </a:xfrm>
          <a:prstGeom prst="rect">
            <a:avLst/>
          </a:prstGeom>
          <a:solidFill>
            <a:srgbClr val="9ae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5562720" y="4572000"/>
            <a:ext cx="2211120" cy="781200"/>
          </a:xfrm>
          <a:prstGeom prst="rect">
            <a:avLst/>
          </a:prstGeom>
          <a:solidFill>
            <a:srgbClr val="a9f098"/>
          </a:solidFill>
          <a:ln w="76320">
            <a:solidFill>
              <a:srgbClr val="4fe22c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415200" y="4700520"/>
            <a:ext cx="4856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utura Md"/>
              </a:rPr>
              <a:t>虚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415200" y="3419640"/>
            <a:ext cx="4856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utura Md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5530680" y="5986440"/>
            <a:ext cx="2271960" cy="766800"/>
          </a:xfrm>
          <a:prstGeom prst="rect">
            <a:avLst/>
          </a:prstGeom>
          <a:solidFill>
            <a:srgbClr val="c9a91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5560920" y="5981760"/>
            <a:ext cx="2210040" cy="780840"/>
          </a:xfrm>
          <a:prstGeom prst="rect">
            <a:avLst/>
          </a:prstGeom>
          <a:solidFill>
            <a:srgbClr val="ffe267"/>
          </a:solidFill>
          <a:ln w="76320">
            <a:solidFill>
              <a:srgbClr val="e8bc00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6416640" y="6110280"/>
            <a:ext cx="4856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utura Md"/>
              </a:rPr>
              <a:t>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128520" y="457200"/>
            <a:ext cx="4803840" cy="4802040"/>
          </a:xfrm>
          <a:prstGeom prst="flowChartSummingJunction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114480" y="2865600"/>
            <a:ext cx="4803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 flipH="1">
            <a:off x="2522520" y="469800"/>
            <a:ext cx="15840" cy="4775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58720" y="1631880"/>
            <a:ext cx="134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Gestão e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2565360" y="633240"/>
            <a:ext cx="1668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I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Desenho de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3564000" y="1763640"/>
            <a:ext cx="134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CO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Controles e mé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3479760" y="2922480"/>
            <a:ext cx="134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C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Qualidade no desen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2681280" y="3795840"/>
            <a:ext cx="134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P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Gestão de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1111320" y="3782880"/>
            <a:ext cx="1349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Métricas e acompan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369720" y="2913120"/>
            <a:ext cx="168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Controle da 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1355760" y="801720"/>
            <a:ext cx="134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Futura Bk"/>
              </a:rPr>
              <a:t>BS</a:t>
            </a: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 7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Futura Bk"/>
              </a:rPr>
              <a:t>Gestão da segu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5"/>
          <p:cNvSpPr/>
          <p:nvPr/>
        </p:nvSpPr>
        <p:spPr>
          <a:xfrm>
            <a:off x="1871640" y="2239920"/>
            <a:ext cx="1290600" cy="13064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Futura Bk"/>
              </a:rPr>
              <a:t>IT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6"/>
          <p:cNvSpPr/>
          <p:nvPr/>
        </p:nvSpPr>
        <p:spPr>
          <a:xfrm>
            <a:off x="0" y="368280"/>
            <a:ext cx="5067360" cy="4977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4"/>
          <p:cNvSpPr/>
          <p:nvPr/>
        </p:nvSpPr>
        <p:spPr>
          <a:xfrm flipV="1" rot="5400000">
            <a:off x="3886200" y="1751400"/>
            <a:ext cx="5791320" cy="3505320"/>
          </a:xfrm>
          <a:prstGeom prst="parallelogram">
            <a:avLst>
              <a:gd name="adj" fmla="val 2176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105520" y="152280"/>
            <a:ext cx="990360" cy="762120"/>
          </a:xfrm>
          <a:prstGeom prst="roundRect">
            <a:avLst>
              <a:gd name="adj" fmla="val 1875"/>
            </a:avLst>
          </a:prstGeom>
          <a:solidFill>
            <a:srgbClr val="e97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419720" y="152280"/>
            <a:ext cx="609480" cy="762120"/>
          </a:xfrm>
          <a:custGeom>
            <a:avLst/>
            <a:gdLst>
              <a:gd name="textAreaLeft" fmla="*/ 0 w 609480"/>
              <a:gd name="textAreaRight" fmla="*/ 609840 w 609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arcTo wR="0" hR="0" stAng="16200000" swAng="-5400000"/>
                <a:lnTo>
                  <a:pt x="0" y="27006"/>
                </a:lnTo>
                <a:arcTo wR="0" hR="0" stAng="10800000" swAng="-5400000"/>
                <a:lnTo>
                  <a:pt x="21600" y="2700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3d9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419720" y="1522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419720" y="152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5105520" y="152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5105520" y="152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990720" y="152280"/>
            <a:ext cx="533160" cy="0"/>
          </a:xfrm>
          <a:prstGeom prst="line">
            <a:avLst/>
          </a:prstGeom>
          <a:ln w="93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990720" y="152280"/>
            <a:ext cx="0" cy="68580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152280" y="152280"/>
            <a:ext cx="609840" cy="304920"/>
          </a:xfrm>
          <a:prstGeom prst="pentagon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 flipV="1">
            <a:off x="152280" y="456480"/>
            <a:ext cx="609840" cy="304920"/>
          </a:xfrm>
          <a:prstGeom prst="pentagon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1905120" y="152280"/>
            <a:ext cx="533160" cy="0"/>
          </a:xfrm>
          <a:prstGeom prst="line">
            <a:avLst/>
          </a:prstGeom>
          <a:ln w="93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1905120" y="152280"/>
            <a:ext cx="0" cy="68580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2895480" y="152280"/>
            <a:ext cx="0" cy="68580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2895480" y="152280"/>
            <a:ext cx="533520" cy="0"/>
          </a:xfrm>
          <a:prstGeom prst="line">
            <a:avLst/>
          </a:prstGeom>
          <a:ln w="93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1223280" y="304920"/>
            <a:ext cx="454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vantGarde Md BT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2137680" y="304920"/>
            <a:ext cx="45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vantGarde Md BT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3128400" y="228600"/>
            <a:ext cx="4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vantGarde Md BT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990720" y="38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vantGarde Md BT"/>
                <a:ea typeface="华文琥珀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1905120" y="38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vantGarde Md BT"/>
                <a:ea typeface="华文琥珀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2895480" y="38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vantGarde Md BT"/>
                <a:ea typeface="华文琥珀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6"/>
          <p:cNvSpPr/>
          <p:nvPr/>
        </p:nvSpPr>
        <p:spPr>
          <a:xfrm flipV="1">
            <a:off x="1295280" y="1294920"/>
            <a:ext cx="5334120" cy="4724640"/>
          </a:xfrm>
          <a:prstGeom prst="parallelogram">
            <a:avLst>
              <a:gd name="adj" fmla="val 24963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7"/>
          <p:cNvSpPr/>
          <p:nvPr/>
        </p:nvSpPr>
        <p:spPr>
          <a:xfrm flipV="1" rot="5400000">
            <a:off x="-1104840" y="2628720"/>
            <a:ext cx="5105520" cy="2133720"/>
          </a:xfrm>
          <a:prstGeom prst="parallelogram">
            <a:avLst>
              <a:gd name="adj" fmla="val 1269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228600" y="6477120"/>
            <a:ext cx="4648320" cy="0"/>
          </a:xfrm>
          <a:prstGeom prst="line">
            <a:avLst/>
          </a:prstGeom>
          <a:ln w="38160">
            <a:solidFill>
              <a:srgbClr val="333399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304920" y="4191120"/>
            <a:ext cx="0" cy="2438280"/>
          </a:xfrm>
          <a:prstGeom prst="line">
            <a:avLst/>
          </a:prstGeom>
          <a:ln w="28440">
            <a:solidFill>
              <a:srgbClr val="333399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8686800" y="990720"/>
            <a:ext cx="152280" cy="5181480"/>
          </a:xfrm>
          <a:prstGeom prst="rect">
            <a:avLst/>
          </a:prstGeom>
          <a:gradFill rotWithShape="0">
            <a:gsLst>
              <a:gs pos="0">
                <a:srgbClr val="dddddd">
                  <a:alpha val="6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1"/>
          <p:cNvSpPr/>
          <p:nvPr/>
        </p:nvSpPr>
        <p:spPr>
          <a:xfrm>
            <a:off x="3733920" y="2438280"/>
            <a:ext cx="4267080" cy="381240"/>
          </a:xfrm>
          <a:prstGeom prst="parallelogram">
            <a:avLst>
              <a:gd name="adj" fmla="val 50967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2"/>
          <p:cNvSpPr/>
          <p:nvPr/>
        </p:nvSpPr>
        <p:spPr>
          <a:xfrm>
            <a:off x="8001000" y="990720"/>
            <a:ext cx="0" cy="38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3"/>
          <p:cNvSpPr/>
          <p:nvPr/>
        </p:nvSpPr>
        <p:spPr>
          <a:xfrm>
            <a:off x="6095880" y="114300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4"/>
          <p:cNvSpPr/>
          <p:nvPr/>
        </p:nvSpPr>
        <p:spPr>
          <a:xfrm>
            <a:off x="5638680" y="129528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3733920" y="129528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6"/>
          <p:cNvSpPr/>
          <p:nvPr/>
        </p:nvSpPr>
        <p:spPr>
          <a:xfrm>
            <a:off x="3733920" y="3505320"/>
            <a:ext cx="4267080" cy="380880"/>
          </a:xfrm>
          <a:prstGeom prst="parallelogram">
            <a:avLst>
              <a:gd name="adj" fmla="val 510161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7"/>
          <p:cNvSpPr/>
          <p:nvPr/>
        </p:nvSpPr>
        <p:spPr>
          <a:xfrm flipH="1">
            <a:off x="1904760" y="3886200"/>
            <a:ext cx="19047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8"/>
          <p:cNvSpPr/>
          <p:nvPr/>
        </p:nvSpPr>
        <p:spPr>
          <a:xfrm>
            <a:off x="563868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1905120" y="42670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0"/>
          <p:cNvSpPr/>
          <p:nvPr/>
        </p:nvSpPr>
        <p:spPr>
          <a:xfrm flipH="1">
            <a:off x="6095880" y="4876920"/>
            <a:ext cx="19051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1"/>
          <p:cNvSpPr/>
          <p:nvPr/>
        </p:nvSpPr>
        <p:spPr>
          <a:xfrm>
            <a:off x="5638680" y="3886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 flipV="1">
            <a:off x="1905120" y="4952880"/>
            <a:ext cx="37335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3"/>
          <p:cNvSpPr/>
          <p:nvPr/>
        </p:nvSpPr>
        <p:spPr>
          <a:xfrm>
            <a:off x="380880" y="5410080"/>
            <a:ext cx="152424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380880" y="3809880"/>
            <a:ext cx="1524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5"/>
          <p:cNvSpPr/>
          <p:nvPr/>
        </p:nvSpPr>
        <p:spPr>
          <a:xfrm>
            <a:off x="2209680" y="121932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380880" y="3657600"/>
            <a:ext cx="1828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 flipV="1">
            <a:off x="5638680" y="4876920"/>
            <a:ext cx="236232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6477120" y="1295280"/>
            <a:ext cx="1218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95b1"/>
                </a:solidFill>
                <a:latin typeface="华文琥珀"/>
                <a:ea typeface="华文琥珀"/>
              </a:rPr>
              <a:t>3 </a:t>
            </a:r>
            <a:r>
              <a:rPr b="1" lang="en-US" sz="1800" spc="-1" strike="noStrike">
                <a:solidFill>
                  <a:srgbClr val="3d95b1"/>
                </a:solidFill>
                <a:latin typeface="AvantGarde Md BT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553080" y="2666880"/>
            <a:ext cx="1219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vantGarde Md BT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6553080" y="3962520"/>
            <a:ext cx="1219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95b1"/>
                </a:solidFill>
                <a:latin typeface="华文琥珀"/>
                <a:ea typeface="华文琥珀"/>
              </a:rPr>
              <a:t>1 </a:t>
            </a:r>
            <a:r>
              <a:rPr b="1" lang="en-US" sz="1800" spc="-1" strike="noStrike">
                <a:solidFill>
                  <a:srgbClr val="3d95b1"/>
                </a:solidFill>
                <a:latin typeface="AvantGarde Md BT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5530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vantGarde Md BT"/>
              </a:rPr>
              <a:t>My third power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662940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 Black"/>
              </a:rPr>
              <a:t>My third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3"/>
          <p:cNvSpPr/>
          <p:nvPr/>
        </p:nvSpPr>
        <p:spPr>
          <a:xfrm>
            <a:off x="4648320" y="19810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vantGarde Md BT"/>
              </a:rPr>
              <a:t>When you want to do it ?now or later ?it’s better to do it now  you will get more by c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5566680" y="228600"/>
            <a:ext cx="45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 Black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5"/>
          <p:cNvSpPr/>
          <p:nvPr/>
        </p:nvSpPr>
        <p:spPr>
          <a:xfrm>
            <a:off x="5105520" y="228600"/>
            <a:ext cx="685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rial"/>
              </a:rPr>
              <a:t>When you want to d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6"/>
          <p:cNvSpPr/>
          <p:nvPr/>
        </p:nvSpPr>
        <p:spPr>
          <a:xfrm>
            <a:off x="533520" y="1752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uhaus 93"/>
              </a:rPr>
              <a:t>My third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6629400" y="3808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vantGarde Md BT"/>
              </a:rPr>
              <a:t>When you want to do it ?now or later ?it’s better to do it now  you will get more by c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609480" y="22096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Garde Md BT"/>
              </a:rPr>
              <a:t>When you want to do it ?now or later ?it’s better to do it now  you will get more by c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9"/>
          <p:cNvSpPr/>
          <p:nvPr/>
        </p:nvSpPr>
        <p:spPr>
          <a:xfrm>
            <a:off x="609480" y="28195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95b1"/>
                </a:solidFill>
                <a:latin typeface="Bauhaus 93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609480" y="320040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9762f"/>
                </a:solidFill>
                <a:latin typeface="AvantGarde Md BT"/>
              </a:rPr>
              <a:t>When you want to do it ?now or later ?it’s better to do it now  you will get more by c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64771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表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4"/>
          <p:cNvSpPr/>
          <p:nvPr/>
        </p:nvSpPr>
        <p:spPr>
          <a:xfrm>
            <a:off x="1530360" y="2736720"/>
            <a:ext cx="5689440" cy="1976400"/>
          </a:xfrm>
          <a:prstGeom prst="ellipse">
            <a:avLst/>
          </a:prstGeom>
          <a:solidFill>
            <a:srgbClr val="cd9d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5"/>
          <p:cNvSpPr/>
          <p:nvPr/>
        </p:nvSpPr>
        <p:spPr>
          <a:xfrm rot="10800000">
            <a:off x="3284280" y="2255040"/>
            <a:ext cx="4770360" cy="2592360"/>
          </a:xfrm>
          <a:custGeom>
            <a:avLst/>
            <a:gdLst>
              <a:gd name="textAreaLeft" fmla="*/ 0 w 4770360"/>
              <a:gd name="textAreaRight" fmla="*/ 4770720 w 4770360"/>
              <a:gd name="textAreaTop" fmla="*/ 0 h 2592360"/>
              <a:gd name="textAreaBottom" fmla="*/ 2592720 h 2592360"/>
            </a:gdLst>
            <a:ahLst/>
            <a:rect l="textAreaLeft" t="textAreaTop" r="textAreaRight" b="textAreaBottom"/>
            <a:pathLst>
              <a:path fill="none" w="28936" h="37076">
                <a:moveTo>
                  <a:pt x="28936" y="35792"/>
                </a:moveTo>
                <a:cubicBezTo>
                  <a:pt x="26583" y="36641"/>
                  <a:pt x="24101" y="37075"/>
                  <a:pt x="21600" y="37076"/>
                </a:cubicBezTo>
                <a:cubicBezTo>
                  <a:pt x="9670" y="37076"/>
                  <a:pt x="0" y="27405"/>
                  <a:pt x="0" y="15476"/>
                </a:cubicBezTo>
                <a:cubicBezTo>
                  <a:pt x="-1" y="9647"/>
                  <a:pt x="2355" y="4065"/>
                  <a:pt x="6531" y="-1"/>
                </a:cubicBezTo>
              </a:path>
              <a:path stroke="0" w="28936" h="37076">
                <a:moveTo>
                  <a:pt x="28936" y="35792"/>
                </a:moveTo>
                <a:cubicBezTo>
                  <a:pt x="26583" y="36641"/>
                  <a:pt x="24101" y="37075"/>
                  <a:pt x="21600" y="37076"/>
                </a:cubicBezTo>
                <a:cubicBezTo>
                  <a:pt x="9670" y="37076"/>
                  <a:pt x="0" y="27405"/>
                  <a:pt x="0" y="15476"/>
                </a:cubicBezTo>
                <a:cubicBezTo>
                  <a:pt x="-1" y="9647"/>
                  <a:pt x="2355" y="4065"/>
                  <a:pt x="6531" y="-1"/>
                </a:cubicBezTo>
                <a:lnTo>
                  <a:pt x="21600" y="15476"/>
                </a:lnTo>
                <a:lnTo>
                  <a:pt x="28936" y="35792"/>
                </a:lnTo>
                <a:close/>
              </a:path>
            </a:pathLst>
          </a:custGeom>
          <a:solidFill>
            <a:srgbClr val="99ccff">
              <a:alpha val="70000"/>
            </a:srgbClr>
          </a:solidFill>
          <a:ln w="19080">
            <a:solidFill>
              <a:srgbClr val="3399ff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6"/>
          <p:cNvSpPr/>
          <p:nvPr/>
        </p:nvSpPr>
        <p:spPr>
          <a:xfrm rot="10800000">
            <a:off x="928440" y="2385720"/>
            <a:ext cx="3917880" cy="2882880"/>
          </a:xfrm>
          <a:custGeom>
            <a:avLst/>
            <a:gdLst>
              <a:gd name="textAreaLeft" fmla="*/ 0 w 3917880"/>
              <a:gd name="textAreaRight" fmla="*/ 3918240 w 391788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fill="none" w="23759" h="41257">
                <a:moveTo>
                  <a:pt x="0" y="108"/>
                </a:moveTo>
                <a:cubicBezTo>
                  <a:pt x="717" y="36"/>
                  <a:pt x="1437" y="-1"/>
                  <a:pt x="2159" y="0"/>
                </a:cubicBezTo>
                <a:cubicBezTo>
                  <a:pt x="14088" y="0"/>
                  <a:pt x="23759" y="9670"/>
                  <a:pt x="23759" y="21600"/>
                </a:cubicBezTo>
                <a:cubicBezTo>
                  <a:pt x="23759" y="30064"/>
                  <a:pt x="18815" y="37748"/>
                  <a:pt x="11112" y="41257"/>
                </a:cubicBezTo>
              </a:path>
              <a:path stroke="0" w="23759" h="41257">
                <a:moveTo>
                  <a:pt x="0" y="108"/>
                </a:moveTo>
                <a:cubicBezTo>
                  <a:pt x="717" y="36"/>
                  <a:pt x="1437" y="-1"/>
                  <a:pt x="2159" y="0"/>
                </a:cubicBezTo>
                <a:cubicBezTo>
                  <a:pt x="14088" y="0"/>
                  <a:pt x="23759" y="9670"/>
                  <a:pt x="23759" y="21600"/>
                </a:cubicBezTo>
                <a:cubicBezTo>
                  <a:pt x="23759" y="30064"/>
                  <a:pt x="18815" y="37748"/>
                  <a:pt x="11112" y="41257"/>
                </a:cubicBezTo>
                <a:lnTo>
                  <a:pt x="2159" y="21600"/>
                </a:lnTo>
                <a:lnTo>
                  <a:pt x="0" y="108"/>
                </a:lnTo>
                <a:close/>
              </a:path>
            </a:pathLst>
          </a:custGeom>
          <a:solidFill>
            <a:srgbClr val="e5ccbf">
              <a:alpha val="70000"/>
            </a:srgbClr>
          </a:solidFill>
          <a:ln w="19080">
            <a:solidFill>
              <a:srgbClr val="ff66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2425680" y="2650680"/>
            <a:ext cx="3897360" cy="16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631880" y="3486240"/>
            <a:ext cx="55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3072960" y="2293920"/>
            <a:ext cx="2202120" cy="275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928800" y="3851280"/>
            <a:ext cx="1465200" cy="281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1530360" y="4848120"/>
            <a:ext cx="146520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7110360" y="3851280"/>
            <a:ext cx="146376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3"/>
          <p:cNvSpPr/>
          <p:nvPr/>
        </p:nvSpPr>
        <p:spPr>
          <a:xfrm>
            <a:off x="6275520" y="2787480"/>
            <a:ext cx="146520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4" descr="yellowish_ball"/>
          <p:cNvPicPr/>
          <p:nvPr/>
        </p:nvPicPr>
        <p:blipFill>
          <a:blip r:embed="rId1"/>
          <a:stretch/>
        </p:blipFill>
        <p:spPr>
          <a:xfrm>
            <a:off x="695160" y="2752560"/>
            <a:ext cx="1184400" cy="1182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cobalt blue_ball"/>
          <p:cNvPicPr/>
          <p:nvPr/>
        </p:nvPicPr>
        <p:blipFill>
          <a:blip r:embed="rId2"/>
          <a:stretch/>
        </p:blipFill>
        <p:spPr>
          <a:xfrm>
            <a:off x="7167600" y="2732040"/>
            <a:ext cx="1236600" cy="1238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6" descr="yellow_ball"/>
          <p:cNvPicPr/>
          <p:nvPr/>
        </p:nvPicPr>
        <p:blipFill>
          <a:blip r:embed="rId3"/>
          <a:stretch/>
        </p:blipFill>
        <p:spPr>
          <a:xfrm>
            <a:off x="6275520" y="1741320"/>
            <a:ext cx="1171440" cy="1170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red_ball"/>
          <p:cNvPicPr/>
          <p:nvPr/>
        </p:nvPicPr>
        <p:blipFill>
          <a:blip r:embed="rId4"/>
          <a:stretch/>
        </p:blipFill>
        <p:spPr>
          <a:xfrm>
            <a:off x="1482840" y="3870360"/>
            <a:ext cx="1179360" cy="1179360"/>
          </a:xfrm>
          <a:prstGeom prst="rect">
            <a:avLst/>
          </a:prstGeom>
          <a:ln w="0">
            <a:noFill/>
          </a:ln>
        </p:spPr>
      </p:pic>
      <p:sp>
        <p:nvSpPr>
          <p:cNvPr id="316" name="Oval 18"/>
          <p:cNvSpPr/>
          <p:nvPr/>
        </p:nvSpPr>
        <p:spPr>
          <a:xfrm>
            <a:off x="3073320" y="3222720"/>
            <a:ext cx="4624560" cy="15192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2695680" y="2209680"/>
            <a:ext cx="3390480" cy="1598400"/>
            <a:chOff x="2695680" y="2209680"/>
            <a:chExt cx="3390480" cy="1598400"/>
          </a:xfrm>
        </p:grpSpPr>
        <p:sp>
          <p:nvSpPr>
            <p:cNvPr id="318" name="Oval 20"/>
            <p:cNvSpPr/>
            <p:nvPr/>
          </p:nvSpPr>
          <p:spPr>
            <a:xfrm>
              <a:off x="2695680" y="2230200"/>
              <a:ext cx="3390480" cy="1577880"/>
            </a:xfrm>
            <a:prstGeom prst="ellipse">
              <a:avLst/>
            </a:prstGeom>
            <a:gradFill rotWithShape="0">
              <a:gsLst>
                <a:gs pos="0">
                  <a:srgbClr val="765e47"/>
                </a:gs>
                <a:gs pos="50000">
                  <a:srgbClr val="ffcc99"/>
                </a:gs>
                <a:gs pos="100000">
                  <a:srgbClr val="765e47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1"/>
            <p:cNvSpPr/>
            <p:nvPr/>
          </p:nvSpPr>
          <p:spPr>
            <a:xfrm>
              <a:off x="3280320" y="2237040"/>
              <a:ext cx="2217600" cy="984600"/>
            </a:xfrm>
            <a:prstGeom prst="ellipse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2"/>
            <p:cNvSpPr/>
            <p:nvPr/>
          </p:nvSpPr>
          <p:spPr>
            <a:xfrm>
              <a:off x="3855600" y="2209680"/>
              <a:ext cx="1042200" cy="701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23"/>
          <p:cNvSpPr/>
          <p:nvPr/>
        </p:nvSpPr>
        <p:spPr>
          <a:xfrm>
            <a:off x="3508200" y="3406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terprise 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4"/>
          <p:cNvSpPr/>
          <p:nvPr/>
        </p:nvSpPr>
        <p:spPr>
          <a:xfrm>
            <a:off x="3975120" y="28494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5"/>
          <p:cNvSpPr/>
          <p:nvPr/>
        </p:nvSpPr>
        <p:spPr>
          <a:xfrm>
            <a:off x="2136600" y="4343400"/>
            <a:ext cx="44038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Che"/>
              </a:rPr>
              <a:t>Data Warehousing/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7012080" y="3300480"/>
            <a:ext cx="159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Web Lo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7"/>
          <p:cNvSpPr/>
          <p:nvPr/>
        </p:nvSpPr>
        <p:spPr>
          <a:xfrm>
            <a:off x="739800" y="3156120"/>
            <a:ext cx="1219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6067440" y="2303640"/>
            <a:ext cx="161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Transactio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9"/>
          <p:cNvSpPr/>
          <p:nvPr/>
        </p:nvSpPr>
        <p:spPr>
          <a:xfrm>
            <a:off x="1258920" y="4403880"/>
            <a:ext cx="16160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29" name="AutoShape 5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9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0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1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36" name="Oval 12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3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4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6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 Box 17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8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9"/>
          <p:cNvGrpSpPr/>
          <p:nvPr/>
        </p:nvGrpSpPr>
        <p:grpSpPr>
          <a:xfrm>
            <a:off x="2286000" y="380880"/>
            <a:ext cx="5867280" cy="1301760"/>
            <a:chOff x="2286000" y="380880"/>
            <a:chExt cx="5867280" cy="1301760"/>
          </a:xfrm>
        </p:grpSpPr>
        <p:sp>
          <p:nvSpPr>
            <p:cNvPr id="344" name="AutoShape 20"/>
            <p:cNvSpPr/>
            <p:nvPr/>
          </p:nvSpPr>
          <p:spPr>
            <a:xfrm>
              <a:off x="2286000" y="380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21"/>
            <p:cNvGrpSpPr/>
            <p:nvPr/>
          </p:nvGrpSpPr>
          <p:grpSpPr>
            <a:xfrm>
              <a:off x="2414160" y="500400"/>
              <a:ext cx="1130760" cy="1064520"/>
              <a:chOff x="2414160" y="500400"/>
              <a:chExt cx="1130760" cy="1064520"/>
            </a:xfrm>
          </p:grpSpPr>
          <p:sp>
            <p:nvSpPr>
              <p:cNvPr id="346" name="AutoShape 22"/>
              <p:cNvSpPr/>
              <p:nvPr/>
            </p:nvSpPr>
            <p:spPr>
              <a:xfrm>
                <a:off x="2414160" y="500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839c9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3"/>
              <p:cNvSpPr/>
              <p:nvPr/>
            </p:nvSpPr>
            <p:spPr>
              <a:xfrm>
                <a:off x="2486160" y="56772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0"/>
                    </a:srgbClr>
                  </a:gs>
                  <a:gs pos="50000">
                    <a:srgbClr val="daeef0"/>
                  </a:gs>
                  <a:gs pos="100000">
                    <a:srgbClr val="bbe0e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4"/>
              <p:cNvSpPr/>
              <p:nvPr/>
            </p:nvSpPr>
            <p:spPr>
              <a:xfrm>
                <a:off x="2540160" y="7887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Text Box 25"/>
            <p:cNvSpPr/>
            <p:nvPr/>
          </p:nvSpPr>
          <p:spPr>
            <a:xfrm>
              <a:off x="3699720" y="582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6"/>
          <p:cNvGrpSpPr/>
          <p:nvPr/>
        </p:nvGrpSpPr>
        <p:grpSpPr>
          <a:xfrm>
            <a:off x="4173120" y="2306520"/>
            <a:ext cx="4597560" cy="3262680"/>
            <a:chOff x="4173120" y="2306520"/>
            <a:chExt cx="4597560" cy="3262680"/>
          </a:xfrm>
        </p:grpSpPr>
        <p:sp>
          <p:nvSpPr>
            <p:cNvPr id="351" name="Oval 27"/>
            <p:cNvSpPr/>
            <p:nvPr/>
          </p:nvSpPr>
          <p:spPr>
            <a:xfrm>
              <a:off x="4881600" y="4411800"/>
              <a:ext cx="3889080" cy="927000"/>
            </a:xfrm>
            <a:prstGeom prst="ellips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 rot="20601600">
              <a:off x="4399560" y="2934720"/>
              <a:ext cx="3974760" cy="210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2323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 rot="20601600">
              <a:off x="4413240" y="2820600"/>
              <a:ext cx="3890520" cy="2043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rc 30"/>
            <p:cNvSpPr/>
            <p:nvPr/>
          </p:nvSpPr>
          <p:spPr>
            <a:xfrm rot="20601600">
              <a:off x="6270120" y="2742840"/>
              <a:ext cx="1992600" cy="1374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bbbb"/>
                </a:gs>
                <a:gs pos="100000">
                  <a:srgbClr val="00999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rc 31"/>
            <p:cNvSpPr/>
            <p:nvPr/>
          </p:nvSpPr>
          <p:spPr>
            <a:xfrm flipH="1" rot="20602200">
              <a:off x="4583160" y="4054320"/>
              <a:ext cx="2295360" cy="103140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72888a"/>
                </a:gs>
                <a:gs pos="100000">
                  <a:srgbClr val="bbe0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rc 32"/>
            <p:cNvSpPr/>
            <p:nvPr/>
          </p:nvSpPr>
          <p:spPr>
            <a:xfrm rot="20601600">
              <a:off x="5239800" y="2800440"/>
              <a:ext cx="2190960" cy="991440"/>
            </a:xfrm>
            <a:custGeom>
              <a:avLst/>
              <a:gdLst>
                <a:gd name="textAreaLeft" fmla="*/ 0 w 2190960"/>
                <a:gd name="textAreaRight" fmla="*/ 2191320 w 2190960"/>
                <a:gd name="textAreaTop" fmla="*/ 0 h 991440"/>
                <a:gd name="textAreaBottom" fmla="*/ 991800 h 99144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30616a"/>
                </a:gs>
                <a:gs pos="100000">
                  <a:srgbClr val="5cb8ca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rc 33"/>
            <p:cNvSpPr/>
            <p:nvPr/>
          </p:nvSpPr>
          <p:spPr>
            <a:xfrm flipH="1" rot="20602200">
              <a:off x="4342320" y="3170520"/>
              <a:ext cx="1992600" cy="147636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1c1c53"/>
                </a:gs>
                <a:gs pos="100000">
                  <a:srgbClr val="33339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 rot="20601600">
              <a:off x="5434920" y="3321000"/>
              <a:ext cx="1884600" cy="936720"/>
            </a:xfrm>
            <a:prstGeom prst="ellipse">
              <a:avLst/>
            </a:prstGeom>
            <a:gradFill rotWithShape="0">
              <a:gsLst>
                <a:gs pos="0">
                  <a:srgbClr val="e0e0e0"/>
                </a:gs>
                <a:gs pos="50000">
                  <a:srgbClr val="808080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5"/>
            <p:cNvSpPr/>
            <p:nvPr/>
          </p:nvSpPr>
          <p:spPr>
            <a:xfrm>
              <a:off x="4608720" y="3795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6"/>
            <p:cNvSpPr/>
            <p:nvPr/>
          </p:nvSpPr>
          <p:spPr>
            <a:xfrm>
              <a:off x="5940720" y="2943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37"/>
            <p:cNvSpPr/>
            <p:nvPr/>
          </p:nvSpPr>
          <p:spPr>
            <a:xfrm>
              <a:off x="7219080" y="31557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38"/>
            <p:cNvGrpSpPr/>
            <p:nvPr/>
          </p:nvGrpSpPr>
          <p:grpSpPr>
            <a:xfrm>
              <a:off x="6386400" y="3135600"/>
              <a:ext cx="2212200" cy="1936080"/>
              <a:chOff x="6386400" y="3135600"/>
              <a:chExt cx="2212200" cy="1936080"/>
            </a:xfrm>
          </p:grpSpPr>
          <p:sp>
            <p:nvSpPr>
              <p:cNvPr id="363" name="Freeform 39"/>
              <p:cNvSpPr/>
              <p:nvPr/>
            </p:nvSpPr>
            <p:spPr>
              <a:xfrm>
                <a:off x="7194600" y="3821400"/>
                <a:ext cx="1239840" cy="124236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5d7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rc 40"/>
              <p:cNvSpPr/>
              <p:nvPr/>
            </p:nvSpPr>
            <p:spPr>
              <a:xfrm rot="20539200">
                <a:off x="6538320" y="3394440"/>
                <a:ext cx="1908000" cy="129888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e00"/>
                  </a:gs>
                  <a:gs pos="100000">
                    <a:srgbClr val="99cc0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1"/>
              <p:cNvSpPr/>
              <p:nvPr/>
            </p:nvSpPr>
            <p:spPr>
              <a:xfrm>
                <a:off x="6587280" y="4154400"/>
                <a:ext cx="645840" cy="91728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e00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42"/>
              <p:cNvSpPr/>
              <p:nvPr/>
            </p:nvSpPr>
            <p:spPr>
              <a:xfrm>
                <a:off x="7005600" y="40093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43"/>
            <p:cNvSpPr/>
            <p:nvPr/>
          </p:nvSpPr>
          <p:spPr>
            <a:xfrm>
              <a:off x="5461920" y="4488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4"/>
            <p:cNvSpPr/>
            <p:nvPr/>
          </p:nvSpPr>
          <p:spPr>
            <a:xfrm>
              <a:off x="6480000" y="4201920"/>
              <a:ext cx="585720" cy="77472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5"/>
            <p:cNvSpPr/>
            <p:nvPr/>
          </p:nvSpPr>
          <p:spPr>
            <a:xfrm rot="20601600">
              <a:off x="5507640" y="3495960"/>
              <a:ext cx="1809360" cy="77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601640" y="824040"/>
            <a:ext cx="6161040" cy="5328360"/>
            <a:chOff x="1601640" y="824040"/>
            <a:chExt cx="6161040" cy="5328360"/>
          </a:xfrm>
        </p:grpSpPr>
        <p:sp>
          <p:nvSpPr>
            <p:cNvPr id="371" name="AutoShape 5"/>
            <p:cNvSpPr/>
            <p:nvPr/>
          </p:nvSpPr>
          <p:spPr>
            <a:xfrm>
              <a:off x="4011840" y="3812040"/>
              <a:ext cx="1875960" cy="187380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"/>
            <p:cNvSpPr/>
            <p:nvPr/>
          </p:nvSpPr>
          <p:spPr>
            <a:xfrm>
              <a:off x="3498840" y="427824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7"/>
            <p:cNvSpPr/>
            <p:nvPr/>
          </p:nvSpPr>
          <p:spPr>
            <a:xfrm>
              <a:off x="1601640" y="293580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8"/>
            <p:cNvSpPr/>
            <p:nvPr/>
          </p:nvSpPr>
          <p:spPr>
            <a:xfrm>
              <a:off x="4011840" y="2403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9"/>
            <p:cNvSpPr/>
            <p:nvPr/>
          </p:nvSpPr>
          <p:spPr>
            <a:xfrm>
              <a:off x="2014920" y="2935800"/>
              <a:ext cx="18759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>
              <a:off x="3498840" y="293580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1"/>
            <p:cNvSpPr/>
            <p:nvPr/>
          </p:nvSpPr>
          <p:spPr>
            <a:xfrm>
              <a:off x="5148360" y="269820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2"/>
            <p:cNvSpPr/>
            <p:nvPr/>
          </p:nvSpPr>
          <p:spPr>
            <a:xfrm>
              <a:off x="5888160" y="269820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>
              <a:off x="3643920" y="140508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4"/>
            <p:cNvSpPr/>
            <p:nvPr/>
          </p:nvSpPr>
          <p:spPr>
            <a:xfrm>
              <a:off x="3643920" y="82404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5:28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5:27:43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