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D980-3B88-4E84-ACFD-2587988A7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3484-790A-4552-94FC-F06FA2AF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E28C-A061-42FA-8841-C710622F3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CC1E-25AD-4EB3-8553-E48C3A7F2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9AE7-02AA-41D1-AFFF-8A6AC4534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57EF0-1C84-4E47-9223-1D8B7506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7E712-4320-4B51-8892-1526A024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D78D7-59D0-49AC-9945-807B57BD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B0BE0-01C6-40F0-8646-CC1ACB08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6420-AA3D-405A-BBFC-3D20A58A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C284-BC9B-482A-AA86-025C461D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D11C-A60A-4836-BB8A-B7254BB4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5A49-11BB-4488-BF82-98A1124B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F8DF-7B7B-4C68-BBCA-3E049AC74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996C-36FF-44E6-82E6-976FEA09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124D-124A-434C-B42F-2A27A6647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7866-4C99-481B-979A-25BAD03E4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FD85-2C34-465F-92C8-C73C68B0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2B00-973A-41E6-9D70-1C3596C7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BF19-8591-4C06-8492-8FD6A753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25EA-7283-4FEC-9510-691C887E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82F5-791B-4689-83AE-D01908EE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55B7-EC86-40BA-8558-9F41B4EC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4F71-DE71-41D4-A6E3-1E7FF4032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9E5DC30-0CB8-4E6F-8FF0-AAB206CEFA1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09480" y="6245280"/>
            <a:ext cx="2844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4165560" y="6245280"/>
            <a:ext cx="386028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8737560" y="6245280"/>
            <a:ext cx="2844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BC9DEC-05EF-4F19-B01E-B6BC388E4D1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392f"/>
            </a:gs>
            <a:gs pos="100000">
              <a:srgbClr val="ffe6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1"/>
          <p:cNvGrpSpPr/>
          <p:nvPr/>
        </p:nvGrpSpPr>
        <p:grpSpPr>
          <a:xfrm>
            <a:off x="6275880" y="2898000"/>
            <a:ext cx="5633280" cy="3818880"/>
            <a:chOff x="6275880" y="2898000"/>
            <a:chExt cx="5633280" cy="3818880"/>
          </a:xfrm>
        </p:grpSpPr>
        <p:sp>
          <p:nvSpPr>
            <p:cNvPr id="83" name="矩形 2"/>
            <p:cNvSpPr/>
            <p:nvPr/>
          </p:nvSpPr>
          <p:spPr>
            <a:xfrm>
              <a:off x="9825480" y="4633200"/>
              <a:ext cx="2083680" cy="2083680"/>
            </a:xfrm>
            <a:prstGeom prst="rect">
              <a:avLst/>
            </a:prstGeom>
            <a:noFill/>
            <a:ln w="1905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84" name="Group 4"/>
            <p:cNvGrpSpPr/>
            <p:nvPr/>
          </p:nvGrpSpPr>
          <p:grpSpPr>
            <a:xfrm>
              <a:off x="6275880" y="2898000"/>
              <a:ext cx="5377680" cy="3818880"/>
              <a:chOff x="6275880" y="2898000"/>
              <a:chExt cx="5377680" cy="3818880"/>
            </a:xfrm>
          </p:grpSpPr>
          <p:sp>
            <p:nvSpPr>
              <p:cNvPr id="85" name="AutoShape 3"/>
              <p:cNvSpPr/>
              <p:nvPr/>
            </p:nvSpPr>
            <p:spPr>
              <a:xfrm>
                <a:off x="6275880" y="2898000"/>
                <a:ext cx="3068640" cy="381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Freeform 5"/>
              <p:cNvSpPr/>
              <p:nvPr/>
            </p:nvSpPr>
            <p:spPr>
              <a:xfrm>
                <a:off x="8634240" y="2908080"/>
                <a:ext cx="3019320" cy="3792600"/>
              </a:xfrm>
              <a:custGeom>
                <a:avLst/>
                <a:gdLst>
                  <a:gd name="textAreaLeft" fmla="*/ 0 w 3019320"/>
                  <a:gd name="textAreaRight" fmla="*/ 3019680 w 3019320"/>
                  <a:gd name="textAreaTop" fmla="*/ 0 h 3792600"/>
                  <a:gd name="textAreaBottom" fmla="*/ 3792960 h 3792600"/>
                </a:gdLst>
                <a:ahLst/>
                <a:rect l="textAreaLeft" t="textAreaTop" r="textAreaRight" b="textAreaBottom"/>
                <a:pathLst>
                  <a:path w="2448" h="3072">
                    <a:moveTo>
                      <a:pt x="912" y="208"/>
                    </a:moveTo>
                    <a:cubicBezTo>
                      <a:pt x="928" y="192"/>
                      <a:pt x="976" y="192"/>
                      <a:pt x="1008" y="160"/>
                    </a:cubicBezTo>
                    <a:cubicBezTo>
                      <a:pt x="1024" y="128"/>
                      <a:pt x="1056" y="48"/>
                      <a:pt x="1056" y="32"/>
                    </a:cubicBezTo>
                    <a:cubicBezTo>
                      <a:pt x="1056" y="0"/>
                      <a:pt x="1200" y="32"/>
                      <a:pt x="1248" y="32"/>
                    </a:cubicBezTo>
                    <a:cubicBezTo>
                      <a:pt x="1280" y="48"/>
                      <a:pt x="1328" y="64"/>
                      <a:pt x="1328" y="96"/>
                    </a:cubicBezTo>
                    <a:cubicBezTo>
                      <a:pt x="1328" y="128"/>
                      <a:pt x="1296" y="208"/>
                      <a:pt x="1312" y="224"/>
                    </a:cubicBezTo>
                    <a:cubicBezTo>
                      <a:pt x="1328" y="240"/>
                      <a:pt x="1376" y="272"/>
                      <a:pt x="1392" y="272"/>
                    </a:cubicBezTo>
                    <a:cubicBezTo>
                      <a:pt x="1408" y="272"/>
                      <a:pt x="1392" y="272"/>
                      <a:pt x="1376" y="272"/>
                    </a:cubicBezTo>
                    <a:cubicBezTo>
                      <a:pt x="1360" y="272"/>
                      <a:pt x="1312" y="272"/>
                      <a:pt x="1312" y="272"/>
                    </a:cubicBezTo>
                    <a:cubicBezTo>
                      <a:pt x="1312" y="288"/>
                      <a:pt x="1312" y="320"/>
                      <a:pt x="1360" y="336"/>
                    </a:cubicBezTo>
                    <a:cubicBezTo>
                      <a:pt x="1424" y="368"/>
                      <a:pt x="1696" y="432"/>
                      <a:pt x="1776" y="544"/>
                    </a:cubicBezTo>
                    <a:cubicBezTo>
                      <a:pt x="1872" y="656"/>
                      <a:pt x="1968" y="848"/>
                      <a:pt x="1984" y="928"/>
                    </a:cubicBezTo>
                    <a:cubicBezTo>
                      <a:pt x="2000" y="1024"/>
                      <a:pt x="2000" y="1552"/>
                      <a:pt x="1984" y="1616"/>
                    </a:cubicBezTo>
                    <a:cubicBezTo>
                      <a:pt x="1984" y="1616"/>
                      <a:pt x="1952" y="1648"/>
                      <a:pt x="1936" y="1648"/>
                    </a:cubicBezTo>
                    <a:cubicBezTo>
                      <a:pt x="1920" y="1664"/>
                      <a:pt x="1920" y="1648"/>
                      <a:pt x="1920" y="1680"/>
                    </a:cubicBezTo>
                    <a:cubicBezTo>
                      <a:pt x="1920" y="1696"/>
                      <a:pt x="1920" y="1712"/>
                      <a:pt x="1920" y="1712"/>
                    </a:cubicBezTo>
                    <a:lnTo>
                      <a:pt x="2080" y="1712"/>
                    </a:lnTo>
                    <a:lnTo>
                      <a:pt x="2080" y="1904"/>
                    </a:lnTo>
                    <a:cubicBezTo>
                      <a:pt x="2064" y="1904"/>
                      <a:pt x="2048" y="1904"/>
                      <a:pt x="2000" y="1920"/>
                    </a:cubicBezTo>
                    <a:cubicBezTo>
                      <a:pt x="2000" y="1888"/>
                      <a:pt x="1984" y="1856"/>
                      <a:pt x="1984" y="1856"/>
                    </a:cubicBezTo>
                    <a:cubicBezTo>
                      <a:pt x="1952" y="1840"/>
                      <a:pt x="1936" y="1888"/>
                      <a:pt x="1936" y="1920"/>
                    </a:cubicBezTo>
                    <a:cubicBezTo>
                      <a:pt x="1920" y="1920"/>
                      <a:pt x="1888" y="1920"/>
                      <a:pt x="1872" y="1920"/>
                    </a:cubicBezTo>
                    <a:cubicBezTo>
                      <a:pt x="1840" y="1920"/>
                      <a:pt x="1824" y="1920"/>
                      <a:pt x="1792" y="1920"/>
                    </a:cubicBezTo>
                    <a:cubicBezTo>
                      <a:pt x="1792" y="1920"/>
                      <a:pt x="1792" y="1920"/>
                      <a:pt x="1792" y="1904"/>
                    </a:cubicBezTo>
                    <a:cubicBezTo>
                      <a:pt x="1792" y="1888"/>
                      <a:pt x="1776" y="1872"/>
                      <a:pt x="1760" y="1872"/>
                    </a:cubicBezTo>
                    <a:cubicBezTo>
                      <a:pt x="1744" y="1872"/>
                      <a:pt x="1728" y="1888"/>
                      <a:pt x="1728" y="1904"/>
                    </a:cubicBezTo>
                    <a:cubicBezTo>
                      <a:pt x="1728" y="1904"/>
                      <a:pt x="1728" y="1920"/>
                      <a:pt x="1728" y="1920"/>
                    </a:cubicBezTo>
                    <a:cubicBezTo>
                      <a:pt x="1680" y="1904"/>
                      <a:pt x="1632" y="1904"/>
                      <a:pt x="1600" y="1904"/>
                    </a:cubicBezTo>
                    <a:cubicBezTo>
                      <a:pt x="1584" y="1872"/>
                      <a:pt x="1584" y="1824"/>
                      <a:pt x="1568" y="1824"/>
                    </a:cubicBezTo>
                    <a:cubicBezTo>
                      <a:pt x="1536" y="1824"/>
                      <a:pt x="1536" y="1872"/>
                      <a:pt x="1520" y="1888"/>
                    </a:cubicBezTo>
                    <a:cubicBezTo>
                      <a:pt x="1456" y="1888"/>
                      <a:pt x="1424" y="1888"/>
                      <a:pt x="1424" y="1888"/>
                    </a:cubicBezTo>
                    <a:lnTo>
                      <a:pt x="1408" y="1872"/>
                    </a:lnTo>
                    <a:lnTo>
                      <a:pt x="1408" y="1840"/>
                    </a:lnTo>
                    <a:cubicBezTo>
                      <a:pt x="1408" y="1840"/>
                      <a:pt x="1344" y="1840"/>
                      <a:pt x="1232" y="1920"/>
                    </a:cubicBezTo>
                    <a:cubicBezTo>
                      <a:pt x="1104" y="1984"/>
                      <a:pt x="1104" y="1984"/>
                      <a:pt x="1104" y="1984"/>
                    </a:cubicBezTo>
                    <a:cubicBezTo>
                      <a:pt x="1104" y="1984"/>
                      <a:pt x="1040" y="2128"/>
                      <a:pt x="1008" y="2176"/>
                    </a:cubicBezTo>
                    <a:cubicBezTo>
                      <a:pt x="992" y="2224"/>
                      <a:pt x="928" y="2320"/>
                      <a:pt x="880" y="2352"/>
                    </a:cubicBezTo>
                    <a:cubicBezTo>
                      <a:pt x="832" y="2368"/>
                      <a:pt x="656" y="2576"/>
                      <a:pt x="624" y="2624"/>
                    </a:cubicBezTo>
                    <a:cubicBezTo>
                      <a:pt x="576" y="2656"/>
                      <a:pt x="480" y="2752"/>
                      <a:pt x="480" y="2752"/>
                    </a:cubicBezTo>
                    <a:lnTo>
                      <a:pt x="416" y="2720"/>
                    </a:lnTo>
                    <a:lnTo>
                      <a:pt x="320" y="2800"/>
                    </a:lnTo>
                    <a:lnTo>
                      <a:pt x="224" y="2704"/>
                    </a:lnTo>
                    <a:cubicBezTo>
                      <a:pt x="224" y="2704"/>
                      <a:pt x="224" y="2672"/>
                      <a:pt x="224" y="2672"/>
                    </a:cubicBezTo>
                    <a:cubicBezTo>
                      <a:pt x="208" y="2656"/>
                      <a:pt x="192" y="2624"/>
                      <a:pt x="128" y="2608"/>
                    </a:cubicBezTo>
                    <a:cubicBezTo>
                      <a:pt x="80" y="2592"/>
                      <a:pt x="0" y="2432"/>
                      <a:pt x="0" y="2432"/>
                    </a:cubicBezTo>
                    <a:cubicBezTo>
                      <a:pt x="0" y="2432"/>
                      <a:pt x="32" y="2432"/>
                      <a:pt x="96" y="2464"/>
                    </a:cubicBezTo>
                    <a:cubicBezTo>
                      <a:pt x="160" y="2512"/>
                      <a:pt x="128" y="2512"/>
                      <a:pt x="144" y="2512"/>
                    </a:cubicBezTo>
                    <a:cubicBezTo>
                      <a:pt x="160" y="2512"/>
                      <a:pt x="352" y="2528"/>
                      <a:pt x="352" y="2528"/>
                    </a:cubicBezTo>
                    <a:lnTo>
                      <a:pt x="352" y="2480"/>
                    </a:lnTo>
                    <a:cubicBezTo>
                      <a:pt x="352" y="2480"/>
                      <a:pt x="576" y="2320"/>
                      <a:pt x="640" y="2224"/>
                    </a:cubicBezTo>
                    <a:cubicBezTo>
                      <a:pt x="720" y="2112"/>
                      <a:pt x="816" y="1984"/>
                      <a:pt x="832" y="1952"/>
                    </a:cubicBezTo>
                    <a:cubicBezTo>
                      <a:pt x="864" y="1904"/>
                      <a:pt x="896" y="1840"/>
                      <a:pt x="944" y="1840"/>
                    </a:cubicBezTo>
                    <a:cubicBezTo>
                      <a:pt x="944" y="1840"/>
                      <a:pt x="976" y="1840"/>
                      <a:pt x="976" y="1824"/>
                    </a:cubicBezTo>
                    <a:cubicBezTo>
                      <a:pt x="992" y="1808"/>
                      <a:pt x="1104" y="1616"/>
                      <a:pt x="1232" y="1536"/>
                    </a:cubicBezTo>
                    <a:cubicBezTo>
                      <a:pt x="1360" y="1456"/>
                      <a:pt x="1424" y="1440"/>
                      <a:pt x="1472" y="1408"/>
                    </a:cubicBezTo>
                    <a:cubicBezTo>
                      <a:pt x="1504" y="1360"/>
                      <a:pt x="1520" y="1264"/>
                      <a:pt x="1520" y="1264"/>
                    </a:cubicBezTo>
                    <a:cubicBezTo>
                      <a:pt x="1520" y="1264"/>
                      <a:pt x="1376" y="1280"/>
                      <a:pt x="1312" y="1280"/>
                    </a:cubicBezTo>
                    <a:cubicBezTo>
                      <a:pt x="1248" y="1296"/>
                      <a:pt x="1168" y="1312"/>
                      <a:pt x="1168" y="1312"/>
                    </a:cubicBezTo>
                    <a:lnTo>
                      <a:pt x="1168" y="1120"/>
                    </a:lnTo>
                    <a:lnTo>
                      <a:pt x="1408" y="1104"/>
                    </a:lnTo>
                    <a:cubicBezTo>
                      <a:pt x="1408" y="1104"/>
                      <a:pt x="1296" y="976"/>
                      <a:pt x="1264" y="928"/>
                    </a:cubicBezTo>
                    <a:cubicBezTo>
                      <a:pt x="1232" y="896"/>
                      <a:pt x="1248" y="864"/>
                      <a:pt x="1232" y="816"/>
                    </a:cubicBezTo>
                    <a:cubicBezTo>
                      <a:pt x="1232" y="768"/>
                      <a:pt x="1216" y="768"/>
                      <a:pt x="1184" y="720"/>
                    </a:cubicBezTo>
                    <a:cubicBezTo>
                      <a:pt x="1168" y="672"/>
                      <a:pt x="1184" y="656"/>
                      <a:pt x="1200" y="608"/>
                    </a:cubicBezTo>
                    <a:cubicBezTo>
                      <a:pt x="1200" y="576"/>
                      <a:pt x="1216" y="528"/>
                      <a:pt x="1200" y="496"/>
                    </a:cubicBezTo>
                    <a:cubicBezTo>
                      <a:pt x="1184" y="480"/>
                      <a:pt x="1168" y="464"/>
                      <a:pt x="1120" y="464"/>
                    </a:cubicBezTo>
                    <a:cubicBezTo>
                      <a:pt x="1088" y="464"/>
                      <a:pt x="1040" y="464"/>
                      <a:pt x="1024" y="464"/>
                    </a:cubicBezTo>
                    <a:cubicBezTo>
                      <a:pt x="1024" y="464"/>
                      <a:pt x="1024" y="448"/>
                      <a:pt x="1024" y="432"/>
                    </a:cubicBezTo>
                    <a:cubicBezTo>
                      <a:pt x="1024" y="416"/>
                      <a:pt x="1040" y="400"/>
                      <a:pt x="1040" y="400"/>
                    </a:cubicBezTo>
                    <a:cubicBezTo>
                      <a:pt x="1040" y="400"/>
                      <a:pt x="1040" y="400"/>
                      <a:pt x="1024" y="384"/>
                    </a:cubicBezTo>
                    <a:cubicBezTo>
                      <a:pt x="1008" y="384"/>
                      <a:pt x="1008" y="384"/>
                      <a:pt x="1024" y="368"/>
                    </a:cubicBezTo>
                    <a:cubicBezTo>
                      <a:pt x="1024" y="368"/>
                      <a:pt x="1040" y="352"/>
                      <a:pt x="1024" y="352"/>
                    </a:cubicBezTo>
                    <a:cubicBezTo>
                      <a:pt x="1024" y="352"/>
                      <a:pt x="976" y="336"/>
                      <a:pt x="1024" y="320"/>
                    </a:cubicBezTo>
                    <a:cubicBezTo>
                      <a:pt x="976" y="304"/>
                      <a:pt x="960" y="304"/>
                      <a:pt x="960" y="304"/>
                    </a:cubicBezTo>
                    <a:cubicBezTo>
                      <a:pt x="960" y="304"/>
                      <a:pt x="1008" y="240"/>
                      <a:pt x="1008" y="240"/>
                    </a:cubicBezTo>
                    <a:cubicBezTo>
                      <a:pt x="1008" y="224"/>
                      <a:pt x="1008" y="224"/>
                      <a:pt x="992" y="224"/>
                    </a:cubicBezTo>
                    <a:cubicBezTo>
                      <a:pt x="992" y="224"/>
                      <a:pt x="928" y="208"/>
                      <a:pt x="928" y="208"/>
                    </a:cubicBezTo>
                    <a:cubicBezTo>
                      <a:pt x="928" y="208"/>
                      <a:pt x="912" y="208"/>
                      <a:pt x="912" y="208"/>
                    </a:cubicBezTo>
                    <a:close/>
                    <a:moveTo>
                      <a:pt x="2080" y="1920"/>
                    </a:moveTo>
                    <a:lnTo>
                      <a:pt x="2080" y="2080"/>
                    </a:lnTo>
                    <a:cubicBezTo>
                      <a:pt x="2080" y="2080"/>
                      <a:pt x="2208" y="2192"/>
                      <a:pt x="2224" y="2256"/>
                    </a:cubicBezTo>
                    <a:cubicBezTo>
                      <a:pt x="2240" y="2320"/>
                      <a:pt x="2288" y="2432"/>
                      <a:pt x="2304" y="2480"/>
                    </a:cubicBezTo>
                    <a:cubicBezTo>
                      <a:pt x="2320" y="2512"/>
                      <a:pt x="2448" y="2752"/>
                      <a:pt x="2448" y="2800"/>
                    </a:cubicBezTo>
                    <a:cubicBezTo>
                      <a:pt x="2448" y="2864"/>
                      <a:pt x="2384" y="2864"/>
                      <a:pt x="2368" y="2880"/>
                    </a:cubicBezTo>
                    <a:lnTo>
                      <a:pt x="2336" y="2864"/>
                    </a:lnTo>
                    <a:cubicBezTo>
                      <a:pt x="2336" y="2864"/>
                      <a:pt x="2256" y="3024"/>
                      <a:pt x="2240" y="3040"/>
                    </a:cubicBezTo>
                    <a:cubicBezTo>
                      <a:pt x="2224" y="3056"/>
                      <a:pt x="2176" y="3072"/>
                      <a:pt x="2112" y="3072"/>
                    </a:cubicBezTo>
                    <a:cubicBezTo>
                      <a:pt x="2048" y="3072"/>
                      <a:pt x="2000" y="3056"/>
                      <a:pt x="2000" y="3056"/>
                    </a:cubicBezTo>
                    <a:cubicBezTo>
                      <a:pt x="2000" y="3056"/>
                      <a:pt x="2032" y="3008"/>
                      <a:pt x="2096" y="2992"/>
                    </a:cubicBezTo>
                    <a:cubicBezTo>
                      <a:pt x="2096" y="2992"/>
                      <a:pt x="2128" y="3008"/>
                      <a:pt x="2144" y="2992"/>
                    </a:cubicBezTo>
                    <a:cubicBezTo>
                      <a:pt x="2160" y="2992"/>
                      <a:pt x="2176" y="2880"/>
                      <a:pt x="2176" y="2864"/>
                    </a:cubicBezTo>
                    <a:lnTo>
                      <a:pt x="2144" y="2848"/>
                    </a:lnTo>
                    <a:cubicBezTo>
                      <a:pt x="2144" y="2848"/>
                      <a:pt x="2112" y="2592"/>
                      <a:pt x="2016" y="2448"/>
                    </a:cubicBezTo>
                    <a:cubicBezTo>
                      <a:pt x="1920" y="2304"/>
                      <a:pt x="1888" y="2224"/>
                      <a:pt x="1856" y="2208"/>
                    </a:cubicBezTo>
                    <a:lnTo>
                      <a:pt x="1408" y="2208"/>
                    </a:lnTo>
                    <a:lnTo>
                      <a:pt x="1408" y="1904"/>
                    </a:lnTo>
                    <a:cubicBezTo>
                      <a:pt x="1424" y="1904"/>
                      <a:pt x="1472" y="1904"/>
                      <a:pt x="1520" y="1920"/>
                    </a:cubicBezTo>
                    <a:cubicBezTo>
                      <a:pt x="1520" y="1920"/>
                      <a:pt x="1520" y="1920"/>
                      <a:pt x="1520" y="1920"/>
                    </a:cubicBezTo>
                    <a:cubicBezTo>
                      <a:pt x="1520" y="1920"/>
                      <a:pt x="1520" y="2016"/>
                      <a:pt x="1536" y="2032"/>
                    </a:cubicBezTo>
                    <a:cubicBezTo>
                      <a:pt x="1568" y="2048"/>
                      <a:pt x="1584" y="2000"/>
                      <a:pt x="1584" y="1968"/>
                    </a:cubicBezTo>
                    <a:cubicBezTo>
                      <a:pt x="1584" y="1952"/>
                      <a:pt x="1600" y="1936"/>
                      <a:pt x="1600" y="1920"/>
                    </a:cubicBezTo>
                    <a:cubicBezTo>
                      <a:pt x="1632" y="1920"/>
                      <a:pt x="1680" y="1936"/>
                      <a:pt x="1728" y="1936"/>
                    </a:cubicBezTo>
                    <a:cubicBezTo>
                      <a:pt x="1744" y="1952"/>
                      <a:pt x="1744" y="1952"/>
                      <a:pt x="1760" y="1952"/>
                    </a:cubicBezTo>
                    <a:cubicBezTo>
                      <a:pt x="1776" y="1952"/>
                      <a:pt x="1792" y="1952"/>
                      <a:pt x="1792" y="1936"/>
                    </a:cubicBezTo>
                    <a:cubicBezTo>
                      <a:pt x="1840" y="1936"/>
                      <a:pt x="1888" y="1936"/>
                      <a:pt x="1936" y="1936"/>
                    </a:cubicBezTo>
                    <a:cubicBezTo>
                      <a:pt x="1936" y="1968"/>
                      <a:pt x="1936" y="2048"/>
                      <a:pt x="1968" y="2048"/>
                    </a:cubicBezTo>
                    <a:cubicBezTo>
                      <a:pt x="2000" y="2064"/>
                      <a:pt x="2000" y="1984"/>
                      <a:pt x="2000" y="1968"/>
                    </a:cubicBezTo>
                    <a:cubicBezTo>
                      <a:pt x="2000" y="1968"/>
                      <a:pt x="2000" y="1952"/>
                      <a:pt x="2000" y="1920"/>
                    </a:cubicBezTo>
                    <a:cubicBezTo>
                      <a:pt x="2048" y="1920"/>
                      <a:pt x="2080" y="1920"/>
                      <a:pt x="2080" y="192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Freeform 6"/>
              <p:cNvSpPr/>
              <p:nvPr/>
            </p:nvSpPr>
            <p:spPr>
              <a:xfrm rot="201600">
                <a:off x="9765720" y="4269600"/>
                <a:ext cx="276120" cy="2761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276120"/>
                  <a:gd name="textAreaBottom" fmla="*/ 276480 h 276120"/>
                </a:gdLst>
                <a:ahLst/>
                <a:rect l="textAreaLeft" t="textAreaTop" r="textAreaRight" b="textAreaBottom"/>
                <a:pathLst>
                  <a:path w="224" h="224">
                    <a:moveTo>
                      <a:pt x="192" y="32"/>
                    </a:moveTo>
                    <a:lnTo>
                      <a:pt x="208" y="32"/>
                    </a:lnTo>
                    <a:lnTo>
                      <a:pt x="224" y="176"/>
                    </a:lnTo>
                    <a:cubicBezTo>
                      <a:pt x="160" y="160"/>
                      <a:pt x="128" y="224"/>
                      <a:pt x="64" y="192"/>
                    </a:cubicBezTo>
                    <a:cubicBezTo>
                      <a:pt x="48" y="192"/>
                      <a:pt x="32" y="176"/>
                      <a:pt x="32" y="176"/>
                    </a:cubicBezTo>
                    <a:lnTo>
                      <a:pt x="16" y="176"/>
                    </a:lnTo>
                    <a:cubicBezTo>
                      <a:pt x="16" y="160"/>
                      <a:pt x="32" y="160"/>
                      <a:pt x="16" y="144"/>
                    </a:cubicBezTo>
                    <a:cubicBezTo>
                      <a:pt x="0" y="128"/>
                      <a:pt x="16" y="128"/>
                      <a:pt x="16" y="112"/>
                    </a:cubicBezTo>
                    <a:cubicBezTo>
                      <a:pt x="0" y="80"/>
                      <a:pt x="32" y="80"/>
                      <a:pt x="16" y="64"/>
                    </a:cubicBezTo>
                    <a:cubicBezTo>
                      <a:pt x="16" y="48"/>
                      <a:pt x="16" y="32"/>
                      <a:pt x="32" y="32"/>
                    </a:cubicBezTo>
                    <a:cubicBezTo>
                      <a:pt x="48" y="32"/>
                      <a:pt x="48" y="16"/>
                      <a:pt x="64" y="0"/>
                    </a:cubicBezTo>
                    <a:cubicBezTo>
                      <a:pt x="80" y="0"/>
                      <a:pt x="160" y="0"/>
                      <a:pt x="160" y="16"/>
                    </a:cubicBezTo>
                    <a:lnTo>
                      <a:pt x="192" y="32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8" name="组合 7"/>
          <p:cNvGrpSpPr/>
          <p:nvPr/>
        </p:nvGrpSpPr>
        <p:grpSpPr>
          <a:xfrm>
            <a:off x="243360" y="2404440"/>
            <a:ext cx="2535480" cy="4456800"/>
            <a:chOff x="243360" y="2404440"/>
            <a:chExt cx="2535480" cy="4456800"/>
          </a:xfrm>
        </p:grpSpPr>
        <p:sp>
          <p:nvSpPr>
            <p:cNvPr id="89" name="矩形 8"/>
            <p:cNvSpPr/>
            <p:nvPr/>
          </p:nvSpPr>
          <p:spPr>
            <a:xfrm>
              <a:off x="710280" y="4811400"/>
              <a:ext cx="2068560" cy="1867320"/>
            </a:xfrm>
            <a:prstGeom prst="rect">
              <a:avLst/>
            </a:prstGeom>
            <a:noFill/>
            <a:ln w="1905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90" name="Group 9"/>
            <p:cNvGrpSpPr/>
            <p:nvPr/>
          </p:nvGrpSpPr>
          <p:grpSpPr>
            <a:xfrm>
              <a:off x="243360" y="2404440"/>
              <a:ext cx="2308320" cy="4456800"/>
              <a:chOff x="243360" y="2404440"/>
              <a:chExt cx="2308320" cy="4456800"/>
            </a:xfrm>
          </p:grpSpPr>
          <p:sp>
            <p:nvSpPr>
              <p:cNvPr id="91" name="AutoShape 8"/>
              <p:cNvSpPr/>
              <p:nvPr/>
            </p:nvSpPr>
            <p:spPr>
              <a:xfrm>
                <a:off x="403200" y="3144240"/>
                <a:ext cx="1903320" cy="368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>
                <a:off x="243360" y="2404440"/>
                <a:ext cx="2308320" cy="4456800"/>
              </a:xfrm>
              <a:custGeom>
                <a:avLst/>
                <a:gdLst>
                  <a:gd name="textAreaLeft" fmla="*/ 0 w 2308320"/>
                  <a:gd name="textAreaRight" fmla="*/ 2308680 w 2308320"/>
                  <a:gd name="textAreaTop" fmla="*/ 0 h 4456800"/>
                  <a:gd name="textAreaBottom" fmla="*/ 4457160 h 4456800"/>
                </a:gdLst>
                <a:ahLst/>
                <a:rect l="textAreaLeft" t="textAreaTop" r="textAreaRight" b="textAreaBottom"/>
                <a:pathLst>
                  <a:path w="1552" h="3312">
                    <a:moveTo>
                      <a:pt x="1120" y="2960"/>
                    </a:moveTo>
                    <a:cubicBezTo>
                      <a:pt x="1120" y="2960"/>
                      <a:pt x="1104" y="3040"/>
                      <a:pt x="1120" y="3056"/>
                    </a:cubicBezTo>
                    <a:cubicBezTo>
                      <a:pt x="1136" y="3072"/>
                      <a:pt x="1184" y="3104"/>
                      <a:pt x="1200" y="3104"/>
                    </a:cubicBezTo>
                    <a:cubicBezTo>
                      <a:pt x="1216" y="3104"/>
                      <a:pt x="1232" y="3216"/>
                      <a:pt x="1296" y="3248"/>
                    </a:cubicBezTo>
                    <a:cubicBezTo>
                      <a:pt x="1376" y="3296"/>
                      <a:pt x="1424" y="3312"/>
                      <a:pt x="1472" y="3280"/>
                    </a:cubicBezTo>
                    <a:cubicBezTo>
                      <a:pt x="1520" y="3232"/>
                      <a:pt x="1520" y="3216"/>
                      <a:pt x="1504" y="3184"/>
                    </a:cubicBezTo>
                    <a:cubicBezTo>
                      <a:pt x="1488" y="3136"/>
                      <a:pt x="1424" y="3088"/>
                      <a:pt x="1408" y="3056"/>
                    </a:cubicBezTo>
                    <a:cubicBezTo>
                      <a:pt x="1392" y="3040"/>
                      <a:pt x="1392" y="3008"/>
                      <a:pt x="1392" y="2976"/>
                    </a:cubicBezTo>
                    <a:cubicBezTo>
                      <a:pt x="1408" y="2944"/>
                      <a:pt x="1424" y="2912"/>
                      <a:pt x="1424" y="2880"/>
                    </a:cubicBezTo>
                    <a:cubicBezTo>
                      <a:pt x="1424" y="2832"/>
                      <a:pt x="1408" y="2240"/>
                      <a:pt x="1408" y="2240"/>
                    </a:cubicBezTo>
                    <a:cubicBezTo>
                      <a:pt x="1408" y="2240"/>
                      <a:pt x="1360" y="1744"/>
                      <a:pt x="1376" y="1664"/>
                    </a:cubicBezTo>
                    <a:cubicBezTo>
                      <a:pt x="1376" y="1664"/>
                      <a:pt x="1408" y="1632"/>
                      <a:pt x="1424" y="1632"/>
                    </a:cubicBezTo>
                    <a:cubicBezTo>
                      <a:pt x="1440" y="1616"/>
                      <a:pt x="1440" y="1616"/>
                      <a:pt x="1440" y="1616"/>
                    </a:cubicBezTo>
                    <a:cubicBezTo>
                      <a:pt x="1440" y="1616"/>
                      <a:pt x="1408" y="1424"/>
                      <a:pt x="1408" y="1376"/>
                    </a:cubicBezTo>
                    <a:cubicBezTo>
                      <a:pt x="1408" y="1344"/>
                      <a:pt x="1376" y="1248"/>
                      <a:pt x="1408" y="1200"/>
                    </a:cubicBezTo>
                    <a:cubicBezTo>
                      <a:pt x="1456" y="1152"/>
                      <a:pt x="1552" y="1136"/>
                      <a:pt x="1520" y="1024"/>
                    </a:cubicBezTo>
                    <a:cubicBezTo>
                      <a:pt x="1488" y="896"/>
                      <a:pt x="1456" y="896"/>
                      <a:pt x="1456" y="800"/>
                    </a:cubicBezTo>
                    <a:cubicBezTo>
                      <a:pt x="1456" y="720"/>
                      <a:pt x="1472" y="592"/>
                      <a:pt x="1424" y="512"/>
                    </a:cubicBezTo>
                    <a:cubicBezTo>
                      <a:pt x="1376" y="432"/>
                      <a:pt x="1312" y="432"/>
                      <a:pt x="1232" y="384"/>
                    </a:cubicBezTo>
                    <a:cubicBezTo>
                      <a:pt x="1152" y="352"/>
                      <a:pt x="1136" y="336"/>
                      <a:pt x="1136" y="288"/>
                    </a:cubicBezTo>
                    <a:cubicBezTo>
                      <a:pt x="1136" y="272"/>
                      <a:pt x="1152" y="144"/>
                      <a:pt x="1104" y="64"/>
                    </a:cubicBezTo>
                    <a:cubicBezTo>
                      <a:pt x="1072" y="16"/>
                      <a:pt x="1024" y="0"/>
                      <a:pt x="944" y="0"/>
                    </a:cubicBezTo>
                    <a:cubicBezTo>
                      <a:pt x="736" y="32"/>
                      <a:pt x="736" y="128"/>
                      <a:pt x="736" y="144"/>
                    </a:cubicBezTo>
                    <a:cubicBezTo>
                      <a:pt x="736" y="160"/>
                      <a:pt x="784" y="176"/>
                      <a:pt x="784" y="176"/>
                    </a:cubicBezTo>
                    <a:cubicBezTo>
                      <a:pt x="784" y="176"/>
                      <a:pt x="768" y="240"/>
                      <a:pt x="784" y="256"/>
                    </a:cubicBezTo>
                    <a:cubicBezTo>
                      <a:pt x="800" y="272"/>
                      <a:pt x="816" y="272"/>
                      <a:pt x="816" y="272"/>
                    </a:cubicBezTo>
                    <a:cubicBezTo>
                      <a:pt x="816" y="272"/>
                      <a:pt x="816" y="304"/>
                      <a:pt x="800" y="320"/>
                    </a:cubicBezTo>
                    <a:cubicBezTo>
                      <a:pt x="784" y="336"/>
                      <a:pt x="784" y="352"/>
                      <a:pt x="816" y="368"/>
                    </a:cubicBezTo>
                    <a:cubicBezTo>
                      <a:pt x="848" y="368"/>
                      <a:pt x="816" y="368"/>
                      <a:pt x="832" y="384"/>
                    </a:cubicBezTo>
                    <a:cubicBezTo>
                      <a:pt x="832" y="400"/>
                      <a:pt x="848" y="400"/>
                      <a:pt x="848" y="400"/>
                    </a:cubicBezTo>
                    <a:cubicBezTo>
                      <a:pt x="848" y="400"/>
                      <a:pt x="864" y="416"/>
                      <a:pt x="864" y="432"/>
                    </a:cubicBezTo>
                    <a:cubicBezTo>
                      <a:pt x="880" y="448"/>
                      <a:pt x="912" y="448"/>
                      <a:pt x="912" y="448"/>
                    </a:cubicBezTo>
                    <a:cubicBezTo>
                      <a:pt x="912" y="448"/>
                      <a:pt x="896" y="480"/>
                      <a:pt x="880" y="496"/>
                    </a:cubicBezTo>
                    <a:cubicBezTo>
                      <a:pt x="864" y="512"/>
                      <a:pt x="736" y="528"/>
                      <a:pt x="720" y="608"/>
                    </a:cubicBezTo>
                    <a:cubicBezTo>
                      <a:pt x="704" y="688"/>
                      <a:pt x="688" y="832"/>
                      <a:pt x="688" y="832"/>
                    </a:cubicBezTo>
                    <a:cubicBezTo>
                      <a:pt x="688" y="832"/>
                      <a:pt x="656" y="768"/>
                      <a:pt x="640" y="736"/>
                    </a:cubicBezTo>
                    <a:cubicBezTo>
                      <a:pt x="608" y="688"/>
                      <a:pt x="576" y="592"/>
                      <a:pt x="560" y="560"/>
                    </a:cubicBezTo>
                    <a:cubicBezTo>
                      <a:pt x="560" y="544"/>
                      <a:pt x="560" y="480"/>
                      <a:pt x="560" y="480"/>
                    </a:cubicBezTo>
                    <a:cubicBezTo>
                      <a:pt x="560" y="480"/>
                      <a:pt x="448" y="512"/>
                      <a:pt x="352" y="528"/>
                    </a:cubicBezTo>
                    <a:cubicBezTo>
                      <a:pt x="240" y="544"/>
                      <a:pt x="208" y="512"/>
                      <a:pt x="160" y="480"/>
                    </a:cubicBezTo>
                    <a:cubicBezTo>
                      <a:pt x="96" y="448"/>
                      <a:pt x="0" y="448"/>
                      <a:pt x="0" y="448"/>
                    </a:cubicBezTo>
                    <a:cubicBezTo>
                      <a:pt x="0" y="448"/>
                      <a:pt x="0" y="608"/>
                      <a:pt x="160" y="752"/>
                    </a:cubicBezTo>
                    <a:cubicBezTo>
                      <a:pt x="304" y="912"/>
                      <a:pt x="320" y="928"/>
                      <a:pt x="320" y="976"/>
                    </a:cubicBezTo>
                    <a:cubicBezTo>
                      <a:pt x="320" y="1008"/>
                      <a:pt x="336" y="1056"/>
                      <a:pt x="352" y="1088"/>
                    </a:cubicBezTo>
                    <a:cubicBezTo>
                      <a:pt x="368" y="1120"/>
                      <a:pt x="368" y="1104"/>
                      <a:pt x="384" y="1152"/>
                    </a:cubicBezTo>
                    <a:cubicBezTo>
                      <a:pt x="384" y="1200"/>
                      <a:pt x="400" y="1184"/>
                      <a:pt x="400" y="1280"/>
                    </a:cubicBezTo>
                    <a:cubicBezTo>
                      <a:pt x="400" y="1360"/>
                      <a:pt x="368" y="1408"/>
                      <a:pt x="400" y="1440"/>
                    </a:cubicBezTo>
                    <a:cubicBezTo>
                      <a:pt x="416" y="1456"/>
                      <a:pt x="448" y="1456"/>
                      <a:pt x="480" y="1488"/>
                    </a:cubicBezTo>
                    <a:cubicBezTo>
                      <a:pt x="528" y="1536"/>
                      <a:pt x="608" y="1600"/>
                      <a:pt x="624" y="1616"/>
                    </a:cubicBezTo>
                    <a:cubicBezTo>
                      <a:pt x="672" y="1632"/>
                      <a:pt x="704" y="1632"/>
                      <a:pt x="704" y="1632"/>
                    </a:cubicBezTo>
                    <a:lnTo>
                      <a:pt x="704" y="1904"/>
                    </a:lnTo>
                    <a:cubicBezTo>
                      <a:pt x="704" y="1904"/>
                      <a:pt x="784" y="2368"/>
                      <a:pt x="800" y="2496"/>
                    </a:cubicBezTo>
                    <a:cubicBezTo>
                      <a:pt x="832" y="2624"/>
                      <a:pt x="816" y="2752"/>
                      <a:pt x="848" y="2768"/>
                    </a:cubicBezTo>
                    <a:cubicBezTo>
                      <a:pt x="864" y="2800"/>
                      <a:pt x="880" y="2800"/>
                      <a:pt x="848" y="2832"/>
                    </a:cubicBezTo>
                    <a:cubicBezTo>
                      <a:pt x="832" y="2864"/>
                      <a:pt x="816" y="2880"/>
                      <a:pt x="832" y="2896"/>
                    </a:cubicBezTo>
                    <a:cubicBezTo>
                      <a:pt x="832" y="2928"/>
                      <a:pt x="848" y="2944"/>
                      <a:pt x="848" y="2944"/>
                    </a:cubicBezTo>
                    <a:cubicBezTo>
                      <a:pt x="848" y="2944"/>
                      <a:pt x="752" y="2976"/>
                      <a:pt x="736" y="3008"/>
                    </a:cubicBezTo>
                    <a:cubicBezTo>
                      <a:pt x="704" y="3024"/>
                      <a:pt x="624" y="3072"/>
                      <a:pt x="624" y="3104"/>
                    </a:cubicBezTo>
                    <a:cubicBezTo>
                      <a:pt x="608" y="3152"/>
                      <a:pt x="688" y="3184"/>
                      <a:pt x="784" y="3184"/>
                    </a:cubicBezTo>
                    <a:cubicBezTo>
                      <a:pt x="880" y="3168"/>
                      <a:pt x="912" y="3136"/>
                      <a:pt x="976" y="3088"/>
                    </a:cubicBezTo>
                    <a:cubicBezTo>
                      <a:pt x="1040" y="3056"/>
                      <a:pt x="1072" y="3088"/>
                      <a:pt x="1088" y="3040"/>
                    </a:cubicBezTo>
                    <a:cubicBezTo>
                      <a:pt x="1104" y="2992"/>
                      <a:pt x="1104" y="2944"/>
                      <a:pt x="1104" y="2944"/>
                    </a:cubicBezTo>
                    <a:lnTo>
                      <a:pt x="1120" y="2960"/>
                    </a:ln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3" name="组合 12"/>
          <p:cNvGrpSpPr/>
          <p:nvPr/>
        </p:nvGrpSpPr>
        <p:grpSpPr>
          <a:xfrm>
            <a:off x="3544560" y="653400"/>
            <a:ext cx="1991520" cy="6063480"/>
            <a:chOff x="3544560" y="653400"/>
            <a:chExt cx="1991520" cy="6063480"/>
          </a:xfrm>
        </p:grpSpPr>
        <p:sp>
          <p:nvSpPr>
            <p:cNvPr id="94" name="矩形 13"/>
            <p:cNvSpPr/>
            <p:nvPr/>
          </p:nvSpPr>
          <p:spPr>
            <a:xfrm>
              <a:off x="3640320" y="4821120"/>
              <a:ext cx="1895760" cy="1895760"/>
            </a:xfrm>
            <a:prstGeom prst="rect">
              <a:avLst/>
            </a:prstGeom>
            <a:noFill/>
            <a:ln w="1905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grpSp>
          <p:nvGrpSpPr>
            <p:cNvPr id="95" name="Group 13"/>
            <p:cNvGrpSpPr/>
            <p:nvPr/>
          </p:nvGrpSpPr>
          <p:grpSpPr>
            <a:xfrm>
              <a:off x="3544560" y="653400"/>
              <a:ext cx="1920960" cy="4362480"/>
              <a:chOff x="3544560" y="653400"/>
              <a:chExt cx="1920960" cy="4362480"/>
            </a:xfrm>
          </p:grpSpPr>
          <p:sp>
            <p:nvSpPr>
              <p:cNvPr id="96" name="AutoShape 12"/>
              <p:cNvSpPr/>
              <p:nvPr/>
            </p:nvSpPr>
            <p:spPr>
              <a:xfrm>
                <a:off x="3544560" y="671040"/>
                <a:ext cx="1920960" cy="43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Freeform 14"/>
              <p:cNvSpPr/>
              <p:nvPr/>
            </p:nvSpPr>
            <p:spPr>
              <a:xfrm>
                <a:off x="3544560" y="653400"/>
                <a:ext cx="1902960" cy="4329720"/>
              </a:xfrm>
              <a:custGeom>
                <a:avLst/>
                <a:gdLst>
                  <a:gd name="textAreaLeft" fmla="*/ 0 w 1902960"/>
                  <a:gd name="textAreaRight" fmla="*/ 1903320 w 1902960"/>
                  <a:gd name="textAreaTop" fmla="*/ 0 h 4329720"/>
                  <a:gd name="textAreaBottom" fmla="*/ 4330080 h 4329720"/>
                </a:gdLst>
                <a:ahLst/>
                <a:rect l="textAreaLeft" t="textAreaTop" r="textAreaRight" b="textAreaBottom"/>
                <a:pathLst>
                  <a:path w="1696" h="3856">
                    <a:moveTo>
                      <a:pt x="640" y="528"/>
                    </a:moveTo>
                    <a:cubicBezTo>
                      <a:pt x="656" y="528"/>
                      <a:pt x="656" y="432"/>
                      <a:pt x="640" y="384"/>
                    </a:cubicBezTo>
                    <a:cubicBezTo>
                      <a:pt x="624" y="336"/>
                      <a:pt x="576" y="192"/>
                      <a:pt x="656" y="96"/>
                    </a:cubicBezTo>
                    <a:cubicBezTo>
                      <a:pt x="736" y="0"/>
                      <a:pt x="864" y="32"/>
                      <a:pt x="896" y="64"/>
                    </a:cubicBezTo>
                    <a:cubicBezTo>
                      <a:pt x="944" y="80"/>
                      <a:pt x="992" y="160"/>
                      <a:pt x="976" y="304"/>
                    </a:cubicBezTo>
                    <a:cubicBezTo>
                      <a:pt x="944" y="448"/>
                      <a:pt x="944" y="496"/>
                      <a:pt x="960" y="512"/>
                    </a:cubicBezTo>
                    <a:cubicBezTo>
                      <a:pt x="976" y="528"/>
                      <a:pt x="1120" y="624"/>
                      <a:pt x="1184" y="624"/>
                    </a:cubicBezTo>
                    <a:cubicBezTo>
                      <a:pt x="1248" y="624"/>
                      <a:pt x="1296" y="608"/>
                      <a:pt x="1408" y="768"/>
                    </a:cubicBezTo>
                    <a:cubicBezTo>
                      <a:pt x="1408" y="768"/>
                      <a:pt x="1424" y="848"/>
                      <a:pt x="1440" y="880"/>
                    </a:cubicBezTo>
                    <a:cubicBezTo>
                      <a:pt x="1456" y="896"/>
                      <a:pt x="1552" y="992"/>
                      <a:pt x="1616" y="1072"/>
                    </a:cubicBezTo>
                    <a:cubicBezTo>
                      <a:pt x="1680" y="1168"/>
                      <a:pt x="1696" y="1216"/>
                      <a:pt x="1696" y="1264"/>
                    </a:cubicBezTo>
                    <a:cubicBezTo>
                      <a:pt x="1696" y="1264"/>
                      <a:pt x="1680" y="1328"/>
                      <a:pt x="1600" y="1392"/>
                    </a:cubicBezTo>
                    <a:cubicBezTo>
                      <a:pt x="1504" y="1456"/>
                      <a:pt x="1472" y="1472"/>
                      <a:pt x="1440" y="1504"/>
                    </a:cubicBezTo>
                    <a:cubicBezTo>
                      <a:pt x="1424" y="1536"/>
                      <a:pt x="1392" y="1520"/>
                      <a:pt x="1360" y="1568"/>
                    </a:cubicBezTo>
                    <a:cubicBezTo>
                      <a:pt x="1328" y="1600"/>
                      <a:pt x="1328" y="1648"/>
                      <a:pt x="1296" y="1680"/>
                    </a:cubicBezTo>
                    <a:cubicBezTo>
                      <a:pt x="1280" y="1728"/>
                      <a:pt x="1232" y="1744"/>
                      <a:pt x="1200" y="1760"/>
                    </a:cubicBezTo>
                    <a:cubicBezTo>
                      <a:pt x="1184" y="1760"/>
                      <a:pt x="1264" y="2192"/>
                      <a:pt x="1280" y="2256"/>
                    </a:cubicBezTo>
                    <a:cubicBezTo>
                      <a:pt x="1280" y="2304"/>
                      <a:pt x="1280" y="2672"/>
                      <a:pt x="1280" y="2736"/>
                    </a:cubicBezTo>
                    <a:cubicBezTo>
                      <a:pt x="1296" y="2784"/>
                      <a:pt x="1344" y="2800"/>
                      <a:pt x="1344" y="2928"/>
                    </a:cubicBezTo>
                    <a:cubicBezTo>
                      <a:pt x="1344" y="3072"/>
                      <a:pt x="1344" y="3424"/>
                      <a:pt x="1360" y="3488"/>
                    </a:cubicBezTo>
                    <a:cubicBezTo>
                      <a:pt x="1392" y="3552"/>
                      <a:pt x="1472" y="3648"/>
                      <a:pt x="1488" y="3744"/>
                    </a:cubicBezTo>
                    <a:cubicBezTo>
                      <a:pt x="1488" y="3840"/>
                      <a:pt x="1440" y="3856"/>
                      <a:pt x="1392" y="3856"/>
                    </a:cubicBezTo>
                    <a:cubicBezTo>
                      <a:pt x="1344" y="3856"/>
                      <a:pt x="1216" y="3840"/>
                      <a:pt x="1216" y="3760"/>
                    </a:cubicBezTo>
                    <a:cubicBezTo>
                      <a:pt x="1200" y="3696"/>
                      <a:pt x="1168" y="3680"/>
                      <a:pt x="1168" y="3600"/>
                    </a:cubicBezTo>
                    <a:cubicBezTo>
                      <a:pt x="1168" y="3520"/>
                      <a:pt x="1184" y="3504"/>
                      <a:pt x="1184" y="3488"/>
                    </a:cubicBezTo>
                    <a:cubicBezTo>
                      <a:pt x="1184" y="3456"/>
                      <a:pt x="1152" y="3280"/>
                      <a:pt x="1136" y="3168"/>
                    </a:cubicBezTo>
                    <a:cubicBezTo>
                      <a:pt x="1104" y="3056"/>
                      <a:pt x="1088" y="3008"/>
                      <a:pt x="1072" y="2880"/>
                    </a:cubicBezTo>
                    <a:cubicBezTo>
                      <a:pt x="1072" y="2768"/>
                      <a:pt x="1040" y="2752"/>
                      <a:pt x="1008" y="2656"/>
                    </a:cubicBezTo>
                    <a:cubicBezTo>
                      <a:pt x="976" y="2560"/>
                      <a:pt x="864" y="2144"/>
                      <a:pt x="864" y="2144"/>
                    </a:cubicBezTo>
                    <a:cubicBezTo>
                      <a:pt x="864" y="2144"/>
                      <a:pt x="816" y="2528"/>
                      <a:pt x="800" y="2592"/>
                    </a:cubicBezTo>
                    <a:cubicBezTo>
                      <a:pt x="800" y="2640"/>
                      <a:pt x="800" y="2752"/>
                      <a:pt x="800" y="2800"/>
                    </a:cubicBezTo>
                    <a:cubicBezTo>
                      <a:pt x="816" y="2848"/>
                      <a:pt x="800" y="2992"/>
                      <a:pt x="752" y="3104"/>
                    </a:cubicBezTo>
                    <a:cubicBezTo>
                      <a:pt x="704" y="3216"/>
                      <a:pt x="672" y="3312"/>
                      <a:pt x="688" y="3472"/>
                    </a:cubicBezTo>
                    <a:cubicBezTo>
                      <a:pt x="704" y="3632"/>
                      <a:pt x="736" y="3680"/>
                      <a:pt x="624" y="3712"/>
                    </a:cubicBezTo>
                    <a:cubicBezTo>
                      <a:pt x="512" y="3728"/>
                      <a:pt x="480" y="3792"/>
                      <a:pt x="400" y="3808"/>
                    </a:cubicBezTo>
                    <a:cubicBezTo>
                      <a:pt x="320" y="3808"/>
                      <a:pt x="224" y="3840"/>
                      <a:pt x="192" y="3760"/>
                    </a:cubicBezTo>
                    <a:cubicBezTo>
                      <a:pt x="192" y="3760"/>
                      <a:pt x="192" y="3680"/>
                      <a:pt x="368" y="3600"/>
                    </a:cubicBezTo>
                    <a:cubicBezTo>
                      <a:pt x="544" y="3504"/>
                      <a:pt x="512" y="3520"/>
                      <a:pt x="512" y="3488"/>
                    </a:cubicBezTo>
                    <a:cubicBezTo>
                      <a:pt x="512" y="3472"/>
                      <a:pt x="496" y="2832"/>
                      <a:pt x="480" y="2768"/>
                    </a:cubicBezTo>
                    <a:cubicBezTo>
                      <a:pt x="480" y="2720"/>
                      <a:pt x="496" y="2704"/>
                      <a:pt x="496" y="2608"/>
                    </a:cubicBezTo>
                    <a:cubicBezTo>
                      <a:pt x="512" y="2528"/>
                      <a:pt x="512" y="2352"/>
                      <a:pt x="480" y="2240"/>
                    </a:cubicBezTo>
                    <a:cubicBezTo>
                      <a:pt x="448" y="2144"/>
                      <a:pt x="448" y="2096"/>
                      <a:pt x="432" y="2032"/>
                    </a:cubicBezTo>
                    <a:cubicBezTo>
                      <a:pt x="432" y="1984"/>
                      <a:pt x="448" y="1696"/>
                      <a:pt x="448" y="1664"/>
                    </a:cubicBezTo>
                    <a:cubicBezTo>
                      <a:pt x="448" y="1632"/>
                      <a:pt x="336" y="1552"/>
                      <a:pt x="288" y="1520"/>
                    </a:cubicBezTo>
                    <a:cubicBezTo>
                      <a:pt x="256" y="1488"/>
                      <a:pt x="32" y="1424"/>
                      <a:pt x="16" y="1312"/>
                    </a:cubicBezTo>
                    <a:cubicBezTo>
                      <a:pt x="0" y="1200"/>
                      <a:pt x="48" y="1136"/>
                      <a:pt x="80" y="1072"/>
                    </a:cubicBezTo>
                    <a:cubicBezTo>
                      <a:pt x="128" y="992"/>
                      <a:pt x="160" y="992"/>
                      <a:pt x="176" y="928"/>
                    </a:cubicBezTo>
                    <a:cubicBezTo>
                      <a:pt x="192" y="880"/>
                      <a:pt x="208" y="768"/>
                      <a:pt x="240" y="720"/>
                    </a:cubicBezTo>
                    <a:cubicBezTo>
                      <a:pt x="288" y="672"/>
                      <a:pt x="416" y="672"/>
                      <a:pt x="432" y="672"/>
                    </a:cubicBezTo>
                    <a:cubicBezTo>
                      <a:pt x="464" y="672"/>
                      <a:pt x="640" y="528"/>
                      <a:pt x="640" y="528"/>
                    </a:cubicBezTo>
                    <a:close/>
                    <a:moveTo>
                      <a:pt x="400" y="1040"/>
                    </a:moveTo>
                    <a:cubicBezTo>
                      <a:pt x="400" y="1040"/>
                      <a:pt x="432" y="1056"/>
                      <a:pt x="432" y="1104"/>
                    </a:cubicBezTo>
                    <a:cubicBezTo>
                      <a:pt x="432" y="1152"/>
                      <a:pt x="464" y="1248"/>
                      <a:pt x="496" y="1280"/>
                    </a:cubicBezTo>
                    <a:cubicBezTo>
                      <a:pt x="512" y="1296"/>
                      <a:pt x="512" y="1504"/>
                      <a:pt x="512" y="1504"/>
                    </a:cubicBezTo>
                    <a:cubicBezTo>
                      <a:pt x="512" y="1504"/>
                      <a:pt x="368" y="1392"/>
                      <a:pt x="320" y="1328"/>
                    </a:cubicBezTo>
                    <a:cubicBezTo>
                      <a:pt x="288" y="1280"/>
                      <a:pt x="224" y="1232"/>
                      <a:pt x="224" y="1232"/>
                    </a:cubicBezTo>
                    <a:cubicBezTo>
                      <a:pt x="224" y="1232"/>
                      <a:pt x="288" y="1184"/>
                      <a:pt x="336" y="1136"/>
                    </a:cubicBezTo>
                    <a:cubicBezTo>
                      <a:pt x="368" y="1088"/>
                      <a:pt x="400" y="1040"/>
                      <a:pt x="400" y="1040"/>
                    </a:cubicBezTo>
                    <a:close/>
                    <a:moveTo>
                      <a:pt x="1232" y="1040"/>
                    </a:moveTo>
                    <a:cubicBezTo>
                      <a:pt x="1232" y="1040"/>
                      <a:pt x="1280" y="1120"/>
                      <a:pt x="1360" y="1152"/>
                    </a:cubicBezTo>
                    <a:cubicBezTo>
                      <a:pt x="1424" y="1184"/>
                      <a:pt x="1472" y="1232"/>
                      <a:pt x="1472" y="1232"/>
                    </a:cubicBezTo>
                    <a:cubicBezTo>
                      <a:pt x="1472" y="1232"/>
                      <a:pt x="1344" y="1296"/>
                      <a:pt x="1328" y="1328"/>
                    </a:cubicBezTo>
                    <a:cubicBezTo>
                      <a:pt x="1312" y="1376"/>
                      <a:pt x="1264" y="1472"/>
                      <a:pt x="1232" y="1504"/>
                    </a:cubicBezTo>
                    <a:cubicBezTo>
                      <a:pt x="1200" y="1520"/>
                      <a:pt x="1168" y="1552"/>
                      <a:pt x="1168" y="1552"/>
                    </a:cubicBezTo>
                    <a:cubicBezTo>
                      <a:pt x="1168" y="1552"/>
                      <a:pt x="1120" y="1424"/>
                      <a:pt x="1136" y="1312"/>
                    </a:cubicBezTo>
                    <a:cubicBezTo>
                      <a:pt x="1152" y="1200"/>
                      <a:pt x="1184" y="1184"/>
                      <a:pt x="1200" y="1136"/>
                    </a:cubicBezTo>
                    <a:cubicBezTo>
                      <a:pt x="1216" y="1104"/>
                      <a:pt x="1232" y="1040"/>
                      <a:pt x="1232" y="1040"/>
                    </a:cubicBezTo>
                    <a:close/>
                  </a:path>
                </a:pathLst>
              </a:custGeom>
              <a:solidFill>
                <a:schemeClr val="bg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8" name="组合 17"/>
          <p:cNvGrpSpPr/>
          <p:nvPr/>
        </p:nvGrpSpPr>
        <p:grpSpPr>
          <a:xfrm>
            <a:off x="6243120" y="2705040"/>
            <a:ext cx="2428200" cy="3995280"/>
            <a:chOff x="6243120" y="2705040"/>
            <a:chExt cx="2428200" cy="3995280"/>
          </a:xfrm>
        </p:grpSpPr>
        <p:sp>
          <p:nvSpPr>
            <p:cNvPr id="99" name="矩形 18"/>
            <p:cNvSpPr/>
            <p:nvPr/>
          </p:nvSpPr>
          <p:spPr>
            <a:xfrm>
              <a:off x="6459840" y="4710240"/>
              <a:ext cx="1990080" cy="1990080"/>
            </a:xfrm>
            <a:prstGeom prst="rect">
              <a:avLst/>
            </a:prstGeom>
            <a:noFill/>
            <a:ln w="19050">
              <a:solidFill>
                <a:srgbClr val="ffffff"/>
              </a:solidFill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0" name="Freeform 18"/>
            <p:cNvSpPr/>
            <p:nvPr/>
          </p:nvSpPr>
          <p:spPr>
            <a:xfrm>
              <a:off x="6243120" y="2705040"/>
              <a:ext cx="2428200" cy="3618720"/>
            </a:xfrm>
            <a:custGeom>
              <a:avLst/>
              <a:gdLst>
                <a:gd name="textAreaLeft" fmla="*/ 0 w 2428200"/>
                <a:gd name="textAreaRight" fmla="*/ 2428560 w 2428200"/>
                <a:gd name="textAreaTop" fmla="*/ 0 h 3618720"/>
                <a:gd name="textAreaBottom" fmla="*/ 3619080 h 3618720"/>
              </a:gdLst>
              <a:ahLst/>
              <a:rect l="textAreaLeft" t="textAreaTop" r="textAreaRight" b="textAreaBottom"/>
              <a:pathLst>
                <a:path w="2064" h="3072">
                  <a:moveTo>
                    <a:pt x="1392" y="400"/>
                  </a:moveTo>
                  <a:cubicBezTo>
                    <a:pt x="1328" y="384"/>
                    <a:pt x="1200" y="400"/>
                    <a:pt x="1168" y="352"/>
                  </a:cubicBezTo>
                  <a:cubicBezTo>
                    <a:pt x="1136" y="304"/>
                    <a:pt x="1120" y="240"/>
                    <a:pt x="1104" y="160"/>
                  </a:cubicBezTo>
                  <a:cubicBezTo>
                    <a:pt x="1104" y="80"/>
                    <a:pt x="1024" y="0"/>
                    <a:pt x="944" y="0"/>
                  </a:cubicBezTo>
                  <a:cubicBezTo>
                    <a:pt x="848" y="0"/>
                    <a:pt x="768" y="32"/>
                    <a:pt x="736" y="80"/>
                  </a:cubicBezTo>
                  <a:cubicBezTo>
                    <a:pt x="704" y="112"/>
                    <a:pt x="688" y="128"/>
                    <a:pt x="704" y="160"/>
                  </a:cubicBezTo>
                  <a:cubicBezTo>
                    <a:pt x="704" y="192"/>
                    <a:pt x="720" y="192"/>
                    <a:pt x="720" y="192"/>
                  </a:cubicBezTo>
                  <a:cubicBezTo>
                    <a:pt x="720" y="192"/>
                    <a:pt x="672" y="224"/>
                    <a:pt x="672" y="240"/>
                  </a:cubicBezTo>
                  <a:cubicBezTo>
                    <a:pt x="672" y="272"/>
                    <a:pt x="688" y="368"/>
                    <a:pt x="672" y="400"/>
                  </a:cubicBezTo>
                  <a:cubicBezTo>
                    <a:pt x="656" y="432"/>
                    <a:pt x="368" y="672"/>
                    <a:pt x="352" y="720"/>
                  </a:cubicBezTo>
                  <a:cubicBezTo>
                    <a:pt x="320" y="768"/>
                    <a:pt x="304" y="800"/>
                    <a:pt x="336" y="832"/>
                  </a:cubicBezTo>
                  <a:cubicBezTo>
                    <a:pt x="368" y="880"/>
                    <a:pt x="368" y="880"/>
                    <a:pt x="368" y="880"/>
                  </a:cubicBezTo>
                  <a:cubicBezTo>
                    <a:pt x="368" y="880"/>
                    <a:pt x="240" y="896"/>
                    <a:pt x="224" y="1088"/>
                  </a:cubicBezTo>
                  <a:cubicBezTo>
                    <a:pt x="208" y="1280"/>
                    <a:pt x="192" y="1632"/>
                    <a:pt x="192" y="1632"/>
                  </a:cubicBezTo>
                  <a:cubicBezTo>
                    <a:pt x="192" y="1632"/>
                    <a:pt x="256" y="1696"/>
                    <a:pt x="272" y="1712"/>
                  </a:cubicBezTo>
                  <a:cubicBezTo>
                    <a:pt x="272" y="1728"/>
                    <a:pt x="272" y="1888"/>
                    <a:pt x="272" y="1888"/>
                  </a:cubicBezTo>
                  <a:cubicBezTo>
                    <a:pt x="272" y="1888"/>
                    <a:pt x="0" y="2064"/>
                    <a:pt x="0" y="2160"/>
                  </a:cubicBezTo>
                  <a:cubicBezTo>
                    <a:pt x="16" y="2240"/>
                    <a:pt x="144" y="2256"/>
                    <a:pt x="176" y="2224"/>
                  </a:cubicBezTo>
                  <a:cubicBezTo>
                    <a:pt x="208" y="2208"/>
                    <a:pt x="272" y="2144"/>
                    <a:pt x="320" y="2096"/>
                  </a:cubicBezTo>
                  <a:cubicBezTo>
                    <a:pt x="368" y="2048"/>
                    <a:pt x="400" y="2032"/>
                    <a:pt x="416" y="2016"/>
                  </a:cubicBezTo>
                  <a:cubicBezTo>
                    <a:pt x="432" y="2000"/>
                    <a:pt x="448" y="2000"/>
                    <a:pt x="448" y="1984"/>
                  </a:cubicBezTo>
                  <a:cubicBezTo>
                    <a:pt x="448" y="1968"/>
                    <a:pt x="464" y="1808"/>
                    <a:pt x="464" y="1808"/>
                  </a:cubicBezTo>
                  <a:cubicBezTo>
                    <a:pt x="480" y="1792"/>
                    <a:pt x="528" y="1312"/>
                    <a:pt x="512" y="1280"/>
                  </a:cubicBezTo>
                  <a:cubicBezTo>
                    <a:pt x="512" y="1280"/>
                    <a:pt x="576" y="1280"/>
                    <a:pt x="656" y="1376"/>
                  </a:cubicBezTo>
                  <a:cubicBezTo>
                    <a:pt x="736" y="1472"/>
                    <a:pt x="880" y="1568"/>
                    <a:pt x="912" y="1568"/>
                  </a:cubicBezTo>
                  <a:cubicBezTo>
                    <a:pt x="928" y="1568"/>
                    <a:pt x="928" y="1584"/>
                    <a:pt x="928" y="1584"/>
                  </a:cubicBezTo>
                  <a:cubicBezTo>
                    <a:pt x="928" y="1584"/>
                    <a:pt x="784" y="1824"/>
                    <a:pt x="768" y="1920"/>
                  </a:cubicBezTo>
                  <a:cubicBezTo>
                    <a:pt x="752" y="2016"/>
                    <a:pt x="736" y="2240"/>
                    <a:pt x="736" y="2320"/>
                  </a:cubicBezTo>
                  <a:cubicBezTo>
                    <a:pt x="736" y="2384"/>
                    <a:pt x="720" y="2496"/>
                    <a:pt x="720" y="2560"/>
                  </a:cubicBezTo>
                  <a:cubicBezTo>
                    <a:pt x="720" y="2624"/>
                    <a:pt x="752" y="2640"/>
                    <a:pt x="784" y="2656"/>
                  </a:cubicBezTo>
                  <a:cubicBezTo>
                    <a:pt x="832" y="2672"/>
                    <a:pt x="832" y="2736"/>
                    <a:pt x="832" y="2768"/>
                  </a:cubicBezTo>
                  <a:cubicBezTo>
                    <a:pt x="816" y="2800"/>
                    <a:pt x="656" y="2928"/>
                    <a:pt x="640" y="2960"/>
                  </a:cubicBezTo>
                  <a:cubicBezTo>
                    <a:pt x="624" y="2992"/>
                    <a:pt x="640" y="3072"/>
                    <a:pt x="720" y="3072"/>
                  </a:cubicBezTo>
                  <a:cubicBezTo>
                    <a:pt x="816" y="3072"/>
                    <a:pt x="832" y="3040"/>
                    <a:pt x="928" y="2976"/>
                  </a:cubicBezTo>
                  <a:cubicBezTo>
                    <a:pt x="1008" y="2912"/>
                    <a:pt x="1104" y="2864"/>
                    <a:pt x="1104" y="2816"/>
                  </a:cubicBezTo>
                  <a:cubicBezTo>
                    <a:pt x="1088" y="2752"/>
                    <a:pt x="1056" y="2720"/>
                    <a:pt x="1056" y="2704"/>
                  </a:cubicBezTo>
                  <a:cubicBezTo>
                    <a:pt x="1056" y="2672"/>
                    <a:pt x="1056" y="2624"/>
                    <a:pt x="1056" y="2576"/>
                  </a:cubicBezTo>
                  <a:cubicBezTo>
                    <a:pt x="1072" y="2512"/>
                    <a:pt x="1120" y="2352"/>
                    <a:pt x="1120" y="2240"/>
                  </a:cubicBezTo>
                  <a:cubicBezTo>
                    <a:pt x="1120" y="2128"/>
                    <a:pt x="1120" y="2032"/>
                    <a:pt x="1184" y="1952"/>
                  </a:cubicBezTo>
                  <a:cubicBezTo>
                    <a:pt x="1232" y="1856"/>
                    <a:pt x="1280" y="1776"/>
                    <a:pt x="1296" y="1760"/>
                  </a:cubicBezTo>
                  <a:cubicBezTo>
                    <a:pt x="1328" y="1728"/>
                    <a:pt x="1456" y="1536"/>
                    <a:pt x="1456" y="1456"/>
                  </a:cubicBezTo>
                  <a:cubicBezTo>
                    <a:pt x="1456" y="1376"/>
                    <a:pt x="1440" y="1008"/>
                    <a:pt x="1440" y="1008"/>
                  </a:cubicBezTo>
                  <a:cubicBezTo>
                    <a:pt x="1440" y="1008"/>
                    <a:pt x="1520" y="1104"/>
                    <a:pt x="1536" y="1168"/>
                  </a:cubicBezTo>
                  <a:cubicBezTo>
                    <a:pt x="1552" y="1232"/>
                    <a:pt x="1584" y="1280"/>
                    <a:pt x="1616" y="1328"/>
                  </a:cubicBezTo>
                  <a:cubicBezTo>
                    <a:pt x="1664" y="1392"/>
                    <a:pt x="1664" y="1392"/>
                    <a:pt x="1696" y="1424"/>
                  </a:cubicBezTo>
                  <a:cubicBezTo>
                    <a:pt x="1728" y="1456"/>
                    <a:pt x="1728" y="1536"/>
                    <a:pt x="1728" y="1568"/>
                  </a:cubicBezTo>
                  <a:cubicBezTo>
                    <a:pt x="1728" y="1616"/>
                    <a:pt x="1664" y="1728"/>
                    <a:pt x="1664" y="1760"/>
                  </a:cubicBezTo>
                  <a:cubicBezTo>
                    <a:pt x="1664" y="1792"/>
                    <a:pt x="1680" y="1808"/>
                    <a:pt x="1728" y="1760"/>
                  </a:cubicBezTo>
                  <a:cubicBezTo>
                    <a:pt x="1760" y="1728"/>
                    <a:pt x="1744" y="1712"/>
                    <a:pt x="1776" y="1712"/>
                  </a:cubicBezTo>
                  <a:cubicBezTo>
                    <a:pt x="1808" y="1712"/>
                    <a:pt x="1840" y="1728"/>
                    <a:pt x="1888" y="1792"/>
                  </a:cubicBezTo>
                  <a:cubicBezTo>
                    <a:pt x="1920" y="1840"/>
                    <a:pt x="1952" y="1840"/>
                    <a:pt x="1952" y="1808"/>
                  </a:cubicBezTo>
                  <a:cubicBezTo>
                    <a:pt x="1952" y="1776"/>
                    <a:pt x="1968" y="1808"/>
                    <a:pt x="1984" y="1808"/>
                  </a:cubicBezTo>
                  <a:cubicBezTo>
                    <a:pt x="2016" y="1824"/>
                    <a:pt x="2016" y="1792"/>
                    <a:pt x="2000" y="1776"/>
                  </a:cubicBezTo>
                  <a:cubicBezTo>
                    <a:pt x="1984" y="1744"/>
                    <a:pt x="2000" y="1728"/>
                    <a:pt x="2016" y="1760"/>
                  </a:cubicBezTo>
                  <a:cubicBezTo>
                    <a:pt x="2032" y="1776"/>
                    <a:pt x="2064" y="1760"/>
                    <a:pt x="2032" y="1728"/>
                  </a:cubicBezTo>
                  <a:cubicBezTo>
                    <a:pt x="2032" y="1712"/>
                    <a:pt x="2048" y="1696"/>
                    <a:pt x="2032" y="1680"/>
                  </a:cubicBezTo>
                  <a:cubicBezTo>
                    <a:pt x="2016" y="1632"/>
                    <a:pt x="1904" y="1616"/>
                    <a:pt x="1872" y="1552"/>
                  </a:cubicBezTo>
                  <a:cubicBezTo>
                    <a:pt x="1856" y="1488"/>
                    <a:pt x="1728" y="1104"/>
                    <a:pt x="1696" y="992"/>
                  </a:cubicBezTo>
                  <a:cubicBezTo>
                    <a:pt x="1680" y="896"/>
                    <a:pt x="1536" y="576"/>
                    <a:pt x="1504" y="528"/>
                  </a:cubicBezTo>
                  <a:cubicBezTo>
                    <a:pt x="1488" y="480"/>
                    <a:pt x="1472" y="416"/>
                    <a:pt x="1392" y="400"/>
                  </a:cubicBezTo>
                  <a:close/>
                  <a:moveTo>
                    <a:pt x="560" y="912"/>
                  </a:moveTo>
                  <a:cubicBezTo>
                    <a:pt x="560" y="912"/>
                    <a:pt x="640" y="864"/>
                    <a:pt x="688" y="832"/>
                  </a:cubicBezTo>
                  <a:cubicBezTo>
                    <a:pt x="720" y="816"/>
                    <a:pt x="768" y="800"/>
                    <a:pt x="768" y="800"/>
                  </a:cubicBezTo>
                  <a:cubicBezTo>
                    <a:pt x="784" y="784"/>
                    <a:pt x="832" y="864"/>
                    <a:pt x="864" y="928"/>
                  </a:cubicBezTo>
                  <a:cubicBezTo>
                    <a:pt x="880" y="992"/>
                    <a:pt x="864" y="1024"/>
                    <a:pt x="896" y="1072"/>
                  </a:cubicBezTo>
                  <a:cubicBezTo>
                    <a:pt x="928" y="1120"/>
                    <a:pt x="944" y="1168"/>
                    <a:pt x="944" y="1168"/>
                  </a:cubicBezTo>
                  <a:cubicBezTo>
                    <a:pt x="944" y="1168"/>
                    <a:pt x="848" y="1056"/>
                    <a:pt x="800" y="1024"/>
                  </a:cubicBezTo>
                  <a:cubicBezTo>
                    <a:pt x="752" y="976"/>
                    <a:pt x="624" y="912"/>
                    <a:pt x="592" y="912"/>
                  </a:cubicBezTo>
                  <a:cubicBezTo>
                    <a:pt x="560" y="912"/>
                    <a:pt x="560" y="912"/>
                    <a:pt x="560" y="912"/>
                  </a:cubicBez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1523880" y="0"/>
            <a:ext cx="8466480" cy="6858000"/>
            <a:chOff x="1523880" y="0"/>
            <a:chExt cx="8466480" cy="6858000"/>
          </a:xfrm>
        </p:grpSpPr>
        <p:sp>
          <p:nvSpPr>
            <p:cNvPr id="102" name="矩形 4"/>
            <p:cNvSpPr/>
            <p:nvPr/>
          </p:nvSpPr>
          <p:spPr>
            <a:xfrm>
              <a:off x="2140920" y="0"/>
              <a:ext cx="6742800" cy="69912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680"/>
              <a:ext cx="8466480" cy="514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Box 7">
              <a:hlinkClick r:id="rId3"/>
            </p:cNvPr>
            <p:cNvSpPr/>
            <p:nvPr/>
          </p:nvSpPr>
          <p:spPr>
            <a:xfrm rot="20926800">
              <a:off x="3444840" y="3571920"/>
              <a:ext cx="4667040" cy="11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en-US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www.</a:t>
              </a:r>
              <a:r>
                <a:rPr b="1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eeppt</a:t>
              </a:r>
              <a:r>
                <a:rPr b="1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6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_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默认设计模板">
  <a:themeElements>
    <a:clrScheme name="默认设计模板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cfdef3"/>
      </a:accent1>
      <a:accent2>
        <a:srgbClr val="333399"/>
      </a:accent2>
      <a:accent3>
        <a:srgbClr val="ffffff"/>
      </a:accent3>
      <a:accent4>
        <a:srgbClr val="000000"/>
      </a:accent4>
      <a:accent5>
        <a:srgbClr val="e4ecf8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  <Words>16</Words>
  <Paragraphs>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31T11:16:25Z</dcterms:created>
  <dc:creator>www.pptbz.com</dc:creator>
  <dc:description/>
  <dc:language>en-US</dc:language>
  <cp:lastModifiedBy>a</cp:lastModifiedBy>
  <dcterms:modified xsi:type="dcterms:W3CDTF">2015-01-23T02:52:24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2</vt:r8>
  </property>
</Properties>
</file>