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5EDD-62A4-4DB6-929B-C8302D636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BCB4-4327-418E-BD4B-D873D6F1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9CCE-C3C8-4B09-8679-58FFC12E0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5357-764D-4274-A198-FB61A9D72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9A3E-A036-4AC9-8A49-43F8397E4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9A42-9A6C-47E9-93AE-65FEC165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6AB6-63B1-4190-B926-FB587957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A003-441D-44B0-980D-551BF26B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C9AC-2041-4095-8A2B-984F5C9A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5ECD-5402-4AAF-88C5-A0D3CE7D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543F-C51D-4EBD-8AEA-90B45C52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699C-4CD9-4C36-A7FD-E368E32E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67D4-991D-43FF-A686-6920CF96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7AB8-2FA5-42A5-970E-10832DE6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69D5-286D-4195-9C86-23061D75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9828-A568-4644-8A35-9800C852E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8DEC-80D3-42F9-BA46-1647C542D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C27F-404D-419D-BDB5-5E75B4C6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02D7-02BA-49D9-87EA-F3B87DC8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2F00-BA9C-414C-8D6D-179E3C61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118C-1265-4FFD-920D-F5D57559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DE70-6A64-4297-87D8-E7E6028C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AB1C-B2B6-4768-89FA-65C0EF14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1804-3456-4C4F-8BDE-81EA9440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176A-E26B-46B3-9716-8CF8812384D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3B86-1B25-4ED5-9329-7CA7E8165AE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4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9200" indent="-238320">
              <a:spcBef>
                <a:spcPts val="64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64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64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-190800">
              <a:spcBef>
                <a:spcPts val="64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4680" indent="-190800">
              <a:spcBef>
                <a:spcPts val="64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4680" indent="-190800">
              <a:spcBef>
                <a:spcPts val="64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59C1-EC60-44F2-813F-48C69104C3C5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71E2-9168-4F54-B157-15ACD847A8CE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2698560" y="2136600"/>
            <a:ext cx="343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fbfbf"/>
                </a:solidFill>
                <a:latin typeface="微软雅黑"/>
                <a:ea typeface="微软雅黑"/>
              </a:rPr>
              <a:t>金属拉丝</a:t>
            </a:r>
            <a:r>
              <a:rPr b="1" lang="zh-CN" sz="3600" spc="-1" strike="noStrike">
                <a:solidFill>
                  <a:srgbClr val="bfbfb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bfbfbf"/>
                </a:solidFill>
                <a:latin typeface="微软雅黑"/>
                <a:ea typeface="微软雅黑"/>
              </a:rPr>
              <a:t>背景图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2"/>
          <p:cNvGrpSpPr/>
          <p:nvPr/>
        </p:nvGrpSpPr>
        <p:grpSpPr>
          <a:xfrm>
            <a:off x="762120" y="0"/>
            <a:ext cx="7054560" cy="5714640"/>
            <a:chOff x="762120" y="0"/>
            <a:chExt cx="7054560" cy="5714640"/>
          </a:xfrm>
        </p:grpSpPr>
        <p:sp>
          <p:nvSpPr>
            <p:cNvPr id="84" name="矩形 4"/>
            <p:cNvSpPr/>
            <p:nvPr/>
          </p:nvSpPr>
          <p:spPr>
            <a:xfrm>
              <a:off x="1301760" y="0"/>
              <a:ext cx="5599800" cy="596520"/>
            </a:xfrm>
            <a:prstGeom prst="rect">
              <a:avLst/>
            </a:prstGeom>
            <a:solidFill>
              <a:srgbClr val="c3d69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762120" y="1428480"/>
              <a:ext cx="705456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Box 7"/>
            <p:cNvSpPr/>
            <p:nvPr/>
          </p:nvSpPr>
          <p:spPr>
            <a:xfrm rot="20926800">
              <a:off x="2359800" y="2964960"/>
              <a:ext cx="3889080" cy="99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www.</a:t>
              </a:r>
              <a:r>
                <a:rPr b="0" lang="zh-CN" sz="2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eeppt</a:t>
              </a:r>
              <a:r>
                <a:rPr b="0" lang="en-US" sz="2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.com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9T06:58:00Z</dcterms:created>
  <dc:creator>lidan</dc:creator>
  <dc:description/>
  <dc:language>en-US</dc:language>
  <cp:lastModifiedBy>a</cp:lastModifiedBy>
  <dcterms:modified xsi:type="dcterms:W3CDTF">2015-05-20T05:28:14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