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297-1B53-4810-A93B-8D7D54AF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23C-4D89-4EB5-9AF8-FC701C8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217-471E-46A3-8AC0-6A5473F2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D82-3490-4CD7-A6A2-76D8D56F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00B-2D4D-4BF3-B3D6-07632BBD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E8F-F526-4992-AB95-81E8DF00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6F1C-1BAF-40AC-8AE1-879AB19D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6264-EB60-43EE-83B0-9680A10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CD90-2077-4302-884C-644A59A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D0FE-FA6C-4E15-AC00-95E6D74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9C4-BD0C-4A75-8AAB-8D08B77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203-8004-43BF-8680-4C4B0EA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A60F-CE1F-4DA1-A7E2-A3BF535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D3EF-F94F-40D7-A3E3-F20C0C5A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E6C4-1D53-4D72-A758-51F56C5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AF1-425B-47BB-9299-E8F3CD88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BD0B-87F8-44F0-AFFB-56A4DB51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53DF-7B42-47AC-873B-4594F387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7D54-A67D-44C9-B1D1-E65EBC4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D4CC-6369-4552-AB6E-4DFB5A88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1C16-5EB9-4CA0-9561-66BB5E63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5899-1A74-40CE-964A-2EC1CAD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094-D1BE-419C-9B9D-238BDD9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4932-895E-49D9-B98A-6061C99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EAFE-AD55-4011-821C-BFD5984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2E8E-2442-46A4-AD59-24312C3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D79D-6050-4B46-8533-F62A66D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DD0A-7446-464E-994F-4B534406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4DC0-B08D-405B-8938-6FBAC1C4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1F55-4550-42CE-9BEB-26753845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8FC5-FA0A-402C-8655-7FCC6366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86DA-038A-4B6B-A38C-CF1361D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81A4-C5A6-48C5-A457-AD6A131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F48-B893-49CE-8CFA-F9365203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431B-8251-4C0C-A3EE-28A17864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DF3A-E7EF-472D-A32E-F7883FA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7758-5886-43D0-9FCB-13112DB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D988-1F9E-4204-89D7-E495A42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36B7-EC99-4F12-93DE-C2CB65C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0709-041E-4BAC-A4A4-FCC0E0E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CB7D-3C5B-428A-BE8D-C033F3A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280B-BD89-4F42-B1DA-9D6761D0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F1E7-461F-4FB4-8D06-F5E39B88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8484-A671-406C-A269-98155B1D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047-0995-4AE9-9993-4B41F4E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B00F-0F3A-4E92-9E34-64616635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CC48-E4EB-4378-BF89-0D253A0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5D7B-B410-4E34-A871-6489938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F1EA-54DE-4793-AC05-E81AF6F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19F9B-C27B-4CCE-8E1B-8A02B0F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E880-432A-4D06-9EB0-C987AC4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65AC-0928-4063-8BF9-291A7BC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E80B-C592-43A8-9FDB-EC9186F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CF06-4478-4C69-80C1-B431F45A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D9E2-B398-4B53-8D09-BD4D76F1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0E4-AD25-456D-A313-5024CC4E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78C23-DB6A-406F-AE39-D65396DD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4127-7535-4E0E-9F01-144DF79D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F35D-4BD1-43A8-98B5-09CCB325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8F2B-2B84-42C2-BBFD-660C425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42ECB-F81A-4A97-9598-CA90017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72B8-D718-4557-B71F-74ACC60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886E4-B300-404C-B005-268216E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CD0E-80CA-4683-A88B-5A73CE7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F7FA-10A3-4E29-AD25-2417FAF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513F-267E-4E6F-9EDA-CF9C963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017-1F76-48FE-A88F-3BFC68B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2550-7477-44F3-A16E-8FB9CF8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B659-71B8-40FA-B154-383900F7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066C-81CB-415B-889F-13B539B9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BDD8-D689-4C04-93FF-76D47466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011C-B775-4B20-9654-945F2755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3CCC-1D34-4B10-8E70-1D64499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BC31-F86F-4BF4-8654-5822561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04CE-59CF-4A88-A856-AE94E7E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E5021-883A-466B-9EAD-57DC25A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C56C-A2F4-49C8-8366-F6E42C0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D6F-7B7F-4FE6-8A08-F66C222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31446-6D12-4194-88BA-4633905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27F3-B67F-48D3-B08B-87096B7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F6BAE-D706-4D1C-8D5E-9F93B01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2AA4-FC6E-428A-9FEB-8688B3F0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6C0E-A737-4355-AD3D-0D67FF33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7FA-87B4-49CC-8BFC-816D922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D52E-C954-47C3-8963-79427786C0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927-DCD8-4BC2-AD14-3DD3CC6D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CE8-06E9-4539-AD7D-4D9FD9CE3C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3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5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5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58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0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206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11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Group 15"/>
              <p:cNvGrpSpPr/>
              <p:nvPr/>
            </p:nvGrpSpPr>
            <p:grpSpPr>
              <a:xfrm>
                <a:off x="852120" y="4055760"/>
                <a:ext cx="1833840" cy="1663200"/>
                <a:chOff x="852120" y="4055760"/>
                <a:chExt cx="1833840" cy="1663200"/>
              </a:xfrm>
            </p:grpSpPr>
            <p:sp>
              <p:nvSpPr>
                <p:cNvPr id="217" name="Freeform 16"/>
                <p:cNvSpPr/>
                <p:nvPr/>
              </p:nvSpPr>
              <p:spPr>
                <a:xfrm flipH="1" rot="7102800">
                  <a:off x="1262160" y="3944880"/>
                  <a:ext cx="47376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221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5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29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338-062F-4E55-8ACE-1A2A0F1E95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A78-EDEF-475C-A5CA-C828E52E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671-338B-40F5-9115-D1BDDF6B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70" name="Group 3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371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5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7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0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Group 17"/>
            <p:cNvGrpSpPr/>
            <p:nvPr/>
          </p:nvGrpSpPr>
          <p:grpSpPr>
            <a:xfrm>
              <a:off x="4137120" y="1036080"/>
              <a:ext cx="1017360" cy="1261800"/>
              <a:chOff x="4137120" y="1036080"/>
              <a:chExt cx="1017360" cy="1261800"/>
            </a:xfrm>
          </p:grpSpPr>
          <p:sp>
            <p:nvSpPr>
              <p:cNvPr id="385" name="Freeform 18"/>
              <p:cNvSpPr/>
              <p:nvPr/>
            </p:nvSpPr>
            <p:spPr>
              <a:xfrm rot="3220200">
                <a:off x="4553280" y="107424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19"/>
              <p:cNvSpPr/>
              <p:nvPr/>
            </p:nvSpPr>
            <p:spPr>
              <a:xfrm rot="3220200">
                <a:off x="4636800" y="160668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20"/>
              <p:cNvSpPr/>
              <p:nvPr/>
            </p:nvSpPr>
            <p:spPr>
              <a:xfrm rot="3220200">
                <a:off x="4097520" y="196416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5641920" y="295920"/>
              <a:ext cx="888840" cy="832680"/>
              <a:chOff x="5641920" y="295920"/>
              <a:chExt cx="888840" cy="832680"/>
            </a:xfrm>
          </p:grpSpPr>
          <p:sp>
            <p:nvSpPr>
              <p:cNvPr id="389" name="Freeform 22"/>
              <p:cNvSpPr/>
              <p:nvPr/>
            </p:nvSpPr>
            <p:spPr>
              <a:xfrm rot="14908200">
                <a:off x="5753160" y="79812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3"/>
              <p:cNvSpPr/>
              <p:nvPr/>
            </p:nvSpPr>
            <p:spPr>
              <a:xfrm rot="14908200">
                <a:off x="5703480" y="47736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4"/>
              <p:cNvSpPr/>
              <p:nvPr/>
            </p:nvSpPr>
            <p:spPr>
              <a:xfrm rot="14908200">
                <a:off x="6241320" y="396000"/>
                <a:ext cx="31932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25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393" name="Freeform 26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7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28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29"/>
            <p:cNvGrpSpPr/>
            <p:nvPr/>
          </p:nvGrpSpPr>
          <p:grpSpPr>
            <a:xfrm>
              <a:off x="357120" y="430560"/>
              <a:ext cx="1692000" cy="1147680"/>
              <a:chOff x="357120" y="430560"/>
              <a:chExt cx="1692000" cy="1147680"/>
            </a:xfrm>
          </p:grpSpPr>
          <p:sp>
            <p:nvSpPr>
              <p:cNvPr id="397" name="Freeform 30"/>
              <p:cNvSpPr/>
              <p:nvPr/>
            </p:nvSpPr>
            <p:spPr>
              <a:xfrm flipH="1" rot="4107000">
                <a:off x="1558080" y="104904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31"/>
              <p:cNvSpPr/>
              <p:nvPr/>
            </p:nvSpPr>
            <p:spPr>
              <a:xfrm flipH="1" rot="4107000">
                <a:off x="1003320" y="5742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32"/>
              <p:cNvSpPr/>
              <p:nvPr/>
            </p:nvSpPr>
            <p:spPr>
              <a:xfrm flipH="1" rot="4107000">
                <a:off x="259920" y="10893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33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401" name="Freeform 34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35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6595-DDCA-41C4-BA3B-FEDED0CDB5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da%20bai%20lu"/>
          <p:cNvPicPr/>
          <p:nvPr/>
        </p:nvPicPr>
        <p:blipFill>
          <a:blip r:embed="rId1"/>
          <a:stretch/>
        </p:blipFill>
        <p:spPr>
          <a:xfrm>
            <a:off x="2844720" y="404640"/>
            <a:ext cx="6299280" cy="6197760"/>
          </a:xfrm>
          <a:prstGeom prst="rect">
            <a:avLst/>
          </a:prstGeom>
          <a:ln w="0">
            <a:noFill/>
          </a:ln>
        </p:spPr>
      </p:pic>
      <p:sp>
        <p:nvSpPr>
          <p:cNvPr id="453" name="WordArt 6"/>
          <p:cNvSpPr txBox="1"/>
          <p:nvPr/>
        </p:nvSpPr>
        <p:spPr>
          <a:xfrm rot="5400000">
            <a:off x="-900360" y="2203560"/>
            <a:ext cx="46069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平行线的识别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91440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762120" y="135108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下图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=∠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根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∠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根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388620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5"/>
          <p:cNvGrpSpPr/>
          <p:nvPr/>
        </p:nvGrpSpPr>
        <p:grpSpPr>
          <a:xfrm>
            <a:off x="4952880" y="4105440"/>
            <a:ext cx="3886200" cy="2374200"/>
            <a:chOff x="4952880" y="4105440"/>
            <a:chExt cx="3886200" cy="2374200"/>
          </a:xfrm>
        </p:grpSpPr>
        <p:pic>
          <p:nvPicPr>
            <p:cNvPr id="535" name="Picture 6" descr="g485a"/>
            <p:cNvPicPr/>
            <p:nvPr/>
          </p:nvPicPr>
          <p:blipFill>
            <a:blip r:embed="rId1">
              <a:lum bright="-24000"/>
            </a:blip>
            <a:stretch/>
          </p:blipFill>
          <p:spPr>
            <a:xfrm>
              <a:off x="4952880" y="4105440"/>
              <a:ext cx="289548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 Box 7"/>
            <p:cNvSpPr/>
            <p:nvPr/>
          </p:nvSpPr>
          <p:spPr>
            <a:xfrm>
              <a:off x="5279760" y="6019920"/>
              <a:ext cx="35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（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题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  <p:sndAc>
      <p:stSnd>
        <p:snd r:embed="rId2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684360" y="708120"/>
            <a:ext cx="79246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下图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D +∠ABC =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根据同旁内角互补，两直线平行，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∥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D +∠ABC =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根据同旁内角互补，两直线平行，可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∥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8289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4767120" y="3699000"/>
            <a:ext cx="3333600" cy="3188520"/>
            <a:chOff x="4767120" y="3699000"/>
            <a:chExt cx="3333600" cy="3188520"/>
          </a:xfrm>
        </p:grpSpPr>
        <p:pic>
          <p:nvPicPr>
            <p:cNvPr id="540" name="Picture 5" descr="g485b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4767120" y="3699000"/>
              <a:ext cx="333360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6"/>
            <p:cNvSpPr/>
            <p:nvPr/>
          </p:nvSpPr>
          <p:spPr>
            <a:xfrm>
              <a:off x="5605200" y="6427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第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题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  <p:sndAc>
      <p:stSnd>
        <p:snd r:embed="rId2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2509200" y="609480"/>
            <a:ext cx="40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右图所示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533520" y="2276640"/>
            <a:ext cx="451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等，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等，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如果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等，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5412240" y="1752480"/>
            <a:ext cx="3186720" cy="3656520"/>
            <a:chOff x="5412240" y="1752480"/>
            <a:chExt cx="3186720" cy="3656520"/>
          </a:xfrm>
        </p:grpSpPr>
        <p:grpSp>
          <p:nvGrpSpPr>
            <p:cNvPr id="545" name="Group 5"/>
            <p:cNvGrpSpPr/>
            <p:nvPr/>
          </p:nvGrpSpPr>
          <p:grpSpPr>
            <a:xfrm>
              <a:off x="5412240" y="1752480"/>
              <a:ext cx="3186720" cy="3656520"/>
              <a:chOff x="5412240" y="1752480"/>
              <a:chExt cx="3186720" cy="3656520"/>
            </a:xfrm>
          </p:grpSpPr>
          <p:sp>
            <p:nvSpPr>
              <p:cNvPr id="546" name="Line 6"/>
              <p:cNvSpPr/>
              <p:nvPr/>
            </p:nvSpPr>
            <p:spPr>
              <a:xfrm>
                <a:off x="5871600" y="3088440"/>
                <a:ext cx="2660400" cy="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Group 7"/>
              <p:cNvGrpSpPr/>
              <p:nvPr/>
            </p:nvGrpSpPr>
            <p:grpSpPr>
              <a:xfrm>
                <a:off x="5605560" y="2217600"/>
                <a:ext cx="2748960" cy="3191400"/>
                <a:chOff x="5605560" y="2217600"/>
                <a:chExt cx="2748960" cy="3191400"/>
              </a:xfrm>
            </p:grpSpPr>
            <p:sp>
              <p:nvSpPr>
                <p:cNvPr id="548" name="Line 8"/>
                <p:cNvSpPr/>
                <p:nvPr/>
              </p:nvSpPr>
              <p:spPr>
                <a:xfrm>
                  <a:off x="5605560" y="4635720"/>
                  <a:ext cx="2660400" cy="0"/>
                </a:xfrm>
                <a:prstGeom prst="line">
                  <a:avLst/>
                </a:prstGeom>
                <a:ln w="1908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9"/>
                <p:cNvSpPr/>
                <p:nvPr/>
              </p:nvSpPr>
              <p:spPr>
                <a:xfrm flipH="1">
                  <a:off x="5605560" y="2410920"/>
                  <a:ext cx="2748960" cy="2998080"/>
                </a:xfrm>
                <a:prstGeom prst="line">
                  <a:avLst/>
                </a:prstGeom>
                <a:ln w="1908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0"/>
                <p:cNvSpPr/>
                <p:nvPr/>
              </p:nvSpPr>
              <p:spPr>
                <a:xfrm flipV="1">
                  <a:off x="7733880" y="2217600"/>
                  <a:ext cx="0" cy="870120"/>
                </a:xfrm>
                <a:prstGeom prst="line">
                  <a:avLst/>
                </a:prstGeom>
                <a:ln w="1908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Line 11"/>
                <p:cNvSpPr/>
                <p:nvPr/>
              </p:nvSpPr>
              <p:spPr>
                <a:xfrm flipV="1">
                  <a:off x="6314760" y="3764880"/>
                  <a:ext cx="0" cy="870120"/>
                </a:xfrm>
                <a:prstGeom prst="line">
                  <a:avLst/>
                </a:prstGeom>
                <a:ln w="1908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12"/>
                <p:cNvSpPr/>
                <p:nvPr/>
              </p:nvSpPr>
              <p:spPr>
                <a:xfrm>
                  <a:off x="7741440" y="2921040"/>
                  <a:ext cx="149400" cy="28080"/>
                </a:xfrm>
                <a:custGeom>
                  <a:avLst/>
                  <a:gdLst/>
                  <a:ahLst/>
                  <a:rect l="l" t="t" r="r" b="b"/>
                  <a:pathLst>
                    <a:path w="81" h="14">
                      <a:moveTo>
                        <a:pt x="0" y="0"/>
                      </a:moveTo>
                      <a:cubicBezTo>
                        <a:pt x="27" y="5"/>
                        <a:pt x="81" y="14"/>
                        <a:pt x="81" y="14"/>
                      </a:cubicBezTo>
                    </a:path>
                  </a:pathLst>
                </a:custGeom>
                <a:noFill/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13"/>
                <p:cNvSpPr/>
                <p:nvPr/>
              </p:nvSpPr>
              <p:spPr>
                <a:xfrm>
                  <a:off x="7593480" y="2868480"/>
                  <a:ext cx="147600" cy="215640"/>
                </a:xfrm>
                <a:custGeom>
                  <a:avLst/>
                  <a:gdLst/>
                  <a:ahLst/>
                  <a:rect l="l" t="t" r="r" b="b"/>
                  <a:pathLst>
                    <a:path w="80" h="107">
                      <a:moveTo>
                        <a:pt x="80" y="0"/>
                      </a:moveTo>
                      <a:cubicBezTo>
                        <a:pt x="0" y="20"/>
                        <a:pt x="0" y="26"/>
                        <a:pt x="0" y="107"/>
                      </a:cubicBezTo>
                    </a:path>
                  </a:pathLst>
                </a:custGeom>
                <a:noFill/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14"/>
                <p:cNvSpPr/>
                <p:nvPr/>
              </p:nvSpPr>
              <p:spPr>
                <a:xfrm>
                  <a:off x="7643160" y="3084120"/>
                  <a:ext cx="23760" cy="8064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0" y="0"/>
                      </a:moveTo>
                      <a:cubicBezTo>
                        <a:pt x="4" y="13"/>
                        <a:pt x="13" y="40"/>
                        <a:pt x="13" y="40"/>
                      </a:cubicBezTo>
                      <a:cubicBezTo>
                        <a:pt x="13" y="40"/>
                        <a:pt x="4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edfad2"/>
                </a:solidFill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15"/>
                <p:cNvSpPr/>
                <p:nvPr/>
              </p:nvSpPr>
              <p:spPr>
                <a:xfrm>
                  <a:off x="6340680" y="4371840"/>
                  <a:ext cx="151560" cy="98640"/>
                </a:xfrm>
                <a:custGeom>
                  <a:avLst/>
                  <a:gdLst/>
                  <a:ahLst/>
                  <a:rect l="l" t="t" r="r" b="b"/>
                  <a:pathLst>
                    <a:path w="82" h="49">
                      <a:moveTo>
                        <a:pt x="0" y="8"/>
                      </a:moveTo>
                      <a:cubicBezTo>
                        <a:pt x="78" y="23"/>
                        <a:pt x="58" y="0"/>
                        <a:pt x="82" y="49"/>
                      </a:cubicBezTo>
                    </a:path>
                  </a:pathLst>
                </a:custGeom>
                <a:noFill/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16"/>
                <p:cNvSpPr/>
                <p:nvPr/>
              </p:nvSpPr>
              <p:spPr>
                <a:xfrm>
                  <a:off x="6187320" y="4470480"/>
                  <a:ext cx="127080" cy="165240"/>
                </a:xfrm>
                <a:custGeom>
                  <a:avLst/>
                  <a:gdLst/>
                  <a:ahLst/>
                  <a:rect l="l" t="t" r="r" b="b"/>
                  <a:pathLst>
                    <a:path w="69" h="82">
                      <a:moveTo>
                        <a:pt x="69" y="0"/>
                      </a:moveTo>
                      <a:cubicBezTo>
                        <a:pt x="0" y="16"/>
                        <a:pt x="0" y="10"/>
                        <a:pt x="0" y="82"/>
                      </a:cubicBezTo>
                    </a:path>
                  </a:pathLst>
                </a:custGeom>
                <a:noFill/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17"/>
                <p:cNvSpPr/>
                <p:nvPr/>
              </p:nvSpPr>
              <p:spPr>
                <a:xfrm>
                  <a:off x="6087600" y="4663800"/>
                  <a:ext cx="99360" cy="165240"/>
                </a:xfrm>
                <a:custGeom>
                  <a:avLst/>
                  <a:gdLst/>
                  <a:ahLst/>
                  <a:rect l="l" t="t" r="r" b="b"/>
                  <a:pathLst>
                    <a:path w="54" h="82">
                      <a:moveTo>
                        <a:pt x="0" y="0"/>
                      </a:moveTo>
                      <a:cubicBezTo>
                        <a:pt x="4" y="23"/>
                        <a:pt x="0" y="49"/>
                        <a:pt x="13" y="68"/>
                      </a:cubicBezTo>
                      <a:cubicBezTo>
                        <a:pt x="21" y="80"/>
                        <a:pt x="54" y="82"/>
                        <a:pt x="54" y="82"/>
                      </a:cubicBezTo>
                    </a:path>
                  </a:pathLst>
                </a:custGeom>
                <a:noFill/>
                <a:ln w="1908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Text Box 18"/>
              <p:cNvSpPr/>
              <p:nvPr/>
            </p:nvSpPr>
            <p:spPr>
              <a:xfrm>
                <a:off x="5678280" y="2622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19"/>
              <p:cNvSpPr/>
              <p:nvPr/>
            </p:nvSpPr>
            <p:spPr>
              <a:xfrm>
                <a:off x="8249040" y="26229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7273440" y="1752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Text Box 21"/>
              <p:cNvSpPr/>
              <p:nvPr/>
            </p:nvSpPr>
            <p:spPr>
              <a:xfrm>
                <a:off x="7539840" y="3203280"/>
                <a:ext cx="42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22"/>
              <p:cNvSpPr/>
              <p:nvPr/>
            </p:nvSpPr>
            <p:spPr>
              <a:xfrm>
                <a:off x="8071920" y="19454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6031440" y="33001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24"/>
              <p:cNvSpPr/>
              <p:nvPr/>
            </p:nvSpPr>
            <p:spPr>
              <a:xfrm>
                <a:off x="5499720" y="4214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25"/>
              <p:cNvSpPr/>
              <p:nvPr/>
            </p:nvSpPr>
            <p:spPr>
              <a:xfrm>
                <a:off x="7982640" y="417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6121080" y="4654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Text Box 27"/>
              <p:cNvSpPr/>
              <p:nvPr/>
            </p:nvSpPr>
            <p:spPr>
              <a:xfrm>
                <a:off x="5412240" y="4891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Text Box 28"/>
            <p:cNvSpPr/>
            <p:nvPr/>
          </p:nvSpPr>
          <p:spPr>
            <a:xfrm>
              <a:off x="7185240" y="296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9"/>
            <p:cNvSpPr/>
            <p:nvPr/>
          </p:nvSpPr>
          <p:spPr>
            <a:xfrm>
              <a:off x="6547680" y="4125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30"/>
            <p:cNvSpPr/>
            <p:nvPr/>
          </p:nvSpPr>
          <p:spPr>
            <a:xfrm>
              <a:off x="7699320" y="2288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1"/>
            <p:cNvSpPr/>
            <p:nvPr/>
          </p:nvSpPr>
          <p:spPr>
            <a:xfrm>
              <a:off x="6280200" y="383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2"/>
            <p:cNvSpPr/>
            <p:nvPr/>
          </p:nvSpPr>
          <p:spPr>
            <a:xfrm>
              <a:off x="7255800" y="248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3"/>
            <p:cNvSpPr/>
            <p:nvPr/>
          </p:nvSpPr>
          <p:spPr>
            <a:xfrm>
              <a:off x="58690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6537240" y="4406760"/>
              <a:ext cx="101520" cy="247680"/>
            </a:xfrm>
            <a:custGeom>
              <a:avLst/>
              <a:gdLst/>
              <a:ahLst/>
              <a:rect l="l" t="t" r="r" b="b"/>
              <a:pathLst>
                <a:path w="55" h="123">
                  <a:moveTo>
                    <a:pt x="0" y="0"/>
                  </a:moveTo>
                  <a:cubicBezTo>
                    <a:pt x="35" y="34"/>
                    <a:pt x="55" y="72"/>
                    <a:pt x="55" y="123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7466040" y="3106440"/>
              <a:ext cx="85680" cy="20340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18" y="0"/>
                  </a:moveTo>
                  <a:cubicBezTo>
                    <a:pt x="33" y="101"/>
                    <a:pt x="0" y="96"/>
                    <a:pt x="46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  <p:sndAc>
      <p:stSnd>
        <p:snd r:embed="rId1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395280" y="957240"/>
            <a:ext cx="720720" cy="509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47636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b193b"/>
                </a:solidFill>
                <a:latin typeface="Arial"/>
              </a:rPr>
              <a:t>同位角相等，两直线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211640" y="836640"/>
            <a:ext cx="43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=∠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∥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同位角相等，两直线平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403280" y="24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错角相等，两直线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716360" y="2921040"/>
            <a:ext cx="42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=∠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∥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内错角相等，两直线平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403280" y="4365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角互补，两直线平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3959280" y="4869000"/>
            <a:ext cx="52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+∠4=180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∥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同旁内角互补，两直线平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Object 12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2016360" cy="118116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3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2089080" cy="105732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4" descr=""/>
          <p:cNvPicPr/>
          <p:nvPr/>
        </p:nvPicPr>
        <p:blipFill>
          <a:blip r:embed="rId4"/>
          <a:stretch/>
        </p:blipFill>
        <p:spPr>
          <a:xfrm>
            <a:off x="2050920" y="4941720"/>
            <a:ext cx="1873440" cy="15829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2268360" y="333360"/>
            <a:ext cx="64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．如图：在四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=40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=4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行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095640" y="206064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 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=40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=40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3059280" y="29862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6920" y="2997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=∠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3708360" y="4005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D∥B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内错角相等，两直线平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Object 10" descr=""/>
          <p:cNvPicPr/>
          <p:nvPr/>
        </p:nvPicPr>
        <p:blipFill>
          <a:blip r:embed="rId1"/>
          <a:stretch/>
        </p:blipFill>
        <p:spPr>
          <a:xfrm>
            <a:off x="520560" y="1947960"/>
            <a:ext cx="2506680" cy="22431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55640" y="566100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3" name="chimes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556000" y="5084640"/>
            <a:ext cx="53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=∠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∥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2484360" y="1700280"/>
            <a:ext cx="55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=∠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∥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2556000" y="476280"/>
            <a:ext cx="48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=∠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∥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556000" y="4005360"/>
            <a:ext cx="55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=∠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B∥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Object 6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303640" cy="21603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7"/>
          <p:cNvSpPr/>
          <p:nvPr/>
        </p:nvSpPr>
        <p:spPr>
          <a:xfrm>
            <a:off x="2556000" y="47628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=∠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AD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B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同位角相等，两直线平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2484360" y="1700280"/>
            <a:ext cx="554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=∠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内错角相等，两直线平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484360" y="2852640"/>
            <a:ext cx="58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+∠BAD=18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∥__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      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2484360" y="2852640"/>
            <a:ext cx="60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+∠BAD=18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AD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B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同旁内角互补，两直线平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556000" y="4005360"/>
            <a:ext cx="58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∠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B∥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内错角相等，两直线平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2556000" y="5084640"/>
            <a:ext cx="511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∵∠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=∠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AD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B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内错角相等，两直线平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1143000" y="457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2484360" y="87804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．如图：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18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么直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直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行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Object 5" descr=""/>
          <p:cNvPicPr/>
          <p:nvPr/>
        </p:nvPicPr>
        <p:blipFill>
          <a:blip r:embed="rId2"/>
          <a:stretch/>
        </p:blipFill>
        <p:spPr>
          <a:xfrm>
            <a:off x="1300320" y="2471760"/>
            <a:ext cx="297000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3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3562200" y="1268280"/>
            <a:ext cx="439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3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18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=∠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Object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08000" cy="2444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7"/>
          <p:cNvSpPr/>
          <p:nvPr/>
        </p:nvSpPr>
        <p:spPr>
          <a:xfrm>
            <a:off x="3924360" y="290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406728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∥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780000" y="4005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同位角相等，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3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4"/>
          <p:cNvSpPr/>
          <p:nvPr/>
        </p:nvSpPr>
        <p:spPr>
          <a:xfrm>
            <a:off x="4140360" y="907920"/>
            <a:ext cx="4394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18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∠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+∠2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+∠2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=∠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Object 5" descr=""/>
          <p:cNvPicPr/>
          <p:nvPr/>
        </p:nvPicPr>
        <p:blipFill>
          <a:blip r:embed="rId2"/>
          <a:stretch/>
        </p:blipFill>
        <p:spPr>
          <a:xfrm>
            <a:off x="358920" y="1052640"/>
            <a:ext cx="3205080" cy="33130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6"/>
          <p:cNvSpPr/>
          <p:nvPr/>
        </p:nvSpPr>
        <p:spPr>
          <a:xfrm>
            <a:off x="5796000" y="1963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对顶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716360" y="254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471636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4643280" y="414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∥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356000" y="472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3" name="chimes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3780000" y="76500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18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∠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+∠2=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=∠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__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     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Object 5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2952720" cy="3240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6"/>
          <p:cNvSpPr/>
          <p:nvPr/>
        </p:nvSpPr>
        <p:spPr>
          <a:xfrm>
            <a:off x="5148360" y="184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对顶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5292720" y="2395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4284720" y="3500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+∠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284720" y="400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∥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3924360" y="4581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同旁内角互补，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3" name="chimes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1240560" y="220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复习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517680" y="1600200"/>
            <a:ext cx="44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同学们利用直尺、三角板画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得它经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，且平行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30120" y="4368960"/>
            <a:ext cx="322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同学们思考这样的问题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什么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系的角？在三角板移动的过程中，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产生变化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4502160" y="3282840"/>
            <a:ext cx="139680" cy="2923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6"/>
          <p:cNvGrpSpPr/>
          <p:nvPr/>
        </p:nvGrpSpPr>
        <p:grpSpPr>
          <a:xfrm>
            <a:off x="5257800" y="609480"/>
            <a:ext cx="2955600" cy="2971800"/>
            <a:chOff x="5257800" y="609480"/>
            <a:chExt cx="2955600" cy="2971800"/>
          </a:xfrm>
        </p:grpSpPr>
        <p:grpSp>
          <p:nvGrpSpPr>
            <p:cNvPr id="459" name="Group 7"/>
            <p:cNvGrpSpPr/>
            <p:nvPr/>
          </p:nvGrpSpPr>
          <p:grpSpPr>
            <a:xfrm>
              <a:off x="5257800" y="609480"/>
              <a:ext cx="2955600" cy="2971800"/>
              <a:chOff x="5257800" y="609480"/>
              <a:chExt cx="2955600" cy="2971800"/>
            </a:xfrm>
          </p:grpSpPr>
          <p:sp>
            <p:nvSpPr>
              <p:cNvPr id="460" name="Line 8"/>
              <p:cNvSpPr/>
              <p:nvPr/>
            </p:nvSpPr>
            <p:spPr>
              <a:xfrm>
                <a:off x="5334120" y="1676160"/>
                <a:ext cx="27432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9"/>
              <p:cNvSpPr/>
              <p:nvPr/>
            </p:nvSpPr>
            <p:spPr>
              <a:xfrm>
                <a:off x="5257800" y="2895480"/>
                <a:ext cx="27432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10"/>
              <p:cNvSpPr/>
              <p:nvPr/>
            </p:nvSpPr>
            <p:spPr>
              <a:xfrm flipH="1">
                <a:off x="5409720" y="609480"/>
                <a:ext cx="1676520" cy="29718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1"/>
              <p:cNvSpPr/>
              <p:nvPr/>
            </p:nvSpPr>
            <p:spPr>
              <a:xfrm>
                <a:off x="5519520" y="14475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5472720" y="11332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bf7ff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Line 13"/>
              <p:cNvSpPr/>
              <p:nvPr/>
            </p:nvSpPr>
            <p:spPr>
              <a:xfrm flipH="1">
                <a:off x="5486040" y="609480"/>
                <a:ext cx="1676520" cy="29718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Line 14"/>
              <p:cNvSpPr/>
              <p:nvPr/>
            </p:nvSpPr>
            <p:spPr>
              <a:xfrm>
                <a:off x="7086600" y="609480"/>
                <a:ext cx="7632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5"/>
              <p:cNvSpPr/>
              <p:nvPr/>
            </p:nvSpPr>
            <p:spPr>
              <a:xfrm>
                <a:off x="5410080" y="3581280"/>
                <a:ext cx="7632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16"/>
              <p:cNvSpPr/>
              <p:nvPr/>
            </p:nvSpPr>
            <p:spPr>
              <a:xfrm>
                <a:off x="6858000" y="1143000"/>
                <a:ext cx="838080" cy="5331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17"/>
              <p:cNvSpPr/>
              <p:nvPr/>
            </p:nvSpPr>
            <p:spPr>
              <a:xfrm>
                <a:off x="6172200" y="2361960"/>
                <a:ext cx="838080" cy="5335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Group 18"/>
              <p:cNvGrpSpPr/>
              <p:nvPr/>
            </p:nvGrpSpPr>
            <p:grpSpPr>
              <a:xfrm>
                <a:off x="6095880" y="2590560"/>
                <a:ext cx="533520" cy="228600"/>
                <a:chOff x="6095880" y="2590560"/>
                <a:chExt cx="533520" cy="228600"/>
              </a:xfrm>
            </p:grpSpPr>
            <p:sp>
              <p:nvSpPr>
                <p:cNvPr id="471" name="Line 19"/>
                <p:cNvSpPr/>
                <p:nvPr/>
              </p:nvSpPr>
              <p:spPr>
                <a:xfrm>
                  <a:off x="6095880" y="2819160"/>
                  <a:ext cx="5335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Group 20"/>
                <p:cNvGrpSpPr/>
                <p:nvPr/>
              </p:nvGrpSpPr>
              <p:grpSpPr>
                <a:xfrm>
                  <a:off x="6095880" y="2590560"/>
                  <a:ext cx="533520" cy="228600"/>
                  <a:chOff x="6095880" y="2590560"/>
                  <a:chExt cx="533520" cy="228600"/>
                </a:xfrm>
              </p:grpSpPr>
              <p:sp>
                <p:nvSpPr>
                  <p:cNvPr id="473" name="Line 21"/>
                  <p:cNvSpPr/>
                  <p:nvPr/>
                </p:nvSpPr>
                <p:spPr>
                  <a:xfrm flipH="1">
                    <a:off x="6095880" y="2590560"/>
                    <a:ext cx="133200" cy="22860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Line 22"/>
                  <p:cNvSpPr/>
                  <p:nvPr/>
                </p:nvSpPr>
                <p:spPr>
                  <a:xfrm>
                    <a:off x="6229080" y="2590560"/>
                    <a:ext cx="400320" cy="22860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Group 23"/>
              <p:cNvGrpSpPr/>
              <p:nvPr/>
            </p:nvGrpSpPr>
            <p:grpSpPr>
              <a:xfrm>
                <a:off x="6781680" y="1371600"/>
                <a:ext cx="533520" cy="228600"/>
                <a:chOff x="6781680" y="1371600"/>
                <a:chExt cx="533520" cy="228600"/>
              </a:xfrm>
            </p:grpSpPr>
            <p:sp>
              <p:nvSpPr>
                <p:cNvPr id="476" name="Line 24"/>
                <p:cNvSpPr/>
                <p:nvPr/>
              </p:nvSpPr>
              <p:spPr>
                <a:xfrm>
                  <a:off x="6781680" y="16002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Group 25"/>
                <p:cNvGrpSpPr/>
                <p:nvPr/>
              </p:nvGrpSpPr>
              <p:grpSpPr>
                <a:xfrm>
                  <a:off x="6781680" y="1371600"/>
                  <a:ext cx="533520" cy="228600"/>
                  <a:chOff x="6781680" y="1371600"/>
                  <a:chExt cx="533520" cy="228600"/>
                </a:xfrm>
              </p:grpSpPr>
              <p:sp>
                <p:nvSpPr>
                  <p:cNvPr id="478" name="Line 26"/>
                  <p:cNvSpPr/>
                  <p:nvPr/>
                </p:nvSpPr>
                <p:spPr>
                  <a:xfrm flipH="1">
                    <a:off x="6781680" y="1371600"/>
                    <a:ext cx="133200" cy="22860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Line 27"/>
                  <p:cNvSpPr/>
                  <p:nvPr/>
                </p:nvSpPr>
                <p:spPr>
                  <a:xfrm>
                    <a:off x="6914880" y="1371600"/>
                    <a:ext cx="400320" cy="22860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0" name="Text Box 28"/>
              <p:cNvSpPr/>
              <p:nvPr/>
            </p:nvSpPr>
            <p:spPr>
              <a:xfrm>
                <a:off x="7834680" y="1133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bf7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29"/>
              <p:cNvSpPr/>
              <p:nvPr/>
            </p:nvSpPr>
            <p:spPr>
              <a:xfrm>
                <a:off x="7835760" y="2387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bf7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Freeform 30"/>
            <p:cNvSpPr/>
            <p:nvPr/>
          </p:nvSpPr>
          <p:spPr>
            <a:xfrm>
              <a:off x="6629400" y="1523880"/>
              <a:ext cx="76320" cy="15228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24" y="40"/>
                    <a:pt x="48" y="80"/>
                    <a:pt x="48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>
              <a:off x="5943600" y="2743200"/>
              <a:ext cx="15228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0"/>
                  </a:moveTo>
                  <a:cubicBezTo>
                    <a:pt x="48" y="40"/>
                    <a:pt x="96" y="80"/>
                    <a:pt x="96" y="96"/>
                  </a:cubicBezTo>
                  <a:cubicBezTo>
                    <a:pt x="96" y="112"/>
                    <a:pt x="48" y="104"/>
                    <a:pt x="0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6691320" y="1260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3"/>
            <p:cNvSpPr/>
            <p:nvPr/>
          </p:nvSpPr>
          <p:spPr>
            <a:xfrm>
              <a:off x="6005520" y="247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042920" y="657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．如图：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∠3=11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=7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有几组平行线？简要说出它们平行的理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Object 3" descr=""/>
          <p:cNvPicPr/>
          <p:nvPr/>
        </p:nvPicPr>
        <p:blipFill>
          <a:blip r:embed="rId2"/>
          <a:stretch/>
        </p:blipFill>
        <p:spPr>
          <a:xfrm>
            <a:off x="1136520" y="2860560"/>
            <a:ext cx="2757600" cy="168588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3" name="chimes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539640" y="47628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．如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分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Object 5" descr=""/>
          <p:cNvPicPr/>
          <p:nvPr/>
        </p:nvPicPr>
        <p:blipFill>
          <a:blip r:embed="rId1"/>
          <a:stretch/>
        </p:blipFill>
        <p:spPr>
          <a:xfrm>
            <a:off x="706320" y="1803240"/>
            <a:ext cx="2702160" cy="25084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8"/>
          <p:cNvSpPr/>
          <p:nvPr/>
        </p:nvSpPr>
        <p:spPr>
          <a:xfrm>
            <a:off x="4356000" y="2637000"/>
            <a:ext cx="46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3564000" y="1413000"/>
            <a:ext cx="558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=2∠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=2∠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+∠1+∠2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___°-∠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=9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+∠2=__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C+∠BCD=2∠_+2∠_=___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4140360" y="1963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宋体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4140360" y="306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076720" y="41958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507528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宋体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156360" y="578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宋体"/>
              </a:rPr>
              <a:t>1    2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3780000" y="6308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宋体"/>
              </a:rPr>
              <a:t>AB∥CD </a:t>
            </a:r>
            <a:r>
              <a:rPr b="0" lang="zh-CN" sz="2400" spc="-1" strike="noStrike">
                <a:solidFill>
                  <a:srgbClr val="9900ff"/>
                </a:solidFill>
                <a:latin typeface="宋体"/>
              </a:rPr>
              <a:t>同旁内角互补，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/>
          <p:cNvSpPr/>
          <p:nvPr/>
        </p:nvSpPr>
        <p:spPr>
          <a:xfrm>
            <a:off x="684360" y="692280"/>
            <a:ext cx="777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．如图：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∠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能得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能，加以推理；如果不能请再添加一个条件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Object 6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chimes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1187280" y="1208160"/>
            <a:ext cx="6697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．思考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：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=12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你添加一个条件使图中的两条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Object 5" descr=""/>
          <p:cNvPicPr/>
          <p:nvPr/>
        </p:nvPicPr>
        <p:blipFill>
          <a:blip r:embed="rId1"/>
          <a:stretch/>
        </p:blipFill>
        <p:spPr>
          <a:xfrm>
            <a:off x="2340000" y="2824200"/>
            <a:ext cx="3816360" cy="269244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chimes.wav"/>
      </p:stSnd>
    </p:sndAc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4"/>
          <p:cNvSpPr/>
          <p:nvPr/>
        </p:nvSpPr>
        <p:spPr>
          <a:xfrm>
            <a:off x="250920" y="1414440"/>
            <a:ext cx="57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211640" y="641520"/>
            <a:ext cx="453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图：已知直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直线外一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作直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直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⊥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⊥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∥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4114800" y="38307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图：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分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E∥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Object 8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2233440" cy="1584360"/>
          </a:xfrm>
          <a:prstGeom prst="rect">
            <a:avLst/>
          </a:prstGeom>
          <a:ln w="0">
            <a:noFill/>
          </a:ln>
        </p:spPr>
      </p:pic>
      <p:pic>
        <p:nvPicPr>
          <p:cNvPr id="646" name="Object 9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4" name="chimes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971640" y="1125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0" y="1557360"/>
            <a:ext cx="6084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2206ca"/>
                </a:solidFill>
                <a:latin typeface="Times New Roman"/>
              </a:rPr>
              <a:t>两条直线被第三条直线所截，如果同位角相等，那么这两条直线平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925360" y="357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a50021"/>
                </a:solidFill>
                <a:uFillTx/>
                <a:latin typeface="Times New Roman"/>
                <a:ea typeface="华文新魏"/>
              </a:rPr>
              <a:t>同位角相等，两直线平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0" y="333360"/>
            <a:ext cx="653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06ca"/>
                </a:solidFill>
                <a:latin typeface="宋体"/>
              </a:rPr>
              <a:t>1</a:t>
            </a:r>
            <a:r>
              <a:rPr b="1" i="1" lang="zh-CN" sz="3200" spc="-1" strike="noStrike">
                <a:solidFill>
                  <a:srgbClr val="2206ca"/>
                </a:solidFill>
                <a:latin typeface="宋体"/>
              </a:rPr>
              <a:t>、同位角相等，两直线平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8" descr="G483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5867280" y="1752480"/>
            <a:ext cx="2971800" cy="22575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468360" y="494172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同位角相等，两直线平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14400" y="91440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，如下图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截，如果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543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G483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2057400" y="2209680"/>
            <a:ext cx="5257800" cy="27781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304920" y="5334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图中，如果知道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066680" y="533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206ca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2206ca"/>
                </a:solidFill>
                <a:latin typeface="Times New Roman"/>
              </a:rPr>
              <a:t>、内错角相等，两直线平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1492920" y="1447920"/>
            <a:ext cx="39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右图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=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=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对顶角相等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所以就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=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于是可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4" descr="G483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5867280" y="1752480"/>
            <a:ext cx="2971800" cy="225756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5"/>
          <p:cNvSpPr/>
          <p:nvPr/>
        </p:nvSpPr>
        <p:spPr>
          <a:xfrm>
            <a:off x="0" y="1341360"/>
            <a:ext cx="62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2206ca"/>
                </a:solidFill>
                <a:latin typeface="Times New Roman"/>
              </a:rPr>
              <a:t>两条直线被第三条直线所截，如果内错角相等，那么这两条直线平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0" y="314172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a50021"/>
                </a:solidFill>
                <a:uFillTx/>
                <a:latin typeface="Times New Roman"/>
                <a:ea typeface="华文新魏"/>
              </a:rPr>
              <a:t>内错角相等，两直线平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324000" y="450864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内错角相等，两直线平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762120" y="83808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下图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截，已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11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11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77208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3"/>
          <p:cNvSpPr/>
          <p:nvPr/>
        </p:nvSpPr>
        <p:spPr>
          <a:xfrm>
            <a:off x="7273800" y="2781360"/>
            <a:ext cx="177840" cy="30492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96" y="192"/>
                </a:moveTo>
                <a:cubicBezTo>
                  <a:pt x="104" y="160"/>
                  <a:pt x="112" y="128"/>
                  <a:pt x="96" y="96"/>
                </a:cubicBezTo>
                <a:cubicBezTo>
                  <a:pt x="80" y="64"/>
                  <a:pt x="40" y="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170840" y="318600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6713640" y="30337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18"/>
          <p:cNvGrpSpPr/>
          <p:nvPr/>
        </p:nvGrpSpPr>
        <p:grpSpPr>
          <a:xfrm>
            <a:off x="4859280" y="1844640"/>
            <a:ext cx="3543480" cy="2487600"/>
            <a:chOff x="4859280" y="1844640"/>
            <a:chExt cx="3543480" cy="2487600"/>
          </a:xfrm>
        </p:grpSpPr>
        <p:grpSp>
          <p:nvGrpSpPr>
            <p:cNvPr id="508" name="Group 5"/>
            <p:cNvGrpSpPr/>
            <p:nvPr/>
          </p:nvGrpSpPr>
          <p:grpSpPr>
            <a:xfrm>
              <a:off x="4859280" y="1844640"/>
              <a:ext cx="3543480" cy="2487600"/>
              <a:chOff x="4859280" y="1844640"/>
              <a:chExt cx="3543480" cy="2487600"/>
            </a:xfrm>
          </p:grpSpPr>
          <p:pic>
            <p:nvPicPr>
              <p:cNvPr id="509" name="Picture 6" descr="g484"/>
              <p:cNvPicPr/>
              <p:nvPr/>
            </p:nvPicPr>
            <p:blipFill>
              <a:blip r:embed="rId1">
                <a:lum bright="-18000"/>
              </a:blip>
              <a:stretch/>
            </p:blipFill>
            <p:spPr>
              <a:xfrm>
                <a:off x="4859280" y="1844640"/>
                <a:ext cx="3543480" cy="24876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510" name="Freeform 7"/>
              <p:cNvSpPr/>
              <p:nvPr/>
            </p:nvSpPr>
            <p:spPr>
              <a:xfrm>
                <a:off x="7183440" y="2922480"/>
                <a:ext cx="114120" cy="160560"/>
              </a:xfrm>
              <a:custGeom>
                <a:avLst/>
                <a:gdLst/>
                <a:ahLst/>
                <a:rect l="l" t="t" r="r" b="b"/>
                <a:pathLst>
                  <a:path w="72" h="101">
                    <a:moveTo>
                      <a:pt x="0" y="0"/>
                    </a:moveTo>
                    <a:cubicBezTo>
                      <a:pt x="42" y="28"/>
                      <a:pt x="72" y="47"/>
                      <a:pt x="72" y="101"/>
                    </a:cubicBez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8"/>
              <p:cNvSpPr/>
              <p:nvPr/>
            </p:nvSpPr>
            <p:spPr>
              <a:xfrm>
                <a:off x="6916680" y="3058920"/>
                <a:ext cx="130320" cy="268560"/>
              </a:xfrm>
              <a:custGeom>
                <a:avLst/>
                <a:gdLst/>
                <a:ahLst/>
                <a:rect l="l" t="t" r="r" b="b"/>
                <a:pathLst>
                  <a:path w="82" h="169">
                    <a:moveTo>
                      <a:pt x="38" y="0"/>
                    </a:moveTo>
                    <a:cubicBezTo>
                      <a:pt x="54" y="169"/>
                      <a:pt x="0" y="159"/>
                      <a:pt x="82" y="159"/>
                    </a:cubicBez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9"/>
              <p:cNvSpPr/>
              <p:nvPr/>
            </p:nvSpPr>
            <p:spPr>
              <a:xfrm>
                <a:off x="7000920" y="2960640"/>
                <a:ext cx="411120" cy="441360"/>
              </a:xfrm>
              <a:custGeom>
                <a:avLst/>
                <a:gdLst/>
                <a:ahLst/>
                <a:rect l="l" t="t" r="r" b="b"/>
                <a:pathLst>
                  <a:path w="291" h="237">
                    <a:moveTo>
                      <a:pt x="0" y="237"/>
                    </a:moveTo>
                    <a:cubicBezTo>
                      <a:pt x="29" y="228"/>
                      <a:pt x="57" y="219"/>
                      <a:pt x="86" y="209"/>
                    </a:cubicBezTo>
                    <a:cubicBezTo>
                      <a:pt x="100" y="204"/>
                      <a:pt x="115" y="199"/>
                      <a:pt x="129" y="194"/>
                    </a:cubicBezTo>
                    <a:cubicBezTo>
                      <a:pt x="144" y="189"/>
                      <a:pt x="173" y="180"/>
                      <a:pt x="173" y="180"/>
                    </a:cubicBezTo>
                    <a:cubicBezTo>
                      <a:pt x="192" y="151"/>
                      <a:pt x="211" y="122"/>
                      <a:pt x="230" y="93"/>
                    </a:cubicBezTo>
                    <a:cubicBezTo>
                      <a:pt x="291" y="0"/>
                      <a:pt x="215" y="80"/>
                      <a:pt x="259" y="36"/>
                    </a:cubicBez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0"/>
            <p:cNvSpPr/>
            <p:nvPr/>
          </p:nvSpPr>
          <p:spPr>
            <a:xfrm>
              <a:off x="7323120" y="2673360"/>
              <a:ext cx="3477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7108920" y="3068640"/>
              <a:ext cx="380880" cy="2667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44"/>
                  </a:moveTo>
                  <a:cubicBezTo>
                    <a:pt x="52" y="156"/>
                    <a:pt x="104" y="168"/>
                    <a:pt x="144" y="144"/>
                  </a:cubicBezTo>
                  <a:cubicBezTo>
                    <a:pt x="184" y="120"/>
                    <a:pt x="212" y="60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6892920" y="306864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144"/>
                  </a:moveTo>
                  <a:cubicBezTo>
                    <a:pt x="72" y="132"/>
                    <a:pt x="32" y="120"/>
                    <a:pt x="16" y="96"/>
                  </a:cubicBezTo>
                  <a:cubicBezTo>
                    <a:pt x="0" y="72"/>
                    <a:pt x="8" y="36"/>
                    <a:pt x="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Text Box 16"/>
          <p:cNvSpPr/>
          <p:nvPr/>
        </p:nvSpPr>
        <p:spPr>
          <a:xfrm>
            <a:off x="482760" y="5084640"/>
            <a:ext cx="83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193b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cb193b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b193b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上图，如果知道 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 ∠5=18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证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539640" y="404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539640" y="260280"/>
            <a:ext cx="653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06ca"/>
                </a:solidFill>
                <a:latin typeface="宋体"/>
              </a:rPr>
              <a:t>3</a:t>
            </a:r>
            <a:r>
              <a:rPr b="1" i="1" lang="zh-CN" sz="3200" spc="-1" strike="noStrike">
                <a:solidFill>
                  <a:srgbClr val="2206ca"/>
                </a:solidFill>
                <a:latin typeface="宋体"/>
              </a:rPr>
              <a:t>、同旁内角互补，两直线平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0" y="1197000"/>
            <a:ext cx="62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2206ca"/>
                </a:solidFill>
                <a:latin typeface="Times New Roman"/>
              </a:rPr>
              <a:t>两条直线被第三条直线所截，如果内错角相等，那么这两条直线平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2"/>
          <p:cNvSpPr/>
          <p:nvPr/>
        </p:nvSpPr>
        <p:spPr>
          <a:xfrm>
            <a:off x="7308720" y="2349360"/>
            <a:ext cx="389160" cy="252720"/>
          </a:xfrm>
          <a:custGeom>
            <a:avLst/>
            <a:gdLst/>
            <a:ahLst/>
            <a:rect l="l" t="t" r="r" b="b"/>
            <a:pathLst>
              <a:path w="203" h="192">
                <a:moveTo>
                  <a:pt x="203" y="0"/>
                </a:moveTo>
                <a:cubicBezTo>
                  <a:pt x="190" y="54"/>
                  <a:pt x="185" y="74"/>
                  <a:pt x="146" y="113"/>
                </a:cubicBezTo>
                <a:cubicBezTo>
                  <a:pt x="142" y="124"/>
                  <a:pt x="143" y="139"/>
                  <a:pt x="135" y="147"/>
                </a:cubicBezTo>
                <a:cubicBezTo>
                  <a:pt x="116" y="166"/>
                  <a:pt x="67" y="192"/>
                  <a:pt x="67" y="192"/>
                </a:cubicBezTo>
                <a:cubicBezTo>
                  <a:pt x="8" y="173"/>
                  <a:pt x="41" y="166"/>
                  <a:pt x="0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14"/>
          <p:cNvGrpSpPr/>
          <p:nvPr/>
        </p:nvGrpSpPr>
        <p:grpSpPr>
          <a:xfrm>
            <a:off x="5796000" y="1531800"/>
            <a:ext cx="2971800" cy="2257560"/>
            <a:chOff x="5796000" y="1531800"/>
            <a:chExt cx="2971800" cy="2257560"/>
          </a:xfrm>
        </p:grpSpPr>
        <p:pic>
          <p:nvPicPr>
            <p:cNvPr id="522" name="Picture 7" descr="G483"/>
            <p:cNvPicPr/>
            <p:nvPr/>
          </p:nvPicPr>
          <p:blipFill>
            <a:blip r:embed="rId1">
              <a:lum bright="-66000"/>
            </a:blip>
            <a:stretch/>
          </p:blipFill>
          <p:spPr>
            <a:xfrm>
              <a:off x="5796000" y="1531800"/>
              <a:ext cx="2971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13"/>
            <p:cNvSpPr/>
            <p:nvPr/>
          </p:nvSpPr>
          <p:spPr>
            <a:xfrm>
              <a:off x="7453440" y="2395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Text Box 17"/>
          <p:cNvSpPr/>
          <p:nvPr/>
        </p:nvSpPr>
        <p:spPr>
          <a:xfrm>
            <a:off x="0" y="314172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a50021"/>
                </a:solidFill>
                <a:uFillTx/>
                <a:latin typeface="Times New Roman"/>
                <a:ea typeface="华文新魏"/>
              </a:rPr>
              <a:t>同旁内角互补，两直线平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324000" y="450864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4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同旁内角互补，两直线平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1449360" y="10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的识别方法（判定定理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533520" y="243828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1 </a:t>
            </a:r>
            <a:r>
              <a:rPr b="1" i="1" lang="zh-CN" sz="3600" spc="-1" strike="noStrike" u="sng">
                <a:solidFill>
                  <a:srgbClr val="a50021"/>
                </a:solidFill>
                <a:uFillTx/>
                <a:latin typeface="Times New Roman"/>
              </a:rPr>
              <a:t>同位角相等，两直线平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2 </a:t>
            </a:r>
            <a:r>
              <a:rPr b="1" i="1" lang="zh-CN" sz="3600" spc="-1" strike="noStrike" u="sng">
                <a:solidFill>
                  <a:srgbClr val="a50021"/>
                </a:solidFill>
                <a:uFillTx/>
                <a:latin typeface="Times New Roman"/>
              </a:rPr>
              <a:t>内错角相等，两直线平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3 </a:t>
            </a:r>
            <a:r>
              <a:rPr b="1" i="1" lang="zh-CN" sz="3600" spc="-1" strike="noStrike" u="sng">
                <a:solidFill>
                  <a:srgbClr val="a50021"/>
                </a:solidFill>
                <a:uFillTx/>
                <a:latin typeface="Times New Roman"/>
              </a:rPr>
              <a:t>同旁内角互补，两直线平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79280" y="7603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右图，在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已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12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3" descr="g48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916600" y="620640"/>
            <a:ext cx="3048120" cy="16542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468360" y="2565360"/>
            <a:ext cx="8351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 ：本题中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，但根据题目的已知条件，无法判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120°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+∠C = 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同旁内角互补，两直线平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0:55:3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0:32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