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6E7-7621-41E2-A2ED-847B2907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28F-32A4-4898-9565-C250A0C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5BF-7434-4FF4-8C60-0B9B572F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EF4-F8B4-4A70-81CA-FD87262B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ABD-A570-4357-9894-C56520BC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273-1129-467B-93BB-D9624400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E2E-2701-4BFD-A479-7C71A382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AC0-736A-4D4A-8059-6A8CA74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7B6-8046-445D-BF5E-7E43297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7A2-58C8-4050-A550-4B5D64D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F5A-31C0-4950-B0B2-2B8A2CA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98E-2A5F-4570-9084-00063E1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065-9649-407D-9D0A-EEB2CF9B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moban/jieri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3635280" y="2446200"/>
            <a:ext cx="19638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11120" y="1700280"/>
            <a:ext cx="542124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8800" bIns="22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清明节是农历二十四节气之一，在仲春与暮春之交，也就是冬至后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天。中国汉族传统的清明节大约始于周代，距今已有二千五百多年的历史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历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“春分后十五日，斗指丁，为清明，时万物皆洁齐而清明，盖时当气清景明，万物皆显，因此得名。”清明一到，气温升高，正是春耕春种的大好时节，故有“清明前后，种瓜点豆”之说。清明节是一个祭祀祖先的节日，传统活动为扫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381168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扫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4916160" cy="423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5"/>
          <a:stretch/>
        </p:blipFill>
        <p:spPr>
          <a:xfrm>
            <a:off x="3924360" y="1484280"/>
            <a:ext cx="4687920" cy="468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06240" y="5367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3492360" y="21747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明节的习俗是丰富有趣的，除了讲究禁火、扫墓，还有踏青、荡秋千、踢蹴鞠、打马球、插柳等一系列风俗体育活动。相传  清明节扫墓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4720" y="1774800"/>
            <a:ext cx="619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"/>
          <p:cNvSpPr txBox="1"/>
          <p:nvPr/>
        </p:nvSpPr>
        <p:spPr>
          <a:xfrm>
            <a:off x="2268360" y="2590920"/>
            <a:ext cx="479592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3:21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