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84FB-E80D-47D1-9251-DA9107B48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4A1A-01EA-4648-855B-BB71BFF0C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EF0-CCF4-4EA1-88B1-84F90655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DC09-820E-40FC-8A72-03D48B281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B319-8415-4620-BE3F-0A7E52F9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82B-618A-4549-B729-9570F75C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2074-D496-49D7-92B5-359D4023C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B675-7065-422C-977A-0048CDDED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1E83-A68F-4728-905C-24C0F364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5F2-A17B-4125-99A6-A64F9FECA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FAAC-F22A-45C8-9AEE-846E893B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5096-92D5-435C-9F6D-96C67655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D335-50A3-46EB-B785-D91D66ED2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256,-1,NEXT" TargetMode="External"/><Relationship Id="rId3" Type="http://schemas.openxmlformats.org/officeDocument/2006/relationships/hyperlink" Target="256,-1,NEXT" TargetMode="External"/><Relationship Id="rId4" Type="http://schemas.openxmlformats.org/officeDocument/2006/relationships/hyperlink" Target="256,-1,NEXT" TargetMode="Externa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256,-1,NEXT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baike.baidu.com/view/74768.htm" TargetMode="External"/><Relationship Id="rId3" Type="http://schemas.openxmlformats.org/officeDocument/2006/relationships/hyperlink" Target="http://baike.baidu.com/view/6527.htm" TargetMode="External"/><Relationship Id="rId4" Type="http://schemas.openxmlformats.org/officeDocument/2006/relationships/hyperlink" Target="http://baike.baidu.com/view/15168.htm" TargetMode="External"/><Relationship Id="rId5" Type="http://schemas.openxmlformats.org/officeDocument/2006/relationships/hyperlink" Target="http://baike.baidu.com/view/22654.htm" TargetMode="External"/><Relationship Id="rId6" Type="http://schemas.openxmlformats.org/officeDocument/2006/relationships/hyperlink" Target="http://baike.baidu.com/view/7785.ht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baike.baidu.com/albums/414626/414626.html" TargetMode="External"/><Relationship Id="rId3" Type="http://schemas.openxmlformats.org/officeDocument/2006/relationships/hyperlink" Target="http://baike.baidu.com/view/15168.htm" TargetMode="External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256,-1,NEXT" TargetMode="External"/><Relationship Id="rId3" Type="http://schemas.openxmlformats.org/officeDocument/2006/relationships/hyperlink" Target="256,-1,NEXT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2011012608380257"/>
          <p:cNvPicPr/>
          <p:nvPr/>
        </p:nvPicPr>
        <p:blipFill>
          <a:blip r:embed="rId1"/>
          <a:stretch/>
        </p:blipFill>
        <p:spPr>
          <a:xfrm>
            <a:off x="-609480" y="-152280"/>
            <a:ext cx="10058400" cy="76197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制作人：汤秀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762120" y="1600200"/>
            <a:ext cx="77724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轻叩诗歌的大门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5" name="汪苏泷 - 苦笑.mp3" descr=""/>
          <p:cNvPicPr/>
          <p:nvPr/>
        </p:nvPicPr>
        <p:blipFill>
          <a:blip r:embed="rId2"/>
          <a:stretch/>
        </p:blipFill>
        <p:spPr>
          <a:xfrm>
            <a:off x="-609480" y="-152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8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9300000689000129963741174344_950"/>
          <p:cNvPicPr/>
          <p:nvPr/>
        </p:nvPicPr>
        <p:blipFill>
          <a:blip r:embed="rId1"/>
          <a:stretch/>
        </p:blipFill>
        <p:spPr>
          <a:xfrm>
            <a:off x="0" y="0"/>
            <a:ext cx="91836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念  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汤 秀 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 春 满 江 过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 瞬 冬 将 来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怜 我 思 春 意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 知 何 时 了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0" y="304920"/>
            <a:ext cx="32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68000"/>
                    </a:srgbClr>
                  </a:outerShdw>
                </a:effectLst>
                <a:latin typeface="宋体"/>
              </a:rPr>
              <a:t>我也行！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6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8" dur="20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1" dur="20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4" dur="20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97" dur="20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67715e1c1aa33f85ac6e75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汤秀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万 物 无 不 奇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一 雨 漫 江 流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叮 咚 音 乐 声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                   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</a:rPr>
              <a:t>流 进 我 心 田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23450_201001252114521vzUZ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刘米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冬 雪 迎 春 绿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绿 过 满 江 堂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 地 雪 皑 皑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雪 花 满 天 飞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4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88e789a7ae08ba9e7ed92a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致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范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 暮 色 垂 下 帘 幕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 星 星 把 它 钉 住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谨 记 你 有 位 朋 友 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尽 管 她 现 在 远 方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20083268392495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搜集诗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动手写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       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362320" y="380880"/>
            <a:ext cx="4267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合作计划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2776878_112600004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诗的分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唐诗三百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编者把诗分为古诗、律诗、绝句三类 。绝句又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言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言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: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怀古诗 　二、咏物诗       三、写景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、战争诗        五、行旅诗和闺怨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六、送别诗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304920" y="228600"/>
            <a:ext cx="4495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8000"/>
                    </a:srgbClr>
                  </a:outerShdw>
                </a:effectLst>
                <a:latin typeface="宋体"/>
              </a:rPr>
              <a:t>小结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4" dur="1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5" dur="4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4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3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4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5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0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1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2" dur="8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6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7" dur="8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8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20091124185556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报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77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0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2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4" dur="77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77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9" dur="77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1" dur="77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3" dur="77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77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8" dur="77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0" dur="77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12" dur="77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77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17" dur="77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19" dur="77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1" dur="77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77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6" dur="77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8" dur="77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0" dur="77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77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4" dur="77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6" dur="77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8" dur="77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77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3" dur="77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5" dur="77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57" dur="77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6ebc7ced6c6d9f2afcfa3c4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i="1" lang="zh-CN" sz="3200" spc="-1" strike="noStrike">
                <a:solidFill>
                  <a:srgbClr val="ff00ff"/>
                </a:solidFill>
                <a:latin typeface="Arial"/>
              </a:rPr>
              <a:t>组长：汤秀秀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ff"/>
                </a:solidFill>
                <a:latin typeface="Arial"/>
              </a:rPr>
              <a:t>       </a:t>
            </a:r>
            <a:r>
              <a:rPr b="1" i="1" lang="zh-CN" sz="3200" spc="-1" strike="noStrike">
                <a:solidFill>
                  <a:srgbClr val="ff00ff"/>
                </a:solidFill>
                <a:latin typeface="Arial"/>
              </a:rPr>
              <a:t>组员：孙高，沈骏杰，范丽，刘米儿，刘合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2209680" y="914400"/>
            <a:ext cx="457200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奋勇小组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20083268392495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搜集诗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动手写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6"/>
          <p:cNvSpPr txBox="1"/>
          <p:nvPr/>
        </p:nvSpPr>
        <p:spPr>
          <a:xfrm>
            <a:off x="2362320" y="380880"/>
            <a:ext cx="4267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合作计划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2009121517355822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咏梅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837720"/>
            <a:ext cx="66294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王安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墙  角  数  枝  梅 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凌  寒  独  自  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遥  知  不  是  雪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  有  暗  香  来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00cc00"/>
                </a:solidFill>
                <a:latin typeface="Arial"/>
              </a:rPr>
              <a:t>         </a:t>
            </a:r>
            <a:r>
              <a:rPr b="0" i="1" lang="zh-CN" sz="2400" spc="-1" strike="noStrike">
                <a:solidFill>
                  <a:srgbClr val="00cc00"/>
                </a:solidFill>
                <a:latin typeface="Arial"/>
              </a:rPr>
              <a:t>王安石（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1021</a:t>
            </a:r>
            <a:r>
              <a:rPr b="0" i="1" lang="zh-CN" sz="2400" spc="-1" strike="noStrike">
                <a:solidFill>
                  <a:srgbClr val="00cc00"/>
                </a:solidFill>
                <a:latin typeface="Arial"/>
              </a:rPr>
              <a:t>年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12</a:t>
            </a:r>
            <a:r>
              <a:rPr b="0" i="1" lang="zh-CN" sz="2400" spc="-1" strike="noStrike">
                <a:solidFill>
                  <a:srgbClr val="00cc00"/>
                </a:solidFill>
                <a:latin typeface="Arial"/>
              </a:rPr>
              <a:t>月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18</a:t>
            </a:r>
            <a:r>
              <a:rPr b="0" i="1" lang="zh-CN" sz="2400" spc="-1" strike="noStrike">
                <a:solidFill>
                  <a:srgbClr val="00cc00"/>
                </a:solidFill>
                <a:latin typeface="Arial"/>
              </a:rPr>
              <a:t>日－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1086</a:t>
            </a:r>
            <a:r>
              <a:rPr b="0" i="1" lang="zh-CN" sz="2400" spc="-1" strike="noStrike">
                <a:solidFill>
                  <a:srgbClr val="00cc00"/>
                </a:solidFill>
                <a:latin typeface="Arial"/>
              </a:rPr>
              <a:t>年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5</a:t>
            </a:r>
            <a:r>
              <a:rPr b="0" i="1" lang="zh-CN" sz="2400" spc="-1" strike="noStrike">
                <a:solidFill>
                  <a:srgbClr val="00cc00"/>
                </a:solidFill>
                <a:latin typeface="Arial"/>
              </a:rPr>
              <a:t>月</a:t>
            </a:r>
            <a:r>
              <a:rPr b="0" i="1" lang="en-US" sz="2400" spc="-1" strike="noStrike">
                <a:solidFill>
                  <a:srgbClr val="00cc00"/>
                </a:solidFill>
                <a:latin typeface="Arial"/>
              </a:rPr>
              <a:t>21</a:t>
            </a:r>
            <a:r>
              <a:rPr b="0" i="1" lang="zh-CN" sz="2400" spc="-1" strike="noStrike">
                <a:solidFill>
                  <a:srgbClr val="00cc00"/>
                </a:solidFill>
                <a:latin typeface="Arial"/>
              </a:rPr>
              <a:t>日），字介甫，号半山，谥文，封荆国公。世人又称王荆公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qiangjinjiu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95120" y="762120"/>
            <a:ext cx="16765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33"/>
                </a:solidFill>
                <a:latin typeface="Arial"/>
              </a:rPr>
              <a:t>将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Arial"/>
              </a:rPr>
              <a:t>进</a:t>
            </a:r>
            <a:br>
              <a:rPr sz="4400"/>
            </a:br>
            <a:r>
              <a:rPr b="0" lang="zh-CN" sz="4400" spc="-1" strike="noStrike">
                <a:solidFill>
                  <a:srgbClr val="996633"/>
                </a:solidFill>
                <a:latin typeface="Arial"/>
              </a:rPr>
              <a:t>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520" y="3809520"/>
            <a:ext cx="4572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李白：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6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，字太白，号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青莲居士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唐朝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诗人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有“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诗仙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之称，最伟大的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浪漫主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诗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7" descr="jueju1"/>
          <p:cNvPicPr/>
          <p:nvPr/>
        </p:nvPicPr>
        <p:blipFill>
          <a:blip r:embed="rId1"/>
          <a:stretch/>
        </p:blipFill>
        <p:spPr>
          <a:xfrm>
            <a:off x="0" y="0"/>
            <a:ext cx="108205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绝句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杜甫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黄鹂鸣翠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行白鹭上青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窗含西岭千秋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门泊东吴万里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 flipV="1" rot="10800000">
            <a:off x="1063800" y="4963680"/>
            <a:ext cx="8083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132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i="1" lang="zh-CN" sz="2400" spc="-1" strike="noStrike">
                <a:solidFill>
                  <a:srgbClr val="3366ff"/>
                </a:solidFill>
                <a:latin typeface="Arial"/>
              </a:rPr>
              <a:t>杜甫</a:t>
            </a:r>
            <a:r>
              <a:rPr b="0" i="1" lang="en-US" sz="2400" spc="-1" strike="noStrike">
                <a:solidFill>
                  <a:srgbClr val="3366ff"/>
                </a:solidFill>
                <a:latin typeface="Arial"/>
              </a:rPr>
              <a:t>:</a:t>
            </a:r>
            <a:r>
              <a:rPr b="0" i="1" lang="zh-CN" sz="2400" spc="-1" strike="noStrike">
                <a:solidFill>
                  <a:srgbClr val="3366ff"/>
                </a:solidFill>
                <a:latin typeface="Arial"/>
              </a:rPr>
              <a:t>我国唐代最伟大的现实主义诗人，与李白并称“大 李杜”，人称“诗圣”。一生写诗一千四百多首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af3aed4a0a57235e793798aeecd9451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鹿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唐）王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空 山 不 见 人 ， 但 闻 人 语 响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　　返 景 入 深 林 ， 复 照 青 苔 上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作品翻译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幽静的山谷里不见人，只能听到那说话的声音。 落日的余辉映入了深林，返照在青苔上景色宜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9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29169138684470730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夜归鹿门歌 </a:t>
            </a:r>
            <a:r>
              <a:rPr b="1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 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05120" y="12189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孟浩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山 寺 钟 鸣 昼 已 昏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渔 梁 渡 头 争渡 喧 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                        人 随 沙 岸 向 江 村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余 亦 乘 舟 归 鹿 门 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鹿 门 月 照 开 烟 树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忽 到 庞 公 栖 隐 处 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                     岩 扉 松 径 长 寂 寥 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惟 有 幽 人 自 来 去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Arial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66ff"/>
                </a:solidFill>
                <a:latin typeface="Arial"/>
              </a:rPr>
              <a:t>                     </a:t>
            </a:r>
            <a:r>
              <a:rPr b="1" lang="zh-CN" sz="2000" spc="-1" strike="noStrike">
                <a:solidFill>
                  <a:srgbClr val="996633"/>
                </a:solidFill>
                <a:latin typeface="Arial"/>
              </a:rPr>
              <a:t>孟浩然，唐代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诗人</a:t>
            </a:r>
            <a:r>
              <a:rPr b="1" lang="zh-CN" sz="2000" spc="-1" strike="noStrike">
                <a:solidFill>
                  <a:srgbClr val="996633"/>
                </a:solidFill>
                <a:latin typeface="Arial"/>
              </a:rPr>
              <a:t>。本名不详（一说名浩），汉族，襄州    襄阳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996633"/>
                </a:solidFill>
                <a:latin typeface="Arial"/>
              </a:rPr>
              <a:t>今湖北襄阳</a:t>
            </a:r>
            <a:r>
              <a:rPr b="1" lang="en-US" sz="2000" spc="-1" strike="noStrike">
                <a:solidFill>
                  <a:srgbClr val="996633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996633"/>
                </a:solidFill>
                <a:latin typeface="Arial"/>
              </a:rPr>
              <a:t>人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8720" y="4510080"/>
            <a:ext cx="733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83268392495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搜集诗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        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动手写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5"/>
          <p:cNvSpPr txBox="1"/>
          <p:nvPr/>
        </p:nvSpPr>
        <p:spPr>
          <a:xfrm>
            <a:off x="2362320" y="380880"/>
            <a:ext cx="426708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合作计划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9:2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2:3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