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8.wmf" ContentType="image/x-wmf"/>
  <Override PartName="/ppt/media/image12.jpeg" ContentType="image/jpeg"/>
  <Override PartName="/ppt/media/image19.jpeg" ContentType="image/jpeg"/>
  <Override PartName="/ppt/media/image1.gif" ContentType="image/gif"/>
  <Override PartName="/ppt/media/image4.wmf" ContentType="image/x-wmf"/>
  <Override PartName="/ppt/media/image18.jpeg" ContentType="image/jpeg"/>
  <Override PartName="/ppt/media/image17.gif" ContentType="image/gif"/>
  <Override PartName="/ppt/media/image2.jpeg" ContentType="image/jpeg"/>
  <Override PartName="/ppt/media/image16.wmf" ContentType="image/x-wmf"/>
  <Override PartName="/ppt/media/image15.wmf" ContentType="image/x-wmf"/>
  <Override PartName="/ppt/media/image3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FB1-1540-43DA-B76F-B6E15AAD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326-87F5-4E99-B172-7E1B8731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807-834F-428A-BC8B-1000C510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728-E0F9-41AF-99B7-86815E20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365-B92C-4BBB-825A-5E12B694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1BF-8CA9-46D6-A261-B10BE68F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0C9-4052-4F5C-9DB5-55E575EE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2F6-15FB-4CE6-ADF2-D4DE0C9F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C2F-DB12-434B-9946-FB566F23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627-B8D8-40C6-9033-4ED703B1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466-4454-41A7-AE9F-4BB60C28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475-6D24-49C4-937D-9AC17158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5B20-0860-40B6-83BD-AFA31727DE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雨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126684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汉仪神工体简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7280" y="1643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990099"/>
                </a:solidFill>
                <a:latin typeface="汉仪雁翎体简"/>
                <a:ea typeface="汉仪雁翎体简"/>
              </a:rPr>
              <a:t>2 </a:t>
            </a:r>
            <a:r>
              <a:rPr b="1" lang="zh-CN" sz="14000" spc="-1" strike="noStrike">
                <a:solidFill>
                  <a:srgbClr val="990099"/>
                </a:solidFill>
                <a:latin typeface="汉仪雁翎体简"/>
                <a:ea typeface="汉仪雁翎体简"/>
              </a:rPr>
              <a:t>山雨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0" t="46299" r="0" b="9317"/>
          <a:stretch/>
        </p:blipFill>
        <p:spPr>
          <a:xfrm>
            <a:off x="31680" y="46080"/>
            <a:ext cx="90774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324000" y="260280"/>
            <a:ext cx="8353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沙啦啦，沙啦啦─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像一曲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无字的歌谣，神奇地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从四面八方飘然而起，逐渐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清晰起来，由远而近，由远而近……</a:t>
            </a:r>
            <a:r>
              <a:rPr b="1" lang="zh-CN" sz="4800" spc="-1" strike="noStrike">
                <a:solidFill>
                  <a:srgbClr val="6666ff"/>
                </a:solidFill>
                <a:latin typeface="隶书"/>
                <a:ea typeface="隶书"/>
              </a:rPr>
              <a:t>（</a:t>
            </a:r>
            <a:r>
              <a:rPr b="1" lang="zh-CN" sz="5400" spc="-1" strike="noStrike">
                <a:solidFill>
                  <a:srgbClr val="6666ff"/>
                </a:solidFill>
                <a:latin typeface="隶书"/>
                <a:ea typeface="隶书"/>
              </a:rPr>
              <a:t>这里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66ff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6666ff"/>
                </a:solidFill>
                <a:latin typeface="隶书"/>
                <a:ea typeface="隶书"/>
              </a:rPr>
              <a:t>比作               从这奇特的想象中表达作者对山雨的</a:t>
            </a:r>
            <a:r>
              <a:rPr b="1" lang="zh-CN" sz="5400" spc="-1" strike="noStrike">
                <a:solidFill>
                  <a:srgbClr val="6666ff"/>
                </a:solidFill>
                <a:latin typeface="隶书"/>
                <a:ea typeface="隶书"/>
              </a:rPr>
              <a:t>            。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300720" y="34290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79280" y="400536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99"/>
                </a:solidFill>
                <a:latin typeface="Arial"/>
                <a:ea typeface="隶书"/>
              </a:rPr>
              <a:t>雨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916360" y="400536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99"/>
                </a:solidFill>
                <a:latin typeface="隶书"/>
                <a:ea typeface="隶书"/>
              </a:rPr>
              <a:t>“</a:t>
            </a:r>
            <a:r>
              <a:rPr b="1" lang="zh-CN" sz="4800" spc="-1" strike="noStrike">
                <a:solidFill>
                  <a:srgbClr val="ff6699"/>
                </a:solidFill>
                <a:latin typeface="隶书"/>
                <a:ea typeface="隶书"/>
              </a:rPr>
              <a:t>无字的歌谣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044720" y="5589720"/>
            <a:ext cx="46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Arial"/>
                <a:ea typeface="隶书"/>
              </a:rPr>
              <a:t>无比喜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3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3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68360" y="2276640"/>
            <a:ext cx="84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作者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喻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手法，描写了雨来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雨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由远及近，由轻及重的动态过程，与文章开头相对应，写出雨来时的特点，即“来得突然”“悄悄地来”。作者将雨声比作“无声的歌谣”。突出雨来时一种逐渐清晰，飘飘渺渺的音韵美，表达了作者对山雨的独特情感，给人以无限遐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11280" y="404640"/>
            <a:ext cx="7848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像一曲无字的歌谣，神奇地从四面八方飘然而起，逐渐清晰起来，响亮起来，由远而近，由远而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351080" y="1509840"/>
            <a:ext cx="77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427640" y="404640"/>
            <a:ext cx="439236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c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雨声里，山中的每一块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/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岩石、每一片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/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树叶、每一丛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/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绿草，都变成了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/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奇妙无比的琴键。（这里作者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、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比作</a:t>
            </a: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琴键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356000" y="4724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隶书"/>
              </a:rPr>
              <a:t>岩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867280" y="4724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隶书"/>
              </a:rPr>
              <a:t>树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164360" y="4653000"/>
            <a:ext cx="146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隶书"/>
              </a:rPr>
              <a:t>绿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84360" y="1341360"/>
            <a:ext cx="936360" cy="1739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岩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556000" y="1125360"/>
            <a:ext cx="78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树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971640" y="3789360"/>
            <a:ext cx="23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绿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3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61"/>
          <p:cNvPicPr/>
          <p:nvPr/>
        </p:nvPicPr>
        <p:blipFill>
          <a:blip r:embed="rId1"/>
          <a:stretch/>
        </p:blipFill>
        <p:spPr>
          <a:xfrm>
            <a:off x="0" y="-311040"/>
            <a:ext cx="9144000" cy="68529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684360" y="190440"/>
            <a:ext cx="7993080" cy="1191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飘飘洒洒的雨丝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是无数轻捷柔软的手指，弹奏出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首又一首优雅的小曲，每一个音符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都带着幻想的色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11280" y="3429000"/>
            <a:ext cx="8208720" cy="210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作者将              比作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把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比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84360" y="35002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飘飘洒洒的雨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380360" y="35002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手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547640" y="4221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雨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4859280" y="422100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优雅的小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324000" y="0"/>
            <a:ext cx="9037080" cy="6000480"/>
            <a:chOff x="324000" y="0"/>
            <a:chExt cx="9037080" cy="6000480"/>
          </a:xfrm>
        </p:grpSpPr>
        <p:sp>
          <p:nvSpPr>
            <p:cNvPr id="114" name="AutoShape 3"/>
            <p:cNvSpPr/>
            <p:nvPr/>
          </p:nvSpPr>
          <p:spPr>
            <a:xfrm>
              <a:off x="324000" y="0"/>
              <a:ext cx="9037080" cy="6000480"/>
            </a:xfrm>
            <a:prstGeom prst="cloudCallout">
              <a:avLst>
                <a:gd name="adj1" fmla="val -42486"/>
                <a:gd name="adj2" fmla="val 6076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320840" y="998640"/>
              <a:ext cx="7243200" cy="24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音符”是指手指触摸琴键时发出的不同声音，在这里可理解为是雨丝飘洒在不同的地方所发出的不同声音，有落在岩石上的“丁冬”声，有飘洒在绿草丛的“沙沙”声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而“带着幻想的色彩”，突出了雨至山林时声音的丰富多变，扩大了读者的想象空间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5" descr="milaoshu"/>
          <p:cNvPicPr/>
          <p:nvPr/>
        </p:nvPicPr>
        <p:blipFill>
          <a:blip r:embed="rId1"/>
          <a:stretch/>
        </p:blipFill>
        <p:spPr>
          <a:xfrm>
            <a:off x="0" y="5157720"/>
            <a:ext cx="15890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228680" y="3444840"/>
            <a:ext cx="442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84360" y="765000"/>
            <a:ext cx="77752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小结：作者通过大胆而又奇特的想象，写出了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山雨的音乐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，表达了作者对山雨的喜爱之情。同时也带给我们一个广大的想象空间，引起我们产生无限美好的遐想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u=80310824,2602135332&amp;fm=0&amp;gp=0[1]"/>
          <p:cNvPicPr/>
          <p:nvPr/>
        </p:nvPicPr>
        <p:blipFill>
          <a:blip r:embed="rId1"/>
          <a:stretch/>
        </p:blipFill>
        <p:spPr>
          <a:xfrm>
            <a:off x="-100080" y="-19080"/>
            <a:ext cx="9136080" cy="6823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6300720" y="34290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411200" y="1054080"/>
            <a:ext cx="12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面该感悟山雨中的色彩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SC20080227094944812[1]"/>
          <p:cNvPicPr/>
          <p:nvPr/>
        </p:nvPicPr>
        <p:blipFill>
          <a:blip r:embed="rId2"/>
          <a:stretch/>
        </p:blipFill>
        <p:spPr>
          <a:xfrm>
            <a:off x="36360" y="44280"/>
            <a:ext cx="9144000" cy="6678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971640" y="404640"/>
            <a:ext cx="5616360" cy="3110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下面该感悟山雨中的          美，美得</a:t>
            </a: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不</a:t>
            </a: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隶书"/>
              </a:rPr>
              <a:t>得   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211640" y="1268280"/>
            <a:ext cx="318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cc"/>
                </a:solidFill>
                <a:latin typeface="Arial"/>
                <a:ea typeface="隶书"/>
              </a:rPr>
              <a:t>色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324000" y="26028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300720" y="34290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332000" y="1052640"/>
            <a:ext cx="640872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读读写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雨色彩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的句子，你体会到了什么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6299" t="5902" r="4718" b="44748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rcRect l="0" t="86441" r="0" b="9317"/>
          <a:stretch/>
        </p:blipFill>
        <p:spPr>
          <a:xfrm>
            <a:off x="0" y="0"/>
            <a:ext cx="9077400" cy="647640"/>
          </a:xfrm>
          <a:prstGeom prst="rect">
            <a:avLst/>
          </a:prstGeom>
          <a:ln w="0">
            <a:noFill/>
          </a:ln>
        </p:spPr>
      </p:pic>
      <p:pic>
        <p:nvPicPr>
          <p:cNvPr id="132" name="未知" descr=""/>
          <p:cNvPicPr/>
          <p:nvPr/>
        </p:nvPicPr>
        <p:blipFill>
          <a:blip r:embed="rId3"/>
          <a:stretch/>
        </p:blipFill>
        <p:spPr>
          <a:xfrm>
            <a:off x="1465200" y="1438200"/>
            <a:ext cx="7331040" cy="115920"/>
          </a:xfrm>
          <a:prstGeom prst="rect">
            <a:avLst/>
          </a:prstGeom>
          <a:ln w="0">
            <a:noFill/>
          </a:ln>
        </p:spPr>
      </p:pic>
      <p:pic>
        <p:nvPicPr>
          <p:cNvPr id="133" name="未知" descr=""/>
          <p:cNvPicPr/>
          <p:nvPr/>
        </p:nvPicPr>
        <p:blipFill>
          <a:blip r:embed="rId4"/>
          <a:stretch/>
        </p:blipFill>
        <p:spPr>
          <a:xfrm>
            <a:off x="196920" y="1938240"/>
            <a:ext cx="3079800" cy="1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625320" y="291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2004841138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24000" y="1773360"/>
            <a:ext cx="8569080" cy="1556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是一篇文质兼美的抒情散文，作者以独特的感受、神奇的想象和联想、清新的笔调向读者展示了一幅有声有色的山林雨景图，字里行间洋溢着作者对山雨、对大自然那份浓浓的喜爱之情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539640" y="549360"/>
            <a:ext cx="2880000" cy="64764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品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6300720" y="34290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900000" y="62064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什么说雨改变了山林的颜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5640" y="14130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晴日里，阳光充分照射，因为光具有散射和折射的作用，所以从不同的角度观察，七色光线就会形成不同的色彩变化。山林中树的分布不是特别均匀，加之树木有的处于向阳坡，有的处于背阴处，所处的位置不同，因此受阳光照射的程度也不一致，所以会产生“色彩层次”。雨中因没有阳光的照射，山林中的颜色差异较小，在雨水的滋润下，是透明且耀眼的嫩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6300720" y="34290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0" y="333360"/>
            <a:ext cx="903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在雨中，所有的色彩都融化在水淋淋的嫩绿之中，绿得耀眼，绿得透明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（这里实写雨的色彩──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，给人清新的感觉。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6877080" y="22766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ff00"/>
                </a:solidFill>
                <a:latin typeface="Arial"/>
                <a:ea typeface="隶书"/>
              </a:rPr>
              <a:t>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08000" y="189000"/>
            <a:ext cx="892800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②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这清新的绿色仿佛在雨雾中流动，流进我的眼睛，流进我的心胸。（这是作者对雨色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	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因为作者发自内心地喜爱这绿色，所以讲“流进我的心胸”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971640" y="35733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Arial"/>
                <a:ea typeface="隶书"/>
              </a:rPr>
              <a:t>想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8720" y="328608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539640" y="620640"/>
            <a:ext cx="8136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句话描写了雨中山林最富魅力的色彩──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句中“流动”一词写出了山林的“绿”在雨中是一种水淋淋的、富有动感、极具生命力的色彩，它可以“融化”“所有的色彩”，表现了山雨带给山林的色彩变化。连用两个“流进”则体现了两个层次：这“绿”不光是眼睛看到的，更是用心灵感受的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突出雨中的“绿”那种让人难以忘却的美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对山雨色彩美的描述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又一次表达了作者对山雨的喜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不知在什么时候，雨，悄悄地停了。风，也屏住了呼吸，山中一下子变得非常幽静。远处，一只不知名的鸟儿开始啼啭起来，仿佛在倾吐着浴后的欢悦。近处，凝聚在树叶上的雨珠还往下滴着，滴落在路旁的小水洼中，发出异常清脆的音响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——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丁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冬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丁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冬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仿佛是一场山雨的余韵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24000" y="1197000"/>
            <a:ext cx="8496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雨，悄悄地停了。风，也屏住了呼吸，山中一下子变得非常幽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雨悄悄地停了。风也屏住了呼吸，山中一下子变得非常幽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95280" y="33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下面的句子，说说读后的感觉有什么不一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68360" y="3860640"/>
            <a:ext cx="8207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上面一句更强烈地表达了作者对大自然的喜爱，读起来倍感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826920" y="55166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拟人手法，使景物充满了生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近处，凝聚在树叶上的雨珠还往下滴着，滴落在路旁的小水洼中，发出异常清脆的音响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——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丁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冬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丁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冬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仿佛是一场山雨的余韵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826920" y="4365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破折号起到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引出下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的作用，引出下文要补充说明是怎样异常清脆的音响。省略号带给人们无穷的遐想，使“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冬”声极具音韵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048120" y="19810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中宋"/>
              </a:rPr>
              <a:t>写雨的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600200" y="31240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雨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86200" y="31240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仿宋"/>
              </a:rPr>
              <a:t>雨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095880" y="31240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仿宋"/>
              </a:rPr>
              <a:t>雨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57200" y="45720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雨的两个方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038480" y="40384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雨的声音（音韵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114800" y="52578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  <a:ea typeface="华文仿宋"/>
              </a:rPr>
              <a:t>雨的色彩（色彩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274320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49528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3657600" y="4267080"/>
            <a:ext cx="457200" cy="1447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Gif0405_086"/>
          <p:cNvPicPr/>
          <p:nvPr/>
        </p:nvPicPr>
        <p:blipFill>
          <a:blip r:embed="rId1"/>
          <a:stretch/>
        </p:blipFill>
        <p:spPr>
          <a:xfrm>
            <a:off x="7238880" y="1143000"/>
            <a:ext cx="1524240" cy="16002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3"/>
          <p:cNvSpPr/>
          <p:nvPr/>
        </p:nvSpPr>
        <p:spPr>
          <a:xfrm>
            <a:off x="684360" y="33336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总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539640" y="981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11280" y="45813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者描写了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山雨过后的幽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6836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者描写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山雨的声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一首无字的歌谣，像一首幽雅的小曲，突出了山雨所特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音韵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9640" y="24922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者描写了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山雨带给山林的色彩变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山雨使山林的色彩都融化在“水淋淋”的“绿”之中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219640" y="1700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听到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5219640" y="3716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看到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5219640" y="53737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感受到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920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汉仪综艺体简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者是怎样把一场山雨写这样美的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610480" y="6125760"/>
            <a:ext cx="763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68360" y="4221000"/>
            <a:ext cx="83818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引发奇特的联想、想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，用了比喻、拟人、夸张和排比等修辞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57200" y="2438280"/>
            <a:ext cx="8153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细致观察、用心倾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，抓住山雨的特点，从不同感官表现（眼、耳朵、鼻子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684360" y="4762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学习作者的表达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762120" y="20574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水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华文仿宋"/>
              </a:rPr>
              <a:t>淋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86000" y="2133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lín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2120" y="2895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啼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华文仿宋"/>
              </a:rPr>
              <a:t>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676520" y="28954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zhuàn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191120" y="20574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倾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华文仿宋"/>
              </a:rPr>
              <a:t>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105520" y="20574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</a:rPr>
              <a:t>tǔ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838080" y="388620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轻盈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286000" y="36576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4f2e"/>
                </a:solidFill>
                <a:latin typeface="Arial"/>
                <a:ea typeface="华文仿宋"/>
              </a:rPr>
              <a:t>一般是形容女子身材苗条，动作轻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8380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啼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286000" y="5105520"/>
            <a:ext cx="4648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4f2e"/>
                </a:solidFill>
                <a:latin typeface="Arial"/>
                <a:ea typeface="华文仿宋"/>
              </a:rPr>
              <a:t>形容鸟婉转地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12720" y="4064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自由朗读课文，读准字音，把课文读通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1116000" y="1125360"/>
            <a:ext cx="730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那么你眼中的雨又是怎样的呢？用几句话写下来吧！可以用自己的话写，也可以摘抄课文中和课外你收集的语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424720" cy="5611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雨下个不停，紧张而又舒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们在雨水的弹奏中攀缘于茫茫山谷，感觉着上天赐予的无边旋律，它一会儿如小提琴空旷轻灵，一会儿铁骑突出，一会儿春江花月，令人眼花缭乱，目不暇接。雨滴，在伞上清晰地弹奏着，又顺着伞缘滴入泥中，有着鸣筝般的乐声，仔细听去，耳中似乎并没有声音，再听，又分明翁翁地，遥远而飘忽，如身边的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2602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伞1"/>
          <p:cNvPicPr/>
          <p:nvPr/>
        </p:nvPicPr>
        <p:blipFill>
          <a:blip r:embed="rId1"/>
          <a:stretch/>
        </p:blipFill>
        <p:spPr>
          <a:xfrm>
            <a:off x="6553080" y="4915080"/>
            <a:ext cx="2590920" cy="19429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（节选）啊！我考</a:t>
            </a:r>
            <a:r>
              <a:rPr b="0" lang="en-US" sz="5000" spc="-1" strike="noStrike">
                <a:solidFill>
                  <a:srgbClr val="ff0000"/>
                </a:solidFill>
                <a:latin typeface="汉仪凌波体简"/>
                <a:ea typeface="汉仪凌波体简"/>
              </a:rPr>
              <a:t>100</a:t>
            </a:r>
            <a:r>
              <a:rPr b="0" lang="zh-CN" sz="5000" spc="-1" strike="noStrike">
                <a:solidFill>
                  <a:srgbClr val="990000"/>
                </a:solidFill>
                <a:latin typeface="汉仪凌波体简"/>
                <a:ea typeface="汉仪凌波体简"/>
              </a:rPr>
              <a:t>分</a:t>
            </a:r>
            <a:br>
              <a:rPr sz="3000"/>
            </a:b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    滴答！滴答！下小雨啦！</a:t>
            </a:r>
            <a:br>
              <a:rPr sz="3000"/>
            </a:b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    看！可爱的雨，正在和大自然眨眼睛，你看他们多调皮。</a:t>
            </a:r>
            <a:br>
              <a:rPr sz="3000"/>
            </a:b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    时而与屋檐吵架，时而飞穿过树林与溪水奏乐，时而飞到行人脸颊热情的打着招呼，热闹极了。</a:t>
            </a:r>
            <a:br>
              <a:rPr sz="3000"/>
            </a:b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    欢乐的雨，敲起了欢乐的节奏，唱着欢乐的歌，跳着欢乐的舞。</a:t>
            </a:r>
            <a:br>
              <a:rPr sz="3000"/>
            </a:b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    欢乐的雨，流传着欢乐的故事，欢乐的故事里有你有我。</a:t>
            </a:r>
            <a:br>
              <a:rPr sz="3000"/>
            </a:b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    滴答滴答，下小雨啦。</a:t>
            </a:r>
            <a:br>
              <a:rPr sz="3000"/>
            </a:b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    滴答！滴答！我考试得了</a:t>
            </a:r>
            <a:r>
              <a:rPr b="0" lang="en-US" sz="3000" spc="-1" strike="noStrike">
                <a:solidFill>
                  <a:srgbClr val="990000"/>
                </a:solidFill>
                <a:latin typeface="黑体"/>
                <a:ea typeface="黑体"/>
              </a:rPr>
              <a:t>100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分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686800" y="6125760"/>
            <a:ext cx="76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哎！我考了</a:t>
            </a:r>
            <a:r>
              <a:rPr b="1" lang="en-US" sz="6000" spc="-1" strike="noStrike">
                <a:solidFill>
                  <a:srgbClr val="cc0000"/>
                </a:solidFill>
                <a:latin typeface="汉仪凌波体简"/>
                <a:ea typeface="汉仪凌波体简"/>
              </a:rPr>
              <a:t>50</a:t>
            </a:r>
            <a:r>
              <a:rPr b="1" lang="zh-CN" sz="6000" spc="-1" strike="noStrike">
                <a:solidFill>
                  <a:srgbClr val="000000"/>
                </a:solidFill>
                <a:latin typeface="汉仪凌波体简"/>
                <a:ea typeface="汉仪凌波体简"/>
              </a:rPr>
              <a:t>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伞1"/>
          <p:cNvPicPr/>
          <p:nvPr/>
        </p:nvPicPr>
        <p:blipFill>
          <a:blip r:embed="rId1"/>
          <a:stretch/>
        </p:blipFill>
        <p:spPr>
          <a:xfrm>
            <a:off x="685800" y="3716280"/>
            <a:ext cx="8077320" cy="26082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2124000" y="26370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（此时的雨声会怎样呢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1116000" y="19890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空山新雨后，天气晚来秋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王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116000" y="2924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光潋滟晴方好，山色空蒙雨亦奇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苏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116000" y="44258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青箬笠，绿蓑衣，斜风细雨不须归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张志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1187280" y="620640"/>
            <a:ext cx="64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课外积累：描写雨的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900000" y="1484280"/>
            <a:ext cx="7344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轻盈      歌谣      琴键     幽静      啼啭      倾吐      凝聚      滴落     余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飘然而起     奇妙无比     飘飘洒洒    轻捷柔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826920" y="3573360"/>
            <a:ext cx="7417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湿润的山风     无字的歌谣     轻盈的云雾      优雅的小曲     幻想的色彩     清新的绿色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奇妙无比的琴键      轻捷柔软的手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68360" y="47628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词语积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539640" y="1844640"/>
            <a:ext cx="8209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课文是按照什么顺序来描写的？并给课文分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26920" y="357336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2637000"/>
            <a:ext cx="8351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作者描绘了一幅多姿多彩的山林雨景，他观察到了什么？倾听到了什么？找到有关的句子划下来。并体会作者蕴含的情感及语言表达的特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900000" y="48690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作者主要描写了山雨的哪些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619280" y="54936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读课文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684360" y="333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课文是按雨来、雨中、雨后的顺序写的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39640" y="836640"/>
            <a:ext cx="7920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第一段：（</a:t>
            </a: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1——4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描写了山雨来得突然，由远而近的雨声如无字的歌谣飘然而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68360" y="278136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第二段：（</a:t>
            </a: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5——7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着笔于山雨带来的音韵美和色彩美，突出描绘了如“小曲”“音符”般美妙的雨声，以及雨中山林那令人难以忘怀的绿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68360" y="4869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第三段：（</a:t>
            </a: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8——10</a:t>
            </a:r>
            <a:r>
              <a:rPr b="1" lang="zh-CN" sz="2800" spc="-1" strike="noStrike">
                <a:solidFill>
                  <a:srgbClr val="cc66ff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对鸟儿啼啭、雨珠滴落的声响描绘，突出了雨后山林的幽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466560" y="1123920"/>
            <a:ext cx="82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精读课文，并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作者听到了什么？观察到了什么？请用课文里的话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87280" y="3108240"/>
            <a:ext cx="88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66ff"/>
                </a:solidFill>
                <a:latin typeface="Arial"/>
                <a:ea typeface="隶书"/>
              </a:rPr>
              <a:t>（先是听见山雨的声音，接着看到山雨改变了山林的颜色。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未知" descr=""/>
          <p:cNvPicPr/>
          <p:nvPr/>
        </p:nvPicPr>
        <p:blipFill>
          <a:blip r:embed="rId2"/>
          <a:stretch/>
        </p:blipFill>
        <p:spPr>
          <a:xfrm>
            <a:off x="1241280" y="4132440"/>
            <a:ext cx="525600" cy="52200"/>
          </a:xfrm>
          <a:prstGeom prst="rect">
            <a:avLst/>
          </a:prstGeom>
          <a:ln w="0">
            <a:noFill/>
          </a:ln>
        </p:spPr>
      </p:pic>
      <p:pic>
        <p:nvPicPr>
          <p:cNvPr id="79" name="未知" descr=""/>
          <p:cNvPicPr/>
          <p:nvPr/>
        </p:nvPicPr>
        <p:blipFill>
          <a:blip r:embed="rId3"/>
          <a:stretch/>
        </p:blipFill>
        <p:spPr>
          <a:xfrm>
            <a:off x="522360" y="5013360"/>
            <a:ext cx="1258920" cy="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3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0" t="36854" r="0" b="0"/>
          <a:stretch/>
        </p:blipFill>
        <p:spPr>
          <a:xfrm>
            <a:off x="648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未知" descr=""/>
          <p:cNvPicPr/>
          <p:nvPr/>
        </p:nvPicPr>
        <p:blipFill>
          <a:blip r:embed="rId2"/>
          <a:stretch/>
        </p:blipFill>
        <p:spPr>
          <a:xfrm>
            <a:off x="1312920" y="2232000"/>
            <a:ext cx="52200" cy="360"/>
          </a:xfrm>
          <a:prstGeom prst="rect">
            <a:avLst/>
          </a:prstGeom>
          <a:ln w="0">
            <a:noFill/>
          </a:ln>
        </p:spPr>
      </p:pic>
      <p:pic>
        <p:nvPicPr>
          <p:cNvPr id="82" name="未知" descr=""/>
          <p:cNvPicPr/>
          <p:nvPr/>
        </p:nvPicPr>
        <p:blipFill>
          <a:blip r:embed="rId3"/>
          <a:stretch/>
        </p:blipFill>
        <p:spPr>
          <a:xfrm>
            <a:off x="1322280" y="2214720"/>
            <a:ext cx="2419560" cy="44280"/>
          </a:xfrm>
          <a:prstGeom prst="rect">
            <a:avLst/>
          </a:prstGeom>
          <a:ln w="0">
            <a:noFill/>
          </a:ln>
        </p:spPr>
      </p:pic>
      <p:pic>
        <p:nvPicPr>
          <p:cNvPr id="83" name="未知" descr=""/>
          <p:cNvPicPr/>
          <p:nvPr/>
        </p:nvPicPr>
        <p:blipFill>
          <a:blip r:embed="rId4"/>
          <a:stretch/>
        </p:blipFill>
        <p:spPr>
          <a:xfrm>
            <a:off x="1278000" y="5724360"/>
            <a:ext cx="2838240" cy="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-100080" y="3718080"/>
            <a:ext cx="80568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39640" y="1486080"/>
            <a:ext cx="80679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读读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山雨声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的句子，找出句子中的比喻部分并画出，体会作者的思想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5:53:01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4:14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