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6F7-C6B8-48C7-BB03-3D574411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777-6E63-4AF8-A072-E850511F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492-35E7-4DAB-82B3-6D8363D9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01D-7361-452D-85BB-C96EFCE4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1AB2-FF4F-4D34-9141-97149AA6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F0F9-4F50-412D-9085-F4F950DC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6620-37E2-4BCA-9ED9-7F1B927D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2D43-97D7-44A9-952E-4E4E075D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4C5C-F0AC-42BD-98DE-CF5A9892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9520-E405-447A-8275-3CFEA955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0E5D-166E-45BC-9B9F-B0A56E5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268-AD0E-4C26-9AE2-4E719189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5C06-2615-4F9A-9AB5-A3D10E42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B2DB-D88C-4D2A-B767-D91EA6E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701F-C342-4227-9343-3E72045F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A982-8A8A-4B93-8BA5-A6B46E50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A04A-2451-47B4-A563-534EB85D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AC2-0F8E-4B70-8AB0-AF566C56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82F-4571-4CA0-9F3E-ED1FCE27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1F6-83B3-4037-A649-246EEFD2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740-6F1D-4A65-99B1-B6ADDFE5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039-B778-4625-BCA1-A3F684D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B6D-C762-4B0C-8C08-1CE6FDB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C99-5147-4C62-A640-4EED5DE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FA26-C197-4A06-A7F9-746C95190A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5FFA-1F0A-4A3A-B352-F3DE41C7BA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244B-551C-4A55-A702-F74D0D2DF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5643720" y="4786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"/>
          <p:cNvSpPr/>
          <p:nvPr/>
        </p:nvSpPr>
        <p:spPr>
          <a:xfrm>
            <a:off x="5500800" y="480204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572000" y="429408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唯美梦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3140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7092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4712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56912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640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926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44265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426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4497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997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421200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49:36Z</dcterms:modified>
  <cp:revision>1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