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144-29DE-4CDA-9B22-E978FE9D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8F9-AAEB-4FAF-83A1-B7C5701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A7D-24E3-4CE4-947A-40644B9D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997-072B-4BE4-8D68-0A8E87A9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EA9-4704-4072-B22F-E449B34E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485-087D-4A92-B910-920221C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D90-5848-46EF-83E0-5B6365D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8F9-39E0-44D0-BE21-21B67EE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F7F-6402-41CF-9C46-ECC367E3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D49-5FEF-4064-9A0F-554F5E0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370-28C5-4D4B-B2E0-8BB96C0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E26-7BF0-4607-878C-163D7D8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7C73-DB0B-4D33-99CD-2A40EE760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60,6,&#24187;&#28783;&#29255; 6" TargetMode="External"/><Relationship Id="rId3" Type="http://schemas.openxmlformats.org/officeDocument/2006/relationships/hyperlink" Target="271,13,&#24187;&#28783;&#29255; 13" TargetMode="External"/><Relationship Id="rId4" Type="http://schemas.openxmlformats.org/officeDocument/2006/relationships/hyperlink" Target="269,10,&#24187;&#28783;&#29255; 10" TargetMode="External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28023;&#27915;&#20844;&#22253;.mpe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课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828720" y="469800"/>
            <a:ext cx="6815160" cy="164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427640" y="558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三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）班    严南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>
            <a:hlinkClick r:id="rId1"/>
          </p:cNvPr>
          <p:cNvSpPr/>
          <p:nvPr/>
        </p:nvSpPr>
        <p:spPr>
          <a:xfrm>
            <a:off x="5867280" y="5791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696080" y="48006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010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2920" y="2412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755640" y="404640"/>
            <a:ext cx="439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9640" y="1844640"/>
            <a:ext cx="813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抄写新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任选下面的一句话作为中心句，学习课文写法从不同方面把它写具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六一儿童节，校园真热闹啊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②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的教室真整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回家把你知道的香港说给家长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填空1"/>
          <p:cNvPicPr/>
          <p:nvPr/>
        </p:nvPicPr>
        <p:blipFill>
          <a:blip r:embed="rId1"/>
          <a:stretch/>
        </p:blipFill>
        <p:spPr>
          <a:xfrm>
            <a:off x="762120" y="57168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335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　　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香港是我国通向世界的南大门，那里有迷人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沙滩、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著名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公园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和繁华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街市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5"/>
          <p:cNvSpPr/>
          <p:nvPr/>
        </p:nvSpPr>
        <p:spPr>
          <a:xfrm>
            <a:off x="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8"/>
          <p:cNvSpPr/>
          <p:nvPr/>
        </p:nvSpPr>
        <p:spPr>
          <a:xfrm>
            <a:off x="160020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ccff"/>
                </a:solidFill>
                <a:latin typeface="Times New Roman"/>
              </a:rPr>
              <a:t>第三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自然</a:t>
            </a:r>
            <a:r>
              <a:rPr b="0" lang="zh-CN" sz="1600" spc="-1" strike="noStrike">
                <a:solidFill>
                  <a:srgbClr val="ccccff"/>
                </a:solidFill>
                <a:latin typeface="Times New Roman"/>
              </a:rPr>
              <a:t>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9"/>
          <p:cNvSpPr/>
          <p:nvPr/>
        </p:nvSpPr>
        <p:spPr>
          <a:xfrm>
            <a:off x="3200400" y="6095880"/>
            <a:ext cx="12952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四自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0" y="632448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二自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在碧波荡漾的人工湖上，几只海豚和海狮正在表演节目。它们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顶球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钻圈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举重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48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嬉水跳跃，游客不时被逗得开怀大笑。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ai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34340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1676160"/>
            <a:ext cx="5867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开怀大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81080" y="41148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举世闻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4754520"/>
            <a:ext cx="84582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浪平沙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阳光和煦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浅水湾，是旅游、度假的好地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浅水湾中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0" descr="浅水湾中bj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28600" y="914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77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4920" y="40244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　　每逢节假日，人们结伴来到这里，漫步在金色的沙滩上，沐浴着轻柔的海风，倾听着浪涛拍岸的声响，真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舒服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极了</a:t>
            </a:r>
            <a:r>
              <a:rPr b="0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609480" y="5257800"/>
            <a:ext cx="609480" cy="152280"/>
            <a:chOff x="609480" y="5257800"/>
            <a:chExt cx="609480" cy="152280"/>
          </a:xfrm>
        </p:grpSpPr>
        <p:sp>
          <p:nvSpPr>
            <p:cNvPr id="91" name="Oval 7"/>
            <p:cNvSpPr/>
            <p:nvPr/>
          </p:nvSpPr>
          <p:spPr>
            <a:xfrm>
              <a:off x="60948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9"/>
            <p:cNvSpPr/>
            <p:nvPr/>
          </p:nvSpPr>
          <p:spPr>
            <a:xfrm>
              <a:off x="106668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6"/>
          <p:cNvGrpSpPr/>
          <p:nvPr/>
        </p:nvGrpSpPr>
        <p:grpSpPr>
          <a:xfrm>
            <a:off x="2133720" y="5867280"/>
            <a:ext cx="609480" cy="152280"/>
            <a:chOff x="2133720" y="5867280"/>
            <a:chExt cx="609480" cy="152280"/>
          </a:xfrm>
        </p:grpSpPr>
        <p:sp>
          <p:nvSpPr>
            <p:cNvPr id="94" name="Oval 12"/>
            <p:cNvSpPr/>
            <p:nvPr/>
          </p:nvSpPr>
          <p:spPr>
            <a:xfrm>
              <a:off x="2133720" y="5867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2590920" y="5867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5715000" y="5257800"/>
            <a:ext cx="609480" cy="152280"/>
            <a:chOff x="5715000" y="5257800"/>
            <a:chExt cx="609480" cy="152280"/>
          </a:xfrm>
        </p:grpSpPr>
        <p:sp>
          <p:nvSpPr>
            <p:cNvPr id="97" name="Oval 18"/>
            <p:cNvSpPr/>
            <p:nvPr/>
          </p:nvSpPr>
          <p:spPr>
            <a:xfrm>
              <a:off x="571500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9"/>
            <p:cNvSpPr/>
            <p:nvPr/>
          </p:nvSpPr>
          <p:spPr>
            <a:xfrm>
              <a:off x="6172200" y="5257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ic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>
            <a:hlinkClick r:id="" action="ppaction://hlinkshowjump?jump=firstslide"/>
          </p:cNvPr>
          <p:cNvSpPr/>
          <p:nvPr/>
        </p:nvSpPr>
        <p:spPr>
          <a:xfrm>
            <a:off x="8064360" y="6318360"/>
            <a:ext cx="1079640" cy="539640"/>
          </a:xfrm>
          <a:custGeom>
            <a:avLst/>
            <a:gdLst>
              <a:gd name="textAreaLeft" fmla="*/ 33480 w 1079640"/>
              <a:gd name="textAreaRight" fmla="*/ 1046160 w 1079640"/>
              <a:gd name="textAreaTop" fmla="*/ 33480 h 539640"/>
              <a:gd name="textAreaBottom" fmla="*/ 506160 h 539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00" h="21600">
                <a:moveTo>
                  <a:pt x="18083" y="10800"/>
                </a:moveTo>
                <a:lnTo>
                  <a:pt x="28644" y="3756"/>
                </a:lnTo>
                <a:lnTo>
                  <a:pt x="28644" y="17844"/>
                </a:lnTo>
                <a:close/>
              </a:path>
              <a:path fill="darken" w="43200" h="21600">
                <a:moveTo>
                  <a:pt x="14556" y="3756"/>
                </a:moveTo>
                <a:lnTo>
                  <a:pt x="16228" y="3756"/>
                </a:lnTo>
                <a:lnTo>
                  <a:pt x="16228" y="17844"/>
                </a:lnTo>
                <a:lnTo>
                  <a:pt x="14556" y="178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漫步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在林荫小道中，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沐浴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5000" spc="-1" strike="noStrike">
                <a:solidFill>
                  <a:srgbClr val="00cc99"/>
                </a:solidFill>
                <a:latin typeface="黑体"/>
                <a:ea typeface="黑体"/>
              </a:rPr>
              <a:t>倾听</a:t>
            </a:r>
            <a:r>
              <a:rPr b="1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r>
              <a:rPr b="1" lang="zh-CN" sz="5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　　　　　　　</a:t>
            </a:r>
            <a:r>
              <a:rPr b="0" lang="zh-CN" sz="5000" spc="-1" strike="noStrike">
                <a:solidFill>
                  <a:srgbClr val="ff0000"/>
                </a:solidFill>
                <a:latin typeface="黑体"/>
                <a:ea typeface="黑体"/>
              </a:rPr>
              <a:t>，真是舒服极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80880" y="4952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摩天大厦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，各种商品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的街道</a:t>
            </a:r>
            <a:r>
              <a:rPr b="1" lang="zh-CN" sz="4800" spc="-1" strike="noStrike" u="sng">
                <a:solidFill>
                  <a:srgbClr val="9966ff"/>
                </a:solidFill>
                <a:uFillTx/>
                <a:latin typeface="Times New Roman"/>
              </a:rPr>
              <a:t>　　　</a:t>
            </a:r>
            <a:r>
              <a:rPr b="1" lang="zh-CN" sz="4800" spc="-1" strike="noStrike">
                <a:solidFill>
                  <a:srgbClr val="9966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74320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鳞次栉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5715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琳琅满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895480" y="5715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宽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62720" y="57150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人流如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人流如潮"/>
          <p:cNvPicPr/>
          <p:nvPr/>
        </p:nvPicPr>
        <p:blipFill>
          <a:blip r:embed="rId1"/>
          <a:stretch/>
        </p:blipFill>
        <p:spPr>
          <a:xfrm>
            <a:off x="6410160" y="0"/>
            <a:ext cx="273384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琳琅满目"/>
          <p:cNvPicPr/>
          <p:nvPr/>
        </p:nvPicPr>
        <p:blipFill>
          <a:blip r:embed="rId2"/>
          <a:stretch/>
        </p:blipFill>
        <p:spPr>
          <a:xfrm>
            <a:off x="1752480" y="1523880"/>
            <a:ext cx="4724640" cy="326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k_l_1_33"/>
          <p:cNvPicPr/>
          <p:nvPr/>
        </p:nvPicPr>
        <p:blipFill>
          <a:blip r:embed="rId3"/>
          <a:stretch/>
        </p:blipFill>
        <p:spPr>
          <a:xfrm>
            <a:off x="228600" y="0"/>
            <a:ext cx="252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中国地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Oval 3">
            <a:hlinkClick r:id="rId2"/>
          </p:cNvPr>
          <p:cNvSpPr/>
          <p:nvPr/>
        </p:nvSpPr>
        <p:spPr>
          <a:xfrm>
            <a:off x="5867280" y="5791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96080" y="48006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441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港湾里闪耀的灯光，像五颜六色的焰火溅落人间。马路上一串串明亮的车灯，如同闪光的长河奔流不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方塔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0" y="3809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到节假日，我们的方塔街就热闹起来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　　　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184464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、读准字音，理解新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、用自己喜欢的方式读课文，想想课文是从哪几个方面介绍香港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971640" y="404640"/>
            <a:ext cx="439236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主学习，整体感知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2276640"/>
            <a:ext cx="748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琳琅满目       应有尽有     物美价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粤菜    佳肴    一应俱全    大饱口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旅游胜地    海豚   闪耀     夜幕降临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颜六色    奔流不息        五洲四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霓红灯        璀璨无比        南海之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71640" y="476280"/>
            <a:ext cx="43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我会读</a:t>
            </a:r>
            <a:endParaRPr b="0" lang="en-US" sz="24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755640" y="404640"/>
            <a:ext cx="4392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合作探究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71640" y="227664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用自己喜欢的方式读课文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2——5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自然段，画出每段的中心句。读一读，想一想，围绕着中心句主要写了什么？再与你的同学交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6922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香港还是一个旅游胜地。小朋友最爱去的就是举世闻名的海洋公园。公园里的海豚和海狮表演最为出色。在清澈的池水里，它们一会儿钻圈，一会儿顶球。有时还趁你不注意会突然跃出水面，向你点头，有时还会喷你一身水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979640" y="1413000"/>
            <a:ext cx="590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2112840" y="3860640"/>
            <a:ext cx="5222880" cy="2548800"/>
            <a:chOff x="2112840" y="3860640"/>
            <a:chExt cx="5222880" cy="2548800"/>
          </a:xfrm>
        </p:grpSpPr>
        <p:sp>
          <p:nvSpPr>
            <p:cNvPr id="56" name="Rectangle 8"/>
            <p:cNvSpPr/>
            <p:nvPr/>
          </p:nvSpPr>
          <p:spPr>
            <a:xfrm>
              <a:off x="2112840" y="45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867280" y="386064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9320" y="52290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710040" y="53006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 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193920" y="5949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k_l_1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港湾里闪耀的灯光，像五颜六色的焰火，洒落人间。马路上一串串明亮的车灯，如同闪光的长河，奔流不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k_l_1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ff"/>
                </a:solidFill>
                <a:latin typeface="Times New Roman"/>
              </a:rPr>
              <a:t>　　香港，真是我国南海之滨一颗</a:t>
            </a:r>
            <a:r>
              <a:rPr b="0" lang="zh-CN" sz="6000" spc="-1" strike="noStrike">
                <a:solidFill>
                  <a:srgbClr val="00ff00"/>
                </a:solidFill>
                <a:latin typeface="Times New Roman"/>
              </a:rPr>
              <a:t>璀璨无比</a:t>
            </a:r>
            <a:r>
              <a:rPr b="0" lang="zh-CN" sz="6000" spc="-1" strike="noStrike">
                <a:solidFill>
                  <a:srgbClr val="9966ff"/>
                </a:solidFill>
                <a:latin typeface="Times New Roman"/>
              </a:rPr>
              <a:t>的“明</a:t>
            </a:r>
            <a:r>
              <a:rPr b="0" lang="zh-CN" sz="6000" spc="-1" strike="noStrike">
                <a:solidFill>
                  <a:srgbClr val="66ff33"/>
                </a:solidFill>
                <a:latin typeface="Times New Roman"/>
              </a:rPr>
              <a:t>珠</a:t>
            </a:r>
            <a:r>
              <a:rPr b="0" lang="en-US" sz="6000" spc="-1" strike="noStrike">
                <a:solidFill>
                  <a:srgbClr val="9966ff"/>
                </a:solidFill>
                <a:latin typeface="Times New Roman"/>
              </a:rPr>
              <a:t>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白云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32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11280" y="26028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6:24:5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6:30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