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.jpeg" ContentType="image/jpeg"/>
  <Override PartName="/ppt/media/image10.png" ContentType="image/png"/>
  <Override PartName="/ppt/media/image1.jpeg" ContentType="image/jpeg"/>
  <Override PartName="/ppt/media/image30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32.wmf" ContentType="image/x-wmf"/>
  <Override PartName="/ppt/media/image12.png" ContentType="image/png"/>
  <Override PartName="/ppt/media/image43.jpeg" ContentType="image/jpeg"/>
  <Override PartName="/ppt/media/image5.png" ContentType="image/png"/>
  <Override PartName="/ppt/media/image13.wmf" ContentType="image/x-wmf"/>
  <Override PartName="/ppt/media/image33.wmf" ContentType="image/x-wmf"/>
  <Override PartName="/ppt/media/image34.png" ContentType="image/png"/>
  <Override PartName="/ppt/media/image9.png" ContentType="image/png"/>
  <Override PartName="/ppt/media/image17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42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BB2-D82E-4368-9DC7-C1710D82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517-1762-417F-A10D-363AD94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6EC-CFD1-4D7F-BEC9-A72059B1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FF4-BAE7-478D-9A99-18C56D34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C40-B589-4A65-A423-839F518F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743-11D1-4565-9E3E-B9CE2A5A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561-8AC5-40BE-8439-B4AD7E01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F87-C5AA-48DF-A986-406C12F8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834-EB0B-4521-8B61-7AE4AE99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69B-F30A-4AF3-B308-74070D6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AE8-6E58-48D9-BF3F-837AE26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0D6-0E74-4F80-BE64-ABBA2B20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46B4-0B69-49E2-8AF4-27CE44E51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大学生活动中心"/>
          <p:cNvPicPr/>
          <p:nvPr/>
        </p:nvPicPr>
        <p:blipFill>
          <a:blip r:embed="rId2">
            <a:lum contrast="30000"/>
          </a:blip>
          <a:srcRect l="2638" t="12109" r="231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新校标"/>
          <p:cNvPicPr/>
          <p:nvPr/>
        </p:nvPicPr>
        <p:blipFill>
          <a:blip r:embed="rId3"/>
          <a:stretch/>
        </p:blipFill>
        <p:spPr>
          <a:xfrm>
            <a:off x="533520" y="290520"/>
            <a:ext cx="799920" cy="776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红"/>
          <p:cNvPicPr/>
          <p:nvPr/>
        </p:nvPicPr>
        <p:blipFill>
          <a:blip r:embed="rId4"/>
          <a:stretch/>
        </p:blipFill>
        <p:spPr>
          <a:xfrm>
            <a:off x="1676520" y="457200"/>
            <a:ext cx="1714320" cy="352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hyperlink" Target="http://www.eeppt.com/moban/dabian/" TargetMode="External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红"/>
          <p:cNvPicPr/>
          <p:nvPr/>
        </p:nvPicPr>
        <p:blipFill>
          <a:blip r:embed="rId1"/>
          <a:stretch/>
        </p:blipFill>
        <p:spPr>
          <a:xfrm>
            <a:off x="3962520" y="382680"/>
            <a:ext cx="2590560" cy="531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新校标"/>
          <p:cNvPicPr/>
          <p:nvPr/>
        </p:nvPicPr>
        <p:blipFill>
          <a:blip r:embed="rId2"/>
          <a:stretch/>
        </p:blipFill>
        <p:spPr>
          <a:xfrm>
            <a:off x="3886200" y="2362320"/>
            <a:ext cx="1143000" cy="1109520"/>
          </a:xfrm>
          <a:prstGeom prst="rect">
            <a:avLst/>
          </a:prstGeom>
          <a:ln w="0">
            <a:noFill/>
          </a:ln>
        </p:spPr>
      </p:pic>
      <p:sp>
        <p:nvSpPr>
          <p:cNvPr id="84" name="Line 6"/>
          <p:cNvSpPr/>
          <p:nvPr/>
        </p:nvSpPr>
        <p:spPr>
          <a:xfrm>
            <a:off x="609480" y="990720"/>
            <a:ext cx="800100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ext Box 8" descr=""/>
          <p:cNvPicPr/>
          <p:nvPr/>
        </p:nvPicPr>
        <p:blipFill>
          <a:blip r:embed="rId3"/>
          <a:stretch/>
        </p:blipFill>
        <p:spPr>
          <a:xfrm>
            <a:off x="1878120" y="1554120"/>
            <a:ext cx="5467320" cy="1494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1669320" y="4267080"/>
            <a:ext cx="16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姓名：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  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992480" y="42814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导教师：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 X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097680" y="4281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 rot="185400">
            <a:off x="680760" y="5100120"/>
            <a:ext cx="8348760" cy="1644840"/>
          </a:xfrm>
          <a:custGeom>
            <a:avLst/>
            <a:gdLst>
              <a:gd name="textAreaLeft" fmla="*/ 0 w 8348760"/>
              <a:gd name="textAreaRight" fmla="*/ 8349120 w 834876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5376" h="1383">
                <a:moveTo>
                  <a:pt x="5376" y="942"/>
                </a:moveTo>
                <a:lnTo>
                  <a:pt x="5376" y="1137"/>
                </a:lnTo>
                <a:cubicBezTo>
                  <a:pt x="5376" y="1137"/>
                  <a:pt x="4224" y="21"/>
                  <a:pt x="2235" y="911"/>
                </a:cubicBezTo>
                <a:cubicBezTo>
                  <a:pt x="1185" y="1380"/>
                  <a:pt x="0" y="834"/>
                  <a:pt x="0" y="834"/>
                </a:cubicBezTo>
                <a:cubicBezTo>
                  <a:pt x="41" y="802"/>
                  <a:pt x="1179" y="1383"/>
                  <a:pt x="2481" y="720"/>
                </a:cubicBezTo>
                <a:cubicBezTo>
                  <a:pt x="4155" y="0"/>
                  <a:pt x="5376" y="942"/>
                  <a:pt x="5376" y="942"/>
                </a:cubicBezTo>
                <a:close/>
              </a:path>
            </a:pathLst>
          </a:cu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8"/>
          <p:cNvSpPr/>
          <p:nvPr/>
        </p:nvSpPr>
        <p:spPr>
          <a:xfrm rot="188400">
            <a:off x="596880" y="5067360"/>
            <a:ext cx="8427960" cy="1789200"/>
          </a:xfrm>
          <a:custGeom>
            <a:avLst/>
            <a:gdLst>
              <a:gd name="textAreaLeft" fmla="*/ 0 w 8427960"/>
              <a:gd name="textAreaRight" fmla="*/ 8428320 w 842796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5083" h="1504">
                <a:moveTo>
                  <a:pt x="5082" y="912"/>
                </a:moveTo>
                <a:lnTo>
                  <a:pt x="5083" y="1068"/>
                </a:lnTo>
                <a:cubicBezTo>
                  <a:pt x="5026" y="1020"/>
                  <a:pt x="3922" y="140"/>
                  <a:pt x="2288" y="880"/>
                </a:cubicBezTo>
                <a:cubicBezTo>
                  <a:pt x="1046" y="1504"/>
                  <a:pt x="11" y="947"/>
                  <a:pt x="6" y="940"/>
                </a:cubicBezTo>
                <a:cubicBezTo>
                  <a:pt x="0" y="932"/>
                  <a:pt x="1010" y="1416"/>
                  <a:pt x="2250" y="832"/>
                </a:cubicBezTo>
                <a:cubicBezTo>
                  <a:pt x="3853" y="0"/>
                  <a:pt x="5082" y="912"/>
                  <a:pt x="5082" y="912"/>
                </a:cubicBezTo>
                <a:close/>
              </a:path>
            </a:pathLst>
          </a:custGeom>
          <a:solidFill>
            <a:srgbClr val="ff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7"/>
          <p:cNvSpPr/>
          <p:nvPr/>
        </p:nvSpPr>
        <p:spPr>
          <a:xfrm rot="185400">
            <a:off x="196560" y="5113440"/>
            <a:ext cx="8827920" cy="1820880"/>
          </a:xfrm>
          <a:custGeom>
            <a:avLst/>
            <a:gdLst>
              <a:gd name="textAreaLeft" fmla="*/ 0 w 8827920"/>
              <a:gd name="textAreaRight" fmla="*/ 8828280 w 8827920"/>
              <a:gd name="textAreaTop" fmla="*/ 0 h 1820880"/>
              <a:gd name="textAreaBottom" fmla="*/ 1821240 h 1820880"/>
            </a:gdLst>
            <a:ahLst/>
            <a:rect l="textAreaLeft" t="textAreaTop" r="textAreaRight" b="textAreaBottom"/>
            <a:pathLst>
              <a:path w="5324" h="1531">
                <a:moveTo>
                  <a:pt x="2468" y="868"/>
                </a:moveTo>
                <a:cubicBezTo>
                  <a:pt x="1212" y="1531"/>
                  <a:pt x="0" y="888"/>
                  <a:pt x="18" y="867"/>
                </a:cubicBezTo>
                <a:cubicBezTo>
                  <a:pt x="36" y="846"/>
                  <a:pt x="1311" y="1455"/>
                  <a:pt x="2578" y="744"/>
                </a:cubicBezTo>
                <a:cubicBezTo>
                  <a:pt x="4148" y="0"/>
                  <a:pt x="5324" y="771"/>
                  <a:pt x="5324" y="771"/>
                </a:cubicBezTo>
                <a:lnTo>
                  <a:pt x="5324" y="980"/>
                </a:lnTo>
                <a:cubicBezTo>
                  <a:pt x="5252" y="864"/>
                  <a:pt x="4040" y="96"/>
                  <a:pt x="2464" y="872"/>
                </a:cubicBez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extBox 22" descr=""/>
          <p:cNvPicPr/>
          <p:nvPr/>
        </p:nvPicPr>
        <p:blipFill>
          <a:blip r:embed="rId4"/>
          <a:stretch/>
        </p:blipFill>
        <p:spPr>
          <a:xfrm>
            <a:off x="938160" y="2511360"/>
            <a:ext cx="74739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-0.1625 -0.35856 E">
                                      <p:cBhvr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7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97560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63" name="TextBox 18"/>
          <p:cNvSpPr/>
          <p:nvPr/>
        </p:nvSpPr>
        <p:spPr>
          <a:xfrm>
            <a:off x="3148200" y="1900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价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1"/>
          <p:cNvSpPr/>
          <p:nvPr/>
        </p:nvSpPr>
        <p:spPr>
          <a:xfrm>
            <a:off x="483300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方法如：主成分分析法、因子分析法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类分析法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2"/>
          <p:cNvSpPr/>
          <p:nvPr/>
        </p:nvSpPr>
        <p:spPr>
          <a:xfrm>
            <a:off x="5129640" y="3621240"/>
            <a:ext cx="10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传统的方法如：模糊数学法、灰色理论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A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向量机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4033440" y="2971800"/>
            <a:ext cx="30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所用到的方法是多决策属性理论与方法中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熵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0" dur="5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79" name="TextBox 18"/>
          <p:cNvSpPr/>
          <p:nvPr/>
        </p:nvSpPr>
        <p:spPr>
          <a:xfrm>
            <a:off x="3456360" y="190008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信息熵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9"/>
          <p:cNvSpPr/>
          <p:nvPr/>
        </p:nvSpPr>
        <p:spPr>
          <a:xfrm>
            <a:off x="3781800" y="25909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：每个属性的效用单调递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4203360" y="3124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么：确定的理想方案就由所有可能的最优属性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4731480" y="35053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理想解则由所有可能的最差属性值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4203360" y="40384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求得方案与理想解与负理想解的相对距离，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4"/>
          <p:cNvSpPr/>
          <p:nvPr/>
        </p:nvSpPr>
        <p:spPr>
          <a:xfrm>
            <a:off x="4681080" y="4430880"/>
            <a:ext cx="23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理想解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(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想解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理想解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7"/>
          <p:cNvSpPr/>
          <p:nvPr/>
        </p:nvSpPr>
        <p:spPr>
          <a:xfrm>
            <a:off x="4156200" y="5029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：与负理想值的相对距离最远则方案就越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票就越有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98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9"/>
          <p:cNvSpPr/>
          <p:nvPr/>
        </p:nvSpPr>
        <p:spPr>
          <a:xfrm>
            <a:off x="3276720" y="23623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评价是如下包含有关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j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属性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决策矩阵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21"/>
          <p:cNvGrpSpPr/>
          <p:nvPr/>
        </p:nvGrpSpPr>
        <p:grpSpPr>
          <a:xfrm>
            <a:off x="3796200" y="2895480"/>
            <a:ext cx="3228480" cy="2722680"/>
            <a:chOff x="3796200" y="2895480"/>
            <a:chExt cx="3228480" cy="2722680"/>
          </a:xfrm>
        </p:grpSpPr>
        <p:graphicFrame>
          <p:nvGraphicFramePr>
            <p:cNvPr id="303" name=""/>
            <p:cNvGraphicFramePr/>
            <p:nvPr/>
          </p:nvGraphicFramePr>
          <p:xfrm>
            <a:off x="4834080" y="3276360"/>
            <a:ext cx="2190600" cy="234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34080" y="3276360"/>
                      <a:ext cx="2190600" cy="234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"/>
            <p:cNvGraphicFramePr/>
            <p:nvPr/>
          </p:nvGraphicFramePr>
          <p:xfrm>
            <a:off x="4419360" y="3352680"/>
            <a:ext cx="352440" cy="22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19360" y="3352680"/>
                      <a:ext cx="35244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"/>
            <p:cNvGraphicFramePr/>
            <p:nvPr/>
          </p:nvGraphicFramePr>
          <p:xfrm>
            <a:off x="4952880" y="2895480"/>
            <a:ext cx="1981080" cy="48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52880" y="2895480"/>
                      <a:ext cx="19810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矩形 20"/>
            <p:cNvSpPr/>
            <p:nvPr/>
          </p:nvSpPr>
          <p:spPr>
            <a:xfrm>
              <a:off x="3796200" y="412596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28560" y="210996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323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2971800" y="2362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信息熵法计算出各属性的权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054760" y="3276720"/>
          <a:ext cx="1803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4760" y="3276720"/>
                    <a:ext cx="1803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35"/>
          <p:cNvGrpSpPr/>
          <p:nvPr/>
        </p:nvGrpSpPr>
        <p:grpSpPr>
          <a:xfrm>
            <a:off x="3505320" y="4495680"/>
            <a:ext cx="3124080" cy="370080"/>
            <a:chOff x="3505320" y="4495680"/>
            <a:chExt cx="3124080" cy="370080"/>
          </a:xfrm>
        </p:grpSpPr>
        <p:sp>
          <p:nvSpPr>
            <p:cNvPr id="332" name="TextBox 27"/>
            <p:cNvSpPr/>
            <p:nvPr/>
          </p:nvSpPr>
          <p:spPr>
            <a:xfrm>
              <a:off x="3505320" y="449568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于属性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j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熵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3" name=""/>
            <p:cNvGraphicFramePr/>
            <p:nvPr/>
          </p:nvGraphicFramePr>
          <p:xfrm>
            <a:off x="5791320" y="4502160"/>
            <a:ext cx="304560" cy="36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4502160"/>
                      <a:ext cx="30456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105520" y="4952880"/>
          <a:ext cx="22860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952880"/>
                    <a:ext cx="2286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矩形 34"/>
          <p:cNvSpPr/>
          <p:nvPr/>
        </p:nvSpPr>
        <p:spPr>
          <a:xfrm>
            <a:off x="3505320" y="2830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属性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j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评价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29"/>
          <p:cNvGrpSpPr/>
          <p:nvPr/>
        </p:nvGrpSpPr>
        <p:grpSpPr>
          <a:xfrm>
            <a:off x="5232960" y="5638680"/>
            <a:ext cx="1625040" cy="307080"/>
            <a:chOff x="5232960" y="5638680"/>
            <a:chExt cx="1625040" cy="307080"/>
          </a:xfrm>
        </p:grpSpPr>
        <p:graphicFrame>
          <p:nvGraphicFramePr>
            <p:cNvPr id="341" name=""/>
            <p:cNvGraphicFramePr/>
            <p:nvPr/>
          </p:nvGraphicFramePr>
          <p:xfrm>
            <a:off x="5762520" y="5715000"/>
            <a:ext cx="1095480" cy="204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62520" y="5715000"/>
                      <a:ext cx="1095480" cy="2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3" name="TextBox 28"/>
            <p:cNvSpPr/>
            <p:nvPr/>
          </p:nvSpPr>
          <p:spPr>
            <a:xfrm>
              <a:off x="5232960" y="56386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其中：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356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23"/>
          <p:cNvGrpSpPr/>
          <p:nvPr/>
        </p:nvGrpSpPr>
        <p:grpSpPr>
          <a:xfrm>
            <a:off x="4015800" y="2541600"/>
            <a:ext cx="2580480" cy="430200"/>
            <a:chOff x="4015800" y="2541600"/>
            <a:chExt cx="2580480" cy="430200"/>
          </a:xfrm>
        </p:grpSpPr>
        <p:graphicFrame>
          <p:nvGraphicFramePr>
            <p:cNvPr id="360" name=""/>
            <p:cNvGraphicFramePr/>
            <p:nvPr/>
          </p:nvGraphicFramePr>
          <p:xfrm>
            <a:off x="5473800" y="2541600"/>
            <a:ext cx="317160" cy="4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73800" y="2541600"/>
                      <a:ext cx="3171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TextBox 26"/>
            <p:cNvSpPr/>
            <p:nvPr/>
          </p:nvSpPr>
          <p:spPr>
            <a:xfrm>
              <a:off x="4015800" y="2541600"/>
              <a:ext cx="25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属性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j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信息偏差     度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义为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029200" y="3098880"/>
          <a:ext cx="15238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098880"/>
                    <a:ext cx="15238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TextBox 29"/>
          <p:cNvSpPr/>
          <p:nvPr/>
        </p:nvSpPr>
        <p:spPr>
          <a:xfrm>
            <a:off x="3505320" y="384984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决策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属性无偏好的情况下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化的权重的方法如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181480" y="4419720"/>
          <a:ext cx="160020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419720"/>
                    <a:ext cx="16002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382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9"/>
          <p:cNvSpPr/>
          <p:nvPr/>
        </p:nvSpPr>
        <p:spPr>
          <a:xfrm>
            <a:off x="3048120" y="25146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标准化决策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257800" y="3429000"/>
          <a:ext cx="1170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429000"/>
                    <a:ext cx="1170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组合 23"/>
          <p:cNvGrpSpPr/>
          <p:nvPr/>
        </p:nvGrpSpPr>
        <p:grpSpPr>
          <a:xfrm>
            <a:off x="4423320" y="2841480"/>
            <a:ext cx="4187160" cy="587520"/>
            <a:chOff x="4423320" y="2841480"/>
            <a:chExt cx="4187160" cy="587520"/>
          </a:xfrm>
        </p:grpSpPr>
        <p:sp>
          <p:nvSpPr>
            <p:cNvPr id="390" name="TextBox 20"/>
            <p:cNvSpPr/>
            <p:nvPr/>
          </p:nvSpPr>
          <p:spPr>
            <a:xfrm>
              <a:off x="4423320" y="2993760"/>
              <a:ext cx="30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应用公式将矩阵无量纲化，转为标准化矩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1" name=""/>
            <p:cNvGraphicFramePr/>
            <p:nvPr/>
          </p:nvGraphicFramePr>
          <p:xfrm>
            <a:off x="8229600" y="2841480"/>
            <a:ext cx="380880" cy="58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29600" y="2841480"/>
                      <a:ext cx="38088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405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3557880" y="243828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加权标准化决策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2"/>
          <p:cNvSpPr/>
          <p:nvPr/>
        </p:nvSpPr>
        <p:spPr>
          <a:xfrm>
            <a:off x="4347000" y="2819520"/>
            <a:ext cx="30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信息熵法所得的权重与标准化矩阵相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得到加权标准化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3985920" y="45720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640400" y="3657600"/>
          <a:ext cx="3360600" cy="22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3657600"/>
                    <a:ext cx="33606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426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3629520" y="2449440"/>
            <a:ext cx="20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理想解和负理想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4"/>
          <p:cNvGrpSpPr/>
          <p:nvPr/>
        </p:nvGrpSpPr>
        <p:grpSpPr>
          <a:xfrm>
            <a:off x="4195440" y="2971800"/>
            <a:ext cx="2749680" cy="444240"/>
            <a:chOff x="4195440" y="2971800"/>
            <a:chExt cx="2749680" cy="444240"/>
          </a:xfrm>
        </p:grpSpPr>
        <p:sp>
          <p:nvSpPr>
            <p:cNvPr id="431" name="TextBox 22"/>
            <p:cNvSpPr/>
            <p:nvPr/>
          </p:nvSpPr>
          <p:spPr>
            <a:xfrm>
              <a:off x="4195440" y="3047760"/>
              <a:ext cx="27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令两个假设的方案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义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2" name=""/>
            <p:cNvGraphicFramePr/>
            <p:nvPr/>
          </p:nvGraphicFramePr>
          <p:xfrm>
            <a:off x="5766120" y="2971800"/>
            <a:ext cx="1015920" cy="406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66120" y="2971800"/>
                      <a:ext cx="1015920" cy="4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962520" y="3581280"/>
          <a:ext cx="45338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581280"/>
                    <a:ext cx="4533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962520" y="4114800"/>
          <a:ext cx="45720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114800"/>
                    <a:ext cx="4572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452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9"/>
          <p:cNvSpPr/>
          <p:nvPr/>
        </p:nvSpPr>
        <p:spPr>
          <a:xfrm>
            <a:off x="3305880" y="236232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.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距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3352680" y="27442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0492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个方案的距离通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j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uclid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距离来测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个方案与理想方案的距离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648320" y="3429000"/>
          <a:ext cx="2209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429000"/>
                    <a:ext cx="2209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矩形 20"/>
          <p:cNvSpPr/>
          <p:nvPr/>
        </p:nvSpPr>
        <p:spPr>
          <a:xfrm>
            <a:off x="3966120" y="4419720"/>
            <a:ext cx="23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样的，负理想方案的距离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648320" y="4952880"/>
          <a:ext cx="2361960" cy="9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952880"/>
                    <a:ext cx="23619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97560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97560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476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>
            <a:off x="3605040" y="243828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与理想解相对接近程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21"/>
          <p:cNvGrpSpPr/>
          <p:nvPr/>
        </p:nvGrpSpPr>
        <p:grpSpPr>
          <a:xfrm>
            <a:off x="3981240" y="2971800"/>
            <a:ext cx="2946600" cy="436680"/>
            <a:chOff x="3981240" y="2971800"/>
            <a:chExt cx="2946600" cy="43668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3981240" y="2971800"/>
              <a:ext cx="83808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矩形 20"/>
            <p:cNvSpPr/>
            <p:nvPr/>
          </p:nvSpPr>
          <p:spPr>
            <a:xfrm>
              <a:off x="4182840" y="2971800"/>
              <a:ext cx="27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相对接近程度定义为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330228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矩形 23"/>
          <p:cNvSpPr/>
          <p:nvPr/>
        </p:nvSpPr>
        <p:spPr>
          <a:xfrm>
            <a:off x="3328920" y="4354560"/>
            <a:ext cx="14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列偏好顺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29"/>
          <p:cNvGrpSpPr/>
          <p:nvPr/>
        </p:nvGrpSpPr>
        <p:grpSpPr>
          <a:xfrm>
            <a:off x="4495320" y="4800600"/>
            <a:ext cx="2823120" cy="642600"/>
            <a:chOff x="4495320" y="4800600"/>
            <a:chExt cx="2823120" cy="642600"/>
          </a:xfrm>
        </p:grpSpPr>
        <p:sp>
          <p:nvSpPr>
            <p:cNvPr id="488" name="TextBox 27"/>
            <p:cNvSpPr/>
            <p:nvPr/>
          </p:nvSpPr>
          <p:spPr>
            <a:xfrm>
              <a:off x="4495320" y="4800600"/>
              <a:ext cx="282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依据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降序，方案集此时能按偏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属性排列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4609800" y="4800600"/>
              <a:ext cx="41904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02" name="TextBox 18"/>
          <p:cNvSpPr/>
          <p:nvPr/>
        </p:nvSpPr>
        <p:spPr>
          <a:xfrm>
            <a:off x="3504960" y="1962000"/>
            <a:ext cx="33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信息熵的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股票分析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示 19" descr=""/>
          <p:cNvPicPr/>
          <p:nvPr/>
        </p:nvPicPr>
        <p:blipFill>
          <a:blip r:embed="rId1"/>
          <a:stretch/>
        </p:blipFill>
        <p:spPr>
          <a:xfrm>
            <a:off x="3144960" y="2517840"/>
            <a:ext cx="5060880" cy="32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16" name="TextBox 18"/>
          <p:cNvSpPr/>
          <p:nvPr/>
        </p:nvSpPr>
        <p:spPr>
          <a:xfrm>
            <a:off x="4429440" y="1900080"/>
            <a:ext cx="23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械行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公司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819520" y="2514600"/>
          <a:ext cx="5790960" cy="3429000"/>
        </p:xfrm>
        <a:graphic>
          <a:graphicData uri="http://schemas.openxmlformats.org/drawingml/2006/table">
            <a:tbl>
              <a:tblPr/>
              <a:tblGrid>
                <a:gridCol w="840960"/>
                <a:gridCol w="758880"/>
                <a:gridCol w="635040"/>
                <a:gridCol w="888840"/>
                <a:gridCol w="762120"/>
                <a:gridCol w="888840"/>
                <a:gridCol w="1016280"/>
              </a:tblGrid>
              <a:tr h="457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股票代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每股收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销售毛利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净利润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净资产收益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营业利润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联重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3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潍柴动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4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华意压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冷股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6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代科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4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徐工机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柳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威孚高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油济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山推股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7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核科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8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江淮动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8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京山轻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30" name="TextBox 18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加权标准矩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>
            <a:off x="4170240" y="2362320"/>
            <a:ext cx="28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信息熵法，计算出各指标的权重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352680" cy="2905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0"/>
          <p:cNvSpPr/>
          <p:nvPr/>
        </p:nvSpPr>
        <p:spPr>
          <a:xfrm>
            <a:off x="4264200" y="3124080"/>
            <a:ext cx="31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计算得出标准矩阵，将标准矩阵与信息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计算的权重相乘，得到加权标准矩阵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4114800" cy="231948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20" descr="图片2.png"/>
          <p:cNvPicPr/>
          <p:nvPr/>
        </p:nvPicPr>
        <p:blipFill>
          <a:blip r:embed="rId3"/>
          <a:srcRect l="17101" t="7093" r="17101" b="25507"/>
          <a:stretch/>
        </p:blipFill>
        <p:spPr>
          <a:xfrm rot="1582200">
            <a:off x="4140000" y="3844800"/>
            <a:ext cx="644400" cy="6112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21" descr="图片2.png"/>
          <p:cNvPicPr/>
          <p:nvPr/>
        </p:nvPicPr>
        <p:blipFill>
          <a:blip r:embed="rId4"/>
          <a:srcRect l="17101" t="7093" r="17101" b="25507"/>
          <a:stretch/>
        </p:blipFill>
        <p:spPr>
          <a:xfrm rot="1582200">
            <a:off x="5049720" y="3686040"/>
            <a:ext cx="609840" cy="57960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22" descr="图片2.png"/>
          <p:cNvPicPr/>
          <p:nvPr/>
        </p:nvPicPr>
        <p:blipFill>
          <a:blip r:embed="rId5"/>
          <a:srcRect l="17101" t="7093" r="17101" b="25507"/>
          <a:stretch/>
        </p:blipFill>
        <p:spPr>
          <a:xfrm rot="1582200">
            <a:off x="5822640" y="5070600"/>
            <a:ext cx="676080" cy="64296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23" descr="图片2.png"/>
          <p:cNvPicPr/>
          <p:nvPr/>
        </p:nvPicPr>
        <p:blipFill>
          <a:blip r:embed="rId6"/>
          <a:srcRect l="17101" t="7093" r="17101" b="25507"/>
          <a:stretch/>
        </p:blipFill>
        <p:spPr>
          <a:xfrm rot="1582200">
            <a:off x="6719400" y="3681000"/>
            <a:ext cx="574920" cy="544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4" descr="图片2.png"/>
          <p:cNvPicPr/>
          <p:nvPr/>
        </p:nvPicPr>
        <p:blipFill>
          <a:blip r:embed="rId7"/>
          <a:srcRect l="17101" t="7093" r="17101" b="25507"/>
          <a:stretch/>
        </p:blipFill>
        <p:spPr>
          <a:xfrm rot="1582200">
            <a:off x="7640640" y="5286240"/>
            <a:ext cx="609480" cy="5781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55" name="TextBox 18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想值和负理想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"/>
          <p:cNvSpPr/>
          <p:nvPr/>
        </p:nvSpPr>
        <p:spPr>
          <a:xfrm>
            <a:off x="3124080" y="24390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0492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加权标准矩阵中我们可以获得理想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9"/>
          <p:cNvSpPr/>
          <p:nvPr/>
        </p:nvSpPr>
        <p:spPr>
          <a:xfrm>
            <a:off x="378828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理想值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812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3886200" y="3733920"/>
            <a:ext cx="3809880" cy="41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76" name="TextBox 18"/>
          <p:cNvSpPr/>
          <p:nvPr/>
        </p:nvSpPr>
        <p:spPr>
          <a:xfrm>
            <a:off x="4290840" y="19764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股票与理想值和负理想值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895480" y="2666880"/>
          <a:ext cx="5486400" cy="3048120"/>
        </p:xfrm>
        <a:graphic>
          <a:graphicData uri="http://schemas.openxmlformats.org/drawingml/2006/table">
            <a:tbl>
              <a:tblPr/>
              <a:tblGrid>
                <a:gridCol w="876240"/>
                <a:gridCol w="1077840"/>
                <a:gridCol w="882720"/>
                <a:gridCol w="882720"/>
                <a:gridCol w="884160"/>
                <a:gridCol w="882720"/>
              </a:tblGrid>
              <a:tr h="677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名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与理想值的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与负理想值的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名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与理想值的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与负理想值的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8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1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2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5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7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5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40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2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0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40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2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8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4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4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8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7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6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9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5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9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4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7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5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41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1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8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3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90" name="TextBox 18"/>
          <p:cNvSpPr/>
          <p:nvPr/>
        </p:nvSpPr>
        <p:spPr>
          <a:xfrm>
            <a:off x="4510080" y="19764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股票的相对距离及排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2743200" y="2666880"/>
          <a:ext cx="5554800" cy="2971800"/>
        </p:xfrm>
        <a:graphic>
          <a:graphicData uri="http://schemas.openxmlformats.org/drawingml/2006/table">
            <a:tbl>
              <a:tblPr/>
              <a:tblGrid>
                <a:gridCol w="560520"/>
                <a:gridCol w="1552320"/>
                <a:gridCol w="860400"/>
                <a:gridCol w="536760"/>
                <a:gridCol w="1184400"/>
                <a:gridCol w="860400"/>
              </a:tblGrid>
              <a:tr h="593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排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股票名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相对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排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股票名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相对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8862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370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5083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199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327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189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144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925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391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616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919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291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801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92" name="Picture 68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5867640" cy="364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直接连接符 15"/>
          <p:cNvSpPr/>
          <p:nvPr/>
        </p:nvSpPr>
        <p:spPr>
          <a:xfrm flipV="1">
            <a:off x="2133720" y="1752480"/>
            <a:ext cx="38088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直接箭头连接符 17"/>
          <p:cNvCxnSpPr/>
          <p:nvPr/>
        </p:nvCxnSpPr>
        <p:spPr>
          <a:xfrm flipH="1">
            <a:off x="380160" y="4570920"/>
            <a:ext cx="17535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05" name="TextBox 18"/>
          <p:cNvSpPr/>
          <p:nvPr/>
        </p:nvSpPr>
        <p:spPr>
          <a:xfrm>
            <a:off x="3627000" y="1905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人为赋值法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9"/>
          <p:cNvSpPr/>
          <p:nvPr/>
        </p:nvSpPr>
        <p:spPr>
          <a:xfrm>
            <a:off x="3200400" y="2590920"/>
            <a:ext cx="472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上页的图和表中我们可以看出，目前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械行业的上市公司以潍柴动力、中联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盈利能力较强且有有较好的成长性，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第一集团，同时以山推股份、柳工和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济柴为首的一部分上市公司，也有一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盈利能力，不过其成长性不如第一集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直接连接符 15"/>
          <p:cNvSpPr/>
          <p:nvPr/>
        </p:nvSpPr>
        <p:spPr>
          <a:xfrm flipV="1">
            <a:off x="2133720" y="1752480"/>
            <a:ext cx="38088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直接箭头连接符 17"/>
          <p:cNvCxnSpPr/>
          <p:nvPr/>
        </p:nvCxnSpPr>
        <p:spPr>
          <a:xfrm flipH="1">
            <a:off x="380160" y="4570920"/>
            <a:ext cx="17535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19" name="TextBox 18"/>
          <p:cNvSpPr/>
          <p:nvPr/>
        </p:nvSpPr>
        <p:spPr>
          <a:xfrm>
            <a:off x="4770000" y="1981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人为赋值法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819520" y="2666880"/>
          <a:ext cx="5790960" cy="3200400"/>
        </p:xfrm>
        <a:graphic>
          <a:graphicData uri="http://schemas.openxmlformats.org/drawingml/2006/table">
            <a:tbl>
              <a:tblPr/>
              <a:tblGrid>
                <a:gridCol w="767880"/>
                <a:gridCol w="795600"/>
                <a:gridCol w="2100240"/>
                <a:gridCol w="2127240"/>
              </a:tblGrid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排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信息熵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1905120" cy="2286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1876320" cy="2286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21" descr="图片2.png"/>
          <p:cNvPicPr/>
          <p:nvPr/>
        </p:nvPicPr>
        <p:blipFill>
          <a:blip r:embed="rId3"/>
          <a:srcRect l="17101" t="7093" r="17101" b="25507"/>
          <a:stretch/>
        </p:blipFill>
        <p:spPr>
          <a:xfrm rot="1582200">
            <a:off x="5511600" y="3159000"/>
            <a:ext cx="644400" cy="61128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22" descr="图片2.png"/>
          <p:cNvPicPr/>
          <p:nvPr/>
        </p:nvPicPr>
        <p:blipFill>
          <a:blip r:embed="rId4"/>
          <a:srcRect l="17101" t="7093" r="17101" b="25507"/>
          <a:stretch/>
        </p:blipFill>
        <p:spPr>
          <a:xfrm rot="1582200">
            <a:off x="5582880" y="2924280"/>
            <a:ext cx="609480" cy="5792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23" descr="图片2.png"/>
          <p:cNvPicPr/>
          <p:nvPr/>
        </p:nvPicPr>
        <p:blipFill>
          <a:blip r:embed="rId5"/>
          <a:srcRect l="17101" t="7093" r="17101" b="25507"/>
          <a:stretch/>
        </p:blipFill>
        <p:spPr>
          <a:xfrm rot="1582200">
            <a:off x="7575120" y="3089160"/>
            <a:ext cx="676440" cy="64296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24" descr="图片2.png"/>
          <p:cNvPicPr/>
          <p:nvPr/>
        </p:nvPicPr>
        <p:blipFill>
          <a:blip r:embed="rId6"/>
          <a:srcRect l="17101" t="7093" r="17101" b="25507"/>
          <a:stretch/>
        </p:blipFill>
        <p:spPr>
          <a:xfrm rot="1582200">
            <a:off x="7633800" y="2860200"/>
            <a:ext cx="574920" cy="5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15"/>
          <p:cNvSpPr/>
          <p:nvPr/>
        </p:nvSpPr>
        <p:spPr>
          <a:xfrm flipV="1">
            <a:off x="2133720" y="1752480"/>
            <a:ext cx="38088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直接箭头连接符 17"/>
          <p:cNvCxnSpPr/>
          <p:nvPr/>
        </p:nvCxnSpPr>
        <p:spPr>
          <a:xfrm flipH="1">
            <a:off x="380160" y="4570920"/>
            <a:ext cx="17535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39" name="TextBox 18"/>
          <p:cNvSpPr/>
          <p:nvPr/>
        </p:nvSpPr>
        <p:spPr>
          <a:xfrm>
            <a:off x="3627000" y="1905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人为赋值法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9"/>
          <p:cNvSpPr/>
          <p:nvPr/>
        </p:nvSpPr>
        <p:spPr>
          <a:xfrm>
            <a:off x="3352680" y="2692440"/>
            <a:ext cx="487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人为赋值的方法，主要考虑的是投资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评价指标的偏好程度，亦即是建立在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者的主观意向之上，评价的结果往往会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投资者的不同想法而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信息熵法计算出的权重全部基于股票的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数据，具有唯一性，基于这种方法获得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才能准确客观地对股票进行评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15"/>
          <p:cNvSpPr/>
          <p:nvPr/>
        </p:nvSpPr>
        <p:spPr>
          <a:xfrm flipV="1">
            <a:off x="2133720" y="1752480"/>
            <a:ext cx="38088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直接箭头连接符 17"/>
          <p:cNvCxnSpPr/>
          <p:nvPr/>
        </p:nvCxnSpPr>
        <p:spPr>
          <a:xfrm flipH="1">
            <a:off x="1066320" y="510444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53" name="TextBox 18"/>
          <p:cNvSpPr/>
          <p:nvPr/>
        </p:nvSpPr>
        <p:spPr>
          <a:xfrm>
            <a:off x="2985120" y="190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0"/>
          <p:cNvSpPr/>
          <p:nvPr/>
        </p:nvSpPr>
        <p:spPr>
          <a:xfrm>
            <a:off x="3505320" y="24382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然上市公司的的价值可以评估，但是在大盘行情不好的情况下，也很好会有股票能够走出独立大盘的走势，所以，这就要求投资者对于股票，首先要有一定的了解，对于国家的宏观调整政策能够了解，并作出相应的判断，同时在买入股票的点位上要有判断，这就要求投资者要有一定的技术分析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114" name="TextBox 15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背景及其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3"/>
          <p:cNvSpPr/>
          <p:nvPr/>
        </p:nvSpPr>
        <p:spPr>
          <a:xfrm>
            <a:off x="2895480" y="25146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海证券交易所正式挂牌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4"/>
          <p:cNvSpPr/>
          <p:nvPr/>
        </p:nvSpPr>
        <p:spPr>
          <a:xfrm>
            <a:off x="2895480" y="2895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深圳证券交易所成立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志着新中国证券市场正式起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6"/>
          <p:cNvSpPr/>
          <p:nvPr/>
        </p:nvSpPr>
        <p:spPr>
          <a:xfrm>
            <a:off x="3401640" y="351648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中国证券协会在京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8"/>
          <p:cNvSpPr/>
          <p:nvPr/>
        </p:nvSpPr>
        <p:spPr>
          <a:xfrm>
            <a:off x="2895480" y="3886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春，邓小平南巡深圳视察时发表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证券市场之光重要的谈话，推动了证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9"/>
          <p:cNvSpPr/>
          <p:nvPr/>
        </p:nvSpPr>
        <p:spPr>
          <a:xfrm>
            <a:off x="289548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间，中国证券市场快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。上市公司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上升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，股票市价总值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P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重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93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升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.4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直接连接符 15"/>
          <p:cNvSpPr/>
          <p:nvPr/>
        </p:nvSpPr>
        <p:spPr>
          <a:xfrm flipV="1">
            <a:off x="2133720" y="1752480"/>
            <a:ext cx="38088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直接箭头连接符 17"/>
          <p:cNvCxnSpPr/>
          <p:nvPr/>
        </p:nvCxnSpPr>
        <p:spPr>
          <a:xfrm flipH="1">
            <a:off x="1066320" y="510444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67" name="TextBox 18"/>
          <p:cNvSpPr/>
          <p:nvPr/>
        </p:nvSpPr>
        <p:spPr>
          <a:xfrm>
            <a:off x="2985120" y="190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21"/>
          <p:cNvSpPr/>
          <p:nvPr/>
        </p:nvSpPr>
        <p:spPr>
          <a:xfrm>
            <a:off x="3505320" y="2666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票的评价是一个很复杂的问题，本文利用基于信息熵的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价方法，把上市公司做一个简单的评价，通过综合评价，价值投资者可以很客观的看到，上市公司在所属行业中的地位，可以更好的帮助投资者去选择股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TextBox 1" descr=""/>
          <p:cNvPicPr/>
          <p:nvPr/>
        </p:nvPicPr>
        <p:blipFill>
          <a:blip r:embed="rId1"/>
          <a:stretch/>
        </p:blipFill>
        <p:spPr>
          <a:xfrm>
            <a:off x="3187800" y="2743200"/>
            <a:ext cx="315252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132" name="TextBox 15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背景及其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3"/>
          <p:cNvSpPr/>
          <p:nvPr/>
        </p:nvSpPr>
        <p:spPr>
          <a:xfrm>
            <a:off x="3276720" y="2630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华人名共和国证券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正式实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4"/>
          <p:cNvSpPr/>
          <p:nvPr/>
        </p:nvSpPr>
        <p:spPr>
          <a:xfrm>
            <a:off x="3276720" y="3343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起深交所设立中小企业板块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交所和深交所分别推出交易型开放基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上市开放式基金、权证等创新品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6"/>
          <p:cNvSpPr/>
          <p:nvPr/>
        </p:nvSpPr>
        <p:spPr>
          <a:xfrm>
            <a:off x="4099680" y="4307040"/>
            <a:ext cx="37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华人名共和国证券投资基金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式实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8"/>
          <p:cNvSpPr/>
          <p:nvPr/>
        </p:nvSpPr>
        <p:spPr>
          <a:xfrm>
            <a:off x="3276720" y="5040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9"/>
          <p:cNvSpPr/>
          <p:nvPr/>
        </p:nvSpPr>
        <p:spPr>
          <a:xfrm>
            <a:off x="3276720" y="5497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graphicFrame>
        <p:nvGraphicFramePr>
          <p:cNvPr id="150" name="图表 16"/>
          <p:cNvGraphicFramePr/>
          <p:nvPr/>
        </p:nvGraphicFramePr>
        <p:xfrm>
          <a:off x="2463840" y="2158920"/>
          <a:ext cx="635004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图表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3840" y="2158920"/>
                    <a:ext cx="63500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组合 59"/>
          <p:cNvGrpSpPr/>
          <p:nvPr/>
        </p:nvGrpSpPr>
        <p:grpSpPr>
          <a:xfrm>
            <a:off x="3657600" y="3047760"/>
            <a:ext cx="5029200" cy="1828800"/>
            <a:chOff x="3657600" y="3047760"/>
            <a:chExt cx="5029200" cy="1828800"/>
          </a:xfrm>
        </p:grpSpPr>
        <p:sp>
          <p:nvSpPr>
            <p:cNvPr id="153" name="直接连接符 24"/>
            <p:cNvSpPr/>
            <p:nvPr/>
          </p:nvSpPr>
          <p:spPr>
            <a:xfrm flipV="1">
              <a:off x="3657600" y="4800600"/>
              <a:ext cx="60948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7"/>
            <p:cNvSpPr/>
            <p:nvPr/>
          </p:nvSpPr>
          <p:spPr>
            <a:xfrm flipV="1">
              <a:off x="4190760" y="4647960"/>
              <a:ext cx="30456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9"/>
            <p:cNvSpPr/>
            <p:nvPr/>
          </p:nvSpPr>
          <p:spPr>
            <a:xfrm flipV="1">
              <a:off x="4495680" y="4572000"/>
              <a:ext cx="4572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31"/>
            <p:cNvSpPr/>
            <p:nvPr/>
          </p:nvSpPr>
          <p:spPr>
            <a:xfrm flipV="1">
              <a:off x="4952880" y="4267440"/>
              <a:ext cx="30456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35"/>
            <p:cNvSpPr/>
            <p:nvPr/>
          </p:nvSpPr>
          <p:spPr>
            <a:xfrm flipV="1">
              <a:off x="5257800" y="4114440"/>
              <a:ext cx="22860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37"/>
            <p:cNvSpPr/>
            <p:nvPr/>
          </p:nvSpPr>
          <p:spPr>
            <a:xfrm flipV="1">
              <a:off x="5486400" y="403848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40"/>
            <p:cNvSpPr/>
            <p:nvPr/>
          </p:nvSpPr>
          <p:spPr>
            <a:xfrm flipV="1">
              <a:off x="5715000" y="396216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41"/>
            <p:cNvSpPr/>
            <p:nvPr/>
          </p:nvSpPr>
          <p:spPr>
            <a:xfrm flipV="1">
              <a:off x="5943600" y="3809880"/>
              <a:ext cx="22860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3"/>
            <p:cNvSpPr/>
            <p:nvPr/>
          </p:nvSpPr>
          <p:spPr>
            <a:xfrm flipV="1">
              <a:off x="6172200" y="3733560"/>
              <a:ext cx="30456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45"/>
            <p:cNvSpPr/>
            <p:nvPr/>
          </p:nvSpPr>
          <p:spPr>
            <a:xfrm flipV="1">
              <a:off x="6477120" y="3657240"/>
              <a:ext cx="30456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46"/>
            <p:cNvSpPr/>
            <p:nvPr/>
          </p:nvSpPr>
          <p:spPr>
            <a:xfrm flipV="1">
              <a:off x="6781680" y="358092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49"/>
            <p:cNvSpPr/>
            <p:nvPr/>
          </p:nvSpPr>
          <p:spPr>
            <a:xfrm flipV="1">
              <a:off x="7010280" y="350496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50"/>
            <p:cNvSpPr/>
            <p:nvPr/>
          </p:nvSpPr>
          <p:spPr>
            <a:xfrm flipV="1">
              <a:off x="7239240" y="3428640"/>
              <a:ext cx="53316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52"/>
            <p:cNvSpPr/>
            <p:nvPr/>
          </p:nvSpPr>
          <p:spPr>
            <a:xfrm flipV="1">
              <a:off x="7696440" y="3352320"/>
              <a:ext cx="38088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 flipV="1">
              <a:off x="8077320" y="3200040"/>
              <a:ext cx="30456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58"/>
            <p:cNvSpPr/>
            <p:nvPr/>
          </p:nvSpPr>
          <p:spPr>
            <a:xfrm flipV="1">
              <a:off x="8382240" y="3047760"/>
              <a:ext cx="30456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graphicFrame>
        <p:nvGraphicFramePr>
          <p:cNvPr id="181" name="图表 17"/>
          <p:cNvGraphicFramePr/>
          <p:nvPr/>
        </p:nvGraphicFramePr>
        <p:xfrm>
          <a:off x="2616120" y="2235240"/>
          <a:ext cx="6578640" cy="43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图表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2235240"/>
                    <a:ext cx="657864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组合 31"/>
          <p:cNvGrpSpPr/>
          <p:nvPr/>
        </p:nvGrpSpPr>
        <p:grpSpPr>
          <a:xfrm>
            <a:off x="3657600" y="2819160"/>
            <a:ext cx="3809160" cy="2743200"/>
            <a:chOff x="3657600" y="2819160"/>
            <a:chExt cx="3809160" cy="2743200"/>
          </a:xfrm>
        </p:grpSpPr>
        <p:sp>
          <p:nvSpPr>
            <p:cNvPr id="184" name="直接连接符 37"/>
            <p:cNvSpPr/>
            <p:nvPr/>
          </p:nvSpPr>
          <p:spPr>
            <a:xfrm flipV="1">
              <a:off x="4418640" y="5181480"/>
              <a:ext cx="15228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45"/>
            <p:cNvSpPr/>
            <p:nvPr/>
          </p:nvSpPr>
          <p:spPr>
            <a:xfrm flipV="1">
              <a:off x="5029200" y="472428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68"/>
            <p:cNvGrpSpPr/>
            <p:nvPr/>
          </p:nvGrpSpPr>
          <p:grpSpPr>
            <a:xfrm>
              <a:off x="3657600" y="2819160"/>
              <a:ext cx="3809160" cy="2743200"/>
              <a:chOff x="3657600" y="2819160"/>
              <a:chExt cx="3809160" cy="2743200"/>
            </a:xfrm>
          </p:grpSpPr>
          <p:sp>
            <p:nvSpPr>
              <p:cNvPr id="187" name="直接连接符 51"/>
              <p:cNvSpPr/>
              <p:nvPr/>
            </p:nvSpPr>
            <p:spPr>
              <a:xfrm>
                <a:off x="5715000" y="4267440"/>
                <a:ext cx="1522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组合 67"/>
              <p:cNvGrpSpPr/>
              <p:nvPr/>
            </p:nvGrpSpPr>
            <p:grpSpPr>
              <a:xfrm>
                <a:off x="3657600" y="2819160"/>
                <a:ext cx="3809160" cy="2743200"/>
                <a:chOff x="3657600" y="2819160"/>
                <a:chExt cx="3809160" cy="2743200"/>
              </a:xfrm>
            </p:grpSpPr>
            <p:sp>
              <p:nvSpPr>
                <p:cNvPr id="189" name="直接连接符 28"/>
                <p:cNvSpPr/>
                <p:nvPr/>
              </p:nvSpPr>
              <p:spPr>
                <a:xfrm flipV="1">
                  <a:off x="3657600" y="5410080"/>
                  <a:ext cx="304560" cy="1522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直接连接符 30"/>
                <p:cNvSpPr/>
                <p:nvPr/>
              </p:nvSpPr>
              <p:spPr>
                <a:xfrm>
                  <a:off x="3962160" y="5410440"/>
                  <a:ext cx="2286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直接连接符 33"/>
                <p:cNvSpPr/>
                <p:nvPr/>
              </p:nvSpPr>
              <p:spPr>
                <a:xfrm flipV="1">
                  <a:off x="4190760" y="5335560"/>
                  <a:ext cx="228600" cy="74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直接连接符 40"/>
                <p:cNvSpPr/>
                <p:nvPr/>
              </p:nvSpPr>
              <p:spPr>
                <a:xfrm flipV="1">
                  <a:off x="4571280" y="4952880"/>
                  <a:ext cx="22860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直接连接符 42"/>
                <p:cNvSpPr/>
                <p:nvPr/>
              </p:nvSpPr>
              <p:spPr>
                <a:xfrm flipV="1">
                  <a:off x="4800600" y="4800600"/>
                  <a:ext cx="228600" cy="1522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直接连接符 47"/>
                <p:cNvSpPr/>
                <p:nvPr/>
              </p:nvSpPr>
              <p:spPr>
                <a:xfrm flipV="1">
                  <a:off x="5257080" y="4495680"/>
                  <a:ext cx="15228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直接连接符 49"/>
                <p:cNvSpPr/>
                <p:nvPr/>
              </p:nvSpPr>
              <p:spPr>
                <a:xfrm flipV="1">
                  <a:off x="5410080" y="4267080"/>
                  <a:ext cx="30456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直接连接符 54"/>
                <p:cNvSpPr/>
                <p:nvPr/>
              </p:nvSpPr>
              <p:spPr>
                <a:xfrm flipV="1">
                  <a:off x="5867280" y="4190760"/>
                  <a:ext cx="609480" cy="759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直接连接符 56"/>
                <p:cNvSpPr/>
                <p:nvPr/>
              </p:nvSpPr>
              <p:spPr>
                <a:xfrm flipV="1">
                  <a:off x="6477120" y="4114440"/>
                  <a:ext cx="304560" cy="759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直接连接符 61"/>
                <p:cNvSpPr/>
                <p:nvPr/>
              </p:nvSpPr>
              <p:spPr>
                <a:xfrm flipV="1">
                  <a:off x="6780960" y="3428640"/>
                  <a:ext cx="152280" cy="685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直接连接符 63"/>
                <p:cNvSpPr/>
                <p:nvPr/>
              </p:nvSpPr>
              <p:spPr>
                <a:xfrm flipV="1">
                  <a:off x="6934320" y="3048120"/>
                  <a:ext cx="304560" cy="380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直接连接符 65"/>
                <p:cNvSpPr/>
                <p:nvPr/>
              </p:nvSpPr>
              <p:spPr>
                <a:xfrm flipV="1">
                  <a:off x="7238160" y="2819160"/>
                  <a:ext cx="22860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13" name="TextBox 15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背景及其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4183200" y="2438280"/>
            <a:ext cx="356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初期，由于市场规模小，上市公司数量有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上股民的投资观念和操作方法都不是很成熟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，那时的投机性很强，很少讲究技术层面的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0"/>
          <p:cNvSpPr/>
          <p:nvPr/>
        </p:nvSpPr>
        <p:spPr>
          <a:xfrm>
            <a:off x="3124080" y="35053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今的股市已今非昔比。随着中国股市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断壮大，而且各项规章制度正在逐步完善，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渐走向规范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1"/>
          <p:cNvSpPr/>
          <p:nvPr/>
        </p:nvSpPr>
        <p:spPr>
          <a:xfrm>
            <a:off x="3124080" y="4572000"/>
            <a:ext cx="55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及其内在价值回归到了未来股市发展的重要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，理智的投资者，将会更多的去重视所要投资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的经营业绩，即更加重视投资对象的选择。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  如何对股票进行公正地客观地评价就显得很有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29" name="TextBox 18"/>
          <p:cNvSpPr/>
          <p:nvPr/>
        </p:nvSpPr>
        <p:spPr>
          <a:xfrm>
            <a:off x="3456360" y="190008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信息熵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示 23" descr=""/>
          <p:cNvPicPr/>
          <p:nvPr/>
        </p:nvPicPr>
        <p:blipFill>
          <a:blip r:embed="rId1"/>
          <a:stretch/>
        </p:blipFill>
        <p:spPr>
          <a:xfrm>
            <a:off x="2614680" y="2133720"/>
            <a:ext cx="6346800" cy="40654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25" descr="图片1.png"/>
          <p:cNvPicPr/>
          <p:nvPr/>
        </p:nvPicPr>
        <p:blipFill>
          <a:blip r:embed="rId2"/>
          <a:srcRect l="36375" t="33869" r="36375" b="26767"/>
          <a:stretch/>
        </p:blipFill>
        <p:spPr>
          <a:xfrm>
            <a:off x="5638680" y="4818240"/>
            <a:ext cx="609840" cy="7444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6" descr="图片1.png"/>
          <p:cNvPicPr/>
          <p:nvPr/>
        </p:nvPicPr>
        <p:blipFill>
          <a:blip r:embed="rId3"/>
          <a:srcRect l="36375" t="33869" r="36375" b="26767"/>
          <a:stretch/>
        </p:blipFill>
        <p:spPr>
          <a:xfrm>
            <a:off x="6781680" y="4800600"/>
            <a:ext cx="609840" cy="74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45" name="TextBox 18"/>
          <p:cNvSpPr/>
          <p:nvPr/>
        </p:nvSpPr>
        <p:spPr>
          <a:xfrm>
            <a:off x="3393000" y="190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价指标的选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3514320" y="25146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宏观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3514320" y="412596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观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4519440" y="2895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宏观因素对证券市场的影响是一种系统风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即市场风险证券市场上几乎所有的股票都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作用，在这种情况下，用宏观因素方面的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进行评价是无意义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2"/>
          <p:cNvSpPr/>
          <p:nvPr/>
        </p:nvSpPr>
        <p:spPr>
          <a:xfrm>
            <a:off x="4519440" y="449568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观因素下的指标如竞争能力、盈利能力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对股票的内在价值或投资价值有着直接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的，而且易量化，数据的较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4" descr="图片2.png"/>
          <p:cNvPicPr/>
          <p:nvPr/>
        </p:nvPicPr>
        <p:blipFill>
          <a:blip r:embed="rId1"/>
          <a:srcRect l="17101" t="7093" r="17101" b="25507"/>
          <a:stretch/>
        </p:blipFill>
        <p:spPr>
          <a:xfrm rot="184800">
            <a:off x="3030480" y="4000320"/>
            <a:ext cx="984240" cy="93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34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36:57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