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3DD4-5818-4244-BA5F-C4E7604949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C2F-9D6C-467D-9239-7A195E4B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8A7-E2C2-403D-AF93-F7412E04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9D9-A3F2-4AC8-A463-CF0E9633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146-8299-41AB-934A-457CB95B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4069-8355-4BE9-9297-5B537B9E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CD0-B786-41A5-81FF-BE077650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3B35-97BF-4607-A37F-BAEEB4A1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F08-419B-4061-B261-E9AB2594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015-3AF3-4EC1-8C66-792106B4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316-B5B9-4951-BF81-887957F5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9A8E-71BB-4F2A-818F-DB3A743994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894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3779640" y="6347880"/>
            <a:ext cx="1834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4B01-3E7D-43BA-A744-6C91CEB37DB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55640" y="2565360"/>
            <a:ext cx="6043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新年快乐  幸福吉祥</a:t>
            </a: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55640" y="4292280"/>
            <a:ext cx="5321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81" name="Picture 7" descr="未标题-1"/>
          <p:cNvPicPr/>
          <p:nvPr/>
        </p:nvPicPr>
        <p:blipFill>
          <a:blip r:embed="rId2"/>
          <a:stretch/>
        </p:blipFill>
        <p:spPr>
          <a:xfrm>
            <a:off x="6004080" y="260280"/>
            <a:ext cx="2595240" cy="1567080"/>
          </a:xfrm>
          <a:prstGeom prst="rect">
            <a:avLst/>
          </a:prstGeom>
          <a:ln w="0">
            <a:noFill/>
          </a:ln>
        </p:spPr>
      </p:pic>
      <p:sp>
        <p:nvSpPr>
          <p:cNvPr id="82" name="矩形 6"/>
          <p:cNvSpPr/>
          <p:nvPr/>
        </p:nvSpPr>
        <p:spPr>
          <a:xfrm>
            <a:off x="108000" y="25560"/>
            <a:ext cx="718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 Black"/>
              </a:rPr>
              <a:t>幸福吉祥年</a:t>
            </a:r>
            <a:endParaRPr b="1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10920" y="2997000"/>
            <a:ext cx="6045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MV Boli"/>
                <a:ea typeface="华文隶书"/>
              </a:rPr>
              <a:t>Happy New Year</a:t>
            </a:r>
            <a:br>
              <a:rPr sz="4300"/>
            </a:br>
            <a:r>
              <a:rPr b="1" lang="en-US" sz="4300" spc="-1" strike="noStrike">
                <a:solidFill>
                  <a:srgbClr val="ffffff"/>
                </a:solidFill>
                <a:latin typeface="MV Boli"/>
                <a:ea typeface="华文隶书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V Boli"/>
                <a:ea typeface="华文隶书"/>
              </a:rPr>
              <a:t>O(∩_∩)O~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5" name="Picture 7" descr="未标题-1"/>
          <p:cNvPicPr/>
          <p:nvPr/>
        </p:nvPicPr>
        <p:blipFill>
          <a:blip r:embed="rId2"/>
          <a:stretch/>
        </p:blipFill>
        <p:spPr>
          <a:xfrm>
            <a:off x="6443640" y="189000"/>
            <a:ext cx="25956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4:28:04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9:47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