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3C5-1C27-4AED-9032-DA71E218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70FE-6885-48BF-B711-3CAAE3F0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F4C6-2D01-4FDB-8230-092ECAA5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1AAC-8BC5-433C-8D68-F95F548C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353E-EA53-49D7-8DBA-9229181A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5DEB-666B-458C-B760-34DE402E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55CC-DC6F-4033-B0D6-3ACE671A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8CAE-61FC-4BCC-9E03-DE4B2DF4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8FC4-9F8C-496E-AD5F-5496192D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A2BB-1BD8-4D11-B75C-E71905EC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8A1C-9455-4D71-9AA6-0E9C89FD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4958-EBDF-465D-83C2-DDA15579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45C1-6FA8-4981-B1B3-969C4C82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A3F5-6BB4-4BE5-B69B-52410585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6B06-1539-4463-BBFC-06955BD4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7859-F2B6-4307-8F06-6CC30616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3ED0-9706-4CC9-A568-408DBD65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51F-2016-46CC-A2EF-D6314C6E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7CA-3DA1-4973-9B5F-A49151E2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A54-AB12-4766-AC2B-87B8C2FD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4FA8-BA6D-4756-8736-16B95023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53D-52B4-49DA-8062-B6361CF2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48A-4E46-455D-9400-40CCBE18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F47-EF03-4B3F-8D40-136B1F9F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885F-1995-4FD6-99C7-B55D57B33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80DD-EE22-4A99-84EC-7621017D4EC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AE7E-9ECF-4689-A2C7-D93F044E4C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图片6"/>
          <p:cNvPicPr/>
          <p:nvPr/>
        </p:nvPicPr>
        <p:blipFill>
          <a:blip r:embed="rId1"/>
          <a:stretch/>
        </p:blipFill>
        <p:spPr>
          <a:xfrm>
            <a:off x="0" y="0"/>
            <a:ext cx="100076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2987640" y="2997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执教：简小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132000" y="3860640"/>
            <a:ext cx="32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制作：简小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64000" y="134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116000" y="549360"/>
            <a:ext cx="722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99"/>
                </a:solidFill>
                <a:latin typeface="华文琥珀"/>
                <a:ea typeface="华文琥珀"/>
              </a:rPr>
              <a:t>小松鼠找花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6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4"/>
          <a:stretch/>
        </p:blipFill>
        <p:spPr>
          <a:xfrm>
            <a:off x="0" y="-6660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231840" y="0"/>
            <a:ext cx="304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0000ff"/>
                </a:solidFill>
                <a:latin typeface="Arial"/>
              </a:rPr>
              <a:t>猜一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麻屋子，红帐子，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面坐了个白胖子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林海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0" y="-243000"/>
            <a:ext cx="40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0000ff"/>
                </a:solidFill>
                <a:latin typeface="Arial"/>
              </a:rPr>
              <a:t>认一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395280" y="148428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找         花生              旁  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种           许   多        格   外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鲜 艳         呀            每    天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  言  自  语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549360"/>
            <a:ext cx="29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zh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2700360" y="69228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hē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5364000" y="696960"/>
            <a:ext cx="306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á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0" y="22050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zhò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2627280" y="2060640"/>
            <a:ext cx="15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x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5003640" y="2133720"/>
            <a:ext cx="393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gé wà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1187280" y="3706920"/>
            <a:ext cx="20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yà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348000" y="3797280"/>
            <a:ext cx="113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y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5906160" y="379728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ě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1332000" y="5310360"/>
            <a:ext cx="186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yá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3492360" y="5237280"/>
            <a:ext cx="160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y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0" y="0"/>
            <a:ext cx="31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0000ff"/>
                </a:solidFill>
                <a:latin typeface="Arial"/>
              </a:rPr>
              <a:t>想一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177336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松鼠问鼹鼠：“这是什么花呀？”鼹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：“这是花生的花。到了秋天，会结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，花生可好吃啦！”小松鼠很高兴，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：等花结了果，我就把花生摘下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留着冬天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959120" y="149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4284720" y="2421000"/>
            <a:ext cx="331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1476360" y="3068640"/>
            <a:ext cx="766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0" y="3645000"/>
            <a:ext cx="457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3851280" y="228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0" y="836640"/>
            <a:ext cx="88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松鼠每天都到地里去，看看结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了没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等啊，等啊，等到花都落光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也没看见一个花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1258920" y="4076640"/>
            <a:ext cx="2952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2771640" y="148428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15573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松鼠感到很奇怪，自言自语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：“是谁把花生摘走了呢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095480" y="4724280"/>
            <a:ext cx="70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花生真的被摘走了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5940360" y="2349360"/>
            <a:ext cx="187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u=4066271674,2315116076&amp;gp=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250920" y="0"/>
            <a:ext cx="270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0000ff"/>
                </a:solidFill>
                <a:latin typeface="Arial"/>
              </a:rPr>
              <a:t>读儿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0" y="1341360"/>
            <a:ext cx="9531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小松鼠，找花生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没找到，格外急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花落了，果结了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花生呀，在地里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一夜的工作结束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0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0" y="-3240"/>
            <a:ext cx="385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0000ff"/>
                </a:solidFill>
                <a:latin typeface="Arial"/>
              </a:rPr>
              <a:t>做一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0" y="1052640"/>
            <a:ext cx="879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生   生长    生日    花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0" y="2492280"/>
            <a:ext cx="908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种（     ）（     ）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0" y="3860640"/>
            <a:ext cx="916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许（    ） （     ）（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0" y="5229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Arial"/>
              </a:rPr>
              <a:t>外（    ） （      ）（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403280" y="2565360"/>
            <a:ext cx="146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211640" y="2565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732720" y="2637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2103480" y="4226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403280" y="3933720"/>
            <a:ext cx="146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许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3975120" y="4005360"/>
            <a:ext cx="17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6588000" y="40114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也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332000" y="5373720"/>
            <a:ext cx="13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外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4067280" y="5373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外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6804000" y="53802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外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08:31:16Z</dcterms:created>
  <dc:creator>user</dc:creator>
  <dc:description/>
  <dc:language>en-US</dc:language>
  <cp:lastModifiedBy>a</cp:lastModifiedBy>
  <dcterms:modified xsi:type="dcterms:W3CDTF">2015-05-20T04:17:02Z</dcterms:modified>
  <cp:revision>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