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gif" ContentType="image/gif"/>
  <Override PartName="/ppt/media/image7.gif" ContentType="image/gif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7AD-0BFC-48E4-AF65-3ABEC549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436-3030-4FCC-A9E4-E95782F1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E0D-93EE-4919-8FC5-5855E6C0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0C5-E634-435B-8132-A9EE4AB2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18F-4D21-4B10-A3F3-C5E6F3F8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889-4C48-4CFA-AE71-15E44F72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4B2-DE82-4410-9E28-308C2DAF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831-AB65-4E64-88C1-62A16018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CE3-6C07-493E-A380-A2B41422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778-4358-49AD-AEB5-B7A8E225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C0D-BCA4-4D62-BACD-47404CBD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3D9-62AB-4D96-BAF4-C1046AD4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3FED-99E7-4502-8CDA-B5A4A87D5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00"/>
                </a:solidFill>
                <a:latin typeface="Arial"/>
                <a:ea typeface="华文行楷"/>
              </a:rPr>
              <a:t>新文化运动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7086600" y="6095880"/>
            <a:ext cx="1752480" cy="45720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6518160" y="547056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方正水柱简体"/>
              </a:rPr>
              <a:t>广雅实验学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方正水柱简体"/>
              </a:rPr>
              <a:t>李丽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3"/>
          <p:cNvPicPr/>
          <p:nvPr/>
        </p:nvPicPr>
        <p:blipFill>
          <a:blip r:embed="rId2"/>
          <a:srcRect l="0" t="0" r="-142" b="40"/>
          <a:stretch/>
        </p:blipFill>
        <p:spPr>
          <a:xfrm>
            <a:off x="0" y="0"/>
            <a:ext cx="2133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旧道德       新道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7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旧道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指孔子学说为代表的儒家传统道德。其核心内容是三纲五常（三纲指君为臣纲、父为子纲、夫为妻纲。五常通常指仁、义、礼、智、信）。历代统治者以此来束缚人们的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7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7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道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 指男女平等、个性解放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niDivid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33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BOOK"/>
          <p:cNvPicPr/>
          <p:nvPr/>
        </p:nvPicPr>
        <p:blipFill>
          <a:blip r:embed="rId2"/>
          <a:stretch/>
        </p:blipFill>
        <p:spPr>
          <a:xfrm>
            <a:off x="7391520" y="5726160"/>
            <a:ext cx="1752480" cy="1131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旧文学        新文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2590920" y="251460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048120" y="42670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BOOK"/>
          <p:cNvPicPr/>
          <p:nvPr/>
        </p:nvPicPr>
        <p:blipFill>
          <a:blip r:embed="rId1"/>
          <a:stretch/>
        </p:blipFill>
        <p:spPr>
          <a:xfrm>
            <a:off x="7391520" y="5726160"/>
            <a:ext cx="1752480" cy="1131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555120" y="2606760"/>
            <a:ext cx="16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学革命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76320" y="4370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学改良刍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666880" y="1903320"/>
            <a:ext cx="640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独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04f16"/>
                </a:solidFill>
                <a:latin typeface="Arial"/>
              </a:rPr>
              <a:t>主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推倒陈腐、雕琢、艰涩的旧文学</a:t>
            </a:r>
            <a:r>
              <a:rPr b="1" i="1" lang="zh-CN" sz="3200" spc="-1" strike="noStrike">
                <a:solidFill>
                  <a:srgbClr val="f04f16"/>
                </a:solidFill>
                <a:latin typeface="Arial"/>
              </a:rPr>
              <a:t>建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新鲜、平易、通俗的新文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22720" y="4495680"/>
            <a:ext cx="401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200400" y="3456000"/>
            <a:ext cx="5486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胡     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04f16"/>
                </a:solidFill>
                <a:latin typeface="Arial"/>
              </a:rPr>
              <a:t>提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话文代替文言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04f16"/>
                </a:solidFill>
                <a:latin typeface="Arial"/>
              </a:rPr>
              <a:t>强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文章“须言之有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025"/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74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380880" y="1752480"/>
            <a:ext cx="4191120" cy="3581640"/>
          </a:xfrm>
          <a:prstGeom prst="rightArrowCallout">
            <a:avLst>
              <a:gd name="adj1" fmla="val 25002"/>
              <a:gd name="adj2" fmla="val 25000"/>
              <a:gd name="adj3" fmla="val 19503"/>
              <a:gd name="adj4" fmla="val 7431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4724280" y="1828800"/>
            <a:ext cx="4114800" cy="3429000"/>
          </a:xfrm>
          <a:prstGeom prst="leftArrowCallout">
            <a:avLst>
              <a:gd name="adj1" fmla="val 25002"/>
              <a:gd name="adj2" fmla="val 25000"/>
              <a:gd name="adj3" fmla="val 20000"/>
              <a:gd name="adj4" fmla="val 743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92120" y="2514600"/>
            <a:ext cx="38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民主、自由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等、博爱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想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906720" y="5335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一背景：新旧思潮的激烈冲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867280" y="260028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国民教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孔子之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修身大本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224720" y="1522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二新文化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258920" y="1052640"/>
          <a:ext cx="6842160" cy="5527440"/>
        </p:xfrm>
        <a:graphic>
          <a:graphicData uri="http://schemas.openxmlformats.org/drawingml/2006/table">
            <a:tbl>
              <a:tblPr/>
              <a:tblGrid>
                <a:gridCol w="3073320"/>
                <a:gridCol w="3768840"/>
              </a:tblGrid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时     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50000">
                          <a:srgbClr val="3a0000"/>
                        </a:gs>
                        <a:gs pos="100000">
                          <a:srgbClr val="99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a2"/>
                        </a:gs>
                        <a:gs pos="50000">
                          <a:srgbClr val="808080"/>
                        </a:gs>
                        <a:gs pos="100000">
                          <a:srgbClr val="a2a2a2"/>
                        </a:gs>
                      </a:gsLst>
                      <a:lin ang="13500000"/>
                    </a:gradFill>
                  </a:tcPr>
                </a:tc>
              </a:tr>
              <a:tr h="807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标      志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50000">
                          <a:srgbClr val="3a0000"/>
                        </a:gs>
                        <a:gs pos="100000">
                          <a:srgbClr val="99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a2"/>
                        </a:gs>
                        <a:gs pos="50000">
                          <a:srgbClr val="808080"/>
                        </a:gs>
                        <a:gs pos="100000">
                          <a:srgbClr val="a2a2a2"/>
                        </a:gs>
                      </a:gsLst>
                      <a:lin ang="13500000"/>
                    </a:gradFill>
                  </a:tcPr>
                </a:tc>
              </a:tr>
              <a:tr h="157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领袖人物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50000">
                          <a:srgbClr val="3a0000"/>
                        </a:gs>
                        <a:gs pos="100000">
                          <a:srgbClr val="99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a2"/>
                        </a:gs>
                        <a:gs pos="50000">
                          <a:srgbClr val="808080"/>
                        </a:gs>
                        <a:gs pos="100000">
                          <a:srgbClr val="a2a2a2"/>
                        </a:gs>
                      </a:gsLst>
                      <a:lin ang="13500000"/>
                    </a:gradFill>
                  </a:tcPr>
                </a:tc>
              </a:tr>
              <a:tr h="157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指导思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50000">
                          <a:srgbClr val="3a0000"/>
                        </a:gs>
                        <a:gs pos="100000">
                          <a:srgbClr val="99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a2"/>
                        </a:gs>
                        <a:gs pos="50000">
                          <a:srgbClr val="808080"/>
                        </a:gs>
                        <a:gs pos="100000">
                          <a:srgbClr val="a2a2a2"/>
                        </a:gs>
                      </a:gsLst>
                      <a:lin ang="13500000"/>
                    </a:gradFill>
                  </a:tcPr>
                </a:tc>
              </a:tr>
              <a:tr h="807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活动基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50000">
                          <a:srgbClr val="3a0000"/>
                        </a:gs>
                        <a:gs pos="100000">
                          <a:srgbClr val="9900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a2"/>
                        </a:gs>
                        <a:gs pos="50000">
                          <a:srgbClr val="808080"/>
                        </a:gs>
                        <a:gs pos="100000">
                          <a:srgbClr val="a2a2a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51" name="WordArt 25" descr=""/>
          <p:cNvPicPr/>
          <p:nvPr/>
        </p:nvPicPr>
        <p:blipFill>
          <a:blip r:embed="rId1"/>
          <a:stretch/>
        </p:blipFill>
        <p:spPr>
          <a:xfrm>
            <a:off x="5211720" y="1122480"/>
            <a:ext cx="1622520" cy="534960"/>
          </a:xfrm>
          <a:prstGeom prst="rect">
            <a:avLst/>
          </a:prstGeom>
          <a:ln w="0">
            <a:noFill/>
          </a:ln>
        </p:spPr>
      </p:pic>
      <p:pic>
        <p:nvPicPr>
          <p:cNvPr id="52" name="WordArt 26" descr=""/>
          <p:cNvPicPr/>
          <p:nvPr/>
        </p:nvPicPr>
        <p:blipFill>
          <a:blip r:embed="rId2"/>
          <a:stretch/>
        </p:blipFill>
        <p:spPr>
          <a:xfrm>
            <a:off x="4827600" y="1914480"/>
            <a:ext cx="2652840" cy="536760"/>
          </a:xfrm>
          <a:prstGeom prst="rect">
            <a:avLst/>
          </a:prstGeom>
          <a:ln w="0">
            <a:noFill/>
          </a:ln>
        </p:spPr>
      </p:pic>
      <p:sp>
        <p:nvSpPr>
          <p:cNvPr id="53" name="WordArt 27"/>
          <p:cNvSpPr txBox="1"/>
          <p:nvPr/>
        </p:nvSpPr>
        <p:spPr>
          <a:xfrm>
            <a:off x="4905360" y="4363920"/>
            <a:ext cx="2619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（前期）民权、平等</a:t>
            </a:r>
            <a:endParaRPr b="1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达尔文进化论</a:t>
            </a:r>
            <a:endParaRPr b="1" lang="en-US" sz="40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" name="WordArt 28"/>
          <p:cNvSpPr txBox="1"/>
          <p:nvPr/>
        </p:nvSpPr>
        <p:spPr>
          <a:xfrm>
            <a:off x="5684760" y="5948280"/>
            <a:ext cx="10479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北大</a:t>
            </a:r>
            <a:endParaRPr b="1" lang="en-US" sz="40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" name="WordArt 29"/>
          <p:cNvSpPr txBox="1"/>
          <p:nvPr/>
        </p:nvSpPr>
        <p:spPr>
          <a:xfrm>
            <a:off x="4361040" y="2851200"/>
            <a:ext cx="366696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陈独秀、李大钊</a:t>
            </a:r>
            <a:endParaRPr b="1" lang="en-US" sz="4000" spc="-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鲁迅、胡适</a:t>
            </a:r>
            <a:endParaRPr b="1" lang="en-US" sz="4000" spc="-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9640" y="301680"/>
            <a:ext cx="743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三、新文化运动的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2195640" y="1413000"/>
            <a:ext cx="10476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前期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6156360" y="1413000"/>
            <a:ext cx="10476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后期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79480" y="2117880"/>
            <a:ext cx="46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提倡民主与科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反对专制与愚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79480" y="3651120"/>
            <a:ext cx="323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提倡新道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反对旧道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900000" y="5091120"/>
            <a:ext cx="32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提倡新文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反对旧文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all3"/>
          <p:cNvPicPr/>
          <p:nvPr/>
        </p:nvPicPr>
        <p:blipFill>
          <a:blip r:embed="rId1"/>
          <a:stretch/>
        </p:blipFill>
        <p:spPr>
          <a:xfrm>
            <a:off x="477720" y="24922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all3"/>
          <p:cNvPicPr/>
          <p:nvPr/>
        </p:nvPicPr>
        <p:blipFill>
          <a:blip r:embed="rId2"/>
          <a:stretch/>
        </p:blipFill>
        <p:spPr>
          <a:xfrm>
            <a:off x="477720" y="400536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ball3"/>
          <p:cNvPicPr/>
          <p:nvPr/>
        </p:nvPicPr>
        <p:blipFill>
          <a:blip r:embed="rId3"/>
          <a:stretch/>
        </p:blipFill>
        <p:spPr>
          <a:xfrm>
            <a:off x="468360" y="5445000"/>
            <a:ext cx="133200" cy="133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5584680" y="2155680"/>
            <a:ext cx="317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马克思主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思想广泛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1619280" y="2286000"/>
            <a:ext cx="7524720" cy="119124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6a6a45"/>
              </a:gs>
              <a:gs pos="100000">
                <a:srgbClr val="33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600" spc="-1" strike="noStrike">
                <a:solidFill>
                  <a:srgbClr val="99cc00"/>
                </a:solidFill>
                <a:latin typeface="创艺简魏碑"/>
                <a:ea typeface="创艺简魏碑"/>
              </a:rPr>
              <a:t>“</a:t>
            </a:r>
            <a:r>
              <a:rPr b="1" lang="zh-CN" sz="3600" spc="-1" strike="noStrike">
                <a:solidFill>
                  <a:srgbClr val="99cc00"/>
                </a:solidFill>
                <a:latin typeface="创艺简魏碑"/>
                <a:ea typeface="创艺简魏碑"/>
              </a:rPr>
              <a:t>西洋人因为拥护德、赛两先生，闹了多少事，流了多少血，德、赛两先生才渐渐从黑暗中把他们救出，引到光明世界。我们现在认定只有这两位先生，可以救治中国政治上、道德上、艺术上、思想上一切的黑暗。”</a:t>
            </a:r>
            <a:r>
              <a:rPr b="1" lang="en-US" sz="3600" spc="-1" strike="noStrike">
                <a:solidFill>
                  <a:srgbClr val="99cc00"/>
                </a:solidFill>
                <a:latin typeface="Times New Roman"/>
                <a:ea typeface="创艺简魏碑"/>
              </a:rPr>
              <a:t>—</a:t>
            </a:r>
            <a:r>
              <a:rPr b="1" lang="zh-CN" sz="3600" spc="-1" strike="noStrike">
                <a:solidFill>
                  <a:srgbClr val="99cc00"/>
                </a:solidFill>
                <a:latin typeface="创艺简魏碑"/>
                <a:ea typeface="创艺简魏碑"/>
              </a:rPr>
              <a:t>陈独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创艺简魏碑"/>
                <a:ea typeface="创艺简魏碑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784520" y="3438360"/>
            <a:ext cx="6902280" cy="164808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EMOCRACY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民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CIENCE--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科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tilde14"/>
          <p:cNvPicPr/>
          <p:nvPr/>
        </p:nvPicPr>
        <p:blipFill>
          <a:blip r:embed="rId1"/>
          <a:stretch/>
        </p:blipFill>
        <p:spPr>
          <a:xfrm>
            <a:off x="-152280" y="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308600" y="1278000"/>
            <a:ext cx="691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对于新文化运动：有人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它是中国近代史上一次空前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思想解放运动，也有人说它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有很大的历史局限性。你认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怎样评价这场运动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5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91111"/>
                </a:solidFill>
                <a:latin typeface="隶书"/>
                <a:ea typeface="隶书"/>
              </a:rPr>
              <a:t>四、新文化运动的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4360" y="838080"/>
            <a:ext cx="857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积极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动摇了封建思想的统治地位，使人们思想得到空前解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民主和科学的思想得到弘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对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四运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爆发起了宣传动员作用，作了思想准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后期传 播了社会主义思想、成为中国先进的知识分子拯救国家、改造社会的思想武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79520" y="4981680"/>
            <a:ext cx="706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局限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没有同群众运动相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对东西文化的态度片面化、绝对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304920" y="76320"/>
            <a:ext cx="8534160" cy="18288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材补充资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袁世凯的专制统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6_10"/>
          <p:cNvPicPr/>
          <p:nvPr/>
        </p:nvPicPr>
        <p:blipFill>
          <a:blip r:embed="rId1"/>
          <a:stretch/>
        </p:blipFill>
        <p:spPr>
          <a:xfrm>
            <a:off x="2563920" y="1828800"/>
            <a:ext cx="3760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新青年"/>
          <p:cNvPicPr/>
          <p:nvPr/>
        </p:nvPicPr>
        <p:blipFill>
          <a:blip r:embed="rId1"/>
          <a:stretch/>
        </p:blipFill>
        <p:spPr>
          <a:xfrm>
            <a:off x="609480" y="457200"/>
            <a:ext cx="8128080" cy="595008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681120" y="746280"/>
            <a:ext cx="792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阵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地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041"/>
          <p:cNvPicPr/>
          <p:nvPr/>
        </p:nvPicPr>
        <p:blipFill>
          <a:blip r:embed="rId1"/>
          <a:stretch/>
        </p:blipFill>
        <p:spPr>
          <a:xfrm>
            <a:off x="0" y="0"/>
            <a:ext cx="8964720" cy="670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04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04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049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6324480"/>
            <a:ext cx="69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7:43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7:40:37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