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E8E-E48E-4866-9863-EBC527A5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18D-2CD4-486F-AC0D-5D86AF30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AD2-A34E-403A-81B7-6D36F798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FCD1-664E-4632-A600-F281E24C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804-B71B-4A2C-9108-C95681CE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5EF9-2483-43D6-ACAA-0F54C110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A1B-65E5-4771-9C9E-DCDE0D07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B85-F439-453F-9126-CCA7EAD5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A52-9FA5-47A3-8017-98604831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C08-AEE1-4663-A7CE-E653C2C5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54B3-98A6-4252-9FF7-117BCBF7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7AA-667E-4787-8F5E-E518838C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F1D7-6C3E-4163-99EC-71DF1B7E0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132000" y="1052640"/>
            <a:ext cx="126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á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059280" y="162864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916360" y="16304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134680" y="981000"/>
            <a:ext cx="11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ó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219640" y="155880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003640" y="15588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556000" y="5013360"/>
            <a:ext cx="28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木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195640" y="16304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B0201"/>
          <p:cNvPicPr/>
          <p:nvPr/>
        </p:nvPicPr>
        <p:blipFill>
          <a:blip r:embed="rId1"/>
          <a:srcRect l="0" t="0" r="88" b="0"/>
          <a:stretch/>
        </p:blipFill>
        <p:spPr>
          <a:xfrm>
            <a:off x="755640" y="2708280"/>
            <a:ext cx="43196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32000" y="155736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ú  p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939760" y="155736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é  m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019840" y="4869000"/>
            <a:ext cx="33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uà  zhōng  y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48920" y="328464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iǎng  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2949840" y="32846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   m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838880" y="494172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ǜ  yóu  y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724360" y="155736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m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5508720" y="32130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shù  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5280" y="22766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竹  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2987640" y="2276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禾  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96000" y="2205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树  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539640" y="4076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  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3059280" y="4005360"/>
            <a:ext cx="194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树  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508720" y="400536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树  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1692360" y="5589720"/>
            <a:ext cx="28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绿  油  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076720" y="5557680"/>
            <a:ext cx="33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画   中   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1"/>
          <p:cNvSpPr/>
          <p:nvPr/>
        </p:nvSpPr>
        <p:spPr>
          <a:xfrm>
            <a:off x="755640" y="260280"/>
            <a:ext cx="2592360" cy="1008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68360" y="2205000"/>
            <a:ext cx="821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iǎo xiǎo zhú pái huà zhōng yó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9640" y="315900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小  小  竹  排  画  中  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292720" y="314172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  <a:ea typeface="楷体_GB2312"/>
              </a:rPr>
              <a:t>画  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1908000" y="54612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xiǎo  zhú  pái     shùn  shuǐ li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835280" y="534348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xiǎo  xiǎo  zhú   pái   huà  zhōng  yó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411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niǎo  er  chàng    yú    er   yó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979640" y="22748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liǎng  à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shù   mù    m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2124000" y="335448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hé   miáo  lǜ   yóu   yó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1908000" y="42908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jiāng  nán  yú   mǐ  xiā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2052720" y="9064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 竹  排，  顺   水  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1979640" y="1773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鸟 儿   唱，鱼   儿   游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2124000" y="258120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两  岸  树   木  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1836720" y="3745080"/>
            <a:ext cx="50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禾  苗   绿   油  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2050920" y="4681440"/>
            <a:ext cx="59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江  南  鱼  米   乡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1514520" y="5680080"/>
            <a:ext cx="74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   小  竹  排    画  中   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pai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pai3"/>
          <p:cNvPicPr/>
          <p:nvPr/>
        </p:nvPicPr>
        <p:blipFill>
          <a:blip r:embed="rId2"/>
          <a:stretch/>
        </p:blipFill>
        <p:spPr>
          <a:xfrm>
            <a:off x="3132000" y="3789360"/>
            <a:ext cx="3108600" cy="1627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692360" y="981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211640" y="90792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绿  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300720" y="98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绿  油   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276720" y="386064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两  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547640" y="2079720"/>
            <a:ext cx="18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  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050920" y="2997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6659640" y="57340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禾  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6534000" y="515772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é  m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1908000" y="256536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 m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1359000" y="16286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   m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"/>
          <p:cNvSpPr/>
          <p:nvPr/>
        </p:nvSpPr>
        <p:spPr>
          <a:xfrm>
            <a:off x="1547640" y="54936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  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2991600" y="342576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iǎng 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6156360" y="40464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宋体"/>
              </a:rPr>
              <a:t>lǜ  yóu  y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4211640" y="333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宋体"/>
              </a:rPr>
              <a:t>lǜ  s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5302080"/>
            <a:ext cx="69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课件下载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692360" y="981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211640" y="90792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绿  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300720" y="98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绿  油   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276720" y="386064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两  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547640" y="2079720"/>
            <a:ext cx="18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  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050920" y="2997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659640" y="57340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禾  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6534000" y="515772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é  m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908000" y="256536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 m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1359000" y="16286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   m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1547640" y="54936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  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2991600" y="342576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iǎng 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6221880" y="40464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宋体"/>
              </a:rPr>
              <a:t>lǜ  yóu  y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4211640" y="333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宋体"/>
              </a:rPr>
              <a:t>lǜ  s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692360" y="981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211640" y="90792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绿  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300720" y="98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绿  油   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76720" y="386064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两  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547640" y="2079720"/>
            <a:ext cx="18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  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050920" y="2997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659640" y="57340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禾  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0"/>
          <p:cNvSpPr/>
          <p:nvPr/>
        </p:nvSpPr>
        <p:spPr>
          <a:xfrm>
            <a:off x="395280" y="22766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竹  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2987640" y="2276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禾  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796000" y="2205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树  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39640" y="4076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  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059280" y="4005360"/>
            <a:ext cx="194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树  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508720" y="400536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树  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1692360" y="5589720"/>
            <a:ext cx="28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绿  油  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5076720" y="5557680"/>
            <a:ext cx="33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画   中   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755640" y="260280"/>
            <a:ext cx="2592360" cy="1008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dh840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258920" y="765000"/>
            <a:ext cx="489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小竹排画中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竹排，顺水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儿唱，鱼儿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岸树木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禾苗绿油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南鱼米乡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小竹排画中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mid03.mid" descr=""/>
          <p:cNvPicPr/>
          <p:nvPr/>
        </p:nvPicPr>
        <p:blipFill>
          <a:blip r:embed="rId2"/>
          <a:stretch/>
        </p:blipFill>
        <p:spPr>
          <a:xfrm>
            <a:off x="802800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6"/>
          <p:cNvSpPr/>
          <p:nvPr/>
        </p:nvSpPr>
        <p:spPr>
          <a:xfrm>
            <a:off x="7236000" y="4581360"/>
            <a:ext cx="1568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01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692360" y="77760"/>
            <a:ext cx="5029200" cy="66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江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江  南  可  采  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莲  叶  何  田  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  戏  莲  叶  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  戏  莲  叶  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  戏  莲  叶  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  戏  莲  叶  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  戏  莲  叶  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932360" y="765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á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4932360" y="2349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ji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ā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211640" y="765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3:01:1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8:06Z</dcterms:modified>
  <cp:revision>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