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4F7-6870-4A87-83D5-B08C09E9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182-E50B-4738-8D98-7756D2FC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505-DB90-4AC2-9EDB-FB5B3E83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791-3B07-4F14-88A5-E6F0AC11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3B8F8-4137-4505-9C38-45F881E0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375E-E7BE-4FC3-9351-981C3511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E2284-5F61-4CC0-9DBC-711BA5AA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16BC9-E3ED-400B-AC98-8E9C79F5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5DD97-58CF-49A2-B480-5210162F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CEEE1-AFD6-4C8B-BF24-7C1076E6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8D187-5765-4AB2-920F-C10FF54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C03-1E4D-4D2F-B4E3-B3BDADF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69698-AC45-41CB-B0A3-51D38C1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ABECB-B99B-47CC-AD58-3261B67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218BD-7E85-4750-9C2A-80F7582A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2D27E-4DED-458D-9C79-4EB64587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25252-4265-42EB-AE00-B0E9D729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CE4E-437E-47DE-B769-E2053147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79FF-4F48-4448-83A6-DB950F4A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5B7C-97E4-4AE0-B2E8-3D251FA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C2DE-E524-4A5B-9914-55F15819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DEF8-BDB2-4402-BB38-AE962B4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6AA-CEFC-4507-AED2-D83EAF52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ADA7-0DFD-41B4-983C-44A05211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660A4-B6AE-4253-B0C4-0F02E62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D8AB-07BD-4E04-A0F0-AD5E3C5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54F0-8694-4693-8D52-A822E01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4704-0EB4-4260-A463-0E4E9BC1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5AB2-BCDB-471F-A91F-D9CAB188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9050-3A01-4EE2-A0F8-C9E98CD7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150-75C4-4D1A-9A0E-B7A08EA1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DF7-6C3F-4EF3-B80C-C3AE0E96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9C1-9288-4182-874A-2C484CD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F4C-1103-46F0-9017-DF7F5FB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68C-37EA-4B73-8D90-6C85AFF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101-8F90-4036-BFDB-CA62909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9308-8BAC-47CA-AD71-23335C30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A73-F6F6-4F14-AE39-F32C19C39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A67-9194-4D73-BC0C-AC5504055B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7DFF-0C8E-4166-AE32-A241FF085E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6"/>
          <p:cNvSpPr/>
          <p:nvPr/>
        </p:nvSpPr>
        <p:spPr>
          <a:xfrm>
            <a:off x="3352680" y="44197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图片6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324000" y="836640"/>
            <a:ext cx="44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小熊住山洞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6" name="Picture 4" descr="50"/>
          <p:cNvPicPr/>
          <p:nvPr/>
        </p:nvPicPr>
        <p:blipFill>
          <a:blip r:embed="rId15"/>
          <a:stretch/>
        </p:blipFill>
        <p:spPr>
          <a:xfrm flipH="1" rot="1367400">
            <a:off x="279360" y="2560320"/>
            <a:ext cx="244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395280" y="32868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说话练习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0720" y="173988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春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50720" y="267012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夏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0720" y="360216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秋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50720" y="453384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冬天，如果砍掉了小树 ，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说一说"/>
          <p:cNvPicPr/>
          <p:nvPr/>
        </p:nvPicPr>
        <p:blipFill>
          <a:blip r:embed="rId2"/>
          <a:stretch/>
        </p:blipFill>
        <p:spPr>
          <a:xfrm>
            <a:off x="7524720" y="5300640"/>
            <a:ext cx="13874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5"/>
          <p:cNvSpPr txBox="1"/>
          <p:nvPr/>
        </p:nvSpPr>
        <p:spPr>
          <a:xfrm>
            <a:off x="2124000" y="47628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想一想：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84360" y="2492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动物给小熊送鲜花时会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我会猜"/>
          <p:cNvPicPr/>
          <p:nvPr/>
        </p:nvPicPr>
        <p:blipFill>
          <a:blip r:embed="rId2"/>
          <a:stretch/>
        </p:blipFill>
        <p:spPr>
          <a:xfrm>
            <a:off x="179280" y="54000"/>
            <a:ext cx="1619280" cy="1503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30492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ram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1080" y="1223640"/>
            <a:ext cx="698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作业</a:t>
            </a:r>
            <a:r>
              <a:rPr b="0" lang="en-US" sz="5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br>
              <a:rPr sz="5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(1)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画画你心目中的大森林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在上面写上你想说的话。</a:t>
            </a: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实践活动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“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保护环境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从我做起”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为校园的花草树木做点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我会猜"/>
          <p:cNvPicPr/>
          <p:nvPr/>
        </p:nvPicPr>
        <p:blipFill>
          <a:blip r:embed="rId2"/>
          <a:stretch/>
        </p:blipFill>
        <p:spPr>
          <a:xfrm>
            <a:off x="1085760" y="966960"/>
            <a:ext cx="1440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379440" y="1798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kǎn  z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o  mǎn   shě    ji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砍    造     满     舍    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ni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á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n   zhí  dòng  shù    l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年    直     动      束    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我会读pic_227543"/>
          <p:cNvPicPr/>
          <p:nvPr/>
        </p:nvPicPr>
        <p:blipFill>
          <a:blip r:embed="rId3"/>
          <a:stretch/>
        </p:blipFill>
        <p:spPr>
          <a:xfrm>
            <a:off x="0" y="0"/>
            <a:ext cx="1692360" cy="1387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835280" y="404640"/>
            <a:ext cx="38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755640" y="4365720"/>
            <a:ext cx="70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小熊一家住在山洞里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14240" y="5027760"/>
            <a:ext cx="70581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熊爸爸对小熊说：“我们去砍些树，造一间木头房子住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84360" y="4437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春天，他们走进森林。树上长满了绿叶，小熊舍不得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3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5154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900000" y="508464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夏天，他们走进森林。树上开满了花儿，小熊舍不得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00000" y="51562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秋天，他们走进森林。树上结满了果子，小熊舍不得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00000" y="48988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冬天，他们走进森林。树上有许多鸟儿，小熊舍不得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24000" y="394812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一年又一年，他们没有砍树造房子，一直住在山洞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66760" y="5229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森林里的动物都很感激小熊一家，给他们送来一束束美丽的鲜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5"/>
          <p:cNvPicPr/>
          <p:nvPr/>
        </p:nvPicPr>
        <p:blipFill>
          <a:blip r:embed="rId1"/>
          <a:srcRect l="16685" t="0" r="20997" b="0"/>
          <a:stretch/>
        </p:blipFill>
        <p:spPr>
          <a:xfrm>
            <a:off x="4627440" y="3508200"/>
            <a:ext cx="4426200" cy="327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4"/>
          <p:cNvPicPr/>
          <p:nvPr/>
        </p:nvPicPr>
        <p:blipFill>
          <a:blip r:embed="rId2"/>
          <a:srcRect l="9374" t="0" r="17060" b="0"/>
          <a:stretch/>
        </p:blipFill>
        <p:spPr>
          <a:xfrm>
            <a:off x="68400" y="3494160"/>
            <a:ext cx="4425840" cy="3278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3"/>
          <p:cNvPicPr/>
          <p:nvPr/>
        </p:nvPicPr>
        <p:blipFill>
          <a:blip r:embed="rId3"/>
          <a:srcRect l="7968" t="0" r="15898" b="0"/>
          <a:stretch/>
        </p:blipFill>
        <p:spPr>
          <a:xfrm>
            <a:off x="4629240" y="42840"/>
            <a:ext cx="4427280" cy="3278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"/>
          <p:cNvPicPr/>
          <p:nvPr/>
        </p:nvPicPr>
        <p:blipFill>
          <a:blip r:embed="rId4"/>
          <a:srcRect l="19873" t="0" r="21185" b="0"/>
          <a:stretch/>
        </p:blipFill>
        <p:spPr>
          <a:xfrm>
            <a:off x="77760" y="71280"/>
            <a:ext cx="4425840" cy="3278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6"/>
          <p:cNvGrpSpPr/>
          <p:nvPr/>
        </p:nvGrpSpPr>
        <p:grpSpPr>
          <a:xfrm>
            <a:off x="3535200" y="2319480"/>
            <a:ext cx="2044800" cy="1728720"/>
            <a:chOff x="3535200" y="2319480"/>
            <a:chExt cx="2044800" cy="1728720"/>
          </a:xfrm>
        </p:grpSpPr>
        <p:sp>
          <p:nvSpPr>
            <p:cNvPr id="160" name="Rectangle 7"/>
            <p:cNvSpPr/>
            <p:nvPr/>
          </p:nvSpPr>
          <p:spPr>
            <a:xfrm>
              <a:off x="3535200" y="2319480"/>
              <a:ext cx="204480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8"/>
            <p:cNvGrpSpPr/>
            <p:nvPr/>
          </p:nvGrpSpPr>
          <p:grpSpPr>
            <a:xfrm>
              <a:off x="3651120" y="2369880"/>
              <a:ext cx="1870560" cy="1627560"/>
              <a:chOff x="3651120" y="2369880"/>
              <a:chExt cx="1870560" cy="1627560"/>
            </a:xfrm>
          </p:grpSpPr>
          <p:sp>
            <p:nvSpPr>
              <p:cNvPr id="162" name="WordArt 9"/>
              <p:cNvSpPr txBox="1"/>
              <p:nvPr/>
            </p:nvSpPr>
            <p:spPr>
              <a:xfrm>
                <a:off x="4703760" y="236988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夏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63" name="WordArt 10"/>
              <p:cNvSpPr txBox="1"/>
              <p:nvPr/>
            </p:nvSpPr>
            <p:spPr>
              <a:xfrm>
                <a:off x="3651120" y="236988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春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64" name="WordArt 11"/>
              <p:cNvSpPr txBox="1"/>
              <p:nvPr/>
            </p:nvSpPr>
            <p:spPr>
              <a:xfrm>
                <a:off x="3651120" y="332280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秋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65" name="WordArt 12"/>
              <p:cNvSpPr txBox="1"/>
              <p:nvPr/>
            </p:nvSpPr>
            <p:spPr>
              <a:xfrm>
                <a:off x="4644360" y="3262320"/>
                <a:ext cx="817920" cy="674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冬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03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4:17:0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